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5AF-BD88-4C35-B745-8362D82D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90D-FE0C-4579-B7BC-8618DE45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94D-7CD9-4AAD-B676-3F4203C3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C16-5328-4D36-AB8A-27AFC265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624-5621-4E95-A3BF-AC67BF6C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779-0FED-431B-8EF0-6A46C5CE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971-7A94-46EA-A9D1-29D76158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5D2-DE94-41D7-A60B-5ED2275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8C6-773F-476F-A623-593B09C2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C6A-E6EB-4767-93F9-C232A073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C22-48E3-49EB-BE69-4C67E323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B98-5652-4509-BCB5-7792581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4E07-E82B-4492-8146-3745D4736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792000" y="993600"/>
            <a:ext cx="96980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ые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Э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жные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й-б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ны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 (скорой) встречи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1476360" y="404640"/>
            <a:ext cx="54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 структу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я делятся на 3 группы –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национальные, исконно русские, заимствова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ольшинство междометий современного русского языка вненациональны по своему значению и звучанию. Это непроизводные, эмоциональные междометия, такие как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х, а, о, ох, фу, ха, эх, эй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е по происхождению междомет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тпру, увы, извините, спасибо, брысь, господи, батюшки-светы,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глагольные междометия типа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ысь, хлоп, пры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имствованными называют междометия, пришедшие из других языков, например: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аво, баста (итал.); адью, бис (франц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е по происхождению междомет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тпру, увы, извините, спасибо, брысь, господи, батюшки-светы,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глагольные междометия типа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ысь, хлоп, пры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имствованными называют междометия, пришедшие из других языков, например: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аво, баста (итал.); адью, бис (франц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 значени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ометия используются для выражения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вств и эмоций (ах, бог с тобой боже мой, браво, вот это да, вот тебе раз, ну, да ну, господи, ей-богу, слава богу, о, ой, ай, ага, ф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ы, приказа (на, фас, кис-кис, алле, цып-цып, майна, вира, бай-бай, стоп, алло, чу, айда, кыш, марш, цыц, айда, шабаш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чевого этикета (здравствуйте, до свидания, спасибо, пожалуйста, всего хорошего, мое почтение, привет, пока, здор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кетные форму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етствия: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вет! Здравствуй(те)! Добро пожаловать! Добрый день (вечер)! Доброе утро! Приветствую(ем)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т.д.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щания и пожел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ка! Привет! Счастливо! Счастливо оставаться! Прощай(те)! До (скорого) свидания! До завтра! Удачи! Добрый путь! Счастливого пути! С Богом!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ьб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жалуйста! Ради бога! Будьте любезны (будь любезен)! Будьте добры (будь добр)! Будь другом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т.п.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дар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асибо! Благодарю (им)!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ин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сти(те)! Извини(те)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междометиям также относятс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щения: на тебе, ну да, да уж, эх вот как, вот те раз и др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ые словосочетания и фразеологизмы: батюшки светы, слава богу и др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, обозначающие мгновенные действия: бах, хлоп, шлёп, бум, гав и др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, имитирующие различные звуки и голоса животных и птиц: тра-та-та, ба-бах, мяу-мяу, дзинь-дзинь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 rot="161400">
            <a:off x="6135840" y="544356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кхе-кх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 rot="20863200">
            <a:off x="7464240" y="2421000"/>
            <a:ext cx="166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хло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 rot="1437000">
            <a:off x="86040" y="480960"/>
            <a:ext cx="254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ря-кр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 rot="21035400">
            <a:off x="2557440" y="58305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ба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я могут выступать в роли отдельных членов предложения или выполнять функции усилительных части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я, выражающие волеизъявления и чувства, в разговорном стиле речи выступают иногда в роли сказуемых. Например: Вы все фу-фу-фу, суши весла! - скомандовал Андрей .Или: Татьяна - ах! а он реветь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07280" y="1554480"/>
            <a:ext cx="902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Емче органа и звонче буб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олвь – и одна для всех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х – когда трудно и ах – когда чудно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 не дается – э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.Цветаева«Молв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759636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оме́т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ывается неизменяемая и не имеющая специальных грамматических показателей часть речи, служащая для выражения чувств и волевых поб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6815160" y="2182680"/>
            <a:ext cx="2462040" cy="1992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858960" y="4438800"/>
            <a:ext cx="2652480" cy="2395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3"/>
          <a:stretch/>
        </p:blipFill>
        <p:spPr>
          <a:xfrm>
            <a:off x="4322880" y="4737240"/>
            <a:ext cx="408276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0" y="1484280"/>
            <a:ext cx="860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ометия тесно связаны со звукоподражанием и выступают как слова-сигналы, используемые для выражения желания, побуждения к действию, а также для быстрого реагирования человека на различные события реальной действи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4" descr=""/>
          <p:cNvPicPr/>
          <p:nvPr/>
        </p:nvPicPr>
        <p:blipFill>
          <a:blip r:embed="rId1"/>
          <a:stretch/>
        </p:blipFill>
        <p:spPr>
          <a:xfrm>
            <a:off x="2809800" y="128520"/>
            <a:ext cx="3189240" cy="11876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6662880" y="4632480"/>
            <a:ext cx="259704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4361400" y="3244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3"/>
          <a:stretch/>
        </p:blipFill>
        <p:spPr>
          <a:xfrm>
            <a:off x="476280" y="4632480"/>
            <a:ext cx="23637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28088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ометия выполняют экспрессивную или побудительную функцию, выражая, например, чувства говорящего (ох! ого! ого-го!!!), призыв (эй! цып-цып!) или приказание (брысь!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огие междометия ведут свое происхождение от эмоциональных возгласов и звучаний, сопровождающих рефлексы организма на внешние раздражения (А-а-а, Ах, больно! Ух, тяжело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2133720"/>
            <a:ext cx="9144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ометия являются заменителями известных определенных выражений и целых предложений. Вместо "тьфу" или "брр", можно сказать "какая гадость!", вместо "тс" — "тише, не шумите", вместо "эй» — "подите сюда", "послушайте" или просто сделать призывный жест рукой и т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ометия отделяются или выделяются запятыми, если произносятся без восклицательной интонации: "Ох, пошлите за доктором!", "Чу, сверчок за печкой затрещал...", "Чу, вздохнул кто-то.". Если междометие произносится с восклицательной интонацией, то после него ставится восклицательный знак (как в начале, так и в середине предложения): "Ага! Сам сознаешься, что ты глуп", "Эй! Садись ко мне, дружок.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3616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ометия можно классифицировать по разным призна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оисхождению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производные, произво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производ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носятся междометия, не имеющие в современном языке связей ни с одной самостоятельной частью речи, такие как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, ага, ого, ай, ау, ах, ба, брр, брысь, гей, ей-ей, о, ого, ой, ох, тпру, тьфу, увы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0" y="116676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извод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ждометия представляют собой группу слов, соотносимых со словами той или иной знаменательной част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ествитель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вязаны: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тюшки, матушки, господи, блин, черт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голами связаны: брось, будет, вишь (видишь), здравствуй(те), извини(те), пожалуйста, помилуйте, скажите,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именными словами, союзами, частиц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вязаны: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на, то-то, эва, эк, вон, долой, полно, прочь, однако, да уж, на тебе, ну уж, ну да, ну и ну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0" y="14130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тное место среди производных занимают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ойчивые словосочетания и фразеологизмы: батюшки-светы, боже мой, господи праведный, боже правый, прости господи, поди ж ты, скажите на милость, вот тебе на, вот тебе раз, то-то и оно, вот это да, как бы не та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3:42:16Z</dcterms:created>
  <dc:creator>Admin</dc:creator>
  <dc:description/>
  <dc:language>en-US</dc:language>
  <cp:lastModifiedBy>Компьютер</cp:lastModifiedBy>
  <dcterms:modified xsi:type="dcterms:W3CDTF">2011-09-06T13:18:52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90000000000010243100207f6000400038000</vt:lpwstr>
  </property>
</Properties>
</file>