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AB5-F8A3-48E5-8472-8BFA2DA8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322-C07B-41A1-AB4B-2C731AF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7A6-B2DD-4276-A8E8-A28BEB5B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171-1650-474A-A947-A0E58A2A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872-EC83-4D9A-A1AB-2CD8F68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B04-575B-40A0-881B-CBDB4361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7F1-D885-4340-8A10-2B0CC1CF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2A5-7D66-49EA-A5A4-C740BCC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5F9-F23F-40F8-A674-08A7E5D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950-2851-49A3-A4C6-6141086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8B8-836B-4404-AE30-B791F79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315-6C68-479E-B44D-FD1A57D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5C0-570D-4DDB-9666-ECABB9F2C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792000" y="993600"/>
            <a:ext cx="96980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ые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Э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жные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й-б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 (скорой) встреч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1476360" y="404640"/>
            <a:ext cx="54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структу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 делятся на 3 группы 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национальные, исконно русские, заимствов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ольшинство междометий современного русского языка вненациональны по своему значению и звучанию. Это непроизводные, эмоциональные междометия, такие как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х, а, о, ох, фу, ха, эх, э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е по происхождению междомет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тпру, увы, извините, спасибо, брысь, господи, батюшки-светы,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лагольные междометия типа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ысь, хлоп, пры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имствованными называют междометия, пришедшие из других языков, например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аво, баста (итал.); адью, бис (франц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е по происхождению междомет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тпру, увы, извините, спасибо, брысь, господи, батюшки-светы,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лагольные междометия типа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ысь, хлоп, пры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имствованными называют междометия, пришедшие из других языков, например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аво, баста (итал.); адью, бис (франц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 значен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ометия используются для выражения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 и эмоций (ах, бог с тобой боже мой, браво, вот это да, вот тебе раз, ну, да ну, господи, ей-богу, слава богу, о, ой, ай, ага, ф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, приказа (на, фас, кис-кис, алле, цып-цып, майна, вира, бай-бай, стоп, алло, чу, айда, кыш, марш, цыц, айда, шабаш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чевого этикета (здравствуйте, до свидания, спасибо, пожалуйста, всего хорошего, мое почтение, привет, пока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кетные форму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етствия: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вет! Здравствуй(те)! Добро пожаловать! Добрый день (вечер)! Доброе утро! Приветствую(ем)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т.д.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щания и пожел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ка! Привет! Счастливо! Счастливо оставаться! Прощай(те)! До (скорого) свидания! До завтра! Удачи! Добрый путь! Счастливого пути! С Богом!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ьб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жалуйста! Ради бога! Будьте любезны (будь любезен)! Будьте добры (будь добр)! Будь друго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т.п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р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асибо! Благодарю (им)!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ин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сти(те)! Извини(те)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междометиям также относя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щения: на тебе, ну да, да уж, эх вот как, вот те раз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ые словосочетания и фразеологизмы: батюшки светы, слава богу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, обозначающие мгновенные действия: бах, хлоп, шлёп, бум, гав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, имитирующие различные звуки и голоса животных и птиц: тра-та-та, ба-бах, мяу-мяу, дзинь-дзинь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 rot="161400">
            <a:off x="6135840" y="544356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кхе-кх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 rot="20863200">
            <a:off x="7464240" y="2421000"/>
            <a:ext cx="166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хло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 rot="1437000">
            <a:off x="86040" y="480960"/>
            <a:ext cx="254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ря-кр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 rot="21035400">
            <a:off x="2557440" y="58305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ба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 могут выступать в роли отдельных членов предложения или выполнять функции усилительных части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, выражающие волеизъявления и чувства, в разговорном стиле речи выступают иногда в роли сказуемых. Например: Вы все фу-фу-фу, суши весла! - скомандовал Андрей .Или: Татьяна - ах! а он реветь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7280" y="1554480"/>
            <a:ext cx="902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Емче органа и звонче буб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лвь – и одна для всех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х – когда трудно и ах – когда чудн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 не дается – э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.Цветаева«Молв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759636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оме́т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неизменяемая и не имеющая специальных грамматических показателей часть речи, служащая для выражения чувств и волевых поб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6815160" y="2182680"/>
            <a:ext cx="2462040" cy="1992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858960" y="4438800"/>
            <a:ext cx="2652480" cy="2395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4322880" y="4737240"/>
            <a:ext cx="40827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1484280"/>
            <a:ext cx="860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ометия тесно связаны со звукоподражанием и выступают как слова-сигналы, используемые для выражения желания, побуждения к действию, а также для быстрого реагирования человека на различные события реальной действи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1"/>
          <a:stretch/>
        </p:blipFill>
        <p:spPr>
          <a:xfrm>
            <a:off x="2809800" y="128520"/>
            <a:ext cx="3189240" cy="1187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662880" y="4632480"/>
            <a:ext cx="259704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4361400" y="3244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3"/>
          <a:stretch/>
        </p:blipFill>
        <p:spPr>
          <a:xfrm>
            <a:off x="476280" y="4632480"/>
            <a:ext cx="23637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28088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ометия выполняют экспрессивную или побудительную функцию, выражая, например, чувства говорящего (ох! ого! ого-го!!!), призыв (эй! цып-цып!) или приказание (брысь!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ие междометия ведут свое происхождение от эмоциональных возгласов и звучаний, сопровождающих рефлексы организма на внешние раздражения (А-а-а, Ах, больно! Ух, тяжело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2133720"/>
            <a:ext cx="91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ометия являются заменителями известных определенных выражений и целых предложений. Вместо "тьфу" или "брр", можно сказать "какая гадость!", вместо "тс" — "тише, не шумите", вместо "эй» — "подите сюда", "послушайте" или просто сделать призывный жест рукой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ометия отделяются или выделяются запятыми, если произносятся без восклицательной интонации: "Ох, пошлите за доктором!", "Чу, сверчок за печкой затрещал...", "Чу, вздохнул кто-то.". Если междометие произносится с восклицательной интонацией, то после него ставится восклицательный знак (как в начале, так и в середине предложения): "Ага! Сам сознаешься, что ты глуп", "Эй! Садись ко мне, дружок.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3616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 можно классифицировать по разным при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оисхождению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производные, произво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производ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сятся междометия, не имеющие в современном языке связей ни с одной самостоятельной частью речи, такие как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ага, ого, ай, ау, ах, ба, брр, брысь, гей, ей-ей, о, ого, ой, ох, тпру, тьфу, увы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116676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извод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ждометия представляют собой группу слов, соотносимых со словами той или иной знаменательной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ите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вязаны: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тюшки, матушки, господи, блин, чер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голами связаны: брось, будет, вишь (видишь), здравствуй(те), извини(те), пожалуйста, помилуйте, скажите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именными словами, союзами, частиц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вязаны: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на, то-то, эва, эк, вон, долой, полно, прочь, однако, да уж, на тебе, ну уж, ну да, ну и ну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141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тное место среди производных занимают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ойчивые словосочетания и фразеологизмы: батюшки-светы, боже мой, господи праведный, боже правый, прости господи, поди ж ты, скажите на милость, вот тебе на, вот тебе раз, то-то и оно, вот это да, как бы не та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3:42:16Z</dcterms:created>
  <dc:creator>Admin</dc:creator>
  <dc:description/>
  <dc:language>en-US</dc:language>
  <cp:lastModifiedBy>Компьютер</cp:lastModifiedBy>
  <dcterms:modified xsi:type="dcterms:W3CDTF">2011-09-06T13:18:52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90000000000010243100207f6000400038000</vt:lpwstr>
  </property>
</Properties>
</file>