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8A23-A5ED-4B6D-93E2-C9281237D9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4FCE-5ABC-4363-8ED1-EEA21CD1F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2391-49C1-4AF4-B033-42E054B0E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ACF8-5BB2-4A8A-908F-A2471AB86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C038-9D37-4051-90C5-70763ECFFA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FFF6-85AE-470D-93BB-09F1BF798A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40E3-4C26-45DF-BA5B-98B47DD8E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ED54-3A60-4B47-9505-C0D04930E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ED6-FCA4-4D2F-A4A9-3587723E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9C7-9AE1-454D-87FA-1A87C77C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8A1-F596-43A5-856D-87E7051A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93A-7B96-4C52-9DC0-9F71E35F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12A2-E069-40E5-8F20-91F03BF0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ED52-E09A-4487-9C03-D2364EF4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325A-9C61-4F12-9971-7224A1CD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1BE9-4DE3-4CC5-83CD-4DD8B8AA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B6FE-E06D-4C67-BB7E-80E6D1E4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8EB8-F9C2-46A7-886F-58AD82FB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3152-D1C2-4144-9EB0-D0F44683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C6B-C70F-46BA-BFC8-D0A09AE6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6CC0-93C7-4879-818B-69438E37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5B50-B767-4449-898C-4AA12E3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7A13-7E74-4FD2-8C6B-F71E9C72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3BEB-9116-456A-8654-9F813287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4218-4AA4-4E00-8394-9AFCEC71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3234-83ED-4CD5-B046-3D2CDBA9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0511-B5BE-4A25-B0FF-5EB23E8D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B9FF7-1999-4A09-9843-338FD360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DF7E-65A3-4BDD-A620-E11E03ED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84E3C-3D91-43D1-8BF4-6B567BE6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0F9-0F40-4021-A490-545C7E9F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CCDCB-DEAC-4E16-A54A-6C7E9711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D6BC-0BC2-4AA2-8796-AF6DF49E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7E1A-EC31-4FB6-901A-27D5B37D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5D56-D8CC-40C5-AE2A-423B7996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5CD1-6089-402D-B4EE-3C8648B8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B125-4D61-485F-8BC7-41815956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69E1-B326-47F4-8671-EE823D6E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4BAC2-5C4A-4317-92A0-A0FC9C13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BAF8-6F02-4499-B628-9FEEE33A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EC83C-EAEC-41A9-A72B-A428B82A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942-0C40-415B-9CC7-EC110624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BF7E-8A9A-459A-BB53-0E911147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3DB7-AD96-48BB-BBCA-33FC9079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EA3B9-65AE-4AA9-9A71-F1E93D6C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B7DCD-A5EB-42ED-8925-E901C42B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5AA9-1D1B-4D47-87FE-85C620AC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90D6-F616-4D14-B100-1D79FBE1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B9999-8C23-4D3E-AE3F-529F3E9F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D65E-2F9C-41DD-8885-2D9F36FE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C6B85-6921-4950-B337-386AE04C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D4E7E-B52A-416B-83DE-A7EA41D7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E30-ABAE-4AD1-9850-0A1C26AA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CACFB-A667-46C4-BC9E-368B0AB3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8769-77D9-4287-9777-A4C2F6B2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38FA-1808-4479-9E22-3CAAEED9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2FD0-A623-49D0-B2FE-812A3E19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138BB-EB13-4711-9546-EE68A9AB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9C861-6539-4BC9-8CC3-8E00937E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067E8-43A9-4998-BD9A-7E5F3EAE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85F8E-1A13-4552-AC9A-6C1B1837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5671-A42F-4C8A-B6BF-C8388DE8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55EFF-F30F-4BB8-B134-1EA05CD0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9EC-378B-4A1C-8932-81818525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FABD5-C5C1-42F9-A2EA-23E04213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C99A-5F22-43CB-887F-DF511BD9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F96A7-ADAE-4695-8427-2D43359A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64598-3E26-4FCE-89EC-129EABA9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95A76-57AA-4C2C-8E95-0F05532D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892A3-3921-4ABD-8FAB-97ECEA57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40DC7-445E-44D1-934A-483EEE2E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72A73-CF2C-4E7B-B885-614EF8E8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508E2-11A6-4D46-91B1-C60B98A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675E2-4E68-40F9-B52E-79ABE8D9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C1E-CD2D-488C-9392-840449E9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534EB-B82E-46A4-8381-893B7DF4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6AF8A-59C5-4520-8A85-C77D8214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1CA79-D96E-4B87-950F-CC00E9E2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9E8FF-7F83-4BDD-A9BE-2DF8EC06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B53BC-EE94-4704-9EF8-9C0421EA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1C8D1-E9B9-4650-922F-C57165E0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D1F79-B44D-4FCB-BA90-7C1615C3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E9AB8-469C-41F8-B9F1-CE0E02A9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83CD-A9AA-4DAC-B80E-E899417F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74A4F-C7D9-4486-B100-4A083D69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607-8F4B-40AB-9268-93B063F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A9041-5E93-45B4-9C7E-6EA2CD0D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C68F0-4139-409F-9B51-8A2F069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CC2B5-EC1B-44A2-87E6-324422FD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8869F-9009-4360-B9A0-EF38EFC0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7790E-7CB3-4313-8D83-B42E3AD3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8D9-2B5F-4EB2-AF00-0664FDBE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89FB-23AC-47DD-BDB7-89D4BCF5EF7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9690-1D1C-4808-A3DF-2EC50ED0539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58B9-5AFD-4793-8372-496D87674D8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DE2B-FC4D-4E95-A6C7-98F39E62CE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DDC2-7916-4964-8DA9-FFCC8292CCD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A78B-61AF-4D2E-8A91-C118E87C768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84BA-90BA-4523-9AB1-A730E0C53C8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звития языкозн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Проект подготовили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ученики 11 «А» класс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ГОУ СОШ № 436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Смирнова Ю. Худяков И. Попов 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79280" y="2674800"/>
            <a:ext cx="878544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Данный проект рассматривает теории методологии и этапы развития языкознания, истории формирования и развития самобытной лингвистической мысли в государствах Востока и в странах Западного мира, где лингвистическая традиция сложилась на основе греко-римских идей по философии языка и грамматике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2674440"/>
            <a:ext cx="86421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Современная лингвистика представляет собой продукт длительного и довольно противоречивого исторического развития лингвистического зна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И многие проблемы могут быть лучше поняты в историческом аспекте, при обращении к далекому или близкому прошлому науки о языке, к особенностям развития в разных этнокультурных контекстах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50920" y="2674440"/>
            <a:ext cx="864216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Языкознание, или лингвистика, - это наука о языке, его общественной природе и функциях, его внутренней структуре, о закономерностях его функционирования и исторического развития и классификации конкретных языков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Языкознание, или лингвистика как наука о язык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674800"/>
            <a:ext cx="864216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Языкознание является многоаспектной наукой, так как язык представляет собой весьма разнообразное и сложное явление. Языкознание как наука делится</a:t>
            </a: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на общее и частное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В рамках общего языкознания выделяется типологическое языкознание, задачей которого является сопоставление неродственных языков. Частное языкознание - это наука об отдельных языках, например, русистика - наука о русском языке, англистика - наука об английском язык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Аспекты языкозн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50920" y="2565000"/>
            <a:ext cx="8642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В заключение нам хотелось бы очертить круг задач, которые должно решить языкознание: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1. Установить природу и сущность языка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2. Рассмотреть структуру языка. </a:t>
            </a: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3. Понимать язык как систему, то есть язык представляет собой не разрозненные факты, не набор слов, это есть целостная система, все члены которой взаимосвязаны взаимообусловлены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Круг задач, решаемых языкознанием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0" y="1267920"/>
            <a:ext cx="8964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4. Изучать вопросы развития языка в связи с развитием общества;</a:t>
            </a: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Как и когда возникли и то и другое;</a:t>
            </a: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5. Изучить вопрос возникновения и развития письма;</a:t>
            </a: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6. Классифицировать языки, то есть объединить их по принципу их сходства; как близкородственные языки выделяются немецкий и английский; русский, украинский и белорусский.</a:t>
            </a:r>
            <a:br>
              <a:rPr sz="2600"/>
            </a:b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7. Выработать методы исследования. Можно назвать такие методы, как сравнительно- исторический, описательный, сравнительный, количественный(квантитативный). Последний метод основан на математической статистике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8. Рассмотреть связь лингвистики с другими науками (историей, психологией, логикой, литературоведением, математикой). </a:t>
            </a:r>
            <a:br>
              <a:rPr sz="2600"/>
            </a:b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1. Языкознание стремиться быть ближе к жизни, отсюда его прикладной характер.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2. Изучение вопросов, связанных с языковой интерференцией. Под языковой интерференцией понимается проникновение знаний родного языка или одного из изученных иностранных языков на знания, получаемые при изучении нового иностранного языка.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2:42:57Z</dcterms:created>
  <dc:creator>Житель</dc:creator>
  <dc:description/>
  <dc:language>en-US</dc:language>
  <cp:lastModifiedBy>Your User Name</cp:lastModifiedBy>
  <dcterms:modified xsi:type="dcterms:W3CDTF">2011-02-28T03:09:18Z</dcterms:modified>
  <cp:revision>7</cp:revision>
  <dc:subject/>
  <dc:title>Этапы развития языкознания</dc:title>
</cp:coreProperties>
</file>