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3237-B294-4612-818B-3D8B44379C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E6C0-32C6-4C3E-AAE5-2BF97832B1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0B82-C057-4558-8C2B-3F7208DF6A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FAA2-9E28-4D54-B1BA-679A411286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2A7A-29FC-426F-9AE5-A556ED1450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5B60-24B2-4163-B789-BF8296B8DD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2558-09C9-48DC-B02C-0CF77B7E26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55FC-EE00-49D3-AB91-F57DD8C2CE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76A4-27E9-411A-A66B-D461BB3F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EF3A-4E77-4C09-AB28-43002321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C5B-0D4D-4069-A976-C3AAABA9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58BB-8BC1-4672-8750-1CA4FD9A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C757-8E0A-4B8A-8217-065166E7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C6D2-A4D1-4C9A-ACA0-FF0379AB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09CD-774B-4A23-B720-63EDB4AF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B1F2-0D51-4D21-9995-8C00A7FF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5870-4A07-4493-BAE5-5D238D41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9FBD-0016-4BE7-AD8C-412C16B0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9724-FD6F-4421-932E-BBFEF724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37DD-6598-4767-8B5B-68DD6C38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DB6F-F25C-467F-A241-CAC63F03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AE05-C32E-4478-AEE5-11876CEC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D5A8-B10D-4581-A3F9-8959D4A9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07E9-FDCB-4EDD-B194-66674FF3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5F02-079A-43E4-989D-729E7F46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04A96-8ADF-4477-B7B5-CD3EBA3B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0E218-C2C1-48A4-81F6-A1F347C2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1C22E-116E-4A75-875C-8456B4EB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A49FD-D405-46FA-936E-E7625424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923F7-1AC0-43DD-933A-1631DC47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1F8F-8DEE-4F6F-BEA9-43ADE112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9C78F-5D09-4A25-AEC7-EFBEB11C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C325F-1596-4EB3-8BD8-F05EF06E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F4B02-E762-4623-9CB2-8E75EE67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F57E2-0C5D-4CBD-AF18-340FAC2C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CBC1F-A6D1-4C54-B7A4-02E8C504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76463-E680-4EEF-BC59-CB209D6B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A618A-1883-4674-AE0C-AC02DA99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56327-21A1-41FA-92FD-7B703836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AD38E-77CA-4363-9F07-FFB8AF18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E828D-C53A-4BF4-8558-FCF6DCF8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9FC4-D3C5-4DB6-82F8-9935F017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35C87-AEBD-46F6-8852-A726B62F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22AA5-CD75-4AFB-8A05-FFDD9B1C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A39DC-8C85-43F6-B382-25FBC894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2FCEF-88FD-479E-80FC-C0ECFFD0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A82C7-579A-408D-80BF-BA779BA4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E1269-1806-4B8D-AE53-DAA65F20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AEA05-B6D5-4581-803A-905D14F6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28141-DEDA-4B52-9CA0-3DE2EFBC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B40AC-0662-485C-91E3-0CB47C81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6285B-9894-42A6-A288-851EB883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4ABA-8C01-4952-9360-B90EB670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31286-E171-4CB4-BEE8-33CAD65C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F037A-F821-4104-867F-8353148F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770CE-0897-4F7E-8245-C86A19ED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BDC1D-FB9E-4CBD-ADEE-4BA4316D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10145-4AD3-4DF9-AC26-75541CFF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7B201-F8F6-4C1E-BB76-E82960B9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F9AC3-A569-45EB-B68A-FE509A05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C3AD9-D75F-46F9-AA0F-9E4EF477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076D1-AA52-41EC-931A-DE3E025C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D6809-3A7E-48D1-A9B0-41342848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FFCD-39C4-4A8B-A825-F6D41455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29E09-DB69-44F1-88A7-DCEC38F0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E281C-14FA-4378-959E-B3179204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4F89B-4458-4DA2-86B5-DD4BDDC7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50557-C270-4AD5-AA2E-FDDEAE2B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E0336-04B7-4041-A475-D139A50E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5AB6C-E507-4B9E-9476-6227100A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327A2-0A8D-4C2B-8BD7-C2FAF94C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08D20-9962-4E0E-930D-AE06DDCC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06B1F-6CE4-4480-8C7F-EE5313BA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A6ABC-02AD-4EDA-82CB-E6A48BA5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C6D3-843F-4137-970E-1A6BF434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AB372-9590-4792-9B7A-80847805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4D653-4EB9-4429-A0C7-460E8D3D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5420E-6F40-4CB4-8151-653F9E79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AF88F-DDB3-4552-A942-68628C17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DAF69-6116-4CBA-9C8D-F1A5AB9F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63EC2-4FFF-402D-AABC-F045D727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28FDF-CD72-45C7-A884-D66CB6E9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B33D3-F4E4-4433-B3D5-56452693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AB8B6-5FE5-4339-A8C2-8B12CFCD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FC765-F584-4DD6-A08C-7C7BF9D3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6993-9CB6-4410-BCBF-61B48E85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36782-3D82-431D-BFAA-31006AEC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C0747-1503-450A-A2D5-2E860AED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61609-8E4B-40BC-A25E-E5030B43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B5344-7D98-4F81-B258-F5999613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E4150-96EF-47D4-BD66-35D7A9F6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A41B-0361-4540-98D1-50B9F2B9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0689-F574-4424-A0C1-05292F5F337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3BC9-9B76-44DF-A619-8104F47ED42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D606-1580-4849-9A50-C8C587B48F3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BDDB-8A3A-478B-83AD-D5FD5CE4F22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0147-D67F-4336-A01B-1AACBA1784A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02C1-EB57-4722-A87D-A949D511505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BA38-60C2-4F73-A32D-755FC410472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14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тапы развития языкозн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Проект подготовили: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ученики 11 «А» класс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ГОУ СОШ № 436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Смирнова Ю. Худяков И. Попов Е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79280" y="2674800"/>
            <a:ext cx="8785440" cy="37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Данный проект рассматривает теории методологии и этапы развития языкознания, истории формирования и развития самобытной лингвистической мысли в государствах Востока и в странах Западного мира, где лингвистическая традиция сложилась на основе греко-римских идей по философии языка и грамматике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Цель проект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50920" y="2674440"/>
            <a:ext cx="864216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Современная лингвистика представляет собой продукт длительного и довольно противоречивого исторического развития лингвистического знания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just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И многие проблемы могут быть лучше поняты в историческом аспекте, при обращении к далекому или близкому прошлому науки о языке, к особенностям развития в разных этнокультурных контекстах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250920" y="2674440"/>
            <a:ext cx="864216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Языкознание, или лингвистика, - это наука о языке, его общественной природе и функциях, его внутренней структуре, о закономерностях его функционирования и исторического развития и классификации конкретных языков.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Языкознание, или лингвистика как наука о языке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250920" y="2674800"/>
            <a:ext cx="864216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Языкознание является многоаспектной наукой, так как язык представляет собой весьма разнообразное и сложное явление. Языкознание как наука делится</a:t>
            </a:r>
            <a:r>
              <a:rPr b="0" i="1" lang="ru-RU" sz="2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2800" spc="-1" strike="noStrike">
                <a:solidFill>
                  <a:srgbClr val="073e87"/>
                </a:solidFill>
                <a:latin typeface="Candara"/>
              </a:rPr>
              <a:t>на общее и частное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В рамках общего языкознания выделяется типологическое языкознание, задачей которого является сопоставление неродственных языков. Частное языкознание - это наука об отдельных языках, например, русистика - наука о русском языке, англистика - наука об английском языке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Аспекты языкозн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250920" y="2565000"/>
            <a:ext cx="86421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В заключение нам хотелось бы очертить круг задач, которые должно решить языкознание: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1. Установить природу и сущность языка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2. Рассмотреть структуру языка. </a:t>
            </a:r>
            <a:br>
              <a:rPr sz="2600"/>
            </a:b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3. Понимать язык как систему, то есть язык представляет собой не разрозненные факты, не набор слов, это есть целостная система, все члены которой взаимосвязаны взаимообусловлены.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Круг задач, решаемых языкознанием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0" y="1267920"/>
            <a:ext cx="8964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4. Изучать вопросы развития языка в связи с развитием общества;</a:t>
            </a:r>
            <a:br>
              <a:rPr sz="2600"/>
            </a:b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Как и когда возникли и то и другое;</a:t>
            </a:r>
            <a:br>
              <a:rPr sz="2600"/>
            </a:b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5. Изучить вопрос возникновения и развития письма;</a:t>
            </a:r>
            <a:br>
              <a:rPr sz="2600"/>
            </a:b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6. Классифицировать языки, то есть объединить их по принципу их сходства; как близкородственные языки выделяются немецкий и английский; русский, украинский и белорусский.</a:t>
            </a:r>
            <a:br>
              <a:rPr sz="2600"/>
            </a:b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7. Выработать методы исследования. Можно назвать такие методы, как сравнительно- исторический, описательный, сравнительный, количественный(квантитативный). Последний метод основан на математической статистике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8. Рассмотреть связь лингвистики с другими науками (историей, психологией, логикой, литературоведением, математикой). </a:t>
            </a:r>
            <a:br>
              <a:rPr sz="2600"/>
            </a:b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250920" y="1916280"/>
            <a:ext cx="8642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1. Языкознание стремиться быть ближе к жизни, отсюда его прикладной характер.</a:t>
            </a:r>
            <a:br>
              <a:rPr sz="2800"/>
            </a:b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2. Изучение вопросов, связанных с языковой интерференцией. Под языковой интерференцией понимается проникновение знаний родного языка или одного из изученных иностранных языков на знания, получаемые при изучении нового иностранного языка.</a:t>
            </a:r>
            <a:br>
              <a:rPr sz="2800"/>
            </a:b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2:42:57Z</dcterms:created>
  <dc:creator>Житель</dc:creator>
  <dc:description/>
  <dc:language>en-US</dc:language>
  <cp:lastModifiedBy>Your User Name</cp:lastModifiedBy>
  <dcterms:modified xsi:type="dcterms:W3CDTF">2011-02-28T03:09:18Z</dcterms:modified>
  <cp:revision>7</cp:revision>
  <dc:subject/>
  <dc:title>Этапы развития языкознания</dc:title>
</cp:coreProperties>
</file>