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E42-EE7C-44E5-BE5A-41194E2D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EB0-0F4C-45D0-832A-188DD9FE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757-E880-4A14-AC6E-410DFDA4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866-3808-476F-9AF9-DFD85B77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1733-D0CE-4EEE-A80F-57150898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DCF0-AE65-447F-B5BB-70F88ACE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226D-F804-4D2B-9A7C-34EC8FAD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6633-51F3-4937-8BF0-318E0A00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1F29-3DA7-462C-B6B3-5AB3860F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712C-86CD-4432-B368-92E46D33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0230-9866-4926-8CC6-E309E8EC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9EB-674A-4096-AAB2-9A0E2BED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E2D-D45E-42BD-B9EB-9CFC18A3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37DC-5C4A-4133-9312-488CFF7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FA5E-561E-4F68-8DF0-EACA9D95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BABB-C5C2-4798-A3EF-DA9B1926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89E4-0573-49FF-86B5-540266A6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372-30FA-4066-8223-3FFE776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481-BFD8-41DA-9CEB-CA685EF5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3D1-E839-4715-9CF4-1D553653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EFA-D2A1-4A10-BE32-725B1B04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98C-3EE7-43FC-A699-625A3B22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A61-8DA5-4445-9512-164D2DF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9EF-3A04-4085-923A-28AE598D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F610-356B-4DC5-B35A-36A19F0D4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B352-5551-4604-AB09-DC4241228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емейный бюджет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емьи  Ворониных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Новый сезон «Ворониных» принесет пополнение в семью"/>
          <p:cNvPicPr/>
          <p:nvPr/>
        </p:nvPicPr>
        <p:blipFill>
          <a:blip r:embed="rId2"/>
          <a:stretch/>
        </p:blipFill>
        <p:spPr>
          <a:xfrm>
            <a:off x="2057400" y="1523880"/>
            <a:ext cx="708660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5305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т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ляева Алексан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б класс  гимназии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00"/>
                            </p:stCondLst>
                            <p:childTnLst>
                              <p:par>
                                <p:cTn id="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650"/>
                            </p:stCondLst>
                            <p:childTnLst>
                              <p:par>
                                <p:cTn id="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55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85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10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Доход семь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5406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рплата Веры-15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рплата Кости-40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шел на дороге-1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нсия бабушки-11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нсия дедушки-14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ша получила приз в школе-2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07520" y="0"/>
            <a:ext cx="20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меся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594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сходы семь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упка продуктов-30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адкое для детей-5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лата за квартиру-10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упка вещей-8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та за садик-4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лата завтраков в школе-1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лечения и отдых-5 000руб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83480" y="228600"/>
            <a:ext cx="20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меся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Arial"/>
              </a:rPr>
              <a:t>Ито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152640" y="18284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ходы-81 2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ходы-63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таток-18 000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762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4440" y="5715000"/>
            <a:ext cx="62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Остаемся в плюс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b7e7ff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4343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Члены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Доходы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Расходы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Ит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1066680"/>
            <a:ext cx="47242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7e7ff"/>
                </a:solidFill>
                <a:latin typeface="Times New Roman"/>
              </a:rPr>
              <a:t>Вера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954000"/>
            <a:ext cx="70106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Times New Roman"/>
              </a:rPr>
              <a:t>Кост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609480"/>
            <a:ext cx="4800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Галина Иванов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7467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7e7ff"/>
                </a:solidFill>
                <a:latin typeface="Times New Roman"/>
              </a:rPr>
              <a:t>Николай Петрович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880" y="105552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Лен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5958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7e7ff"/>
                </a:solidFill>
                <a:latin typeface="Times New Roman"/>
              </a:rPr>
              <a:t>Кирилл и Филипп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3886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Маш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400824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3</cp:lastModifiedBy>
  <dcterms:modified xsi:type="dcterms:W3CDTF">2014-01-19T14:0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