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AEE-1998-4F37-9330-A22F649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DC9-8499-488D-A0DD-A2DC4450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6C6-8D20-481C-8D47-46970078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D98-D338-4CB0-A1EB-77533832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542-B914-4C52-A0DB-214C6ADA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8BC-C42C-4240-B1EC-4000E50C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E45B-023E-409C-9B24-98B6937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910-A705-4CCC-B184-AF8675B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59FC-337E-4549-9368-C76AB2BE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F23-6D34-4BF4-B8F2-17E83A7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88B0-D855-4EC1-A931-5AA8E28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379-EA6B-49BD-8B31-CD8555D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4F08-1A16-44DB-8FC5-712991E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9910-AFE3-42C0-A319-8E675B1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E62-A34A-4B31-85CD-2920DB6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FE8-03F2-40DE-8476-4D120FA2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022C-0FE0-44F4-B326-DFBF4C27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CDF-0161-403B-B979-3392AF5C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446-0E2A-4F19-BC91-A8C45F1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BCA-2ABC-4513-827E-6091E0F2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849-21C4-4DE9-B064-8C48BA9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709-5167-45BF-B087-8A1FB01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F22-28F1-41EE-90D8-4BE8ACC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BC5-D539-4A37-BB40-0986C3D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9E5E-C133-4BF0-8F87-05E9FA521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397-41CD-476C-9C45-A3F683C53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ейный бюджет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ьи  Ворониных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Новый сезон «Ворониных» принесет пополнение в семью"/>
          <p:cNvPicPr/>
          <p:nvPr/>
        </p:nvPicPr>
        <p:blipFill>
          <a:blip r:embed="rId2"/>
          <a:stretch/>
        </p:blipFill>
        <p:spPr>
          <a:xfrm>
            <a:off x="2057400" y="1523880"/>
            <a:ext cx="70866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5305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яева Алексан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б класс  гимназии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65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5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10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оход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Веры-1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Кости-4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шел на дороге-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бабушки-1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дедушки-1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ша получила приз в школе-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7520" y="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ходы семь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продуктов-3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адкое для детей-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 квартиру-1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вещей-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та за садик-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втраков в школе-1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лечения и отдых-5 000ру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3480" y="22860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ходы-81 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ходы-63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ток-1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76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4440" y="571500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Остаемся в плюс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Член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До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Рас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Ит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Вер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54000"/>
            <a:ext cx="7010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ост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609480"/>
            <a:ext cx="4800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алина Иван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67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Николай Петрович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05552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е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595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ирилл и Филипп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аш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008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4-01-19T14:0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