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DB4-D018-404A-B5E5-2C120B4E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5EB-8D08-4C54-811B-83EC3818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DAF-E6E0-418B-A112-9899BF5C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980-39DA-4252-8E39-239A968A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D4A0-1B0A-409E-ADAD-B2A27856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2974-D228-474C-8438-740ABCB2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EB1D-1AF3-435E-81F2-7072A240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506D-12C6-4162-B967-1515565A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076A-F235-4128-8B67-72989109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0C63-BBB6-429D-9C5B-492AF7F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E12E-CE11-4F10-9D2B-0D6F5EF2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004-E367-40C2-A793-9CE6C747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2949-DB31-41A5-9226-BD4E9DEC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C98C-DB94-4676-862D-28EB4DB0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917A-9FD1-4418-BE33-399AEEA0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91C2-AD9C-464C-8643-9436EF56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8BDF-E008-426D-91F9-FFD14650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3B1-124F-4832-8120-2C3DC285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8C8-3445-41CB-8903-70C4AF78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170-FF90-452E-9545-4EA9ED33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727-CF4F-4310-B18A-483EC15F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9EF-2875-49A9-A20B-1A65F4F6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2BF-C855-487E-9E7C-018CEB9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D90-9A9D-4312-B043-EA7BF018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2447-6EB3-43B4-A0C9-19AA0F3E7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F488-8B97-40B8-9404-04E1A9A83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емейный бюджет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емьи  Ворониных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Новый сезон «Ворониных» принесет пополнение в семью"/>
          <p:cNvPicPr/>
          <p:nvPr/>
        </p:nvPicPr>
        <p:blipFill>
          <a:blip r:embed="rId2"/>
          <a:stretch/>
        </p:blipFill>
        <p:spPr>
          <a:xfrm>
            <a:off x="2057400" y="1523880"/>
            <a:ext cx="708660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5305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бо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яева Александ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б класс  гимназии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65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50"/>
                            </p:stCondLst>
                            <p:childTnLst>
                              <p:par>
                                <p:cTn id="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85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10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Доход семь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540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рплата Веры-15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рплата Кости-40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шел на дороге-1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нсия бабушки-11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нсия дедушки-14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ша получила приз в школе-2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7520" y="0"/>
            <a:ext cx="20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меся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594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сходы семь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упка продуктов-30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адкое для детей-5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лата за квартиру-10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упка вещей-8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та за садик-4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лата завтраков в школе-1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лечения и отдых-5 000руб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3480" y="228600"/>
            <a:ext cx="20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меся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Arial"/>
              </a:rPr>
              <a:t>Ито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152640" y="182844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ходы-81 2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ходы-63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аток-18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572000" cy="4762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44440" y="5715000"/>
            <a:ext cx="62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Остаемся в плюс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b7e7ff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Члены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Доходы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Расходы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Ит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1066680"/>
            <a:ext cx="47242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7e7ff"/>
                </a:solidFill>
                <a:latin typeface="Times New Roman"/>
              </a:rPr>
              <a:t>Вер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954000"/>
            <a:ext cx="7010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Times New Roman"/>
              </a:rPr>
              <a:t>Кост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609480"/>
            <a:ext cx="4800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Галина Иванов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467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7e7ff"/>
                </a:solidFill>
                <a:latin typeface="Times New Roman"/>
              </a:rPr>
              <a:t>Николай Петрович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105552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Лен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5958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Times New Roman"/>
              </a:rPr>
              <a:t>Кирилл и Филипп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3886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Маш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62320" y="533520"/>
            <a:ext cx="40082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4-01-19T14:0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