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B19-237B-458A-A4D3-F86DB7AF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49F-12C3-4156-9B6C-C110BA3F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FFD-3069-43FD-8063-1A05E83C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7A7-AC49-41D1-9046-BA8B1635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423A-2771-4676-8562-85C153E6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6B98-86CC-441F-AD6B-A6CEEE8F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C06F-FD53-4037-A44E-952DA567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31E1-4ACF-4AEA-ADCC-3161CFF5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BFE6-BCC4-4C52-8BBC-17ACE570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A3F0-283A-4D22-9CCF-B27273A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E675-0570-4BF6-A631-30DE5C68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DE2-A06D-4BEF-8AAD-3D0DE789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0BEF-AFC0-4B59-BB63-18E7ABE3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5E90-3A08-490B-83F1-88A60CDE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D945-9591-4A27-BB3D-4B2A883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8FA3-ED0B-41D7-849C-B402871D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ABAD-D2CC-42B2-87E0-43771A7E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221-87B0-455E-B3AB-F4376E1A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CDB-5B9F-4D82-BAC7-099DFABF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487-275E-4CCE-B0FF-626ACC39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D0E-7DB4-4695-A37D-FF9E5FFC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967-3394-4AEE-B363-3D8C1820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BB9-5B12-4490-8949-A9B402F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CFD-15AD-46BE-8642-1D6B786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6D88-3815-40E7-B395-A9158D5842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81C2-6AF9-4D48-B793-F29E90E1F7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501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йкал осенью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йкал зим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е цветы Байкал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сен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ыс Бакланий. Лето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сен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сен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06:51:53Z</dcterms:created>
  <dc:creator>ОЕМ Пользователь</dc:creator>
  <dc:description/>
  <dc:language>en-US</dc:language>
  <cp:lastModifiedBy>друг</cp:lastModifiedBy>
  <dcterms:modified xsi:type="dcterms:W3CDTF">2005-12-12T19:31:40Z</dcterms:modified>
  <cp:revision>7</cp:revision>
  <dc:subject/>
  <dc:title>Щербина Елена Викторовна учитель начальных классов</dc:title>
</cp:coreProperties>
</file>