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8698-3122-407A-94EF-CEA66D2C8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A47B-FC32-4FA3-B14D-B7CF0D779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182F-F5C8-4C5B-9B28-2AB5B9F0C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9D4C-D3EB-4346-8E1F-120B2C517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5DF52-F45A-4E6C-8773-98E286F09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AEE5D-B8F0-4F75-9A91-41961FC7A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071C9-A6BB-423D-B102-47ACCE15A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6C470-1E18-4149-A7F7-92D2BEBBF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95AF1-FF33-4B09-983A-4984F1BBB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6E9EE-5666-4555-A43B-9EC606FF2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DE9AD-FA33-48BF-8E1B-6F3FCF07E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1EE4-EA5B-4D71-8741-B95C84F5F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ED379-773F-42AC-AD15-CAADF4129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77D76-A758-4735-834F-26B921E8C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BF9AF-40CD-478E-B2DB-005F531A5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90986-F071-4014-9449-4D4B41A2F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CC781-BAB2-4076-ACA5-F2A1B848D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6C52-081D-4BA8-83D9-F0ABA0A1D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E304-BD26-4B00-BF2C-2C2E3DDC1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51A3-CC8D-42DB-8E8A-72D533C89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9D0E-6499-4D4B-8177-F753D77C4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5CDD-833B-47E7-B387-B8A57A470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5B3B-EB8B-4D54-8701-A534665D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1CEF-84CC-4B65-B79E-71A515068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88470-ED40-470C-A4CC-4BA78CF9488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258E3-B89C-4DF7-9214-F8A588070E8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Зимний Байкал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42560" y="501336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Байкал осенью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Зимний Байкал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Зимний Байкал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Байкал зимой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Зимние цветы Байкал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Весенний Байкал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Мыс Бакланий. Лето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Весенний Байкал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Весенний Байкал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8T06:51:53Z</dcterms:created>
  <dc:creator>ОЕМ Пользователь</dc:creator>
  <dc:description/>
  <dc:language>en-US</dc:language>
  <cp:lastModifiedBy>друг</cp:lastModifiedBy>
  <dcterms:modified xsi:type="dcterms:W3CDTF">2005-12-12T19:31:40Z</dcterms:modified>
  <cp:revision>7</cp:revision>
  <dc:subject/>
  <dc:title>Щербина Елена Викторовна учитель начальных классов</dc:title>
</cp:coreProperties>
</file>