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BC2-2008-4884-BD1E-AAFE81A1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216-A7D4-4263-820C-4E5B699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A77-3F9C-4184-AE44-D0270907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2A6-07D0-49D1-A2C1-25AFBC1E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B63E-AABD-4C29-A14D-C1B5879B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0321-F615-4FE9-8012-4AF4BD8E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933D-A69E-49CA-A711-D0FC48EF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C0ED-3752-4C80-99EA-9959744D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2539-996A-48ED-8DBB-D9D8607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876-E88C-41A1-89E3-69510667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4D4-3A35-4D56-9C16-DEFCBAA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FB5-EAD1-42A1-9CE6-0BF8772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4CF-7F6F-473D-B049-DEBB527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D82-A0A0-47E5-8D63-E7D8D24D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F343-92C9-47FD-AFC8-8B3F1CC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0596-15F6-4DCB-A5CE-1107526C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4D1F-A76C-45A4-9783-B409FA01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D51-03BF-42E2-9D7C-E8368BB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F85-0B4C-416A-A4A3-8CDF20EF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CBA-8D13-4DD4-91A3-59ED596C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C65-2064-4361-A23B-D762604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EF5-EA36-42E9-80D5-007DB681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89D-8A71-4AF0-9043-464D169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530-D6AC-4CEC-82FE-C52CC1B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C37-F72C-48BD-BEDF-ACBEE96E46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1693-E192-4BF5-842A-F430DB3A50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йкал осенью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йкал зим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е цветы Байка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ыс Бакланий. Лето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06:51:53Z</dcterms:created>
  <dc:creator>ОЕМ Пользователь</dc:creator>
  <dc:description/>
  <dc:language>en-US</dc:language>
  <cp:lastModifiedBy>друг</cp:lastModifiedBy>
  <dcterms:modified xsi:type="dcterms:W3CDTF">2005-12-12T19:31:40Z</dcterms:modified>
  <cp:revision>7</cp:revision>
  <dc:subject/>
  <dc:title>Щербина Елена Викторовна учитель начальных классов</dc:title>
</cp:coreProperties>
</file>