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73327-CA9E-4105-B235-AB05A763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77417-CF58-4CA4-A4AB-53C06CE5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1DFD7-EE3C-4C8B-A97C-C178BA5E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DE279-B8AB-45D4-AE19-4479372A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33BA3-1B78-4083-915B-4C45ECE4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731ED-4003-47E4-B7A7-0427B879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24A7F-A49E-4BF1-B860-C236398A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84F6B-15A4-4A65-80C2-41AC8B01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556F7-C3DE-4143-8384-F303CC19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F86EE-8D39-4142-9883-5704D8C0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8FFBA-6E4F-4FB7-B5B8-A23AACE9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DC0AB-AA83-48B2-95C0-44A477F8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FFD03-126E-4FD5-92AC-BBA0262F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F4DC0-860A-40B3-AEE1-0F878D65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1990D-BEEF-4668-8F9C-28ECD00A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32F54-9159-445E-BF04-F799A8C6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1E79A-9557-4095-848C-E360895B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BDA01-B4D2-4901-8F62-EB717C14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1497F-6DB0-4405-A3F5-2F1C5CE5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B9538-4E22-4B2F-B432-F118ACCF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71F22-2489-4E75-BCC2-19178D7C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13398-5646-4DD3-A029-A489D1E6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16A31-3339-4048-8286-3B95A810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151F5-0D75-42E5-8947-49250455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D93F9-AE3D-41C3-9695-8A3C7A61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11E75-330A-486A-BDC0-F67E71BF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87B9E-3887-406E-82DD-B164A56E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586F5-4CB5-4A48-860C-7AF76DB8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95344-F1DB-40EC-BE9E-91DE039F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B8F77-E244-4CE9-8ECA-6785BC2B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8BC-0A4A-467E-9DDB-E6B3845E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583D0-E168-4B7E-A4EC-57E4ABF3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418A6-456A-4B28-B47D-8A4321B5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A1082-BA9E-41D3-98C7-1FC71A44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3CF33-2FD9-4B1B-BFA0-20DAC613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CDC7A-583C-4DC2-9E36-37C179EC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31289-7092-48D3-B2CC-16B1A1B4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6679D-0E65-4A92-8D68-EB41CE46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3038D-B819-406D-A03C-C6DC5763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C4871-F708-486E-B4CB-1A21CD36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EA705-C1A4-400F-9AEF-631715CE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8906-C29A-4455-A9A5-A48CE6E0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B79F9-A016-4B14-945B-FDC8CF57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CDC7F-3364-410C-86ED-36B72302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972DC-BF32-4E86-BF4D-B4CFA0EE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8E546-02EC-4D2A-BCB3-49BA708E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86117-3105-4E82-8CBD-B5543AF3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B22-41AE-4503-8814-F8CCE19E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EE7D-3D93-45FA-8704-7347FBA1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056-C276-48BE-8BD5-243211A3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993-CB5A-4198-8008-11AACF4F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EF5-D919-4109-87F8-450BB70E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81D-66C5-4C46-96C6-B51DEE3D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0DA-E1AB-4E67-9187-7AC6757F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BD60-2258-4EBF-8458-52699EA3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FD7F-6C0F-4400-8FB3-BB5F58EA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A278-9977-4609-BEFF-8546AA41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9257-CB00-4002-9912-17E9E8CB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67DC-9B61-4B3C-A28E-F0997035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1CD0-B512-47DD-8693-FE45084B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C0B9-8312-4E3F-AD4D-0BD5045D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2D1E-7522-4873-8D22-41DD3F9C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8F6D-7FFA-489D-A979-F09004A7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6C97-544D-43EF-88D2-86FC811F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DD75-CC01-47EB-BC0D-7573856E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084E-3DD6-4652-AAE7-64A5FABE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8C1E-568F-40D0-8FE2-6163558C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C7F8-28F3-4460-AD34-DB8934CF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5431-FF63-46CF-8335-E4F3CDC2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D57EC-9806-4DBC-B150-81EEC5FF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38BFC-5A48-4204-BDCD-C355C42D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A90C2-9A50-4D47-B52D-177F0FE3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98A71-B22B-4411-B399-CAF657C5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3D594-A14A-4481-943D-BE2865B4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15C36-9678-412C-ABD2-644C2B12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14246-D527-42B1-8ED8-3E9E0215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F3192-335D-412B-BF16-FB1E5911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CDBE4-E73F-45B1-B7BC-8361E220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8E0CF-51C6-4CD8-A814-A8D7562B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BDBFE-930D-4BC0-8ACE-6C06D7CB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884F0-F7B1-46CF-BF4C-AE705929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9D50B-F8E6-4B25-AF43-0DB0A6F4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91155-A2DE-4302-97CB-13A8B52A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2E3C8-0892-422D-B40E-BE167CE1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EBFC3-CC62-4C88-8C87-48D448BF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5E9AF-3F74-43DE-9B14-9F5094A1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0D285-C1BC-4D61-BE39-4955F8B8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4891C-57BE-4856-9FCE-81B2B9E0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8A62B-3DEA-4175-8944-AB18C9A3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7A7A8-6B73-4CD1-AB2B-1CB2EC29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BB077-65E9-4177-AE8A-C567B22D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56C55-6584-4FBA-A54B-E26E622B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4A944-0D8C-4F3D-AA36-75BFE73F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303AE-D816-403A-AFC5-656479F9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705E8-7C6D-42B2-B8F5-34597E64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E538D-CC9E-428F-B208-17649416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B92ED-E48E-4C51-B0C8-38BB34B2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FA67A-A2B1-496D-8602-D2ED7EA8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4E58C-4CCA-4ED0-935A-84784653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3D88B-A395-4855-81E3-6FAFD08C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86F85-B978-442D-91F1-F4058E09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EDA07-E998-4AD9-A325-4E0262B1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3B195-5845-4598-A5FE-86C4DE3E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4E822-C64C-42CF-B98B-ACCF16C3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D5837-4BA8-4001-8697-7955EB69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D5F6A-7073-40BF-BFCF-B68396CB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DDF16-35D8-4580-B328-AA3C2EF2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6C979-B445-4497-B062-20AB1321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7FC27-E9D8-4CE8-8856-FDB6FAF5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0310F-4790-4172-A07B-26EB0667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4AB7F-8531-4DE8-ACA4-84800CB6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1CAAD-16A6-42C4-B711-FB2D4325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1FBDE-DFEA-42D0-A0BD-26838FB1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0FB71-4FA2-429E-8003-293B65B7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6ADB5-A9A4-438E-AEBD-CE09D9AA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AF6EC-9AAD-4803-A87A-448BABF3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6176C-AF12-4429-80D8-53E6F3EE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4FCD2-A205-4E87-9069-DBEA2D1E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4C58A-457E-4DB4-80CB-686E5681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B2FA3-208B-4371-A439-FED6ECAA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FC918-14C1-4432-B893-01FF1601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AC774-A7F1-452F-9926-00DE8D49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569CF-127C-4CF0-A446-0AD0B4E5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53204-27D7-4AD4-A8CC-834D7C30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2CFAD-613B-466F-A187-D01D4969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F8D5E-2434-4C3A-91E2-285F3122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91FCF-A954-490F-AEB5-5FE14200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AAC78-37FD-474C-9FF0-306802E4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00F38-3DAE-4F77-9172-75FC2087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4A136-2693-413E-936F-559F382E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62498-65FD-4CEE-8A28-2E82CD68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4B4BD-1EFA-4869-B075-FF4B565C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DDE4-25C6-44C7-9937-C3D9DE334C6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94F9-595B-4E1A-8D0C-F4502DABCAC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04E9-7307-4CC8-A2E8-DFECC0B0785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60A4-75EF-403B-AA03-789EE0408B1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E8DD-8967-4F99-9F0D-7D480701664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1CA3-8594-4FA8-9A4B-73BD748CDC2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8CA4-747D-4736-9D38-949125DF0BE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6A4C-E0C4-4E37-8108-8FAFBF19FBD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ED9F-BB85-4644-8B5C-263610120A7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7403-7597-46CD-8FBC-1CD58C3929A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7d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6"/>
          <p:cNvSpPr/>
          <p:nvPr/>
        </p:nvSpPr>
        <p:spPr>
          <a:xfrm>
            <a:off x="5219640" y="6491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LIS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cedd1"/>
                </a:solidFill>
                <a:latin typeface="Calibri"/>
              </a:rPr>
              <a:t>No5/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B4E6-EA08-46D5-8716-907BA8873FD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2400" cy="146988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cedd1"/>
                </a:solidFill>
                <a:latin typeface="Calibri"/>
              </a:rPr>
              <a:t>All Eyes and Ear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84360" y="3716280"/>
            <a:ext cx="7775280" cy="175248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edd1"/>
                </a:solidFill>
                <a:latin typeface="Calibri"/>
              </a:rPr>
              <a:t>ENGLISH IDIOMS WITH “EYE” and “EAR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Заголовок 1"/>
          <p:cNvSpPr/>
          <p:nvPr/>
        </p:nvSpPr>
        <p:spPr>
          <a:xfrm>
            <a:off x="685800" y="2060640"/>
            <a:ext cx="7772400" cy="146988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cedd1"/>
                </a:solidFill>
                <a:latin typeface="Calibri"/>
              </a:rPr>
              <a:t>All Eyes and Ear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2896920" y="3046320"/>
            <a:ext cx="5832360" cy="54000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giv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ar</a:t>
            </a: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 or lend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903400" y="3635280"/>
            <a:ext cx="5834160" cy="92736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edd1"/>
                </a:solidFill>
                <a:latin typeface="Calibri"/>
              </a:rPr>
              <a:t>to give attention, esp. favorable attention; listen; h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Текст 1"/>
          <p:cNvSpPr/>
          <p:nvPr/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have nothing between the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Текст 2"/>
          <p:cNvSpPr/>
          <p:nvPr/>
        </p:nvSpPr>
        <p:spPr>
          <a:xfrm>
            <a:off x="406440" y="1050840"/>
            <a:ext cx="8353440" cy="180036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Informal </a:t>
            </a: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to be stup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He’s very good-looking but has absolutely nothing between the ears, I’m afra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Рисунок 5" descr=""/>
          <p:cNvPicPr/>
          <p:nvPr/>
        </p:nvPicPr>
        <p:blipFill>
          <a:blip r:embed="rId1"/>
          <a:stretch/>
        </p:blipFill>
        <p:spPr>
          <a:xfrm>
            <a:off x="468360" y="3116160"/>
            <a:ext cx="2219400" cy="3328920"/>
          </a:xfrm>
          <a:prstGeom prst="rect">
            <a:avLst/>
          </a:prstGeom>
          <a:ln w="76320">
            <a:solidFill>
              <a:srgbClr val="bec7c2"/>
            </a:solidFill>
            <a:miter/>
          </a:ln>
        </p:spPr>
      </p:pic>
      <p:sp>
        <p:nvSpPr>
          <p:cNvPr id="545" name="Текст 1"/>
          <p:cNvSpPr/>
          <p:nvPr/>
        </p:nvSpPr>
        <p:spPr>
          <a:xfrm>
            <a:off x="2911320" y="4630680"/>
            <a:ext cx="5832720" cy="53964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in on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ar</a:t>
            </a: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 and out the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Текст 2"/>
          <p:cNvSpPr/>
          <p:nvPr/>
        </p:nvSpPr>
        <p:spPr>
          <a:xfrm>
            <a:off x="2901960" y="5208480"/>
            <a:ext cx="5832360" cy="129708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edd1"/>
                </a:solidFill>
                <a:latin typeface="Calibri"/>
              </a:rPr>
              <a:t>heard but without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cedd1"/>
                </a:solidFill>
                <a:latin typeface="Calibri"/>
              </a:rPr>
              <a:t>His mind was made up, so my arguments went in one ear and out the o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be wet behind the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353440" cy="122400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to be young and not very experien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He’s fresh out of college, still wet behind the 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Текст 1"/>
          <p:cNvSpPr/>
          <p:nvPr/>
        </p:nvSpPr>
        <p:spPr>
          <a:xfrm>
            <a:off x="395280" y="242100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can do something on their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Текст 2"/>
          <p:cNvSpPr/>
          <p:nvPr/>
        </p:nvSpPr>
        <p:spPr>
          <a:xfrm>
            <a:off x="395280" y="3213000"/>
            <a:ext cx="8353440" cy="158436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cedd1"/>
                </a:solidFill>
                <a:latin typeface="Calibri"/>
              </a:rPr>
              <a:t>Australian informal </a:t>
            </a:r>
            <a:r>
              <a:rPr b="0" lang="en-US" sz="2800" spc="-1" strike="noStrike">
                <a:solidFill>
                  <a:srgbClr val="ecedd1"/>
                </a:solidFill>
                <a:latin typeface="Calibri"/>
              </a:rPr>
              <a:t>if someone can do something on their ear, they can do it very easi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cedd1"/>
                </a:solidFill>
                <a:latin typeface="Calibri"/>
              </a:rPr>
              <a:t>Ask Jane to make it, she can bake a soufflé on her 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Текст 1"/>
          <p:cNvSpPr/>
          <p:nvPr/>
        </p:nvSpPr>
        <p:spPr>
          <a:xfrm>
            <a:off x="395280" y="494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fall on deaf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Текст 2"/>
          <p:cNvSpPr/>
          <p:nvPr/>
        </p:nvSpPr>
        <p:spPr>
          <a:xfrm>
            <a:off x="395280" y="5732640"/>
            <a:ext cx="8353440" cy="79200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edd1"/>
                </a:solidFill>
                <a:latin typeface="Calibri"/>
              </a:rPr>
              <a:t>to be ignored or unh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4105440" cy="54000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assault th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4105440" cy="237672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cedd1"/>
                </a:solidFill>
                <a:latin typeface="Calibri"/>
              </a:rPr>
              <a:t>Fig. </a:t>
            </a:r>
            <a:r>
              <a:rPr b="0" lang="en-US" sz="2400" spc="-1" strike="noStrike">
                <a:solidFill>
                  <a:srgbClr val="ecedd1"/>
                </a:solidFill>
                <a:latin typeface="Calibri"/>
              </a:rPr>
              <a:t>[for sound or speech] to be very loud or persist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cedd1"/>
                </a:solidFill>
                <a:latin typeface="Calibri"/>
              </a:rPr>
              <a:t>That loud music assaults the ears! I can’t hear you with all that traffic noise assaulting my ea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Текст 1"/>
          <p:cNvSpPr/>
          <p:nvPr/>
        </p:nvSpPr>
        <p:spPr>
          <a:xfrm>
            <a:off x="395280" y="3357720"/>
            <a:ext cx="8353440" cy="7189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be easy on the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Текст 2"/>
          <p:cNvSpPr/>
          <p:nvPr/>
        </p:nvSpPr>
        <p:spPr>
          <a:xfrm>
            <a:off x="395280" y="4149720"/>
            <a:ext cx="8353440" cy="237492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music is easy on the ear, it has a pleasant and relaxing s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When I’m driving, I like to listen to music that’s easy on the ear and not too deman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Рисунок 5" descr=""/>
          <p:cNvPicPr/>
          <p:nvPr/>
        </p:nvPicPr>
        <p:blipFill>
          <a:blip r:embed="rId1"/>
          <a:stretch/>
        </p:blipFill>
        <p:spPr>
          <a:xfrm>
            <a:off x="4672080" y="311040"/>
            <a:ext cx="3984480" cy="2917800"/>
          </a:xfrm>
          <a:prstGeom prst="rect">
            <a:avLst/>
          </a:prstGeom>
          <a:ln w="76320">
            <a:solidFill>
              <a:srgbClr val="bec7c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(somebody’s)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s</a:t>
            </a: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 are flap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158436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Informal </a:t>
            </a: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something that you say when you think that someone is listening to your private convers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Текст 1"/>
          <p:cNvSpPr/>
          <p:nvPr/>
        </p:nvSpPr>
        <p:spPr>
          <a:xfrm>
            <a:off x="395280" y="2725560"/>
            <a:ext cx="8353440" cy="65736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can do something on their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Текст 2"/>
          <p:cNvSpPr/>
          <p:nvPr/>
        </p:nvSpPr>
        <p:spPr>
          <a:xfrm>
            <a:off x="395280" y="3500280"/>
            <a:ext cx="8353440" cy="302436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Australian informal </a:t>
            </a: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someone can do some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on their ear, they can do it very easi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Ask Jane to make it, she can bake a soufflé on her 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music to someone’s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108108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Fig. </a:t>
            </a: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a welcome sound to someone; news that someone is pleased to h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Текст 1"/>
          <p:cNvSpPr/>
          <p:nvPr/>
        </p:nvSpPr>
        <p:spPr>
          <a:xfrm>
            <a:off x="382680" y="2205000"/>
            <a:ext cx="8353440" cy="71928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on someone’s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Текст 2"/>
          <p:cNvSpPr/>
          <p:nvPr/>
        </p:nvSpPr>
        <p:spPr>
          <a:xfrm>
            <a:off x="382680" y="2997360"/>
            <a:ext cx="8353440" cy="180000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n a state of amazement, excitement, or upro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a controversial movie that set the film indu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on its 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Текст 1"/>
          <p:cNvSpPr/>
          <p:nvPr/>
        </p:nvSpPr>
        <p:spPr>
          <a:xfrm>
            <a:off x="382680" y="4941720"/>
            <a:ext cx="8353440" cy="71928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set on its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Текст 2"/>
          <p:cNvSpPr/>
          <p:nvPr/>
        </p:nvSpPr>
        <p:spPr>
          <a:xfrm>
            <a:off x="382680" y="5732640"/>
            <a:ext cx="8353440" cy="79200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Informal </a:t>
            </a: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to cause excitement, upheaval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turn a blind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</a:t>
            </a: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 to somet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353440" cy="129672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you turn a blind eye to something,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gnore it intention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Текст 1"/>
          <p:cNvSpPr/>
          <p:nvPr/>
        </p:nvSpPr>
        <p:spPr>
          <a:xfrm>
            <a:off x="393840" y="2421000"/>
            <a:ext cx="4178160" cy="7189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the apple of your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y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Текст 2"/>
          <p:cNvSpPr/>
          <p:nvPr/>
        </p:nvSpPr>
        <p:spPr>
          <a:xfrm>
            <a:off x="393840" y="3213000"/>
            <a:ext cx="4178160" cy="331164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somebody is the apple of your eye, this means that you like them very mu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My granddaughter is the apple of my ey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Рисунок 5" descr=""/>
          <p:cNvPicPr/>
          <p:nvPr/>
        </p:nvPicPr>
        <p:blipFill>
          <a:blip r:embed="rId1"/>
          <a:stretch/>
        </p:blipFill>
        <p:spPr>
          <a:xfrm>
            <a:off x="4735440" y="2482920"/>
            <a:ext cx="3911760" cy="3952800"/>
          </a:xfrm>
          <a:prstGeom prst="rect">
            <a:avLst/>
          </a:prstGeom>
          <a:ln w="76320">
            <a:solidFill>
              <a:srgbClr val="bec7c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blink of an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266364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something happens in the blink of an eye, it happens nearly instantaneously, with hardly enough time to notice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The pickpocket disappeared in the blink of an ey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Текст 3"/>
          <p:cNvSpPr/>
          <p:nvPr/>
        </p:nvSpPr>
        <p:spPr>
          <a:xfrm>
            <a:off x="395280" y="386064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catch somebody’s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Текст 4"/>
          <p:cNvSpPr/>
          <p:nvPr/>
        </p:nvSpPr>
        <p:spPr>
          <a:xfrm>
            <a:off x="395280" y="4653000"/>
            <a:ext cx="8353440" cy="187164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someone catches your eye, you find them attra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The pretty girl near the door caught his ey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255600"/>
            <a:ext cx="8353440" cy="71928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ye</a:t>
            </a: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 of the st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230508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edd1"/>
                </a:solidFill>
                <a:latin typeface="Calibri"/>
              </a:rPr>
              <a:t>A person or organization who is in the eye of the storm is deeply involved in a difficult situation which affects a lot of peop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cedd1"/>
                </a:solidFill>
                <a:latin typeface="Calibri"/>
              </a:rPr>
              <a:t>The minister was often in the eye of the storm during the debate on the war in Iraq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Рисунок 3" descr=""/>
          <p:cNvPicPr/>
          <p:nvPr/>
        </p:nvPicPr>
        <p:blipFill>
          <a:blip r:embed="rId1"/>
          <a:stretch/>
        </p:blipFill>
        <p:spPr>
          <a:xfrm>
            <a:off x="468360" y="3517920"/>
            <a:ext cx="4046400" cy="2922480"/>
          </a:xfrm>
          <a:prstGeom prst="rect">
            <a:avLst/>
          </a:prstGeom>
          <a:ln w="76320">
            <a:solidFill>
              <a:srgbClr val="bec7c2"/>
            </a:solidFill>
            <a:miter/>
          </a:ln>
        </p:spPr>
      </p:pic>
      <p:sp>
        <p:nvSpPr>
          <p:cNvPr id="516" name="Текст 1"/>
          <p:cNvSpPr/>
          <p:nvPr/>
        </p:nvSpPr>
        <p:spPr>
          <a:xfrm>
            <a:off x="4638600" y="3429000"/>
            <a:ext cx="4106880" cy="53964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in the twinkling of an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y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Текст 2"/>
          <p:cNvSpPr/>
          <p:nvPr/>
        </p:nvSpPr>
        <p:spPr>
          <a:xfrm>
            <a:off x="4651200" y="4044960"/>
            <a:ext cx="4097520" cy="247500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edd1"/>
                </a:solidFill>
                <a:latin typeface="Calibri"/>
              </a:rPr>
              <a:t>This expression means ‘very fast’ or ‘instantaneously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cedd1"/>
                </a:solidFill>
                <a:latin typeface="Calibri"/>
              </a:rPr>
              <a:t>Public opinion can change in the twinkling of an ey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more than meets the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316836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When something (or someone) is more complicated, difficult or interesting that it appears, it is said that there is more than meets the ey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He said he simply sold his shares, but I think there’s more to it than meets the ey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Текст 1"/>
          <p:cNvSpPr/>
          <p:nvPr/>
        </p:nvSpPr>
        <p:spPr>
          <a:xfrm>
            <a:off x="415800" y="4365720"/>
            <a:ext cx="8353440" cy="7189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see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 to eye </a:t>
            </a: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with some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Текст 2"/>
          <p:cNvSpPr/>
          <p:nvPr/>
        </p:nvSpPr>
        <p:spPr>
          <a:xfrm>
            <a:off x="415800" y="5157720"/>
            <a:ext cx="8353440" cy="136692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To see eye to eye with somebody mean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agree with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95280" y="325764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s</a:t>
            </a: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 wide op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95280" y="4049640"/>
            <a:ext cx="8353440" cy="244944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you do something with your eyes open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you are fully aware of what you are do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I took on the job with my eyes wide open, 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I’m not complai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Текст 1"/>
          <p:cNvSpPr/>
          <p:nvPr/>
        </p:nvSpPr>
        <p:spPr>
          <a:xfrm>
            <a:off x="395280" y="260280"/>
            <a:ext cx="417672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eagl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Текст 2"/>
          <p:cNvSpPr/>
          <p:nvPr/>
        </p:nvSpPr>
        <p:spPr>
          <a:xfrm>
            <a:off x="395280" y="1052640"/>
            <a:ext cx="4176720" cy="212724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edd1"/>
                </a:solidFill>
                <a:latin typeface="Calibri"/>
              </a:rPr>
              <a:t>Someone who has eagle eyes sees or notices things more easily than oth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cedd1"/>
                </a:solidFill>
                <a:latin typeface="Calibri"/>
              </a:rPr>
              <a:t>Tony will help us find it – he’s got eagle eye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Рисунок 5" descr=""/>
          <p:cNvPicPr/>
          <p:nvPr/>
        </p:nvPicPr>
        <p:blipFill>
          <a:blip r:embed="rId1"/>
          <a:stretch/>
        </p:blipFill>
        <p:spPr>
          <a:xfrm>
            <a:off x="4730760" y="352440"/>
            <a:ext cx="3946680" cy="2782800"/>
          </a:xfrm>
          <a:prstGeom prst="rect">
            <a:avLst/>
          </a:prstGeom>
          <a:ln w="76320">
            <a:solidFill>
              <a:srgbClr val="bec7c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s</a:t>
            </a: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 in the back of one’s h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353440" cy="273672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To say that someone has eyes in the back of their head means that they are very observant and notice everything happening around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You need eyes in the back of your head to look after young child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Текст 1"/>
          <p:cNvSpPr/>
          <p:nvPr/>
        </p:nvSpPr>
        <p:spPr>
          <a:xfrm>
            <a:off x="395280" y="3932280"/>
            <a:ext cx="8353440" cy="53964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feast one’s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yes</a:t>
            </a: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 on somet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Текст 2"/>
          <p:cNvSpPr/>
          <p:nvPr/>
        </p:nvSpPr>
        <p:spPr>
          <a:xfrm>
            <a:off x="395280" y="4581360"/>
            <a:ext cx="8353440" cy="194328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cedd1"/>
                </a:solidFill>
                <a:latin typeface="Calibri"/>
              </a:rPr>
              <a:t>If you feast your eyes on something, you are delighted and gratified by what you s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cedd1"/>
                </a:solidFill>
                <a:latin typeface="Calibri"/>
              </a:rPr>
              <a:t>As he drove along the coast, he feasted his eyes on the beautiful scene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in one’s mind’s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353440" cy="223200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If you can visualise something, or see an image of it in your mind, you see it in your mind’s ey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I can see the village in my mind’s eye but I can’t remember the n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Текст 1"/>
          <p:cNvSpPr/>
          <p:nvPr/>
        </p:nvSpPr>
        <p:spPr>
          <a:xfrm>
            <a:off x="395280" y="3475080"/>
            <a:ext cx="8353440" cy="7189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edd1"/>
                </a:solidFill>
                <a:latin typeface="Calibri"/>
              </a:rPr>
              <a:t>a sight for sore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y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Текст 2"/>
          <p:cNvSpPr/>
          <p:nvPr/>
        </p:nvSpPr>
        <p:spPr>
          <a:xfrm>
            <a:off x="395280" y="4267080"/>
            <a:ext cx="8353440" cy="223200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edd1"/>
                </a:solidFill>
                <a:latin typeface="Calibri"/>
              </a:rPr>
              <a:t>This expression refers to a person or thing you are happy to s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cedd1"/>
                </a:solidFill>
                <a:latin typeface="Calibri"/>
              </a:rPr>
              <a:t>Sam! You’re a sight for sore eyes! Haven’t seen you in a long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5724000" y="260280"/>
            <a:ext cx="3024360" cy="54000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edd1"/>
                </a:solidFill>
                <a:latin typeface="Calibri"/>
              </a:rPr>
              <a:t>be all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724000" y="907560"/>
            <a:ext cx="3024360" cy="230508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edd1"/>
                </a:solidFill>
                <a:latin typeface="Calibri"/>
              </a:rPr>
              <a:t>to be listening attentively or eag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cedd1"/>
                </a:solidFill>
                <a:latin typeface="Calibri"/>
              </a:rPr>
              <a:t>Tell your story – we’re all ear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Текст 1"/>
          <p:cNvSpPr/>
          <p:nvPr/>
        </p:nvSpPr>
        <p:spPr>
          <a:xfrm>
            <a:off x="395280" y="3284640"/>
            <a:ext cx="8353440" cy="720720"/>
          </a:xfrm>
          <a:prstGeom prst="rect">
            <a:avLst/>
          </a:prstGeom>
          <a:solidFill>
            <a:srgbClr val="cf54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edd1"/>
                </a:solidFill>
                <a:latin typeface="Calibri"/>
              </a:rPr>
              <a:t>bend someone’s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Текст 2"/>
          <p:cNvSpPr/>
          <p:nvPr/>
        </p:nvSpPr>
        <p:spPr>
          <a:xfrm>
            <a:off x="395280" y="4075200"/>
            <a:ext cx="8353440" cy="2441520"/>
          </a:xfrm>
          <a:prstGeom prst="rect">
            <a:avLst/>
          </a:prstGeom>
          <a:solidFill>
            <a:srgbClr val="bec7c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cedd1"/>
                </a:solidFill>
                <a:latin typeface="Calibri"/>
              </a:rPr>
              <a:t>Fig. </a:t>
            </a:r>
            <a:r>
              <a:rPr b="0" lang="en-US" sz="2800" spc="-1" strike="noStrike">
                <a:solidFill>
                  <a:srgbClr val="ecedd1"/>
                </a:solidFill>
                <a:latin typeface="Calibri"/>
              </a:rPr>
              <a:t>to talk to someone, perhaps annoyingly. (As if talking so much that the other person’s ear is moved back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cedd1"/>
                </a:solidFill>
                <a:latin typeface="Calibri"/>
              </a:rPr>
              <a:t>Tom is over there, bending Jane’s ear about something. I’m sorry. I didn’t mean to bend your ear for an ho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Рисунок 5" descr=""/>
          <p:cNvPicPr/>
          <p:nvPr/>
        </p:nvPicPr>
        <p:blipFill>
          <a:blip r:embed="rId1"/>
          <a:stretch/>
        </p:blipFill>
        <p:spPr>
          <a:xfrm>
            <a:off x="447840" y="314280"/>
            <a:ext cx="5117760" cy="2843280"/>
          </a:xfrm>
          <a:prstGeom prst="rect">
            <a:avLst/>
          </a:prstGeom>
          <a:ln w="76320">
            <a:solidFill>
              <a:srgbClr val="bec7c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1:41:54Z</dcterms:created>
  <dc:creator/>
  <dc:description/>
  <dc:language>en-US</dc:language>
  <cp:lastModifiedBy/>
  <dcterms:modified xsi:type="dcterms:W3CDTF">2011-03-29T11:43:31Z</dcterms:modified>
  <cp:revision>1</cp:revision>
  <dc:subject/>
  <dc:title/>
</cp:coreProperties>
</file>