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BBC54-1E97-42A8-9DCF-083CA7E8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CF26D-BDF5-4CD9-B54C-7E8C4C95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6C60A-7029-4B90-8813-4500EF6F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211B1-75CF-4A78-845C-7F6DD417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5ADD0-13D2-4AE4-9509-6E36C00D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E1527-0F9F-41D3-9CB5-4379833D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837B5-D2CA-4162-ACCD-140CACD1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F754D-FECD-4B5B-A66B-661CE520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240B8-1F0D-45B8-A295-1FA2FF5D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2D353-1F36-4BB5-99B6-FE2C5928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48210-D395-4359-9560-E1FF3DDE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6C4A7-B75E-4092-ACCD-F7A887F8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8873D-3588-4EAF-8865-134B3283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A5113-9DFD-4CD2-8268-EE20AF3D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9E553-2109-44EA-A521-DC2433F7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E3B55-C12D-47A3-9830-A764DDF9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2347F-4A95-4938-AD7C-144DA333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D8A79-3802-4B37-959C-9F16A4ED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1CC5E-3EF9-4D96-9596-32BCE2BA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DC91C-E3EC-415E-9346-1ECCDBB8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FEE85-D097-45E7-B19A-FCEC0CF6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FFF5A-49FD-4545-811C-004919CC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B3D14-4D49-48FC-A9D2-3DD6036E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776B1-90F8-4DF0-91A2-1F2E9049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59682-DD05-47DB-911A-50C5C4D8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6A863-3309-4765-8019-712EF2A2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87172-E7DB-402C-A9FB-C05E282A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89F80-1195-4482-81AD-E40E66BF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5037E-2C03-4AD8-AD14-EBBC3620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914A9-DC66-4F1C-AE80-2F433B4D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624-5627-416A-B4D5-D3D17C98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E52E0-D6B3-4EFE-AC19-3276B45F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7AD7D-D9E4-4C47-8684-A7319E89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43FFC-D260-48C6-90B4-51622B7F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19B3F-AC48-4268-B925-C883132C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EFF8E-BA4C-4FB6-9CC6-8ED683A4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A7E9F-E2DD-471C-AB9C-1B83A975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D05F0-2EF5-4E95-AEC3-8922FE07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58EF0-7A04-4B34-9680-598672F5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E8FD0-E020-4665-81B8-3C2BAE54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C0722-D302-4E98-929B-B3CE490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2F4-AE82-4F74-8402-058B0663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7FEB7-96BC-42F5-84B7-82F8BFFE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DA3DE-E498-4DEE-B323-992EE76F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C00D2-7BC8-4551-BB87-3DD99A61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CAE86-7E23-4DE8-B07E-D33667CC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67C19-E605-4CAA-970B-43F5B6FF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59F-1B31-4D0E-82D7-E79EF9BD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AB4-5AD8-4B17-992A-DA2B4013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E16-36E4-4348-B0E4-8E45EF87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01E-31A9-4FF2-94EA-464F5306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B2F-67F0-4E9F-BC95-1FE19EB5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850-72CA-45E1-91F2-C46ABD36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AEE-78A0-41CD-AC1E-41C53CAC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411-80FD-45B9-ADBB-53158380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8F6-F0BD-49EA-906E-5CDD582E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6D7-386A-4B0E-A936-07864796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F2AB-DE37-4696-81B9-7F7F3C94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1993-6D7D-4E94-BDBC-E5F6BA22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3188-EE1C-4611-8D1F-F4FEC877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8FED-E626-46A0-A764-BD49006B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E944-4044-43CA-AF7D-BEA149EC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C893-CF10-4F34-8D29-53099B52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AC2B-9A98-4670-B70F-31492C96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2785-BDA6-45EE-9C13-64722AE8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900D-1F23-4D6C-8209-5C43DB4C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9C0A-46C9-4287-9FC2-FEFA0CA2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F37D-43D2-4389-87CA-FCC6D767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7441-3333-4730-8A67-C6DA8029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485B-AFDD-44AB-AA44-21F7A09F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92B24-200F-4ECE-9DEC-4DBAD505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6E5C6-C56D-4E7E-9644-1953F1FB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E5A1A-46AD-40B9-BFFD-8FE1DB68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91F99-ADD9-4E10-8937-803E96EA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942F7-D948-4C97-90AD-C7833963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C925F-E73F-481C-A4B1-42A76ACB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D5A6A-524F-4401-B9A8-E991CC43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55F2A-DC7C-4689-B271-F96C7272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2F45A-5635-4C54-92A8-4272BF94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1D378-C236-42CB-9D52-66CAD75B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DDB3-CCAC-4C2C-A367-418BEFDC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69B00-049A-41C4-B405-DB55D9AB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EBDA-F4D8-4C63-B54B-20066EA9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8711B-D026-4143-A0CF-863DAAC6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4AA93-E5F6-4963-BDDA-1A8DF7E2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82655-F6B6-4C24-91C7-BF16FA89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FBB50-8DD7-4F5A-9398-3272B08D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FDD2-AF11-4335-81E2-2B47D782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4B9C1-2D8B-47A2-97C3-7CD9A3B9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5837C-EDDA-4526-9E2E-E1C87A14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3D4DC-0771-49CF-B51A-CA8013CD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75F04-F15B-45DD-A7DA-D34EA269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719B4-098B-4E36-80E7-6AD23294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ED234-CE99-493B-9E03-E45F750D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8886A-BB3F-42B0-B73D-4373C032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4517D-B345-4D53-9487-43272FAA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F98AD-1890-46F4-924B-2D2B91CF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76451-AC19-4F47-B5A1-D1535B71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8A423-1ACC-4927-8815-85DC2E5D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53F6C-FA26-4C7C-9F7C-64A7477B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EBA7D-755B-4175-93C3-EE14D05F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2526C-34C3-47BF-AFCF-10707DDD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98E97-1EDE-470E-87A1-59DB35F5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9287D-43B0-435F-BD2A-DE4D71A9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18CF4-880B-488F-85F6-8808BB68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AB22B-C3AF-4A8D-BD0D-CA578190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F0283-6471-429A-9595-04A2EEDC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3350C-A4EE-4D7B-A2BE-C080A5C8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14214-8CA8-41CA-AACD-F671ADA7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EF77B-6214-4DF0-94AB-6778A9E5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D8574-2CB8-443C-8800-9CD04F79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DB185-AE5D-4545-A3D8-353B7CF7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FD197-1C78-44CA-90D5-7B71D62D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5E6F4-1103-4227-A3E9-C50FBA6C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C1C9B-CD5A-4EDB-B4C4-D66BAD40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43289-B56F-4BA4-BD88-E6D07258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F360B-1F39-4203-854C-5CEACD57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46E27-EF15-4248-A154-89068BE5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B73B2-3430-4644-8E6E-97C2F2E8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988F4-8D78-474E-8C59-EE06C198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9609C-DDDC-4D73-B15A-0C04FA51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6B3D5-207C-447E-840D-3F24B93C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A136E-DB57-4A69-B838-AB323EDA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32376-B861-4398-A7A3-582EF2F4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2E484-DDBC-4623-BDB3-D61DEBED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4E61B-0F4F-44DF-B037-A3E35C22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1FBC8-164A-482F-952B-A864D729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388C8-B740-4E7A-8E41-88B48E57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BB093-95D3-4264-BF0E-5734C038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1BDF4-6207-46E5-8A29-A71A629E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7658D-43F4-48D4-B0F2-0585E6BC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91EDD-963F-424F-A87F-27635C10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9F5A-0785-42F2-92B6-C0900F02A5E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3A35-7A00-47D3-BDBC-9C87EE447F0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8255-AB9D-41EF-B63F-791F28903BF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0D97-45EF-4133-A6C9-778541E53FF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C2F2-F099-4A7A-8C28-58B172BFA25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343C-E102-4416-8C8C-340443332F6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F166-1F16-462F-9E03-547BF4DABA9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BFED-DF6A-4685-9396-0077896CD29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1F0B-7F0E-4090-BC62-A0DFA09CF82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A1AC-7330-41B3-9FAE-31F1D2C7CF2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95CC-2043-40DC-8072-9CD43EE460C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146988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cedd1"/>
                </a:solidFill>
                <a:latin typeface="Calibri"/>
              </a:rPr>
              <a:t>All Eyes and Ear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84360" y="3716280"/>
            <a:ext cx="7775280" cy="17524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edd1"/>
                </a:solidFill>
                <a:latin typeface="Calibri"/>
              </a:rPr>
              <a:t>ENGLISH IDIOMS WITH “EYE” and “EAR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Заголовок 1"/>
          <p:cNvSpPr/>
          <p:nvPr/>
        </p:nvSpPr>
        <p:spPr>
          <a:xfrm>
            <a:off x="685800" y="2060640"/>
            <a:ext cx="7772400" cy="146988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cedd1"/>
                </a:solidFill>
                <a:latin typeface="Calibri"/>
              </a:rPr>
              <a:t>All Eyes and Ear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2896920" y="3046320"/>
            <a:ext cx="5832360" cy="54000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giv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ar</a:t>
            </a: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 or lend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903400" y="3635280"/>
            <a:ext cx="5834160" cy="927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edd1"/>
                </a:solidFill>
                <a:latin typeface="Calibri"/>
              </a:rPr>
              <a:t>to give attention, esp. favorable attention; listen; h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Текст 1"/>
          <p:cNvSpPr/>
          <p:nvPr/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have nothing between th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Текст 2"/>
          <p:cNvSpPr/>
          <p:nvPr/>
        </p:nvSpPr>
        <p:spPr>
          <a:xfrm>
            <a:off x="406440" y="1050840"/>
            <a:ext cx="8353440" cy="1800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nformal </a:t>
            </a: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o be stup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He’s very good-looking but has absolutely nothing between the ears, I’m afra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Рисунок 5" descr=""/>
          <p:cNvPicPr/>
          <p:nvPr/>
        </p:nvPicPr>
        <p:blipFill>
          <a:blip r:embed="rId1"/>
          <a:stretch/>
        </p:blipFill>
        <p:spPr>
          <a:xfrm>
            <a:off x="468360" y="3116160"/>
            <a:ext cx="2219400" cy="332892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  <p:sp>
        <p:nvSpPr>
          <p:cNvPr id="545" name="Текст 1"/>
          <p:cNvSpPr/>
          <p:nvPr/>
        </p:nvSpPr>
        <p:spPr>
          <a:xfrm>
            <a:off x="2911320" y="4630680"/>
            <a:ext cx="5832720" cy="53964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in on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ar</a:t>
            </a: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 and out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Текст 2"/>
          <p:cNvSpPr/>
          <p:nvPr/>
        </p:nvSpPr>
        <p:spPr>
          <a:xfrm>
            <a:off x="2901960" y="5208480"/>
            <a:ext cx="5832360" cy="12970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edd1"/>
                </a:solidFill>
                <a:latin typeface="Calibri"/>
              </a:rPr>
              <a:t>heard but without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cedd1"/>
                </a:solidFill>
                <a:latin typeface="Calibri"/>
              </a:rPr>
              <a:t>His mind was made up, so my arguments went in one ear and out the o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be wet behind th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53440" cy="1224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o be young and not very experien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He’s fresh out of college, still wet behind the 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Текст 1"/>
          <p:cNvSpPr/>
          <p:nvPr/>
        </p:nvSpPr>
        <p:spPr>
          <a:xfrm>
            <a:off x="395280" y="242100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can do something on their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Текст 2"/>
          <p:cNvSpPr/>
          <p:nvPr/>
        </p:nvSpPr>
        <p:spPr>
          <a:xfrm>
            <a:off x="395280" y="3213000"/>
            <a:ext cx="8353440" cy="1584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Australian informal </a:t>
            </a: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if someone can do something on their ear, they can do it very easi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Ask Jane to make it, she can bake a soufflé on her 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Текст 1"/>
          <p:cNvSpPr/>
          <p:nvPr/>
        </p:nvSpPr>
        <p:spPr>
          <a:xfrm>
            <a:off x="395280" y="494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fall on deaf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Текст 2"/>
          <p:cNvSpPr/>
          <p:nvPr/>
        </p:nvSpPr>
        <p:spPr>
          <a:xfrm>
            <a:off x="395280" y="5732640"/>
            <a:ext cx="8353440" cy="792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to be ignored or unh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4105440" cy="54000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assault th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05440" cy="23767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cedd1"/>
                </a:solidFill>
                <a:latin typeface="Calibri"/>
              </a:rPr>
              <a:t>Fig. </a:t>
            </a:r>
            <a:r>
              <a:rPr b="0" lang="en-US" sz="2400" spc="-1" strike="noStrike">
                <a:solidFill>
                  <a:srgbClr val="ecedd1"/>
                </a:solidFill>
                <a:latin typeface="Calibri"/>
              </a:rPr>
              <a:t>[for sound or speech] to be very loud or persist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cedd1"/>
                </a:solidFill>
                <a:latin typeface="Calibri"/>
              </a:rPr>
              <a:t>That loud music assaults the ears! I can’t hear you with all that traffic noise assaulting my 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Текст 1"/>
          <p:cNvSpPr/>
          <p:nvPr/>
        </p:nvSpPr>
        <p:spPr>
          <a:xfrm>
            <a:off x="395280" y="3357720"/>
            <a:ext cx="8353440" cy="7189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be easy on th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Текст 2"/>
          <p:cNvSpPr/>
          <p:nvPr/>
        </p:nvSpPr>
        <p:spPr>
          <a:xfrm>
            <a:off x="395280" y="4149720"/>
            <a:ext cx="8353440" cy="23749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music is easy on the ear, it has a pleasant and relaxing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When I’m driving, I like to listen to music that’s easy on the ear and not too deman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Рисунок 5" descr=""/>
          <p:cNvPicPr/>
          <p:nvPr/>
        </p:nvPicPr>
        <p:blipFill>
          <a:blip r:embed="rId1"/>
          <a:stretch/>
        </p:blipFill>
        <p:spPr>
          <a:xfrm>
            <a:off x="4672080" y="311040"/>
            <a:ext cx="3984480" cy="291780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(somebody’s)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s</a:t>
            </a: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 are fl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1584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nformal </a:t>
            </a: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something that you say when you think that someone is listening to your private convers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Текст 1"/>
          <p:cNvSpPr/>
          <p:nvPr/>
        </p:nvSpPr>
        <p:spPr>
          <a:xfrm>
            <a:off x="395280" y="2725560"/>
            <a:ext cx="8353440" cy="65736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can do something on their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Текст 2"/>
          <p:cNvSpPr/>
          <p:nvPr/>
        </p:nvSpPr>
        <p:spPr>
          <a:xfrm>
            <a:off x="395280" y="3500280"/>
            <a:ext cx="8353440" cy="3024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Australian informal </a:t>
            </a: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someone can do some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on their ear, they can do it very eas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Ask Jane to make it, she can bake a soufflé on her 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music to someone’s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10810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Fig. </a:t>
            </a: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a welcome sound to someone; news that someone is pleased to h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Текст 1"/>
          <p:cNvSpPr/>
          <p:nvPr/>
        </p:nvSpPr>
        <p:spPr>
          <a:xfrm>
            <a:off x="382680" y="2205000"/>
            <a:ext cx="8353440" cy="71928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on someone’s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Текст 2"/>
          <p:cNvSpPr/>
          <p:nvPr/>
        </p:nvSpPr>
        <p:spPr>
          <a:xfrm>
            <a:off x="382680" y="2997360"/>
            <a:ext cx="8353440" cy="1800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n a state of amazement, excitement, or upro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a controversial movie that set the film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on its 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Текст 1"/>
          <p:cNvSpPr/>
          <p:nvPr/>
        </p:nvSpPr>
        <p:spPr>
          <a:xfrm>
            <a:off x="382680" y="4941720"/>
            <a:ext cx="8353440" cy="71928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set on its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Текст 2"/>
          <p:cNvSpPr/>
          <p:nvPr/>
        </p:nvSpPr>
        <p:spPr>
          <a:xfrm>
            <a:off x="382680" y="5732640"/>
            <a:ext cx="8353440" cy="792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nformal </a:t>
            </a: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o cause excitement, upheaval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turn a blind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</a:t>
            </a: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 to somet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53440" cy="12967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you turn a blind eye to something,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gnore it intention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Текст 1"/>
          <p:cNvSpPr/>
          <p:nvPr/>
        </p:nvSpPr>
        <p:spPr>
          <a:xfrm>
            <a:off x="393840" y="2421000"/>
            <a:ext cx="4178160" cy="7189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the apple of your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Текст 2"/>
          <p:cNvSpPr/>
          <p:nvPr/>
        </p:nvSpPr>
        <p:spPr>
          <a:xfrm>
            <a:off x="393840" y="3213000"/>
            <a:ext cx="4178160" cy="331164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somebody is the apple of your eye, this means that you like them very mu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My granddaughter is the apple of my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Рисунок 5" descr=""/>
          <p:cNvPicPr/>
          <p:nvPr/>
        </p:nvPicPr>
        <p:blipFill>
          <a:blip r:embed="rId1"/>
          <a:stretch/>
        </p:blipFill>
        <p:spPr>
          <a:xfrm>
            <a:off x="4735440" y="2482920"/>
            <a:ext cx="3911760" cy="395280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blink of an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266364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something happens in the blink of an eye, it happens nearly instantaneously, with hardly enough time to notice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The pickpocket disappeared in the blink of an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Текст 3"/>
          <p:cNvSpPr/>
          <p:nvPr/>
        </p:nvSpPr>
        <p:spPr>
          <a:xfrm>
            <a:off x="395280" y="386064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catch somebody’s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Текст 4"/>
          <p:cNvSpPr/>
          <p:nvPr/>
        </p:nvSpPr>
        <p:spPr>
          <a:xfrm>
            <a:off x="395280" y="4653000"/>
            <a:ext cx="8353440" cy="187164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someone catches your eye, you find them attra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The pretty girl near the door caught his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255600"/>
            <a:ext cx="8353440" cy="71928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ye</a:t>
            </a: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 of the st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23050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A person or organization who is in the eye of the storm is deeply involved in a difficult situation which affects a lot of peop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The minister was often in the eye of the storm during the debate on the war in Iraq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Рисунок 3" descr=""/>
          <p:cNvPicPr/>
          <p:nvPr/>
        </p:nvPicPr>
        <p:blipFill>
          <a:blip r:embed="rId1"/>
          <a:stretch/>
        </p:blipFill>
        <p:spPr>
          <a:xfrm>
            <a:off x="468360" y="3517920"/>
            <a:ext cx="4046400" cy="292248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  <p:sp>
        <p:nvSpPr>
          <p:cNvPr id="516" name="Текст 1"/>
          <p:cNvSpPr/>
          <p:nvPr/>
        </p:nvSpPr>
        <p:spPr>
          <a:xfrm>
            <a:off x="4638600" y="3429000"/>
            <a:ext cx="4106880" cy="53964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in the twinkling of an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Текст 2"/>
          <p:cNvSpPr/>
          <p:nvPr/>
        </p:nvSpPr>
        <p:spPr>
          <a:xfrm>
            <a:off x="4651200" y="4044960"/>
            <a:ext cx="4097520" cy="2475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This expression means ‘very fast’ or ‘instantaneously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Public opinion can change in the twinkling of an ey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more than meets th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3168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When something (or someone) is more complicated, difficult or interesting that it appears, it is said that there is more than meets the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He said he simply sold his shares, but I think there’s more to it than meets the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Текст 1"/>
          <p:cNvSpPr/>
          <p:nvPr/>
        </p:nvSpPr>
        <p:spPr>
          <a:xfrm>
            <a:off x="415800" y="4365720"/>
            <a:ext cx="8353440" cy="7189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se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 to eye </a:t>
            </a: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with some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Текст 2"/>
          <p:cNvSpPr/>
          <p:nvPr/>
        </p:nvSpPr>
        <p:spPr>
          <a:xfrm>
            <a:off x="415800" y="5157720"/>
            <a:ext cx="8353440" cy="13669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o see eye to eye with somebody mean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agree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95280" y="325764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s</a:t>
            </a: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 wide op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95280" y="4049640"/>
            <a:ext cx="8353440" cy="244944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you do something with your eyes ope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you are fully aware of what you are do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 took on the job with my eyes wide open, 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’m no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Текст 1"/>
          <p:cNvSpPr/>
          <p:nvPr/>
        </p:nvSpPr>
        <p:spPr>
          <a:xfrm>
            <a:off x="395280" y="260280"/>
            <a:ext cx="417672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eagl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Текст 2"/>
          <p:cNvSpPr/>
          <p:nvPr/>
        </p:nvSpPr>
        <p:spPr>
          <a:xfrm>
            <a:off x="395280" y="1052640"/>
            <a:ext cx="4176720" cy="212724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edd1"/>
                </a:solidFill>
                <a:latin typeface="Calibri"/>
              </a:rPr>
              <a:t>Someone who has eagle eyes sees or notices things more easily than oth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cedd1"/>
                </a:solidFill>
                <a:latin typeface="Calibri"/>
              </a:rPr>
              <a:t>Tony will help us find it – he’s got eagle eye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Рисунок 5" descr=""/>
          <p:cNvPicPr/>
          <p:nvPr/>
        </p:nvPicPr>
        <p:blipFill>
          <a:blip r:embed="rId1"/>
          <a:stretch/>
        </p:blipFill>
        <p:spPr>
          <a:xfrm>
            <a:off x="4730760" y="352440"/>
            <a:ext cx="3946680" cy="278280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s</a:t>
            </a: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 in the back of one’s h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53440" cy="27367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o say that someone has eyes in the back of their head means that they are very observant and notice everything happening around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You need eyes in the back of your head to look after young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Текст 1"/>
          <p:cNvSpPr/>
          <p:nvPr/>
        </p:nvSpPr>
        <p:spPr>
          <a:xfrm>
            <a:off x="395280" y="3932280"/>
            <a:ext cx="8353440" cy="53964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feast one’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yes</a:t>
            </a: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 on some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Текст 2"/>
          <p:cNvSpPr/>
          <p:nvPr/>
        </p:nvSpPr>
        <p:spPr>
          <a:xfrm>
            <a:off x="395280" y="4581360"/>
            <a:ext cx="8353440" cy="19432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If you feast your eyes on something, you are delighted and gratified by what you s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As he drove along the coast, he feasted his eyes on the beautiful scene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in one’s mind’s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53440" cy="2232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you can visualise something, or see an image of it in your mind, you see it in your mind’s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 can see the village in my mind’s eye but I can’t remember the n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Текст 1"/>
          <p:cNvSpPr/>
          <p:nvPr/>
        </p:nvSpPr>
        <p:spPr>
          <a:xfrm>
            <a:off x="395280" y="3475080"/>
            <a:ext cx="8353440" cy="7189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a sight for sor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Текст 2"/>
          <p:cNvSpPr/>
          <p:nvPr/>
        </p:nvSpPr>
        <p:spPr>
          <a:xfrm>
            <a:off x="395280" y="4267080"/>
            <a:ext cx="8353440" cy="2232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his expression refers to a person or thing you are happy to s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Sam! You’re a sight for sore eyes! Haven’t seen you in a long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5724000" y="260280"/>
            <a:ext cx="3024360" cy="54000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be all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24000" y="907560"/>
            <a:ext cx="3024360" cy="23050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edd1"/>
                </a:solidFill>
                <a:latin typeface="Calibri"/>
              </a:rPr>
              <a:t>to be listening attentively or eag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cedd1"/>
                </a:solidFill>
                <a:latin typeface="Calibri"/>
              </a:rPr>
              <a:t>Tell your story – we’re all ear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Текст 1"/>
          <p:cNvSpPr/>
          <p:nvPr/>
        </p:nvSpPr>
        <p:spPr>
          <a:xfrm>
            <a:off x="395280" y="328464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edd1"/>
                </a:solidFill>
                <a:latin typeface="Calibri"/>
              </a:rPr>
              <a:t>bend someone’s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Текст 2"/>
          <p:cNvSpPr/>
          <p:nvPr/>
        </p:nvSpPr>
        <p:spPr>
          <a:xfrm>
            <a:off x="395280" y="4075200"/>
            <a:ext cx="8353440" cy="24415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Fig. </a:t>
            </a: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to talk to someone, perhaps annoyingly. (As if talking so much that the other person’s ear is moved back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Tom is over there, bending Jane’s ear about something. I’m sorry. I didn’t mean to bend your ear for an h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Рисунок 5" descr=""/>
          <p:cNvPicPr/>
          <p:nvPr/>
        </p:nvPicPr>
        <p:blipFill>
          <a:blip r:embed="rId1"/>
          <a:stretch/>
        </p:blipFill>
        <p:spPr>
          <a:xfrm>
            <a:off x="447840" y="314280"/>
            <a:ext cx="5117760" cy="284328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1:41:54Z</dcterms:created>
  <dc:creator/>
  <dc:description/>
  <dc:language>en-US</dc:language>
  <cp:lastModifiedBy/>
  <dcterms:modified xsi:type="dcterms:W3CDTF">2011-03-29T11:43:31Z</dcterms:modified>
  <cp:revision>1</cp:revision>
  <dc:subject/>
  <dc:title/>
</cp:coreProperties>
</file>