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3636-DCF0-44E0-833A-0165A8F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D200F-B6DD-4778-A2CF-5BCBFA3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D72B-0233-4712-9C2C-FC9410F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FD93-5845-4127-8B6A-C04406A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7A03C-186F-4D12-8286-0FF17C4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7E22E-88C3-4861-8D8E-74D34D7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E4E22-3E79-4046-B7B7-EF0BB72C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5FCC-61DC-4911-8766-98AAA869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02EE-49DA-4AC1-A930-55B75D0E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D5A3D-D9CD-4050-B4DE-4F2D95BC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FC9A8-FBA3-4FBB-8AD3-E3432E3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A560D-2F23-4122-B8ED-159DBC2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BFDFE-DEB3-43EF-84D4-9F856B82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C76FE-2FCD-4132-9EBA-A9F9EE3C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90F67-FAD9-4C40-9F16-A126009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F1A7-0951-4A50-A7D6-AE163A4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7F5AB-F80A-4E7A-8BDE-62D9BF5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DEACF-46D7-4B47-85DB-17B2F59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3C212-91CF-4744-9EB1-BA8A9CDB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780A3-4B21-4449-B507-06BCAB22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2B4D0-0803-4DA3-9A21-46540494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5C1C2-3AA1-4E65-820B-C5BF1AE1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34A46-BF05-4453-A880-0229A35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E7031-00DC-4AEE-90F9-D3FE4C7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FC7B1-D109-40F6-A0CD-712E89D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3EAA4-4856-428E-A2C3-5808C03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ED875-6795-4B8D-B86C-11994113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DF60D-F836-4F27-9723-B96E2C1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5B132-5D4D-4FFA-AB14-7A3D069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756B0-EF0B-4CA7-A500-ED6C444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CD0-45FC-4BF0-A37C-AB294792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D2052-CC8C-45BB-ADC2-8681C3E5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FC4AD-D68A-4887-9AEC-E2D98870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8FF7-9ABD-4914-8E23-6C53B2FC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58B4A-B164-42A8-983F-68E027AD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6B6DB-839A-439B-8318-3EEDE6A0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320D2-5478-4222-B2C8-854A0E9F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42AB4-953F-4B03-A70C-0EEC9FB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D30B3-C304-438F-9DE3-E9A5F66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873A-D85F-4241-916B-097943C7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C8ED0-1FFD-4B40-AFA9-7F8FF5D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DE5-6030-46B6-9892-E46FF87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158B-FC9B-4AA3-9EC5-27F9C69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0EA44-3535-48A4-9CCA-F9A764D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2798-D9E1-462B-A1D9-8DBA519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BABA-D1C4-4E10-8E0A-5D0E442D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E733-A818-48E7-8DF7-CD07A108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089-266D-4150-843A-A9FFA790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595-7489-48E6-85C1-7A48F6D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C1A-4AE9-4975-B836-7597A28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89B-5FC8-4F71-83B8-7E82F0CE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E6B-0772-442D-A981-C52D7DA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D7F-A5FB-47FA-B33B-9890C85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914-8161-4F25-A5D7-C1D9F4F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479-2380-49CB-A9F3-49A54B77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781-FD91-409D-AE32-F03BCAD7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1E-2491-431F-8296-59BCB3B7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24BF-1ECC-471F-98D9-2DB7ED79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9BFD-3A48-4EA8-AD4F-D88FBBD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DA8-DE9B-4797-9297-8C232344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7E02-60B8-4E28-85FE-D385843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E4F-F446-40A0-AD9F-FE7EA5B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E15-3C48-4B09-91DD-17C849B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66C2-AACE-4B59-9AD3-1976AA7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A67F-8572-4C22-9481-285E491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BBB-2F4A-4813-9F99-2C8177B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746-6685-4991-8FD1-62272C3C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9E2-C4AB-43DE-8ECD-D81A7633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72E0-438B-47B6-A790-075219E9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C0C2-245A-431D-8AF5-0F6F98D9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1A1B-0033-4D2E-8EE8-AF9491A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8CAB-356A-4B4A-AFF0-A6DB3BD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E3C6-2DC8-4ADE-B4D7-9824315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209C-9338-4D6F-BE1A-95377ADE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999B-3C1B-4A32-B53A-4AD80F8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3AC5-50EA-45E7-A952-3D227F8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A69D-17BA-4441-BC04-809B0A3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68D2-3F94-423D-B737-E948CE4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83D1-5441-4A4D-95E3-E2C8D9DB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3FF7-CB9F-420D-8CDC-0513BFD0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65E4-3A1B-4B87-8A3A-AB0D08B9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1F8D-0E97-4089-8DDB-D7BE2773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C022-89F9-43E4-BDB4-103F9A30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F4B8-B272-454E-A1CF-395180B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EE91-C251-4C56-BEA0-8BC33FA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B97C-5BD5-4BDD-8CE6-B667C239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B07E-B344-4E7F-9F6E-FA413FE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5ABE-BBB0-40DD-BB2E-A3065C9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8A34-6705-4989-BE53-D70A49A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0468-ED37-41CE-A68E-9D58708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3A16-2185-4C15-9F46-B30637BD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4A06-F422-402A-902B-C810CEC9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DBDD-5AC8-4A77-B922-002616D6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30885-A708-4F51-8D44-39283AC6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D545-7154-4E8D-A340-F83D06D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E252-7514-488F-A260-108D7A2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C32F-7B8C-4FA4-9F59-A475C42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DA22-506B-40A5-B36C-D956600F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D441-0E4E-42CA-B0C9-44C7E61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6020-5064-4C4A-8D59-2A6DD7B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5B096-2775-4CE2-913B-41AF2A6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0786-D0C3-44A5-A8E1-125BAFF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D60B-0D1E-4C5E-B36B-85A5887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B98C-12D5-4F16-9BBE-B18EDC21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FFA7-5337-4C30-81BA-849A96B7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C6A70-DF53-464D-B586-8EE3869D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09B1-7683-4D29-A63A-C5DA9399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8226F-8035-4138-9791-7BAF2D7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B5F9-60C6-4E14-89F1-F936FC9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6841-3178-4CDA-8496-8A4CC75C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7608-D8FE-4AB9-9570-ED2EB457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787C-CDA2-4658-9E71-5D4E8CA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A04A-1911-4D75-B8E4-5F201A0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8EEB-EF37-47F3-8545-5301BFB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B0A9-6C79-4CFE-B8D8-6A9DF8C4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EEE0-10D9-424D-AC26-2A9242C4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D552-6D75-4BA5-8BA9-CDAAD007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4953-6014-418C-B705-47F24F7C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E78F-80F9-45D8-978A-665C25E7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2AFD8-C596-4A6A-A6F5-4AAB23C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A9A8-E9D6-4672-BD61-373DBF81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E1F4-9255-4C66-A11E-CEB510B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C78F2-D2F6-41FB-84EA-19BA5A72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7432-91B1-4333-AADE-94A4CE0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233C-5086-4E6A-9C3F-7386CB0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D454-8473-412F-A54B-F967E18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9E23-D933-45E1-BD74-8263CEB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50BB-7145-440D-93DF-CD76DE77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C696-4871-40A5-95E5-05896EC2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6199-3F8A-4E40-B786-2317262A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0F85-98CD-4848-9FE0-B1F7C26D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8F62-4FBE-45CD-A360-726B895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E72-EE90-4D5E-A1C4-32C7A728E38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3E6D-29F4-4D2E-B608-47F8755BD11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C64-1242-4F3E-A379-4711E5E03D0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9AB8-3BE5-4C30-AF40-ADA89EEA656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2278-C53A-4EAB-9E96-AB66FEC7B2E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3B43-C6B8-4CC4-BC15-F8A15F62790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2F54-2B6F-4E08-9F6D-14BDD0E800E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1341-DEA5-4ADC-8AD6-0A7AE5FE524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9D6-0059-430E-909F-E837B8B075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1FE2-7C9A-427B-9A8F-EDEDD5016E6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549-CC8E-432C-BF38-0C23896AF25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4360" y="3716280"/>
            <a:ext cx="7775280" cy="17524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edd1"/>
                </a:solidFill>
                <a:latin typeface="Calibri"/>
              </a:rPr>
              <a:t>ENGLISH IDIOMS WITH “EYE” and “EAR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685800" y="206064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896920" y="3046320"/>
            <a:ext cx="5832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giv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r lend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903400" y="3635280"/>
            <a:ext cx="5834160" cy="927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give attention, esp. favorable attention; listen; h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Текст 1"/>
          <p:cNvSpPr/>
          <p:nvPr/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have nothing betwee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Текст 2"/>
          <p:cNvSpPr/>
          <p:nvPr/>
        </p:nvSpPr>
        <p:spPr>
          <a:xfrm>
            <a:off x="406440" y="1050840"/>
            <a:ext cx="8353440" cy="1800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stu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very good-looking but has absolutely nothing between the ears, I’m afra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Рисунок 5" descr=""/>
          <p:cNvPicPr/>
          <p:nvPr/>
        </p:nvPicPr>
        <p:blipFill>
          <a:blip r:embed="rId1"/>
          <a:stretch/>
        </p:blipFill>
        <p:spPr>
          <a:xfrm>
            <a:off x="468360" y="3116160"/>
            <a:ext cx="2219400" cy="332892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45" name="Текст 1"/>
          <p:cNvSpPr/>
          <p:nvPr/>
        </p:nvSpPr>
        <p:spPr>
          <a:xfrm>
            <a:off x="2911320" y="4630680"/>
            <a:ext cx="583272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on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and out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Текст 2"/>
          <p:cNvSpPr/>
          <p:nvPr/>
        </p:nvSpPr>
        <p:spPr>
          <a:xfrm>
            <a:off x="2901960" y="5208480"/>
            <a:ext cx="5832360" cy="1297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heard but without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His mind was made up, so my arguments went in one ear and out the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wet behind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24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young and not very experie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fresh out of college, still wet behind the 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Текст 1"/>
          <p:cNvSpPr/>
          <p:nvPr/>
        </p:nvSpPr>
        <p:spPr>
          <a:xfrm>
            <a:off x="395280" y="242100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Текст 2"/>
          <p:cNvSpPr/>
          <p:nvPr/>
        </p:nvSpPr>
        <p:spPr>
          <a:xfrm>
            <a:off x="395280" y="321300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someone can do something on their ear, they can do it very eas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Текст 1"/>
          <p:cNvSpPr/>
          <p:nvPr/>
        </p:nvSpPr>
        <p:spPr>
          <a:xfrm>
            <a:off x="395280" y="494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fall on deaf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Текст 2"/>
          <p:cNvSpPr/>
          <p:nvPr/>
        </p:nvSpPr>
        <p:spPr>
          <a:xfrm>
            <a:off x="3952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be ignored or unh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10544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assault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05440" cy="237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[for sound or speech] to be very loud or persis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hat loud music assaults the ears! I can’t hear you with all that traffic noise assaulting my 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Текст 1"/>
          <p:cNvSpPr/>
          <p:nvPr/>
        </p:nvSpPr>
        <p:spPr>
          <a:xfrm>
            <a:off x="395280" y="3357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easy o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Текст 2"/>
          <p:cNvSpPr/>
          <p:nvPr/>
        </p:nvSpPr>
        <p:spPr>
          <a:xfrm>
            <a:off x="395280" y="4149720"/>
            <a:ext cx="8353440" cy="2374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music is easy on the ear, it has a pleasant and relaxing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When I’m driving, I like to listen to music that’s easy on the ear and not too dema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Рисунок 5" descr=""/>
          <p:cNvPicPr/>
          <p:nvPr/>
        </p:nvPicPr>
        <p:blipFill>
          <a:blip r:embed="rId1"/>
          <a:stretch/>
        </p:blipFill>
        <p:spPr>
          <a:xfrm>
            <a:off x="4672080" y="311040"/>
            <a:ext cx="3984480" cy="2917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(somebody’s)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are fl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something that you say when you think that someone is listening to your private conver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Текст 1"/>
          <p:cNvSpPr/>
          <p:nvPr/>
        </p:nvSpPr>
        <p:spPr>
          <a:xfrm>
            <a:off x="395280" y="2725560"/>
            <a:ext cx="8353440" cy="65736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Текст 2"/>
          <p:cNvSpPr/>
          <p:nvPr/>
        </p:nvSpPr>
        <p:spPr>
          <a:xfrm>
            <a:off x="395280" y="3500280"/>
            <a:ext cx="8353440" cy="302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n do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on their ear, they can do it very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usic to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081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 welcome sound to someone; news that someone is pleased to h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Текст 1"/>
          <p:cNvSpPr/>
          <p:nvPr/>
        </p:nvSpPr>
        <p:spPr>
          <a:xfrm>
            <a:off x="382680" y="22050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on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Текст 2"/>
          <p:cNvSpPr/>
          <p:nvPr/>
        </p:nvSpPr>
        <p:spPr>
          <a:xfrm>
            <a:off x="382680" y="2997360"/>
            <a:ext cx="8353440" cy="1800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n a state of amazement, excitement, or upro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 controversial movie that set the film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on its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Текст 1"/>
          <p:cNvSpPr/>
          <p:nvPr/>
        </p:nvSpPr>
        <p:spPr>
          <a:xfrm>
            <a:off x="382680" y="494172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t on it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Текст 2"/>
          <p:cNvSpPr/>
          <p:nvPr/>
        </p:nvSpPr>
        <p:spPr>
          <a:xfrm>
            <a:off x="3826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cause excitement, upheaval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turn a blind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to somet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9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turn a blind eye to something,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gnore it inten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Текст 1"/>
          <p:cNvSpPr/>
          <p:nvPr/>
        </p:nvSpPr>
        <p:spPr>
          <a:xfrm>
            <a:off x="393840" y="2421000"/>
            <a:ext cx="417816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apple of you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Текст 2"/>
          <p:cNvSpPr/>
          <p:nvPr/>
        </p:nvSpPr>
        <p:spPr>
          <a:xfrm>
            <a:off x="393840" y="3213000"/>
            <a:ext cx="4178160" cy="331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body is the apple of your eye, this means that you like them very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My granddaughter is the apple of my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Рисунок 5" descr=""/>
          <p:cNvPicPr/>
          <p:nvPr/>
        </p:nvPicPr>
        <p:blipFill>
          <a:blip r:embed="rId1"/>
          <a:stretch/>
        </p:blipFill>
        <p:spPr>
          <a:xfrm>
            <a:off x="4735440" y="2482920"/>
            <a:ext cx="3911760" cy="395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link of an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663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thing happens in the blink of an eye, it happens nearly instantaneously, with hardly enough time to notic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ickpocket disappeared in the blink of an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Текст 3"/>
          <p:cNvSpPr/>
          <p:nvPr/>
        </p:nvSpPr>
        <p:spPr>
          <a:xfrm>
            <a:off x="395280" y="3860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tch somebody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Текст 4"/>
          <p:cNvSpPr/>
          <p:nvPr/>
        </p:nvSpPr>
        <p:spPr>
          <a:xfrm>
            <a:off x="395280" y="4653000"/>
            <a:ext cx="8353440" cy="187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tches your eye, you find them attra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retty girl near the door caught hi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2556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f the 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A person or organization who is in the eye of the storm is deeply involved in a difficult situation which affects a lot of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he minister was often in the eye of the storm during the debate on the war in Iraq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3" descr=""/>
          <p:cNvPicPr/>
          <p:nvPr/>
        </p:nvPicPr>
        <p:blipFill>
          <a:blip r:embed="rId1"/>
          <a:stretch/>
        </p:blipFill>
        <p:spPr>
          <a:xfrm>
            <a:off x="468360" y="3517920"/>
            <a:ext cx="4046400" cy="29224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16" name="Текст 1"/>
          <p:cNvSpPr/>
          <p:nvPr/>
        </p:nvSpPr>
        <p:spPr>
          <a:xfrm>
            <a:off x="4638600" y="3429000"/>
            <a:ext cx="410688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the twinkling of a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Текст 2"/>
          <p:cNvSpPr/>
          <p:nvPr/>
        </p:nvSpPr>
        <p:spPr>
          <a:xfrm>
            <a:off x="4651200" y="4044960"/>
            <a:ext cx="4097520" cy="2475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his expression means ‘very fast’ or ‘instantaneously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Public opinion can change in the twinkling of an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ore than meets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3168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When something (or someone) is more complicated, difficult or interesting that it appears, it is said that there is more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 said he simply sold his shares, but I think there’s more to it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Текст 1"/>
          <p:cNvSpPr/>
          <p:nvPr/>
        </p:nvSpPr>
        <p:spPr>
          <a:xfrm>
            <a:off x="415800" y="4365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 to eye 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with some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Текст 2"/>
          <p:cNvSpPr/>
          <p:nvPr/>
        </p:nvSpPr>
        <p:spPr>
          <a:xfrm>
            <a:off x="415800" y="5157720"/>
            <a:ext cx="8353440" cy="1366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ee eye to eye with somebody mean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gre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3257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wide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4049640"/>
            <a:ext cx="8353440" cy="24494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do something with your eyes op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you are fully aware of what you are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took on the job with my eyes wide open,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’m no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Текст 1"/>
          <p:cNvSpPr/>
          <p:nvPr/>
        </p:nvSpPr>
        <p:spPr>
          <a:xfrm>
            <a:off x="395280" y="260280"/>
            <a:ext cx="417672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eagl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Текст 2"/>
          <p:cNvSpPr/>
          <p:nvPr/>
        </p:nvSpPr>
        <p:spPr>
          <a:xfrm>
            <a:off x="395280" y="1052640"/>
            <a:ext cx="4176720" cy="21272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Someone who has eagle eyes sees or notices things more easily than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ony will help us find it – he’s got eagle ey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Рисунок 5" descr=""/>
          <p:cNvPicPr/>
          <p:nvPr/>
        </p:nvPicPr>
        <p:blipFill>
          <a:blip r:embed="rId1"/>
          <a:stretch/>
        </p:blipFill>
        <p:spPr>
          <a:xfrm>
            <a:off x="4730760" y="352440"/>
            <a:ext cx="3946680" cy="278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in the back of one’s h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73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ay that someone has eyes in the back of their head means that they are very observant and notice everything happening around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You need eyes in the back of your head to look after young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Текст 1"/>
          <p:cNvSpPr/>
          <p:nvPr/>
        </p:nvSpPr>
        <p:spPr>
          <a:xfrm>
            <a:off x="395280" y="3932280"/>
            <a:ext cx="835344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feast on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n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Текст 2"/>
          <p:cNvSpPr/>
          <p:nvPr/>
        </p:nvSpPr>
        <p:spPr>
          <a:xfrm>
            <a:off x="395280" y="4581360"/>
            <a:ext cx="8353440" cy="19432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you feast your eyes on something, you are delighted and gratified by what you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 he drove along the coast, he feasted his eyes on the beautiful scen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in one’s mind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can visualise something, or see an image of it in your mind, you see it in your mind’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can see the village in my mind’s eye but I can’t remember the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Текст 1"/>
          <p:cNvSpPr/>
          <p:nvPr/>
        </p:nvSpPr>
        <p:spPr>
          <a:xfrm>
            <a:off x="395280" y="347508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a sight for sor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Текст 2"/>
          <p:cNvSpPr/>
          <p:nvPr/>
        </p:nvSpPr>
        <p:spPr>
          <a:xfrm>
            <a:off x="395280" y="426708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his expression refers to a person or thing you are happy to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Sam! You’re a sight for sore eyes! Haven’t seen you in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724000" y="260280"/>
            <a:ext cx="3024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be all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24000" y="907560"/>
            <a:ext cx="302436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be listening attentively or eag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ell your story – we’re all ear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Текст 1"/>
          <p:cNvSpPr/>
          <p:nvPr/>
        </p:nvSpPr>
        <p:spPr>
          <a:xfrm>
            <a:off x="395280" y="3284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edd1"/>
                </a:solidFill>
                <a:latin typeface="Calibri"/>
              </a:rPr>
              <a:t>bend someone’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Текст 2"/>
          <p:cNvSpPr/>
          <p:nvPr/>
        </p:nvSpPr>
        <p:spPr>
          <a:xfrm>
            <a:off x="395280" y="4075200"/>
            <a:ext cx="8353440" cy="24415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talk to someone, perhaps annoyingly. (As if talking so much that the other person’s ear is moved back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om is over there, bending Jane’s ear about something. I’m sorry. I didn’t mean to bend your ear for an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5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5117760" cy="28432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1:41:54Z</dcterms:created>
  <dc:creator/>
  <dc:description/>
  <dc:language>en-US</dc:language>
  <cp:lastModifiedBy/>
  <dcterms:modified xsi:type="dcterms:W3CDTF">2011-03-29T11:43:31Z</dcterms:modified>
  <cp:revision>1</cp:revision>
  <dc:subject/>
  <dc:title/>
</cp:coreProperties>
</file>