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FB23-2DDD-40A0-B082-85F94211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1959-A6AA-40D1-9675-270B8F20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E4C30-B5B3-48EA-922A-21DD7498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0EF5-940E-4F74-A035-82225871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049F-527F-4B60-8E1E-AA45DDFE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0CF5-FF61-4746-8DA3-D5B5FD9D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C117-07D2-47DA-8F3B-1360AF87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5CF4-4978-4D14-87DA-939FB845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F2B9-4339-4035-8284-904E0448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EBE4-7985-4511-AC0B-F0BF3BBF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E312-D3A6-42A6-9DD7-B4A21382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59635-6420-4DB1-99A1-6F9901CD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59F3-DCC6-448F-80C1-2C6669A1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3421-F7D5-4F62-BEEE-8690D703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B802-71B6-44B2-B29A-530AA487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676C-13C9-4880-B660-9A90C545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4A7A-3032-42E8-A7FA-68494AC3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926F8-D1A7-4455-A3B0-D939B31B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91D54-7A0F-4D0B-9115-C2BCD97A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BCC5-2BAA-4B21-9CA7-6AABE0C7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203B-0552-49E7-B34F-54AA1AE9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D606-6A98-450E-96A8-ECA4363C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57E3-A154-42CB-A346-74D37FE6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C72E-D429-4CCE-BDC9-0E5B8BB7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E4D3-A634-4194-8150-88C787AC01A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D5FC-7A19-4D1D-8EAD-B4A274B37DE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80360" cy="85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«Воланд и его свита»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5" descr="15"/>
          <p:cNvPicPr/>
          <p:nvPr/>
        </p:nvPicPr>
        <p:blipFill>
          <a:blip r:embed="rId1"/>
          <a:stretch/>
        </p:blipFill>
        <p:spPr>
          <a:xfrm>
            <a:off x="1187280" y="853920"/>
            <a:ext cx="62359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амилия Коровьев сконструирована по образцу фамилии персонажа повести А. К. Толстого “Упырь” (1841). Кроме того, в повести Ф. М. Достоевского “Село Степанчиково и его обитатели” есть персонаж по фамилии Коровкин, весьма похожий на нашего героя. Второе его имя происходит от названия музыкального инструмента фагот, изобретенного итальянским монахом. У Коровьева-Фагота есть некоторое сходство с фаготом – длинной тонкой трубкой, сложенной втрое. Булгаковский персонаж худ, высок и в мнимом подобострастии, кажется, готов сложиться перед собеседником втрое (чтобы потом спокойно ему напакостить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т его портрет: “…прозрачный гражданин престранного вида, На маленькой головке жокейский картузик, клетчатый кургузый пиджачок…, гражданин ростом в сажень, но в плечах узок, худ неимоверно, и физиономия, прошу заметить, глумливая” ; “…усики у него, как куриные перья, глазки маленькие, иронические и полупьяные”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4738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5076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кажется, что Коровьев, он же Фагот, - самый старший из подчиненных Воланду демонов, представляющийся москвичам переводчиком при профессоре-иностранце и бывшим регентом церковного хора, имеет немало сходства с традиционным воплощение мелкого беса. Всей логикой романа читатель подводится к мысли не судить о героях по внешности, и как подтверждение правильности невольно возникающих догадок выглядит заключительная сцена «преображения» нечистой силы. Подручный Воланда только по необходимости надевает на себя различные маски-личины: пьяницы-регента, гаера, ловкого мошенника. И только в финальных главах романа Коровьев сбрасывает свою личину и предстает перед читателем темно-фиолетовым рыцарем с никогда не улыбающимся лиц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7" descr="nf10"/>
          <p:cNvPicPr/>
          <p:nvPr/>
        </p:nvPicPr>
        <p:blipFill>
          <a:blip r:embed="rId1"/>
          <a:stretch/>
        </p:blipFill>
        <p:spPr>
          <a:xfrm>
            <a:off x="5003640" y="1628640"/>
            <a:ext cx="414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5" descr="kot_korovyev"/>
          <p:cNvPicPr/>
          <p:nvPr/>
        </p:nvPicPr>
        <p:blipFill>
          <a:blip r:embed="rId1"/>
          <a:stretch/>
        </p:blipFill>
        <p:spPr>
          <a:xfrm>
            <a:off x="1187280" y="1484280"/>
            <a:ext cx="6840720" cy="46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584208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45068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-оборотень и любимый шут сатаны, пожалуй, самый забавный и запоминающийся из свиты Воланда. Сведения о Бегемоте автор «Мастера и Маргариты» почерпнул из книги М.А. Орлова «История сношений человека с дьяволом» (1904г.), выписки из которой сохранились в булгаковском архиве. Там, в частности, описывалось дело французской игуменьи, жившей в XVII в. и одержимой семью дьяволами, причем пятый бес был Бегемо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7" descr="176036"/>
          <p:cNvPicPr/>
          <p:nvPr/>
        </p:nvPicPr>
        <p:blipFill>
          <a:blip r:embed="rId1"/>
          <a:stretch/>
        </p:blipFill>
        <p:spPr>
          <a:xfrm>
            <a:off x="4427640" y="1125360"/>
            <a:ext cx="471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84836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956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т бес изображался в виде чудовища со слоновой головой, с хоботом и клыками. Руки у него были человеческого фасона, а громаднейший живот, коротенький хвостик и толстые задние лапы, как у бегемота, напоминали о носимом им имени. У Булгакова Бегемот стал громадных размеров черным котом-оборотнем, так как именно черные коты по традиции считаются связанными с нечистой силой. Вот каким мы видим его впервые: «…на ювелиршином пуфе в развязной позе развалился некто третий, именно - жутких размеров черный кот со стопкой водки в одной лапе и вилкой, на которую он успел поддеть маринованный гриб, в друго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176036"/>
          <p:cNvPicPr/>
          <p:nvPr/>
        </p:nvPicPr>
        <p:blipFill>
          <a:blip r:embed="rId1"/>
          <a:stretch/>
        </p:blipFill>
        <p:spPr>
          <a:xfrm>
            <a:off x="4427640" y="1125360"/>
            <a:ext cx="47163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5402160" cy="963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716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я Азазелло образовано Булгаковым от ветхозаветного имени Азазел. Так зовут отрицательного героя ветхозаветной книги, падшего ангела, который научил людей изготовлять оружие и украшения. Вероятно, Булгакова привлекло сочетание в одном персонаже способности к обольщению и к убий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7" descr="azazelkorovbegemot640"/>
          <p:cNvPicPr/>
          <p:nvPr/>
        </p:nvPicPr>
        <p:blipFill>
          <a:blip r:embed="rId1"/>
          <a:stretch/>
        </p:blipFill>
        <p:spPr>
          <a:xfrm>
            <a:off x="4643280" y="1125360"/>
            <a:ext cx="4500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нно за коварного обольстителя принима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зазелло Маргарита во время их первой встречи в Александровском сад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осед этот оказался маленького роста, пламенно-рыжим, с клыком, в крахмальном белье, в полосатом добротном костюме, в лакированных туфлях и с котелком на голове. «Совершенно разбойничья рожа!» - подумала Маргарита» Но главная функция Азазелло в романе связана с насилием. Он выбрасывает Стёпу Лиходеева из Москвы в Ялту, изгоняет из Нехорошей квартиры дядю Берлиоза, убивает из револьвера предателя Барона Майгеля. Азазелло также изобрёл крем, который он дарит Маргарите. Волшебный крем не только делает героиню невидимой и способной летать, но и одаривает её новой, ведьминой красо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пилоге романа этот падший ангел предстаёт перед нами в новом обличии: «Сбоку всех летел, блистая сталью доспехов, Азазелло. Луна изменила и его лицо. Исчез бесследно нелепый безобразный клык, и кривоглазие оказалось фальшивым. Оба глаза Азазелло были одинаковые, пустые и черные, а лицо белое и холодное. Теперь Азазелло летел в своем настоящем виде, как демон безводной пустыни, демон-убийц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2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633708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4956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лла является членом свиты Воланда, женщиной-вампиром: «Служанку мою Геллу рекомендую. Расторопна, понятлива и нет такой услуги, которую она не сумела бы оказать». Имя «Гелла» Булгаков почерпнул из статьи «Чародейство» Энциклопедического словаря Брокгауза и Эфрона, где отмечалось, что на Лесбосе этим именем называли безвременно погибших девушек, после смерти ставших вампир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6" descr="1192398212_masteroblozhkaud4"/>
          <p:cNvPicPr/>
          <p:nvPr/>
        </p:nvPicPr>
        <p:blipFill>
          <a:blip r:embed="rId1"/>
          <a:stretch/>
        </p:blipFill>
        <p:spPr>
          <a:xfrm>
            <a:off x="4427640" y="836640"/>
            <a:ext cx="47163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554364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4956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леноглазая красавица Гелла свободно перемещается по воздуху, тем самым обретая сходство и с ведьмой. Характерные черты поведения вампиров - щелканье зубами и причмокивание Булгаков, возможно, позаимствовал из повести А.К. Толстого «Упырь». Там девушка-вампир поцелуем обращает в вампира своего возлюбленного - отсюда, очевидно, роковой для Варенухи поцелуй Гел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6" descr="209"/>
          <p:cNvPicPr/>
          <p:nvPr/>
        </p:nvPicPr>
        <p:blipFill>
          <a:blip r:embed="rId1"/>
          <a:stretch/>
        </p:blipFill>
        <p:spPr>
          <a:xfrm>
            <a:off x="4427640" y="836640"/>
            <a:ext cx="4465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много  о рома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ман Михаила Афанасьевича Булгакова «Мастер и Маргарита» не был завершен и при жизни автора не публиковался. Впервые он был опубликован только в 1966 году, через 26 лет после смерти Булгакова, и то в сокращенном журнальном варианте. Тем, что это величайшее литературное произведение дошло до читателя, мы обязаны жене писателя Елене Сергеевне Булгаковой, которая в тяжелые сталинские времена сумела сохранить рукопись романа. В  общей сложности Булгаков писал «Мастера и Маргариту» более 10 л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40872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лла, единственная из свиты Воланда, отсутствует в сцене последнего полета. «Третья жена писателя считала, что это - результат незавершенности работы над «Мастером Маргаритой». Скорее всего, Булгаков сознательно убрал её как самого младшего члена свиты, исполняющего только вспомогательные функции и в театре Варьете, и в Нехорошей квартире, и на Великом балу у сатаны. Вампиры - это традиционно низший разряд нечистой силы. К тому же Гелле не в кого было бы превращаться в последнем полёте - когда ночь «разоблачила все обманы», она могла только снова стать мёртвой девуш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7" descr="1192398212_masteroblozhkaud4"/>
          <p:cNvPicPr/>
          <p:nvPr/>
        </p:nvPicPr>
        <p:blipFill>
          <a:blip r:embed="rId1"/>
          <a:stretch/>
        </p:blipFill>
        <p:spPr>
          <a:xfrm>
            <a:off x="4356000" y="765000"/>
            <a:ext cx="4788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662472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8" descr="3"/>
          <p:cNvPicPr/>
          <p:nvPr/>
        </p:nvPicPr>
        <p:blipFill>
          <a:blip r:embed="rId1"/>
          <a:stretch/>
        </p:blipFill>
        <p:spPr>
          <a:xfrm>
            <a:off x="1403280" y="907920"/>
            <a:ext cx="5905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554364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Picture 5" descr="1214160635_the_dancing_feast_of_satan_by_mordaunt"/>
          <p:cNvPicPr/>
          <p:nvPr/>
        </p:nvPicPr>
        <p:blipFill>
          <a:blip r:embed="rId1"/>
          <a:stretch/>
        </p:blipFill>
        <p:spPr>
          <a:xfrm>
            <a:off x="971640" y="765000"/>
            <a:ext cx="7129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604836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Picture 5" descr="1a"/>
          <p:cNvPicPr/>
          <p:nvPr/>
        </p:nvPicPr>
        <p:blipFill>
          <a:blip r:embed="rId1"/>
          <a:stretch/>
        </p:blipFill>
        <p:spPr>
          <a:xfrm>
            <a:off x="1547640" y="1125360"/>
            <a:ext cx="56898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 из ярких парадоксов романа заключается в том, что, изрядно набедокурив в Москве, шайка Воланда в то же время возвращала к жизни порядочность, честность и жестоко наказывала зло и неправду, служа как бы тем самым утверждению тысячелетних нравственных заповедей. Воланд разрушает рутину и несет наказание пошлякам и приспособленцам. И если ещё его свита предстает в личине мелких бесов, неравнодушных к поджогам, разрушению и пакостничеству, то сам мессир неизменно сохраняет некоторую величавость. Он наблюдает булгаковскую Москву как исследователь, ставящий научный опыт, словно он и впрямь послан в командировку от небесной канцеляр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дной из редакций романа последние слова Воланда таковы: “…У него мужественное лицо, он правильно делает свое дело, и вообще всё кончено здесь. Нам пора!” Воланд приказывает своей свите покинуть Москву, поскольку уверен, что этот город и страна останутся в его власти, пока здесь господствует “человек с мужественным лицом” . Этот человек – Сталин. Очевидно, что столь прямой намёк, что “великий вождь и учитель” пользуется благорасположением дьявола, особенно напугал слушателей последних глав романа 15 мая 1939 года. Интересно, что это место в не меньшей степени страшило и последующих издателей булгаковского романа. Хотя цитированный фрагмент содержался в последней машинописи “Мастера и Маргариты” и не был отменён последующей правкой, он не попал в основной текст ни в одном из осуществленных до сих пор изда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98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много  о рома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истории создания романа мы видим, что он был задуман и создавался как «роман о дьяволе». Некоторые исследователи видят в нём апологию дьявола, любование мрачной силой, капитуляцию перед миром зла. В самом деле, Булгаков называл себя «мистическим писателем», но мистика эта не помрачала рассудок и не запугивала чит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много  о рома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сонажи и сюжеты «Мастера и Маргариты» проецируются одновременно на и Евангелие, и на легенду о Фаусте, на конкретные исторические личности современников Булгакова что придает роману парадоксальный и порой противоречивый характер. В одном поле неразрывно соединяются святость и демонизм, чудо и магия, искушение и предатель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321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анд - персонаж романа “Мастер и Маргарита” , возглавляющий мир потусторонних сил. Воланд – это дьявол, сатана, “князь тьмы” , “дух зла и повелитель теней” (все эти определения встречаются в тексте романа) . Воланд во многом ориентирован на Мефистофеля “Фауста” Иоганна Вольфганга Гёте. Само имя Воланд взято из поэмы Гёте, где оно упоминается лишь однажды и в русских переводах обычно опускаетс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8" descr="voland"/>
          <p:cNvPicPr/>
          <p:nvPr/>
        </p:nvPicPr>
        <p:blipFill>
          <a:blip r:embed="rId1"/>
          <a:stretch/>
        </p:blipFill>
        <p:spPr>
          <a:xfrm>
            <a:off x="4788000" y="981000"/>
            <a:ext cx="3889440" cy="547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4824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 Воланда показан перед началом Великого бала “Два глаза упёрлись Маргарите в лицо. Правый с золотою искрой на дне, сверлящий любого до дна души, и левый – пустой и чёрный, вроде как узкое игольное ухо, как выход в бездонный колодец всякой тьмы и теней. Лицо Воланда было скошено на сторону, правый угол рта оттянут к низу, на высоком облысевшим лбу были прорезаны глубокие параллельные острым бровям морщины. Кожу на лице Воланда как будто навеки сжёг загар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i"/>
          <p:cNvPicPr/>
          <p:nvPr/>
        </p:nvPicPr>
        <p:blipFill>
          <a:blip r:embed="rId1"/>
          <a:stretch/>
        </p:blipFill>
        <p:spPr>
          <a:xfrm>
            <a:off x="5292720" y="1197000"/>
            <a:ext cx="3492360" cy="496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6000" y="277920"/>
            <a:ext cx="61927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4276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анд наблюдает булгаковскую Москву как исследователь, ставящий научный опыт, словно он и впрямь послан в командировку от небесной канцелярии. В начале книги, дурача Берлиоза, он утверждает, что прибыл в Москву для изучения рукописей Герберта Аврилакского,- ему идет роль ученого, экспериментатора, мага. А полномочия его велики: он обладает привилегией наказующего деяния, что никак не с руки высшему созерцательному доб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voland"/>
          <p:cNvPicPr/>
          <p:nvPr/>
        </p:nvPicPr>
        <p:blipFill>
          <a:blip r:embed="rId1"/>
          <a:stretch/>
        </p:blipFill>
        <p:spPr>
          <a:xfrm>
            <a:off x="4427640" y="907920"/>
            <a:ext cx="4716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584352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356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чистая сила учиняет в Москве, по воле Булгакова, немало разных безобразий. К Воланду недаром приставлена буйная свита. В ней собраны специалисты разных профилей: мастер озорных проделок и розыгрышей - кот Бегемот, красноречивый Коровьев, владеющий всеми наречиями и жаргонами - от полублатного до великосветского, мрачный Азазелло, чрезвычайно изобретательный в смысле вышибания разного рода грешников из квартиры № 50, из Москвы, даже с этого на тот свет. И то чередуясь, то выступая вдвоем или втроем, они создают ситуации, порою и жутковатые, как в случае с Римским, но чаще комические, несмотря на разрушительные последствия их действ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176079"/>
          <p:cNvPicPr/>
          <p:nvPr/>
        </p:nvPicPr>
        <p:blipFill>
          <a:blip r:embed="rId1"/>
          <a:stretch/>
        </p:blipFill>
        <p:spPr>
          <a:xfrm>
            <a:off x="4356000" y="765000"/>
            <a:ext cx="45370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6920" y="277920"/>
            <a:ext cx="66978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оланд и его сви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1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что Воланд является в Москву не один, а в окружении свиты необычно для традиционного воплощения черта в литературе. Ведь обычно сатана, предстает сам по себе - без сообщников. У Булгаковского черта есть свита, причем свита, в которой царит строгая иерархия, и у каждого - своя функция. Самый близкий к дьяволу по положению - Коровьев-Фагот, первый по рангу среди демонов, главный помощник сатаны. Фаготу подчиняются Азазелло и Гелла. Несколько особое положение занимает кот-оборотень Бегемот, любимый шут и своего рода наперсник «князя тьмы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master-im200"/>
          <p:cNvPicPr/>
          <p:nvPr/>
        </p:nvPicPr>
        <p:blipFill>
          <a:blip r:embed="rId1"/>
          <a:stretch/>
        </p:blipFill>
        <p:spPr>
          <a:xfrm>
            <a:off x="4211640" y="1700280"/>
            <a:ext cx="493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6:03:36Z</dcterms:created>
  <dc:creator>USER</dc:creator>
  <dc:description/>
  <dc:language>en-US</dc:language>
  <cp:lastModifiedBy>Коля</cp:lastModifiedBy>
  <dcterms:modified xsi:type="dcterms:W3CDTF">2013-04-26T09:32:02Z</dcterms:modified>
  <cp:revision>5</cp:revision>
  <dc:subject/>
  <dc:title>«Воланд и его свита»</dc:title>
</cp:coreProperties>
</file>