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802F-6BBE-40F8-A472-B08F678A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8948-935C-46B7-A968-D24D7F5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4E76-8C10-4551-8D98-8217D15F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D67F-2136-47B7-9C9D-9E250960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16A-AB22-4331-A75B-3365652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5FC-26B8-4C2F-B2C0-31709E7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411-023B-48AB-A58D-E70D9A8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69C5-1031-4F25-B712-FDA3013C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A64-F0E6-4D45-A26B-7AF81A07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8DD2-D84F-4E90-9AD6-4964BE0A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6DE-B6E7-4624-B16C-D55E2D0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1521-114B-48FD-8B36-075FD5FD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BD1C-4541-4F82-9A49-2783714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2DEE-36A9-4605-80F3-88C27EF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B257-1496-43AA-9E8F-E0A378D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7A18-E1A9-428B-9DA3-AC70A0BE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844A-24E8-4D55-8C9F-F76BFFD3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0381-49BE-45D1-A734-E887F1F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7D3D-8AC8-41A3-B772-C936683B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AFB4-F405-4C13-AF0C-EDD414C7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8BA5-4C7D-45E7-ABC7-90BB5DF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1A84-B3B8-4F9A-AC6D-11157278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33C4-3DAC-45A2-A64F-63F1079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D0A1-A740-4917-AB88-B1DFB40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A23-B582-46B0-BCE9-1F87453A709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B0CA-05D7-47FE-94FE-2C767EA158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«Воланд и его свита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5" descr="15"/>
          <p:cNvPicPr/>
          <p:nvPr/>
        </p:nvPicPr>
        <p:blipFill>
          <a:blip r:embed="rId1"/>
          <a:stretch/>
        </p:blipFill>
        <p:spPr>
          <a:xfrm>
            <a:off x="1187280" y="853920"/>
            <a:ext cx="62359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милия Коровьев сконструирована по образцу фамилии персонажа повести А. К. Толстого “Упырь” (1841). Кроме того, в повести Ф. М. Достоевского “Село Степанчиково и его обитатели” есть персонаж по фамилии Коровкин, весьма похожий на нашего героя. Второе его имя происходит от названия музыкального инструмента фагот, изобретенного итальянским монахом. У Коровьева-Фагота есть некоторое сходство с фаготом – длинной тонкой трубкой, сложенной втрое. Булгаковский персонаж худ, высок и в мнимом подобострастии, кажется, готов сложиться перед собеседником втрое (чтобы потом спокойно ему напакостить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т его портрет: “…прозрачный гражданин престранного вида, На маленькой головке жокейский картузик, клетчатый кургузый пиджачок…, гражданин ростом в сажень, но в плечах узок, худ неимоверно, и физиономия, прошу заметить, глумливая” ; “…усики у него, как куриные перья, глазки маленькие, иронические и полупьяные”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4738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07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ажется, что Коровьев, он же Фагот, - самый старший из подчиненных Воланду демонов, представляющийся москвичам переводчиком при профессоре-иностранце и бывшим регентом церковного хора, имеет немало сходства с традиционным воплощение мелкого беса. Всей логикой романа читатель подводится к мысли не судить о героях по внешности, и как подтверждение правильности невольно возникающих догадок выглядит заключительная сцена «преображения» нечистой силы. Подручный Воланда только по необходимости надевает на себя различные маски-личины: пьяницы-регента, гаера, ловкого мошенника. И только в финальных главах романа Коровьев сбрасывает свою личину и предстает перед читателем темно-фиолетовым рыцарем с никогда не улыбающимся лиц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nf10"/>
          <p:cNvPicPr/>
          <p:nvPr/>
        </p:nvPicPr>
        <p:blipFill>
          <a:blip r:embed="rId1"/>
          <a:stretch/>
        </p:blipFill>
        <p:spPr>
          <a:xfrm>
            <a:off x="5003640" y="1628640"/>
            <a:ext cx="414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5" descr="kot_korovyev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58420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5068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-оборотень и любимый шут сатаны, пожалуй, самый забавный и запоминающийся из свиты Воланда. Сведения о Бегемоте автор «Мастера и Маргариты» почерпнул из книги М.А. Орлова «История сношений человека с дьяволом» (1904г.), выписки из которой сохранились в булгаковском архиве. Там, в частности, описывалось дело французской игуменьи, жившей в XVII в. и одержимой семью дьяволами, причем пятый бес был Бегемо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176036"/>
          <p:cNvPicPr/>
          <p:nvPr/>
        </p:nvPicPr>
        <p:blipFill>
          <a:blip r:embed="rId1"/>
          <a:stretch/>
        </p:blipFill>
        <p:spPr>
          <a:xfrm>
            <a:off x="4427640" y="1125360"/>
            <a:ext cx="47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848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бес изображался в виде чудовища со слоновой головой, с хоботом и клыками. Руки у него были человеческого фасона, а громаднейший живот, коротенький хвостик и толстые задние лапы, как у бегемота, напоминали о носимом им имени. У Булгакова Бегемот стал громадных размеров черным котом-оборотнем, так как именно черные коты по традиции считаются связанными с нечистой силой. Вот каким мы видим его впервые: «…на ювелиршином пуфе в развязной позе развалился некто третий, именно - жутких размеров черный кот со стопкой водки в одной лапе и вилкой, на которую он успел поддеть маринованный гриб, в друго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176036"/>
          <p:cNvPicPr/>
          <p:nvPr/>
        </p:nvPicPr>
        <p:blipFill>
          <a:blip r:embed="rId1"/>
          <a:stretch/>
        </p:blipFill>
        <p:spPr>
          <a:xfrm>
            <a:off x="4427640" y="1125360"/>
            <a:ext cx="4716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5402160" cy="96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я Азазелло образовано Булгаковым от ветхозаветного имени Азазел. Так зовут отрицательного героя ветхозаветной книги, падшего ангела, который научил людей изготовлять оружие и украшения. Вероятно, Булгакова привлекло сочетание в одном персонаже способности к обольщению и к убий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azazelkorovbegemot640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но за коварного обольстителя принима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зазелло Маргарита во время их первой встречи в Александровском сад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сед этот оказался маленького роста, пламенно-рыжим, с клыком, в крахмальном белье, в полосатом добротном костюме, в лакированных туфлях и с котелком на голове. «Совершенно разбойничья рожа!» - подумала Маргарита» Но главная функция Азазелло в романе связана с насилием. Он выбрасывает Стёпу Лиходеева из Москвы в Ялту, изгоняет из Нехорошей квартиры дядю Берлиоза, убивает из револьвера предателя Барона Майгеля. Азазелло также изобрёл крем, который он дарит Маргарите. Волшебный крем не только делает героиню невидимой и способной летать, но и одаривает её новой, ведьминой крас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пилоге романа этот падший ангел предстаёт перед нами в новом обличии: «Сбоку всех летел, блистая сталью доспехов, Азазелло. Луна изменила и его лицо. Исчез бесследно нелепый безобразный клык, и кривоглазие оказалось фальшивым. Оба глаза Азазелло были одинаковые, пустые и черные, а лицо белое и холодное. Теперь Азазелло летел в своем настоящем виде, как демон безводной пустыни, демон-убийц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633708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лла является членом свиты Воланда, женщиной-вампиром: «Служанку мою Геллу рекомендую. Расторопна, понятлива и нет такой услуги, которую она не сумела бы оказать». Имя «Гелла» Булгаков почерпнул из статьи «Чародейство» Энциклопедического словаря Брокгауза и Эфрона, где отмечалось, что на Лесбосе этим именем называли безвременно погибших девушек, после смерти ставших вампир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1192398212_masteroblozhkaud4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5436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495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еноглазая красавица Гелла свободно перемещается по воздуху, тем самым обретая сходство и с ведьмой. Характерные черты поведения вампиров - щелканье зубами и причмокивание Булгаков, возможно, позаимствовал из повести А.К. Толстого «Упырь». Там девушка-вампир поцелуем обращает в вампира своего возлюбленного - отсюда, очевидно, роковой для Варенухи поцелуй Гел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209"/>
          <p:cNvPicPr/>
          <p:nvPr/>
        </p:nvPicPr>
        <p:blipFill>
          <a:blip r:embed="rId1"/>
          <a:stretch/>
        </p:blipFill>
        <p:spPr>
          <a:xfrm>
            <a:off x="4427640" y="836640"/>
            <a:ext cx="446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ман Михаила Афанасьевича Булгакова «Мастер и Маргарита» не был завершен и при жизни автора не публиковался. Впервые он был опубликован только в 1966 году, через 26 лет после смерти Булгакова, и то в сокращенном журнальном варианте. Тем, что это величайшее литературное произведение дошло до читателя, мы обязаны жене писателя Елене Сергеевне Булгаковой, которая в тяжелые сталинские времена сумела сохранить рукопись романа. В  общей сложности Булгаков писал «Мастера и Маргариту» более 10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40872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лла, единственная из свиты Воланда, отсутствует в сцене последнего полета. «Третья жена писателя считала, что это - результат незавершенности работы над «Мастером Маргаритой». Скорее всего, Булгаков сознательно убрал её как самого младшего члена свиты, исполняющего только вспомогательные функции и в театре Варьете, и в Нехорошей квартире, и на Великом балу у сатаны. Вампиры - это традиционно низший разряд нечистой силы. К тому же Гелле не в кого было бы превращаться в последнем полёте - когда ночь «разоблачила все обманы», она могла только снова стать мёртвой девуш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7" descr="1192398212_masteroblozhkaud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62472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8" descr="3"/>
          <p:cNvPicPr/>
          <p:nvPr/>
        </p:nvPicPr>
        <p:blipFill>
          <a:blip r:embed="rId1"/>
          <a:stretch/>
        </p:blipFill>
        <p:spPr>
          <a:xfrm>
            <a:off x="1403280" y="907920"/>
            <a:ext cx="5905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54364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Picture 5" descr="1214160635_the_dancing_feast_of_satan_by_mordaunt"/>
          <p:cNvPicPr/>
          <p:nvPr/>
        </p:nvPicPr>
        <p:blipFill>
          <a:blip r:embed="rId1"/>
          <a:stretch/>
        </p:blipFill>
        <p:spPr>
          <a:xfrm>
            <a:off x="971640" y="765000"/>
            <a:ext cx="7129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6048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Picture 5" descr="1a"/>
          <p:cNvPicPr/>
          <p:nvPr/>
        </p:nvPicPr>
        <p:blipFill>
          <a:blip r:embed="rId1"/>
          <a:stretch/>
        </p:blipFill>
        <p:spPr>
          <a:xfrm>
            <a:off x="1547640" y="1125360"/>
            <a:ext cx="5689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ярких парадоксов романа заключается в том, что, изрядно набедокурив в Москве, шайка Воланда в то же время возвращала к жизни порядочность, честность и жестоко наказывала зло и неправду, служа как бы тем самым утверждению тысячелетних нравственных заповедей. Воланд разрушает рутину и несет наказание пошлякам и приспособленцам. И если ещё его свита предстает в личине мелких бесов, неравнодушных к поджогам, разрушению и пакостничеству, то сам мессир неизменно сохраняет некоторую величавость. Он наблюдает булгаковскую Москву как исследователь, ставящий научный опыт, словно он и впрямь послан в командировку от небесной канцеля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дной из редакций романа последние слова Воланда таковы: “…У него мужественное лицо, он правильно делает свое дело, и вообще всё кончено здесь. Нам пора!” Воланд приказывает своей свите покинуть Москву, поскольку уверен, что этот город и страна останутся в его власти, пока здесь господствует “человек с мужественным лицом” . Этот человек – Сталин. Очевидно, что столь прямой намёк, что “великий вождь и учитель” пользуется благорасположением дьявола, особенно напугал слушателей последних глав романа 15 мая 1939 года. Интересно, что это место в не меньшей степени страшило и последующих издателей булгаковского романа. Хотя цитированный фрагмент содержался в последней машинописи “Мастера и Маргариты” и не был отменён последующей правкой, он не попал в основной текст ни в одном из осуществленных до сих пор изд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истории создания романа мы видим, что он был задуман и создавался как «роман о дьяволе». Некоторые исследователи видят в нём апологию дьявола, любование мрачной силой, капитуляцию перед миром зла. В самом деле, Булгаков называл себя «мистическим писателем», но мистика эта не помрачала рассудок и не запугивала чит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сонажи и сюжеты «Мастера и Маргариты» проецируются одновременно на и Евангелие, и на легенду о Фаусте, на конкретные исторические личности современников Булгакова что придает роману парадоксальный и порой противоречивый характер. В одном поле неразрывно соединяются святость и демонизм, чудо и магия, искушение и предатель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321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анд - персонаж романа “Мастер и Маргарита” , возглавляющий мир потусторонних сил. Воланд – это дьявол, сатана, “князь тьмы” , “дух зла и повелитель теней” (все эти определения встречаются в тексте романа) . Воланд во многом ориентирован на Мефистофеля “Фауста” Иоганна Вольфганга Гёте. Само имя Воланд взято из поэмы Гёте, где оно упоминается лишь однажды и в русских переводах обычно опуск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voland"/>
          <p:cNvPicPr/>
          <p:nvPr/>
        </p:nvPicPr>
        <p:blipFill>
          <a:blip r:embed="rId1"/>
          <a:stretch/>
        </p:blipFill>
        <p:spPr>
          <a:xfrm>
            <a:off x="4788000" y="981000"/>
            <a:ext cx="388944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82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 Воланда показан перед началом Великого бала “Два глаза упёрлись Маргарите в лицо. Правый с золотою искрой на дне, сверлящий любого до дна души, и левый – пустой и чёрный, вроде как узкое игольное ухо, как выход в бездонный колодец всякой тьмы и теней. Лицо Воланда было скошено на сторону, правый угол рта оттянут к низу, на высоком облысевшим лбу были прорезаны глубокие параллельные острым бровям морщины. Кожу на лице Воланда как будто навеки сжёг загар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i"/>
          <p:cNvPicPr/>
          <p:nvPr/>
        </p:nvPicPr>
        <p:blipFill>
          <a:blip r:embed="rId1"/>
          <a:stretch/>
        </p:blipFill>
        <p:spPr>
          <a:xfrm>
            <a:off x="5292720" y="1197000"/>
            <a:ext cx="349236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61927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427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анд наблюдает булгаковскую Москву как исследователь, ставящий научный опыт, словно он и впрямь послан в командировку от небесной канцелярии. В начале книги, дурача Берлиоза, он утверждает, что прибыл в Москву для изучения рукописей Герберта Аврилакского,- ему идет роль ученого, экспериментатора, мага. А полномочия его велики: он обладает привилегией наказующего деяния, что никак не с руки высшему созерцательному доб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voland"/>
          <p:cNvPicPr/>
          <p:nvPr/>
        </p:nvPicPr>
        <p:blipFill>
          <a:blip r:embed="rId1"/>
          <a:stretch/>
        </p:blipFill>
        <p:spPr>
          <a:xfrm>
            <a:off x="4427640" y="907920"/>
            <a:ext cx="4716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5843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чистая сила учиняет в Москве, по воле Булгакова, немало разных безобразий. К Воланду недаром приставлена буйная свита. В ней собраны специалисты разных профилей: мастер озорных проделок и розыгрышей - кот Бегемот, красноречивый Коровьев, владеющий всеми наречиями и жаргонами - от полублатного до великосветского, мрачный Азазелло, чрезвычайно изобретательный в смысле вышибания разного рода грешников из квартиры № 50, из Москвы, даже с этого на тот свет. И то чередуясь, то выступая вдвоем или втроем, они создают ситуации, порою и жутковатые, как в случае с Римским, но чаще комические, несмотря на разрушительные последствия их действ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76079"/>
          <p:cNvPicPr/>
          <p:nvPr/>
        </p:nvPicPr>
        <p:blipFill>
          <a:blip r:embed="rId1"/>
          <a:stretch/>
        </p:blipFill>
        <p:spPr>
          <a:xfrm>
            <a:off x="4356000" y="765000"/>
            <a:ext cx="4537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77920"/>
            <a:ext cx="66978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1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что Воланд является в Москву не один, а в окружении свиты необычно для традиционного воплощения черта в литературе. Ведь обычно сатана, предстает сам по себе - без сообщников. У Булгаковского черта есть свита, причем свита, в которой царит строгая иерархия, и у каждого - своя функция. Самый близкий к дьяволу по положению - Коровьев-Фагот, первый по рангу среди демонов, главный помощник сатаны. Фаготу подчиняются Азазелло и Гелла. Несколько особое положение занимает кот-оборотень Бегемот, любимый шут и своего рода наперсник «князя тьм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master-im200"/>
          <p:cNvPicPr/>
          <p:nvPr/>
        </p:nvPicPr>
        <p:blipFill>
          <a:blip r:embed="rId1"/>
          <a:stretch/>
        </p:blipFill>
        <p:spPr>
          <a:xfrm>
            <a:off x="4211640" y="1700280"/>
            <a:ext cx="49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6:03:36Z</dcterms:created>
  <dc:creator>USER</dc:creator>
  <dc:description/>
  <dc:language>en-US</dc:language>
  <cp:lastModifiedBy>Коля</cp:lastModifiedBy>
  <dcterms:modified xsi:type="dcterms:W3CDTF">2013-04-26T09:32:02Z</dcterms:modified>
  <cp:revision>5</cp:revision>
  <dc:subject/>
  <dc:title>«Воланд и его свита»</dc:title>
</cp:coreProperties>
</file>