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3.wmf" ContentType="image/x-wmf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124-6563-4DC6-B8FC-6BA6D960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AC6-5EAF-44E3-96B6-BEACF06D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356-D277-4F6D-BD7E-2CA4211B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9F1-EA1B-4B46-AD6A-FD788040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44B-D3E3-4697-B8D2-AD644FF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CF2-5365-42A9-803B-5B17C49B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7ED-8EBF-40A5-9C9B-30F70626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C2D-CC8B-4220-A33D-1E314A24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1C6-F223-4876-A8FA-F281574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650-4D35-4C17-AFD4-D2025D0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D79-0808-4C5C-BF46-1DC8ABD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503-5EC1-4FFF-9C0B-F94B97AD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0BFB-07D6-4CF6-ACA3-1CC5AD3A7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496872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рава и обязанности 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656320" y="3500280"/>
            <a:ext cx="3487680" cy="2982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957680" y="5537160"/>
            <a:ext cx="40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СОШ № 4» Подкопае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Государство обяз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"/>
          <p:cNvPicPr/>
          <p:nvPr/>
        </p:nvPicPr>
        <p:blipFill>
          <a:blip r:embed="rId1"/>
          <a:stretch/>
        </p:blipFill>
        <p:spPr>
          <a:xfrm>
            <a:off x="3276720" y="1125360"/>
            <a:ext cx="2587680" cy="2092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900000" y="3860640"/>
            <a:ext cx="302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людать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64000" y="3860640"/>
            <a:ext cx="295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арантир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771640" y="5300640"/>
            <a:ext cx="3745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щищ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ав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2556000" y="321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5867280" y="3213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457200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6588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69696"/>
                </a:solidFill>
                <a:latin typeface="Arial"/>
              </a:rPr>
              <a:t>Наши права заканчиваются там, где начинаются права другого челове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2"/>
          <p:cNvPicPr/>
          <p:nvPr/>
        </p:nvPicPr>
        <p:blipFill>
          <a:blip r:embed="rId1"/>
          <a:stretch/>
        </p:blipFill>
        <p:spPr>
          <a:xfrm>
            <a:off x="5364000" y="3284640"/>
            <a:ext cx="3249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язанности гражданина Р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9041063_family_05"/>
          <p:cNvPicPr/>
          <p:nvPr/>
        </p:nvPicPr>
        <p:blipFill>
          <a:blip r:embed="rId1"/>
          <a:stretch/>
        </p:blipFill>
        <p:spPr>
          <a:xfrm>
            <a:off x="468360" y="119700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25232105"/>
          <p:cNvPicPr/>
          <p:nvPr/>
        </p:nvPicPr>
        <p:blipFill>
          <a:blip r:embed="rId2"/>
          <a:stretch/>
        </p:blipFill>
        <p:spPr>
          <a:xfrm>
            <a:off x="2987640" y="3186000"/>
            <a:ext cx="244800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amyatnik_Koltsovu_Voronezh_2008"/>
          <p:cNvPicPr/>
          <p:nvPr/>
        </p:nvPicPr>
        <p:blipFill>
          <a:blip r:embed="rId3"/>
          <a:stretch/>
        </p:blipFill>
        <p:spPr>
          <a:xfrm>
            <a:off x="6732720" y="1557360"/>
            <a:ext cx="19778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oney"/>
          <p:cNvPicPr/>
          <p:nvPr/>
        </p:nvPicPr>
        <p:blipFill>
          <a:blip r:embed="rId4"/>
          <a:stretch/>
        </p:blipFill>
        <p:spPr>
          <a:xfrm>
            <a:off x="3780000" y="1197000"/>
            <a:ext cx="2681280" cy="20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231610749_krasivye-oboi-priroda"/>
          <p:cNvPicPr/>
          <p:nvPr/>
        </p:nvPicPr>
        <p:blipFill>
          <a:blip r:embed="rId5"/>
          <a:stretch/>
        </p:blipFill>
        <p:spPr>
          <a:xfrm>
            <a:off x="6012000" y="4221000"/>
            <a:ext cx="2592360" cy="2157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"/>
          <p:cNvPicPr/>
          <p:nvPr/>
        </p:nvPicPr>
        <p:blipFill>
          <a:blip r:embed="rId6"/>
          <a:stretch/>
        </p:blipFill>
        <p:spPr>
          <a:xfrm>
            <a:off x="395280" y="3933720"/>
            <a:ext cx="24480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700360" y="4436640"/>
            <a:ext cx="6059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69696"/>
                </a:solidFill>
                <a:latin typeface="Arial"/>
              </a:rPr>
              <a:t>Человек заговорил о своих правах десятки веков наза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1"/>
          <p:cNvPicPr/>
          <p:nvPr/>
        </p:nvPicPr>
        <p:blipFill>
          <a:blip r:embed="rId1"/>
          <a:stretch/>
        </p:blipFill>
        <p:spPr>
          <a:xfrm>
            <a:off x="611280" y="40464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716280"/>
            <a:ext cx="3132000" cy="1225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ликая Хартия вольностей 1215 г.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789"/>
          <p:cNvPicPr/>
          <p:nvPr/>
        </p:nvPicPr>
        <p:blipFill>
          <a:blip r:embed="rId1"/>
          <a:stretch/>
        </p:blipFill>
        <p:spPr>
          <a:xfrm>
            <a:off x="6227640" y="549360"/>
            <a:ext cx="2244960" cy="295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хартия"/>
          <p:cNvPicPr/>
          <p:nvPr/>
        </p:nvPicPr>
        <p:blipFill>
          <a:blip r:embed="rId2"/>
          <a:stretch/>
        </p:blipFill>
        <p:spPr>
          <a:xfrm>
            <a:off x="755640" y="404640"/>
            <a:ext cx="234648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солон"/>
          <p:cNvPicPr/>
          <p:nvPr/>
        </p:nvPicPr>
        <p:blipFill>
          <a:blip r:embed="rId3"/>
          <a:stretch/>
        </p:blipFill>
        <p:spPr>
          <a:xfrm>
            <a:off x="3708360" y="1773360"/>
            <a:ext cx="2016000" cy="3095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59280" y="5229360"/>
            <a:ext cx="3132000" cy="122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Arial"/>
              </a:rPr>
              <a:t>Реформы Солона в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6012000" y="3645000"/>
            <a:ext cx="3132000" cy="1439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кларация прав человека и гражданина 1789 г. 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, какие группы прав человека и гражданина отражены в этих источник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статьи Конституции, которые соответствуют содержанию этих доку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е черты, объединяющие эти исторические источ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поставь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Права:                                 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свободу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раждански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тв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избирать и быть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эконом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бр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жизнь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 образование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ультур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иком  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циальные пра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059280" y="1916280"/>
            <a:ext cx="1800000" cy="28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484360" y="3284640"/>
            <a:ext cx="230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2987640" y="1773360"/>
            <a:ext cx="1871640" cy="23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924360" y="4941720"/>
            <a:ext cx="9349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2843280" y="2852640"/>
            <a:ext cx="201600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отнес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3276720" y="2492280"/>
            <a:ext cx="2232000" cy="1059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348000" y="3933720"/>
            <a:ext cx="223200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95280" y="191628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372360" y="2133720"/>
            <a:ext cx="23032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лужб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132000" y="5516640"/>
            <a:ext cx="25196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хр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43640" y="4221000"/>
            <a:ext cx="2232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95280" y="4076640"/>
            <a:ext cx="255600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вобода мы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132000" y="981000"/>
            <a:ext cx="2880000" cy="93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ла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2340000" y="3284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H="1" flipV="1">
            <a:off x="5435640" y="3284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4427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 flipV="1">
            <a:off x="4356000" y="4941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19564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5219280" y="3068640"/>
            <a:ext cx="151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 flipH="1" flipV="1">
            <a:off x="5579640" y="450828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218120" cy="47516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4643280" y="765000"/>
            <a:ext cx="3816360" cy="2303640"/>
          </a:xfrm>
          <a:prstGeom prst="wedgeRoundRectCallout">
            <a:avLst>
              <a:gd name="adj1" fmla="val -77870"/>
              <a:gd name="adj2" fmla="val 56134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Что узна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Аукцио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995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4"/>
          <p:cNvGraphicFramePr/>
          <p:nvPr/>
        </p:nvGraphicFramePr>
        <p:xfrm>
          <a:off x="684360" y="1413000"/>
          <a:ext cx="36478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3647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AutoShape 7"/>
          <p:cNvSpPr/>
          <p:nvPr/>
        </p:nvSpPr>
        <p:spPr>
          <a:xfrm>
            <a:off x="4427640" y="404640"/>
            <a:ext cx="4248000" cy="1656000"/>
          </a:xfrm>
          <a:prstGeom prst="wedgeRoundRectCallout">
            <a:avLst>
              <a:gd name="adj1" fmla="val -52203"/>
              <a:gd name="adj2" fmla="val 78282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зна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427640" y="4941720"/>
            <a:ext cx="4298760" cy="1546560"/>
          </a:xfrm>
          <a:prstGeom prst="wedgeRoundRectCallout">
            <a:avLst>
              <a:gd name="adj1" fmla="val -49333"/>
              <a:gd name="adj2" fmla="val -106569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Что мы хотим узн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39400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781000"/>
            <a:ext cx="74739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урока: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ссмотреть основные права и обязанности, которыми обладает человек и гражд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4"/>
          <p:cNvSpPr/>
          <p:nvPr/>
        </p:nvSpPr>
        <p:spPr>
          <a:xfrm>
            <a:off x="1908000" y="476280"/>
            <a:ext cx="5472360" cy="151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отреб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971640" y="2781360"/>
            <a:ext cx="3095640" cy="1152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916360" y="4797360"/>
            <a:ext cx="3311280" cy="115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ух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292720" y="2708280"/>
            <a:ext cx="3095640" cy="1224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3348000" y="1989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450072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4572000" y="1989000"/>
            <a:ext cx="1152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826920" y="2924280"/>
            <a:ext cx="2737080" cy="1272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692280"/>
            <a:ext cx="3529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72000" y="5300640"/>
            <a:ext cx="3313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льтур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500720" y="3860640"/>
            <a:ext cx="33843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427640" y="2205000"/>
            <a:ext cx="3457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ит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V="1">
            <a:off x="3564000" y="1628280"/>
            <a:ext cx="792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3564000" y="4149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 flipV="1">
            <a:off x="3564000" y="270828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3564000" y="357336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титуция РФ – документ, закрепляющий прав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к1"/>
          <p:cNvPicPr/>
          <p:nvPr/>
        </p:nvPicPr>
        <p:blipFill>
          <a:blip r:embed="rId1"/>
          <a:stretch/>
        </p:blipFill>
        <p:spPr>
          <a:xfrm>
            <a:off x="684360" y="134136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635280" y="1052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69696"/>
                </a:solidFill>
                <a:latin typeface="Arial"/>
              </a:rPr>
              <a:t>10 декабря 1948 года Генеральной Ассамблеей ООН была принята Всеобщая Декларация прав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д2"/>
          <p:cNvPicPr/>
          <p:nvPr/>
        </p:nvPicPr>
        <p:blipFill>
          <a:blip r:embed="rId1"/>
          <a:stretch/>
        </p:blipFill>
        <p:spPr>
          <a:xfrm>
            <a:off x="755640" y="836640"/>
            <a:ext cx="28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032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мориальный комплекс в Хаты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400px-Brestskaya_krepost_monument"/>
          <p:cNvPicPr/>
          <p:nvPr/>
        </p:nvPicPr>
        <p:blipFill>
          <a:blip r:embed="rId1"/>
          <a:stretch/>
        </p:blipFill>
        <p:spPr>
          <a:xfrm>
            <a:off x="468360" y="47628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bereza-8"/>
          <p:cNvPicPr/>
          <p:nvPr/>
        </p:nvPicPr>
        <p:blipFill>
          <a:blip r:embed="rId2"/>
          <a:stretch/>
        </p:blipFill>
        <p:spPr>
          <a:xfrm>
            <a:off x="4067280" y="71136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veska-8"/>
          <p:cNvPicPr/>
          <p:nvPr/>
        </p:nvPicPr>
        <p:blipFill>
          <a:blip r:embed="rId3"/>
          <a:stretch/>
        </p:blipFill>
        <p:spPr>
          <a:xfrm>
            <a:off x="468360" y="285264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s5001151_897"/>
          <p:cNvPicPr/>
          <p:nvPr/>
        </p:nvPicPr>
        <p:blipFill>
          <a:blip r:embed="rId4"/>
          <a:stretch/>
        </p:blipFill>
        <p:spPr>
          <a:xfrm>
            <a:off x="6804000" y="2997360"/>
            <a:ext cx="1928880" cy="2331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х"/>
          <p:cNvPicPr/>
          <p:nvPr/>
        </p:nvPicPr>
        <p:blipFill>
          <a:blip r:embed="rId5"/>
          <a:stretch/>
        </p:blipFill>
        <p:spPr>
          <a:xfrm>
            <a:off x="4716360" y="4221000"/>
            <a:ext cx="2362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д1"/>
          <p:cNvPicPr/>
          <p:nvPr/>
        </p:nvPicPr>
        <p:blipFill>
          <a:blip r:embed="rId1"/>
          <a:stretch/>
        </p:blipFill>
        <p:spPr>
          <a:xfrm>
            <a:off x="468360" y="404640"/>
            <a:ext cx="2665440" cy="1935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556000" y="1844640"/>
            <a:ext cx="4752720" cy="100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Arial"/>
              </a:rPr>
              <a:t>Права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2"/>
          <p:cNvSpPr/>
          <p:nvPr/>
        </p:nvSpPr>
        <p:spPr>
          <a:xfrm>
            <a:off x="826920" y="3284640"/>
            <a:ext cx="331344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об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2484360" y="4292640"/>
            <a:ext cx="388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отчужд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4140360" y="5445000"/>
            <a:ext cx="396072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дели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132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1636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6588000" y="2852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9:03:59Z</dcterms:created>
  <dc:creator>User</dc:creator>
  <dc:description/>
  <dc:language>en-US</dc:language>
  <cp:lastModifiedBy>ZooM</cp:lastModifiedBy>
  <dcterms:modified xsi:type="dcterms:W3CDTF">2013-12-10T14:26:11Z</dcterms:modified>
  <cp:revision>8</cp:revision>
  <dc:subject/>
  <dc:title>Права и обязанности граждан</dc:title>
</cp:coreProperties>
</file>