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503-EA87-435F-854A-220EA9F2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71B-2CD3-4F7D-8369-545826A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D4C-75B6-4339-AF1C-73D31C56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C1C-13CB-4F71-A690-583B6403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397-6AEB-4EA5-9B52-E7B0F297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6C5-47FC-45E5-A901-7C5066DC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AB-0BFD-455D-A509-8340C11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069-15A2-4556-98CD-C8A48AF9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38A-EFE2-4241-AC1F-148B1451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1F1-FAC3-4602-8CB7-4EED923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D43-17B7-4655-AC56-2B8A753A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BDE-7509-4155-88E0-9E565C9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A46-A74E-4161-A95C-3C39C2D66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49687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рава и обязанности 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656320" y="3500280"/>
            <a:ext cx="3487680" cy="2982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57680" y="553716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 4» Подкопае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о обяз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"/>
          <p:cNvPicPr/>
          <p:nvPr/>
        </p:nvPicPr>
        <p:blipFill>
          <a:blip r:embed="rId1"/>
          <a:stretch/>
        </p:blipFill>
        <p:spPr>
          <a:xfrm>
            <a:off x="3276720" y="1125360"/>
            <a:ext cx="2587680" cy="209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900000" y="3860640"/>
            <a:ext cx="302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людать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64000" y="3860640"/>
            <a:ext cx="295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арантир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771640" y="5300640"/>
            <a:ext cx="3745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щищ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2556000" y="321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867280" y="3213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457200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6588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69696"/>
                </a:solidFill>
                <a:latin typeface="Arial"/>
              </a:rPr>
              <a:t>Наши права заканчиваются там, где начинаются права другого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5364000" y="3284640"/>
            <a:ext cx="3249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9041063_family_05"/>
          <p:cNvPicPr/>
          <p:nvPr/>
        </p:nvPicPr>
        <p:blipFill>
          <a:blip r:embed="rId1"/>
          <a:stretch/>
        </p:blipFill>
        <p:spPr>
          <a:xfrm>
            <a:off x="468360" y="119700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5232105"/>
          <p:cNvPicPr/>
          <p:nvPr/>
        </p:nvPicPr>
        <p:blipFill>
          <a:blip r:embed="rId2"/>
          <a:stretch/>
        </p:blipFill>
        <p:spPr>
          <a:xfrm>
            <a:off x="2987640" y="3186000"/>
            <a:ext cx="244800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amyatnik_Koltsovu_Voronezh_2008"/>
          <p:cNvPicPr/>
          <p:nvPr/>
        </p:nvPicPr>
        <p:blipFill>
          <a:blip r:embed="rId3"/>
          <a:stretch/>
        </p:blipFill>
        <p:spPr>
          <a:xfrm>
            <a:off x="6732720" y="1557360"/>
            <a:ext cx="19778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oney"/>
          <p:cNvPicPr/>
          <p:nvPr/>
        </p:nvPicPr>
        <p:blipFill>
          <a:blip r:embed="rId4"/>
          <a:stretch/>
        </p:blipFill>
        <p:spPr>
          <a:xfrm>
            <a:off x="3780000" y="1197000"/>
            <a:ext cx="2681280" cy="20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231610749_krasivye-oboi-priroda"/>
          <p:cNvPicPr/>
          <p:nvPr/>
        </p:nvPicPr>
        <p:blipFill>
          <a:blip r:embed="rId5"/>
          <a:stretch/>
        </p:blipFill>
        <p:spPr>
          <a:xfrm>
            <a:off x="6012000" y="4221000"/>
            <a:ext cx="259236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"/>
          <p:cNvPicPr/>
          <p:nvPr/>
        </p:nvPicPr>
        <p:blipFill>
          <a:blip r:embed="rId6"/>
          <a:stretch/>
        </p:blipFill>
        <p:spPr>
          <a:xfrm>
            <a:off x="395280" y="3933720"/>
            <a:ext cx="244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00360" y="4436640"/>
            <a:ext cx="6059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Человек заговорил о своих правах десятки веков наза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1"/>
          <p:cNvPicPr/>
          <p:nvPr/>
        </p:nvPicPr>
        <p:blipFill>
          <a:blip r:embed="rId1"/>
          <a:stretch/>
        </p:blipFill>
        <p:spPr>
          <a:xfrm>
            <a:off x="611280" y="40464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716280"/>
            <a:ext cx="3132000" cy="122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икая Хартия вольностей 1215 г.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789"/>
          <p:cNvPicPr/>
          <p:nvPr/>
        </p:nvPicPr>
        <p:blipFill>
          <a:blip r:embed="rId1"/>
          <a:stretch/>
        </p:blipFill>
        <p:spPr>
          <a:xfrm>
            <a:off x="6227640" y="549360"/>
            <a:ext cx="2244960" cy="29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хартия"/>
          <p:cNvPicPr/>
          <p:nvPr/>
        </p:nvPicPr>
        <p:blipFill>
          <a:blip r:embed="rId2"/>
          <a:stretch/>
        </p:blipFill>
        <p:spPr>
          <a:xfrm>
            <a:off x="755640" y="404640"/>
            <a:ext cx="23464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солон"/>
          <p:cNvPicPr/>
          <p:nvPr/>
        </p:nvPicPr>
        <p:blipFill>
          <a:blip r:embed="rId3"/>
          <a:stretch/>
        </p:blipFill>
        <p:spPr>
          <a:xfrm>
            <a:off x="3708360" y="1773360"/>
            <a:ext cx="2016000" cy="3095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59280" y="5229360"/>
            <a:ext cx="3132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формы Солона в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012000" y="3645000"/>
            <a:ext cx="3132000" cy="143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кларация прав человека и гражданина 1789 г. 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, какие группы прав человека и гражданина отражены в этих источник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статьи Конституции, которые соответствуют содержанию этих доку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е черты, объединяющие эти исторические источ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поставь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Права:                                 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свободу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раждански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тв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избирать и быть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р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жизнь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образование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ультур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иком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циальны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059280" y="1916280"/>
            <a:ext cx="1800000" cy="28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484360" y="3284640"/>
            <a:ext cx="230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2987640" y="1773360"/>
            <a:ext cx="187164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924360" y="4941720"/>
            <a:ext cx="9349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2843280" y="2852640"/>
            <a:ext cx="201600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отнес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3276720" y="2492280"/>
            <a:ext cx="2232000" cy="1059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348000" y="3933720"/>
            <a:ext cx="223200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95280" y="191628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372360" y="2133720"/>
            <a:ext cx="23032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лужб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132000" y="5516640"/>
            <a:ext cx="2519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х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43640" y="422100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95280" y="4076640"/>
            <a:ext cx="2556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обода мы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132000" y="981000"/>
            <a:ext cx="2880000" cy="9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ла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2340000" y="3284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H="1" flipV="1">
            <a:off x="5435640" y="3284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4427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V="1">
            <a:off x="4356000" y="49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19564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5219280" y="3068640"/>
            <a:ext cx="151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 flipH="1" flipV="1">
            <a:off x="5579640" y="450828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218120" cy="4751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4643280" y="765000"/>
            <a:ext cx="3816360" cy="2303640"/>
          </a:xfrm>
          <a:prstGeom prst="wedgeRoundRectCallout">
            <a:avLst>
              <a:gd name="adj1" fmla="val -77870"/>
              <a:gd name="adj2" fmla="val 56134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Что узна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укци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995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"/>
          <p:cNvGraphicFramePr/>
          <p:nvPr/>
        </p:nvGraphicFramePr>
        <p:xfrm>
          <a:off x="684360" y="1413000"/>
          <a:ext cx="36478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3647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AutoShape 7"/>
          <p:cNvSpPr/>
          <p:nvPr/>
        </p:nvSpPr>
        <p:spPr>
          <a:xfrm>
            <a:off x="4427640" y="404640"/>
            <a:ext cx="4248000" cy="1656000"/>
          </a:xfrm>
          <a:prstGeom prst="wedgeRoundRectCallout">
            <a:avLst>
              <a:gd name="adj1" fmla="val -52203"/>
              <a:gd name="adj2" fmla="val 7828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зна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427640" y="4941720"/>
            <a:ext cx="4298760" cy="1546560"/>
          </a:xfrm>
          <a:prstGeom prst="wedgeRoundRectCallout">
            <a:avLst>
              <a:gd name="adj1" fmla="val -49333"/>
              <a:gd name="adj2" fmla="val -10656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хотим узн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39400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781000"/>
            <a:ext cx="74739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ссмотреть основные права и обязанности, которыми обладает человек и гражд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4"/>
          <p:cNvSpPr/>
          <p:nvPr/>
        </p:nvSpPr>
        <p:spPr>
          <a:xfrm>
            <a:off x="1908000" y="476280"/>
            <a:ext cx="5472360" cy="151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отреб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971640" y="2781360"/>
            <a:ext cx="3095640" cy="1152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916360" y="4797360"/>
            <a:ext cx="3311280" cy="115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ух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292720" y="2708280"/>
            <a:ext cx="3095640" cy="1224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3348000" y="1989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50072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4572000" y="1989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826920" y="2924280"/>
            <a:ext cx="2737080" cy="1272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692280"/>
            <a:ext cx="3529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0" y="5300640"/>
            <a:ext cx="331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льту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500720" y="3860640"/>
            <a:ext cx="338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27640" y="2205000"/>
            <a:ext cx="3457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и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3564000" y="1628280"/>
            <a:ext cx="792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3564000" y="4149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 flipV="1">
            <a:off x="3564000" y="270828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564000" y="357336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титуция РФ – документ, закрепляющий прав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1"/>
          <p:cNvPicPr/>
          <p:nvPr/>
        </p:nvPicPr>
        <p:blipFill>
          <a:blip r:embed="rId1"/>
          <a:stretch/>
        </p:blipFill>
        <p:spPr>
          <a:xfrm>
            <a:off x="684360" y="134136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635280" y="1052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10 декабря 1948 года Генеральной Ассамблеей ООН была принята Всеобщая Декларация прав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д2"/>
          <p:cNvPicPr/>
          <p:nvPr/>
        </p:nvPicPr>
        <p:blipFill>
          <a:blip r:embed="rId1"/>
          <a:stretch/>
        </p:blipFill>
        <p:spPr>
          <a:xfrm>
            <a:off x="755640" y="836640"/>
            <a:ext cx="28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032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мориальный комплекс в Хаты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00px-Brestskaya_krepost_monument"/>
          <p:cNvPicPr/>
          <p:nvPr/>
        </p:nvPicPr>
        <p:blipFill>
          <a:blip r:embed="rId1"/>
          <a:stretch/>
        </p:blipFill>
        <p:spPr>
          <a:xfrm>
            <a:off x="468360" y="47628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ereza-8"/>
          <p:cNvPicPr/>
          <p:nvPr/>
        </p:nvPicPr>
        <p:blipFill>
          <a:blip r:embed="rId2"/>
          <a:stretch/>
        </p:blipFill>
        <p:spPr>
          <a:xfrm>
            <a:off x="4067280" y="711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veska-8"/>
          <p:cNvPicPr/>
          <p:nvPr/>
        </p:nvPicPr>
        <p:blipFill>
          <a:blip r:embed="rId3"/>
          <a:stretch/>
        </p:blipFill>
        <p:spPr>
          <a:xfrm>
            <a:off x="468360" y="285264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5001151_897"/>
          <p:cNvPicPr/>
          <p:nvPr/>
        </p:nvPicPr>
        <p:blipFill>
          <a:blip r:embed="rId4"/>
          <a:stretch/>
        </p:blipFill>
        <p:spPr>
          <a:xfrm>
            <a:off x="6804000" y="2997360"/>
            <a:ext cx="1928880" cy="233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х"/>
          <p:cNvPicPr/>
          <p:nvPr/>
        </p:nvPicPr>
        <p:blipFill>
          <a:blip r:embed="rId5"/>
          <a:stretch/>
        </p:blipFill>
        <p:spPr>
          <a:xfrm>
            <a:off x="4716360" y="4221000"/>
            <a:ext cx="2362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д1"/>
          <p:cNvPicPr/>
          <p:nvPr/>
        </p:nvPicPr>
        <p:blipFill>
          <a:blip r:embed="rId1"/>
          <a:stretch/>
        </p:blipFill>
        <p:spPr>
          <a:xfrm>
            <a:off x="468360" y="404640"/>
            <a:ext cx="2665440" cy="1935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556000" y="1844640"/>
            <a:ext cx="475272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</a:rPr>
              <a:t>Прав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826920" y="3284640"/>
            <a:ext cx="331344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об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2484360" y="4292640"/>
            <a:ext cx="388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отчужд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4140360" y="5445000"/>
            <a:ext cx="396072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дели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132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1636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588000" y="2852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03:59Z</dcterms:created>
  <dc:creator>User</dc:creator>
  <dc:description/>
  <dc:language>en-US</dc:language>
  <cp:lastModifiedBy>ZooM</cp:lastModifiedBy>
  <dcterms:modified xsi:type="dcterms:W3CDTF">2013-12-10T14:26:11Z</dcterms:modified>
  <cp:revision>8</cp:revision>
  <dc:subject/>
  <dc:title>Права и обязанности граждан</dc:title>
</cp:coreProperties>
</file>