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D16-1F69-4750-BDAE-AB35DED1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26B-3A0D-4540-A109-6E9E0A46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577-1F6A-4372-BA9F-CE17EA9D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7F2-75A6-4A7B-8DAC-930A674D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4B90-396A-4C92-9948-D6B37D0F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775C-22C1-4C2E-B027-2A059B8F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2C2F-30AF-43A7-A4C7-75FCD596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B731-90B3-42FD-BCD5-C2A23E67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BDE9-4D68-41AC-BE2C-30764BE8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EA76-266F-41A3-A0E3-1D3441B1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9DA8-3099-41E7-A77D-85D7A53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BE7-C73B-4EE6-9E41-DF71282C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BE07-1E82-433E-AE5B-74EF5C71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612F-DE81-4D3D-8CAB-3FA4C6BB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9A41-EFA4-4167-B7B7-0B41C391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5A02-C9BE-44B2-B1CD-EBC08A9D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ACA9-23E4-4945-845D-F8984C9F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06A-B7C6-46E1-B9B6-4D1EE6BD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3E5-2F70-46CD-9514-29A9741C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4C1-C795-4748-807B-D5D86AF7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3A9-C89C-45F8-817A-25CA2FF9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860-BF72-4E1A-9425-BEEB7704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54B-445A-48AF-A6D3-AB509762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EE2-159E-44CD-A36B-B91D2BC9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5987-C41F-4215-B037-9B9DCB58361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E8DC-3402-436E-8188-8185C29CB2B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4859280" y="189000"/>
            <a:ext cx="40672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сского язы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 клас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7" descr="Книги"/>
          <p:cNvPicPr/>
          <p:nvPr/>
        </p:nvPicPr>
        <p:blipFill>
          <a:blip r:embed="rId1"/>
          <a:stretch/>
        </p:blipFill>
        <p:spPr>
          <a:xfrm>
            <a:off x="250920" y="260280"/>
            <a:ext cx="3527280" cy="359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1239840" y="4518000"/>
            <a:ext cx="441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WordArt 14" descr=""/>
          <p:cNvPicPr/>
          <p:nvPr/>
        </p:nvPicPr>
        <p:blipFill>
          <a:blip r:embed="rId2"/>
          <a:stretch/>
        </p:blipFill>
        <p:spPr>
          <a:xfrm>
            <a:off x="1328760" y="4578480"/>
            <a:ext cx="6242040" cy="210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лан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это тако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обознач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какие вопросы отвеч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изменяется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м членом предложения чаще всего быв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332000" y="333360"/>
            <a:ext cx="655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ие части речи вы знаете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12"/>
          <p:cNvSpPr/>
          <p:nvPr/>
        </p:nvSpPr>
        <p:spPr>
          <a:xfrm>
            <a:off x="2916360" y="4724280"/>
            <a:ext cx="2089080" cy="863640"/>
          </a:xfrm>
          <a:custGeom>
            <a:avLst/>
            <a:gdLst>
              <a:gd name="textAreaLeft" fmla="*/ 279720 w 2089080"/>
              <a:gd name="textAreaRight" fmla="*/ 1809360 w 2089080"/>
              <a:gd name="textAreaTop" fmla="*/ 147960 h 863640"/>
              <a:gd name="textAreaBottom" fmla="*/ 6426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98" stAng="-5400000" swAng="-5400000"/>
                <a:lnTo>
                  <a:pt x="0" y="12366"/>
                </a:lnTo>
                <a:arcTo wR="21600" hR="7398" stAng="10800000" swAng="-2711241"/>
                <a:lnTo>
                  <a:pt x="14642" y="21206"/>
                </a:lnTo>
                <a:lnTo>
                  <a:pt x="21600" y="17280"/>
                </a:lnTo>
                <a:lnTo>
                  <a:pt x="14642" y="12566"/>
                </a:lnTo>
                <a:lnTo>
                  <a:pt x="14642" y="14402"/>
                </a:lnTo>
                <a:arcTo wR="21600" hR="7398" stAng="8088759" swAng="2293601"/>
                <a:lnTo>
                  <a:pt x="1254" y="9882"/>
                </a:lnTo>
                <a:arcTo wR="21600" hR="7398" stAng="-10382360" swAng="4982360"/>
                <a:close/>
              </a:path>
              <a:path fill="darkenLess" w="21600" h="21600">
                <a:moveTo>
                  <a:pt x="21600" y="0"/>
                </a:moveTo>
                <a:arcTo wR="21600" hR="7398" stAng="-5400000" swAng="-5400000"/>
                <a:lnTo>
                  <a:pt x="0" y="7398"/>
                </a:lnTo>
                <a:arcTo wR="21600" hR="7398" stAng="10800000" swAng="-417640"/>
                <a:lnTo>
                  <a:pt x="1254" y="9882"/>
                </a:lnTo>
                <a:arcTo wR="21600" hR="7398" stAng="-10382360" swAng="4982360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3132000" y="2781360"/>
            <a:ext cx="1943280" cy="865080"/>
          </a:xfrm>
          <a:custGeom>
            <a:avLst/>
            <a:gdLst>
              <a:gd name="textAreaLeft" fmla="*/ 260280 w 1943280"/>
              <a:gd name="textAreaRight" fmla="*/ 1683000 w 194328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Существительные  обозначают предмет,  отвеча</a:t>
            </a:r>
            <a:r>
              <a:rPr b="0" i="1" lang="ru-RU" sz="4800" spc="-1" strike="noStrike">
                <a:solidFill>
                  <a:srgbClr val="ff0000"/>
                </a:solidFill>
                <a:latin typeface="Verdana"/>
              </a:rPr>
              <a:t>ю</a:t>
            </a: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т на вопросы 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4932360" y="2133720"/>
            <a:ext cx="38149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 т о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4859280" y="4149720"/>
            <a:ext cx="3527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 т о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468360" y="393372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Arial"/>
              </a:rPr>
              <a:t>Неодушевлённые имена существительны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539640" y="2133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Arial"/>
              </a:rPr>
              <a:t>Одушевлённые имена существительны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6"/>
          <p:cNvSpPr txBox="1"/>
          <p:nvPr/>
        </p:nvSpPr>
        <p:spPr>
          <a:xfrm>
            <a:off x="1763640" y="0"/>
            <a:ext cx="54770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ена прилагательные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76120" y="1773360"/>
            <a:ext cx="885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обозначают признак предмет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И отвечают на вопросы: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179280" y="3284640"/>
            <a:ext cx="26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0" name="WordArt 9"/>
          <p:cNvSpPr txBox="1"/>
          <p:nvPr/>
        </p:nvSpPr>
        <p:spPr>
          <a:xfrm>
            <a:off x="1187280" y="3716280"/>
            <a:ext cx="302580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а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1" name="WordArt 10"/>
          <p:cNvSpPr txBox="1"/>
          <p:nvPr/>
        </p:nvSpPr>
        <p:spPr>
          <a:xfrm>
            <a:off x="2916360" y="4653000"/>
            <a:ext cx="280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2" name="WordArt 11"/>
          <p:cNvSpPr txBox="1"/>
          <p:nvPr/>
        </p:nvSpPr>
        <p:spPr>
          <a:xfrm>
            <a:off x="5292720" y="5300640"/>
            <a:ext cx="22305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и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11280" y="1268280"/>
            <a:ext cx="7272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Слова, которые обозначают действие предмето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54936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Какие слова в грамматике называю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3995640" y="1268280"/>
            <a:ext cx="34606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голом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742880" y="1268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День памяти воинам 001"/>
          <p:cNvPicPr/>
          <p:nvPr/>
        </p:nvPicPr>
        <p:blipFill>
          <a:blip r:embed="rId1"/>
          <a:stretch/>
        </p:blipFill>
        <p:spPr>
          <a:xfrm>
            <a:off x="0" y="0"/>
            <a:ext cx="504828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5435640" y="476280"/>
            <a:ext cx="3460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гол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367600" y="1773360"/>
            <a:ext cx="34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Отвечает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на вопросы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5867280" y="3500280"/>
            <a:ext cx="2276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ет?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5651640" y="4005360"/>
            <a:ext cx="261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сделает?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5867280" y="4653000"/>
            <a:ext cx="210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л?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4932360" y="5229360"/>
            <a:ext cx="358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будет делать?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6516720" y="5805360"/>
            <a:ext cx="14335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другие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Имя существительное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берите верное утвержде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б             6.Холод, землю, ветры,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а                в макушках, деревьев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а                с берёз, иней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б                под ногами, снег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5.а)Д.п          снегири, по шишкам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)Р.п          ел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)П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)Т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Имя прилагательное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бери верное утвержде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б                 6.Последние, ясная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а                    тёплым, весёлые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а                    молодая, золот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б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5.а)Д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)Т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)П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)Р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Глагол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бери верное утвержд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б                6.Шуршит, сиди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б                   ищут, лежит, щурит.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в,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в,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187280" y="2401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юди хлеб в полях лелею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ил для хлеба не жалею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шут каждую весну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дымают целину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еют, жнут, ночей не спят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 детства знай, как хлеб растя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042920" y="0"/>
            <a:ext cx="7201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пиши по памя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леб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леют-1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Жалеют-1 спр.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шут-1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дымают-1 спр.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еют-1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Жнут-1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е спят-2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тят-2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195640" y="333360"/>
            <a:ext cx="468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Пожелания от Солнышка и веселые смайлики - анимация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6868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лилась, затопила, легли,              называю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ольшая, деревья, оказалось, ел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ироко, спокойная, много, чётк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 Отражаются, вырисовываются, называются, разливае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) Песчаный, счастливый, писчая, прозрачна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826920" y="260280"/>
            <a:ext cx="756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Найдите лишнее слово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916360" y="3213000"/>
            <a:ext cx="18716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2771640" y="3789360"/>
            <a:ext cx="2376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3419640" y="4869000"/>
            <a:ext cx="2952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611280" y="5950080"/>
            <a:ext cx="2736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611280" y="2637000"/>
            <a:ext cx="23050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77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77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4"/>
          <p:cNvSpPr txBox="1"/>
          <p:nvPr/>
        </p:nvSpPr>
        <p:spPr>
          <a:xfrm>
            <a:off x="1476360" y="549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урок!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1042920" y="2349360"/>
            <a:ext cx="7345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елаю успехов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Untitled-Scanned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1187280" y="26028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трана СЛОВ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Untitled-Scanned-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5"/>
          <p:cNvSpPr txBox="1"/>
          <p:nvPr/>
        </p:nvSpPr>
        <p:spPr>
          <a:xfrm>
            <a:off x="2987640" y="5661000"/>
            <a:ext cx="600552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чь с дороги, Лень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Untitled-Scanned-04"/>
          <p:cNvPicPr/>
          <p:nvPr/>
        </p:nvPicPr>
        <p:blipFill>
          <a:blip r:embed="rId1"/>
          <a:stretch/>
        </p:blipFill>
        <p:spPr>
          <a:xfrm>
            <a:off x="0" y="1484280"/>
            <a:ext cx="4572000" cy="5373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Untitled-Scanned-03"/>
          <p:cNvPicPr/>
          <p:nvPr/>
        </p:nvPicPr>
        <p:blipFill>
          <a:blip r:embed="rId2"/>
          <a:stretch/>
        </p:blipFill>
        <p:spPr>
          <a:xfrm>
            <a:off x="4572000" y="1484280"/>
            <a:ext cx="4572000" cy="5373720"/>
          </a:xfrm>
          <a:prstGeom prst="rect">
            <a:avLst/>
          </a:prstGeom>
          <a:ln w="0">
            <a:noFill/>
          </a:ln>
        </p:spPr>
      </p:pic>
      <p:sp>
        <p:nvSpPr>
          <p:cNvPr id="178" name="WordArt 8"/>
          <p:cNvSpPr txBox="1"/>
          <p:nvPr/>
        </p:nvSpPr>
        <p:spPr>
          <a:xfrm>
            <a:off x="395280" y="189000"/>
            <a:ext cx="835344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афика               Фоне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11280" y="1268280"/>
            <a:ext cx="7777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общение знаний о частях ре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95280" y="3471840"/>
            <a:ext cx="849780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Arial"/>
              </a:rPr>
              <a:t>               </a:t>
            </a:r>
            <a:r>
              <a:rPr b="1" i="1" lang="ru-RU" sz="4800" spc="-1" strike="noStrike">
                <a:solidFill>
                  <a:srgbClr val="006699"/>
                </a:solidFill>
                <a:latin typeface="Arial"/>
              </a:rPr>
              <a:t>Цель урока: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Arial"/>
              </a:rPr>
              <a:t>Повторить и закрепить знания учащихся о  изученных частях речи (о имени существительном, имени прилагательном, глаголе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24000" y="3333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Arial"/>
              </a:rPr>
              <a:t>                </a:t>
            </a:r>
            <a:r>
              <a:rPr b="1" i="1" lang="ru-RU" sz="4800" spc="-1" strike="noStrike">
                <a:solidFill>
                  <a:srgbClr val="006699"/>
                </a:solidFill>
                <a:latin typeface="Arial"/>
              </a:rPr>
              <a:t>Тема урока: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делат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ливать, помогать, смотреть, кричать, шить, цвести, посылать, побеждать, учи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сделат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лить, помочь, посмотреть, крикнуть, отцвести, сшить, послать, победить, научить.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187280" y="333360"/>
            <a:ext cx="647712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верка домашнего зад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пражнение «Огород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Выпишите из словарика слова с непроверяемым написанием на тему «Огород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468360" y="260280"/>
            <a:ext cx="8207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но-орфограф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ревня, земледелие, земляника, капуста, картофель, лопата, малина, овёс, овощи, огород, огурец, помидор, пшеница, семена, солома, урожай, хлебороб, яблоко, яго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2050920" y="0"/>
            <a:ext cx="4897440" cy="22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род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4:26:02Z</dcterms:created>
  <dc:creator>Земцевы</dc:creator>
  <dc:description/>
  <dc:language>en-US</dc:language>
  <cp:lastModifiedBy>PC</cp:lastModifiedBy>
  <dcterms:modified xsi:type="dcterms:W3CDTF">2013-05-29T14:01:25Z</dcterms:modified>
  <cp:revision>47</cp:revision>
  <dc:subject/>
  <dc:title>Обобщающий урок </dc:title>
</cp:coreProperties>
</file>