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2D9-7B87-4928-8101-AF357EA7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E13-1791-4E42-8F1C-0E0FCD38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CA1-B85F-4071-955B-C899D481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BDA-B332-4503-9B9C-E5596855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E37-771C-425D-B1B5-1F63AA65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D6B6-2E6F-4819-8B78-AFF97E1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6B07-EC19-4D42-B256-6C36C33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68B2-EB19-4544-A982-A99195B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E09C-0AE3-4910-8CB2-D15CE3C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4F8-6A43-4245-A65A-8969DA89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EDCB-D468-4D8E-A53A-1D5C8F1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2CD-E0E8-4C76-AC52-75B4874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21A-0EA5-4E12-A680-2CC2B75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9564-AFC0-4902-9255-6771B2D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1876-7E35-4470-84DF-EF1F01E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89C0-87F4-4B66-8232-DCC29E4E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DC6-AC82-403B-99F9-D80E3B07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FA8-4C92-4D05-B4C6-42521179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8FF-7B69-4C10-A68B-E0DBA142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DD1-BE7B-401A-9134-CFCA4D41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5FB-B02D-498C-B7D1-8F562021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4D1-F1C8-4DEC-B543-E5EE97F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ACE-EC08-4FC5-ADEA-6F6225F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536-29A5-4738-8013-697EE3E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FB5-F36F-4D7C-9116-D6981E3C324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05DB-5745-41A6-8976-5F963D18A2F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4859280" y="189000"/>
            <a:ext cx="4067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ого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7" descr="Книги"/>
          <p:cNvPicPr/>
          <p:nvPr/>
        </p:nvPicPr>
        <p:blipFill>
          <a:blip r:embed="rId1"/>
          <a:stretch/>
        </p:blipFill>
        <p:spPr>
          <a:xfrm>
            <a:off x="250920" y="260280"/>
            <a:ext cx="3527280" cy="359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239840" y="4518000"/>
            <a:ext cx="441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WordArt 14" descr=""/>
          <p:cNvPicPr/>
          <p:nvPr/>
        </p:nvPicPr>
        <p:blipFill>
          <a:blip r:embed="rId2"/>
          <a:stretch/>
        </p:blipFill>
        <p:spPr>
          <a:xfrm>
            <a:off x="1328760" y="4578480"/>
            <a:ext cx="6242040" cy="210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ан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это тако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обозна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какие вопросы отве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изменяетс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м членом предложения чаще всего быв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332000" y="333360"/>
            <a:ext cx="655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 части речи вы знаете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2"/>
          <p:cNvSpPr/>
          <p:nvPr/>
        </p:nvSpPr>
        <p:spPr>
          <a:xfrm>
            <a:off x="2916360" y="4724280"/>
            <a:ext cx="2089080" cy="863640"/>
          </a:xfrm>
          <a:custGeom>
            <a:avLst/>
            <a:gdLst>
              <a:gd name="textAreaLeft" fmla="*/ 279720 w 2089080"/>
              <a:gd name="textAreaRight" fmla="*/ 1809360 w 2089080"/>
              <a:gd name="textAreaTop" fmla="*/ 147960 h 863640"/>
              <a:gd name="textAreaBottom" fmla="*/ 6426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98" stAng="-5400000" swAng="-5400000"/>
                <a:lnTo>
                  <a:pt x="0" y="12366"/>
                </a:lnTo>
                <a:arcTo wR="21600" hR="7398" stAng="10800000" swAng="-2711241"/>
                <a:lnTo>
                  <a:pt x="14642" y="21206"/>
                </a:lnTo>
                <a:lnTo>
                  <a:pt x="21600" y="17280"/>
                </a:lnTo>
                <a:lnTo>
                  <a:pt x="14642" y="12566"/>
                </a:lnTo>
                <a:lnTo>
                  <a:pt x="14642" y="14402"/>
                </a:lnTo>
                <a:arcTo wR="21600" hR="7398" stAng="8088759" swAng="2293601"/>
                <a:lnTo>
                  <a:pt x="1254" y="9882"/>
                </a:lnTo>
                <a:arcTo wR="21600" hR="7398" stAng="-10382360" swAng="4982360"/>
                <a:close/>
              </a:path>
              <a:path fill="darkenLess" w="21600" h="21600">
                <a:moveTo>
                  <a:pt x="21600" y="0"/>
                </a:moveTo>
                <a:arcTo wR="21600" hR="7398" stAng="-5400000" swAng="-5400000"/>
                <a:lnTo>
                  <a:pt x="0" y="7398"/>
                </a:lnTo>
                <a:arcTo wR="21600" hR="7398" stAng="10800000" swAng="-417640"/>
                <a:lnTo>
                  <a:pt x="1254" y="9882"/>
                </a:lnTo>
                <a:arcTo wR="21600" hR="7398" stAng="-10382360" swAng="4982360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3132000" y="2781360"/>
            <a:ext cx="1943280" cy="86508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Существительные  обозначают предмет,  отвеча</a:t>
            </a:r>
            <a:r>
              <a:rPr b="0" i="1" lang="ru-RU" sz="4800" spc="-1" strike="noStrike">
                <a:solidFill>
                  <a:srgbClr val="ff0000"/>
                </a:solidFill>
                <a:latin typeface="Verdana"/>
              </a:rPr>
              <a:t>ю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т на вопросы 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932360" y="2133720"/>
            <a:ext cx="38149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4859280" y="4149720"/>
            <a:ext cx="3527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68360" y="3933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Не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3964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6"/>
          <p:cNvSpPr txBox="1"/>
          <p:nvPr/>
        </p:nvSpPr>
        <p:spPr>
          <a:xfrm>
            <a:off x="1763640" y="0"/>
            <a:ext cx="54770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на прилагательны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76120" y="177336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бозначают признак предмет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И отвечают на вопросы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179280" y="3284640"/>
            <a:ext cx="26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1187280" y="3716280"/>
            <a:ext cx="30258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а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2916360" y="4653000"/>
            <a:ext cx="28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5292720" y="5300640"/>
            <a:ext cx="2230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11280" y="1268280"/>
            <a:ext cx="7272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лова, которые обозначают действие предмето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Какие слова в грамматике называю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3995640" y="1268280"/>
            <a:ext cx="3460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м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742880" y="1268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День памяти воинам 001"/>
          <p:cNvPicPr/>
          <p:nvPr/>
        </p:nvPicPr>
        <p:blipFill>
          <a:blip r:embed="rId1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5435640" y="476280"/>
            <a:ext cx="3460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67600" y="1773360"/>
            <a:ext cx="34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твечает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а вопросы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5867280" y="3500280"/>
            <a:ext cx="227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651640" y="400536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5867280" y="4653000"/>
            <a:ext cx="21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л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4932360" y="5229360"/>
            <a:ext cx="35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будет делать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516720" y="5805360"/>
            <a:ext cx="14335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ругие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существи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те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6.Холод, землю, ветры,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в макушках, деревьев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с берёз, ине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                под ногами, снег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          снегири, по шишкам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Р.п          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прилага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    6.Последние, ясная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    тёплым, весёлы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    молодая, золот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Р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Глагол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б                6.Шуршит, сиди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б                   ищут, лежит, щурит.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728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юди хлеб в полях ле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л для хлеба не жа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 каждую вес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 цели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, жнут, ночей не спя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детства знай, как хлеб растя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042920" y="0"/>
            <a:ext cx="7201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пиши по памя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ле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л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алеют-1 спр.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-1 спр.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н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сп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т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195640" y="333360"/>
            <a:ext cx="468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Пожелания от Солнышка и веселые смайлики - анимация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686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лилась, затопила, легли,              называю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ьшая, деревья, оказалось, ел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ироко, спокойная, много, чётк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 Отражаются, вырисовываются, называются, разливае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) Песчаный, счастливый, писчая, прозрачна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826920" y="260280"/>
            <a:ext cx="756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Найдите лишнее слово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916360" y="3213000"/>
            <a:ext cx="1871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2771640" y="3789360"/>
            <a:ext cx="237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419640" y="4869000"/>
            <a:ext cx="2952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11280" y="5950080"/>
            <a:ext cx="273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611280" y="2637000"/>
            <a:ext cx="2305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1476360" y="549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1042920" y="2349360"/>
            <a:ext cx="7345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елаю успехов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Untitled-Scanned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187280" y="260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рана СЛОВ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Untitled-Scanned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2987640" y="5661000"/>
            <a:ext cx="60055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чь с дороги, Лень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Untitled-Scanned-04"/>
          <p:cNvPicPr/>
          <p:nvPr/>
        </p:nvPicPr>
        <p:blipFill>
          <a:blip r:embed="rId1"/>
          <a:stretch/>
        </p:blipFill>
        <p:spPr>
          <a:xfrm>
            <a:off x="0" y="1484280"/>
            <a:ext cx="4572000" cy="537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Untitled-Scanned-03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5373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8"/>
          <p:cNvSpPr txBox="1"/>
          <p:nvPr/>
        </p:nvSpPr>
        <p:spPr>
          <a:xfrm>
            <a:off x="395280" y="189000"/>
            <a:ext cx="835344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афика               Фоне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1268280"/>
            <a:ext cx="77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бщение знаний о частях ре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3471840"/>
            <a:ext cx="849780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Arial"/>
              </a:rPr>
              <a:t>Повторить и закрепить знания учащихся о  изученных частях речи (о имени существительном, имени прилагательном, глаголе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4000" y="333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Тема урока: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вать, помогать, смотреть, кричать, шить, цвести, посылать, побеждать, уч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с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ть, помочь, посмотреть, крикнуть, отцвести, сшить, послать, победить, научить.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187280" y="333360"/>
            <a:ext cx="64771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ерка домашнего 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«Огород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Выпишите из словарика слова с непроверяемым написанием на тему «Огород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468360" y="260280"/>
            <a:ext cx="820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о-орфограф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ревня, земледелие, земляника, капуста, картофель, лопата, малина, овёс, овощи, огород, огурец, помидор, пшеница, семена, солома, урожай, хлебороб, яблоко, яг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2050920" y="0"/>
            <a:ext cx="489744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р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4:26:02Z</dcterms:created>
  <dc:creator>Земцевы</dc:creator>
  <dc:description/>
  <dc:language>en-US</dc:language>
  <cp:lastModifiedBy>PC</cp:lastModifiedBy>
  <dcterms:modified xsi:type="dcterms:W3CDTF">2013-05-29T14:01:25Z</dcterms:modified>
  <cp:revision>47</cp:revision>
  <dc:subject/>
  <dc:title>Обобщающий урок </dc:title>
</cp:coreProperties>
</file>