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DC7-FE76-4EB2-BC17-ACB608B7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DD0-425C-471D-8952-3C3A243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C16-CD57-44DD-9E98-15664580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41F-2791-4EC9-AE33-393AD850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499E-C804-4F6E-AD29-80B9ECC1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2353-00C6-4FFD-AD78-622E1E9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0146-26A7-4D5B-A7E9-EF1F875E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6FA-FB9E-4CC8-8269-B98133B2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70A-0B29-4F78-ACA8-BDEAEF4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CE81-332C-4149-8D89-DC734BB6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87C-AB29-4EFC-9EEE-A1F24B9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C43-894B-4028-938F-3DA17BF5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9198-53DE-4867-B482-8141A04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FC8C-3D28-4609-921C-37B0F97E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1B0-483B-440D-B406-B7154097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07C7-32D7-4038-8C73-523480E3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C930-3E82-477E-946B-791F408A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189-7C8C-4E1F-88B0-34B74164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CDF-A761-42F8-A20A-3BB1F89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A88F-E84E-4126-BA7A-9382604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F68-9DB5-4A27-9F28-02657CEA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10-4D92-4027-B4C8-ECF0731F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EFF-AB02-4DBB-8DB9-E423452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C13-6C47-4D35-A569-F3E7DE0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91B-C7BB-4E8A-B45A-061D6559A26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513-BA43-4EA2-AAB7-E4F28F818D2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4859280" y="189000"/>
            <a:ext cx="406728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ого язы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7" descr="Книги"/>
          <p:cNvPicPr/>
          <p:nvPr/>
        </p:nvPicPr>
        <p:blipFill>
          <a:blip r:embed="rId1"/>
          <a:stretch/>
        </p:blipFill>
        <p:spPr>
          <a:xfrm>
            <a:off x="250920" y="260280"/>
            <a:ext cx="3527280" cy="359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239840" y="4518000"/>
            <a:ext cx="441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WordArt 14" descr=""/>
          <p:cNvPicPr/>
          <p:nvPr/>
        </p:nvPicPr>
        <p:blipFill>
          <a:blip r:embed="rId2"/>
          <a:stretch/>
        </p:blipFill>
        <p:spPr>
          <a:xfrm>
            <a:off x="1328760" y="4578480"/>
            <a:ext cx="6242040" cy="2103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ан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это тако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обозна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какие вопросы отвеч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изменяется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м членом предложения чаще всего бывает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332000" y="333360"/>
            <a:ext cx="655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ие части речи вы знаете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2"/>
          <p:cNvSpPr/>
          <p:nvPr/>
        </p:nvSpPr>
        <p:spPr>
          <a:xfrm>
            <a:off x="2916360" y="4724280"/>
            <a:ext cx="2089080" cy="863640"/>
          </a:xfrm>
          <a:custGeom>
            <a:avLst/>
            <a:gdLst>
              <a:gd name="textAreaLeft" fmla="*/ 279720 w 2089080"/>
              <a:gd name="textAreaRight" fmla="*/ 1809360 w 2089080"/>
              <a:gd name="textAreaTop" fmla="*/ 147960 h 863640"/>
              <a:gd name="textAreaBottom" fmla="*/ 6426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98" stAng="-5400000" swAng="-5400000"/>
                <a:lnTo>
                  <a:pt x="0" y="12366"/>
                </a:lnTo>
                <a:arcTo wR="21600" hR="7398" stAng="10800000" swAng="-2711241"/>
                <a:lnTo>
                  <a:pt x="14642" y="21206"/>
                </a:lnTo>
                <a:lnTo>
                  <a:pt x="21600" y="17280"/>
                </a:lnTo>
                <a:lnTo>
                  <a:pt x="14642" y="12566"/>
                </a:lnTo>
                <a:lnTo>
                  <a:pt x="14642" y="14402"/>
                </a:lnTo>
                <a:arcTo wR="21600" hR="7398" stAng="8088759" swAng="2293601"/>
                <a:lnTo>
                  <a:pt x="1254" y="9882"/>
                </a:lnTo>
                <a:arcTo wR="21600" hR="7398" stAng="-10382360" swAng="4982360"/>
                <a:close/>
              </a:path>
              <a:path fill="darkenLess" w="21600" h="21600">
                <a:moveTo>
                  <a:pt x="21600" y="0"/>
                </a:moveTo>
                <a:arcTo wR="21600" hR="7398" stAng="-5400000" swAng="-5400000"/>
                <a:lnTo>
                  <a:pt x="0" y="7398"/>
                </a:lnTo>
                <a:arcTo wR="21600" hR="7398" stAng="10800000" swAng="-417640"/>
                <a:lnTo>
                  <a:pt x="1254" y="9882"/>
                </a:lnTo>
                <a:arcTo wR="21600" hR="7398" stAng="-10382360" swAng="4982360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3132000" y="2781360"/>
            <a:ext cx="1943280" cy="865080"/>
          </a:xfrm>
          <a:custGeom>
            <a:avLst/>
            <a:gdLst>
              <a:gd name="textAreaLeft" fmla="*/ 260280 w 1943280"/>
              <a:gd name="textAreaRight" fmla="*/ 1683000 w 19432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Существительные  обозначают предмет,  отвеча</a:t>
            </a:r>
            <a:r>
              <a:rPr b="0" i="1" lang="ru-RU" sz="4800" spc="-1" strike="noStrike">
                <a:solidFill>
                  <a:srgbClr val="ff0000"/>
                </a:solidFill>
                <a:latin typeface="Verdana"/>
              </a:rPr>
              <a:t>ю</a:t>
            </a:r>
            <a:r>
              <a:rPr b="1" i="1" lang="ru-RU" sz="4800" spc="-1" strike="noStrike">
                <a:solidFill>
                  <a:srgbClr val="ff0000"/>
                </a:solidFill>
                <a:latin typeface="Verdana"/>
              </a:rPr>
              <a:t>т на вопросы :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932360" y="2133720"/>
            <a:ext cx="38149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4859280" y="4149720"/>
            <a:ext cx="3527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 т о 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468360" y="393372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Не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3964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66ff"/>
                </a:solidFill>
                <a:latin typeface="Arial"/>
              </a:rPr>
              <a:t>Одушевлённые имена существительны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6"/>
          <p:cNvSpPr txBox="1"/>
          <p:nvPr/>
        </p:nvSpPr>
        <p:spPr>
          <a:xfrm>
            <a:off x="1763640" y="0"/>
            <a:ext cx="54770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мена прилагательны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76120" y="177336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бозначают признак предмет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И отвечают на вопросы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WordArt 8"/>
          <p:cNvSpPr txBox="1"/>
          <p:nvPr/>
        </p:nvSpPr>
        <p:spPr>
          <a:xfrm>
            <a:off x="179280" y="3284640"/>
            <a:ext cx="266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1187280" y="3716280"/>
            <a:ext cx="30258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а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2916360" y="4653000"/>
            <a:ext cx="28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9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5292720" y="5300640"/>
            <a:ext cx="2230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и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11280" y="1268280"/>
            <a:ext cx="7272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лова, которые обозначают действие предмето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Arial"/>
              </a:rPr>
              <a:t>Какие слова в грамматике называю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WordArt 4"/>
          <p:cNvSpPr txBox="1"/>
          <p:nvPr/>
        </p:nvSpPr>
        <p:spPr>
          <a:xfrm>
            <a:off x="3995640" y="1268280"/>
            <a:ext cx="34606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ом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7742880" y="1268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День памяти воинам 001"/>
          <p:cNvPicPr/>
          <p:nvPr/>
        </p:nvPicPr>
        <p:blipFill>
          <a:blip r:embed="rId1"/>
          <a:stretch/>
        </p:blipFill>
        <p:spPr>
          <a:xfrm>
            <a:off x="0" y="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5435640" y="476280"/>
            <a:ext cx="34606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лагол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5367600" y="1773360"/>
            <a:ext cx="34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Отвечает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на вопросы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5867280" y="3500280"/>
            <a:ext cx="2276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WordArt 6"/>
          <p:cNvSpPr txBox="1"/>
          <p:nvPr/>
        </p:nvSpPr>
        <p:spPr>
          <a:xfrm>
            <a:off x="5651640" y="400536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сделает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5867280" y="4653000"/>
            <a:ext cx="21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делал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4932360" y="5229360"/>
            <a:ext cx="3581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будет делать?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6516720" y="5805360"/>
            <a:ext cx="14335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другие..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существи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те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6.Холод, землю, ветры,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в макушках, деревьев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с берёз, ине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                под ногами, снег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          снегири, по шишкам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Р.п          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Имя прилагательно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б                 6.Последние, ясная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а                    тёплым, весёлые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а                    молодая, золот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б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5.а)Д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)Т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)П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)Р.п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«Глагол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бери верное утвержд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б                6.Шуршит, сиди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б                   ищут, лежит, щурит.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в,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728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юди хлеб в полях ле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л для хлеба не жалеют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 каждую вес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 целину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, жнут, ночей не спят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 детства знай, как хлеб растя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042920" y="0"/>
            <a:ext cx="7201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пиши по памя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Хле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л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алеют-1 спр.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ш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дымают-1 спр.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ею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нут-1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сп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тят-2 спр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2195640" y="333360"/>
            <a:ext cx="468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оверк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Пожелания от Солнышка и веселые смайлики - анимация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686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лилась, затопила, легли,              называю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ьшая, деревья, оказалось, ел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ироко, спокойная, много, чётк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 Отражаются, вырисовываются, называются, разливае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) Песчаный, счастливый, писчая, прозрачна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826920" y="260280"/>
            <a:ext cx="756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Найдите лишнее слово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916360" y="3213000"/>
            <a:ext cx="187164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2771640" y="3789360"/>
            <a:ext cx="237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419640" y="4869000"/>
            <a:ext cx="2952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11280" y="5950080"/>
            <a:ext cx="2736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611280" y="2637000"/>
            <a:ext cx="2305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4"/>
          <p:cNvSpPr txBox="1"/>
          <p:nvPr/>
        </p:nvSpPr>
        <p:spPr>
          <a:xfrm>
            <a:off x="1476360" y="549360"/>
            <a:ext cx="6408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1042920" y="2349360"/>
            <a:ext cx="7345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елаю успехов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Untitled-Scanned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187280" y="260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рана СЛОВ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Untitled-Scanned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5"/>
          <p:cNvSpPr txBox="1"/>
          <p:nvPr/>
        </p:nvSpPr>
        <p:spPr>
          <a:xfrm>
            <a:off x="2987640" y="5661000"/>
            <a:ext cx="60055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чь с дороги, Лень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Untitled-Scanned-04"/>
          <p:cNvPicPr/>
          <p:nvPr/>
        </p:nvPicPr>
        <p:blipFill>
          <a:blip r:embed="rId1"/>
          <a:stretch/>
        </p:blipFill>
        <p:spPr>
          <a:xfrm>
            <a:off x="0" y="1484280"/>
            <a:ext cx="4572000" cy="537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Untitled-Scanned-03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5373720"/>
          </a:xfrm>
          <a:prstGeom prst="rect">
            <a:avLst/>
          </a:prstGeom>
          <a:ln w="0">
            <a:noFill/>
          </a:ln>
        </p:spPr>
      </p:pic>
      <p:sp>
        <p:nvSpPr>
          <p:cNvPr id="178" name="WordArt 8"/>
          <p:cNvSpPr txBox="1"/>
          <p:nvPr/>
        </p:nvSpPr>
        <p:spPr>
          <a:xfrm>
            <a:off x="395280" y="189000"/>
            <a:ext cx="835344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афика               Фоне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1268280"/>
            <a:ext cx="77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общение знаний о частях реч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95280" y="3471840"/>
            <a:ext cx="8497800" cy="27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Цель урока: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Arial"/>
              </a:rPr>
              <a:t>Повторить и закрепить знания учащихся о  изученных частях речи (о имени существительном, имени прилагательном, глаголе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4000" y="333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006699"/>
                </a:solidFill>
                <a:latin typeface="Arial"/>
              </a:rPr>
              <a:t>Тема урока: 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вать, помогать, смотреть, кричать, шить, цвести, посылать, побеждать, учи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то сделат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лить, помочь, посмотреть, крикнуть, отцвести, сшить, послать, победить, научить.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1187280" y="333360"/>
            <a:ext cx="647712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оверка домашнего зад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пражнение «Огород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Выпишите из словарика слова с непроверяемым написанием на тему «Огород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468360" y="260280"/>
            <a:ext cx="8207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но-орфограф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ревня, земледелие, земляника, капуста, картофель, лопата, малина, овёс, овощи, огород, огурец, помидор, пшеница, семена, солома, урожай, хлебороб, яблоко, яго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2050920" y="0"/>
            <a:ext cx="4897440" cy="22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р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4:26:02Z</dcterms:created>
  <dc:creator>Земцевы</dc:creator>
  <dc:description/>
  <dc:language>en-US</dc:language>
  <cp:lastModifiedBy>PC</cp:lastModifiedBy>
  <dcterms:modified xsi:type="dcterms:W3CDTF">2013-05-29T14:01:25Z</dcterms:modified>
  <cp:revision>47</cp:revision>
  <dc:subject/>
  <dc:title>Обобщающий урок </dc:title>
</cp:coreProperties>
</file>