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48D5-FE1D-4471-BC52-39DA3FEF0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36E-77AD-4FCB-A251-FA2F51DC0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ABE-C6EA-4D45-A3F5-DD96089C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27D-8212-41D9-9E9F-1032971D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7B3-CDC0-44EB-99F5-2F6E8D4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CEC-DA0D-47FF-BFBD-88AC46B9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684-AF62-4FD7-8CAC-1B5722B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C5B-B339-4BD0-A40F-152D8102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B6E-C542-4A87-B592-445BB431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719-B669-41DD-820D-AF784C9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094-1D34-4649-B4E0-5DDF51A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80A-FD00-4BF0-9110-D54CAEE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AC6-D673-4D27-BF7C-106E726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FCA-8619-4F88-857A-A47FE923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AB1-30A6-4F8F-B28A-2580BE4EE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21.10.Урок краеведения. 2Б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ТЕМА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Ученье – свет, а неученье – тьм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: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мочь детям уяснить, зачем нужно учиться, какую роль играет образование в жизни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39640" y="492912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 «Мысовская СОШ №5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ыл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-360"/>
            <a:ext cx="8472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тр на верфях работает плотником, сидит, согнувшись в тесной каморке над залом английского парламента – слушает речи ораторов; спускается в шахты. Он учится каждый день своей жизни, но учится для того, чтобы приобретенные знания тут же претворить в указ, распоряжение, в дело. Он не стеснялся мелочей, так как он не стеснялся учиться, не стыдился учиться. Учиться – значит покорить в себе гордыню, признаться в невежестве. Этот необузданный, своенравный человек, царь, император, владелец огромных территорий и хозяин миллионов людей, не останавливался ни перед чем и никого не боявшийся, этот человек лишь в одном не знал гордости – в учении, лишь перед одним послушно склонял голову – перед зн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215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4000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атья его учились успешно, но Варфоломей отставал в учении, хотя учитель и помногу занимался с ним. Родители бранили ребенка, учитель наказывал, а товарищи насмехались над его несмысленностью. Тогда Варфоломей со слезами взмолился к Господу о даровании ему книжного разум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жды отец послал Варфоломея за лошадьми в поле. По дороге он встретил посланного Богом Ангела в иноческом образе: стоял старец под дубом среди поля и совершал моли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571320"/>
            <a:ext cx="25718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арфоломей ответил: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"Всей душой я желаю научиться грамоте, Отче святой, помолись за меня Богу, чтобы Он помо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не познать грамоту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786040" y="0"/>
            <a:ext cx="6357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еди диких звер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лагословение Дмитрия Донск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000160" y="785880"/>
            <a:ext cx="4768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случится, если люди разучатся что-то создавать, производить, чинить, готовить и т.д.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оздал все, что нас окружает - дома, машины, предметы быта, одеж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ыращивает хлеб, овощи, готовит вкусную е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смотрим м/филь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500" spc="-1" strike="noStrike">
                <a:solidFill>
                  <a:srgbClr val="17375e"/>
                </a:solidFill>
                <a:latin typeface="Calibri"/>
              </a:rPr>
              <a:t>«История с единицей».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жде чем что-то создать, должен получить необходимое количество знаний, овладеть определенными умениями, приобрести навыки в работе. Для этого нужно учиться, ведь любая профессия требует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чтобы получить эти знания, вы переходите в школу, где учитесь читать, писать, считать, узнаете законы окружающего мира, живой и неживой природы, т.е. получаете образование. После окончания школы человек выбирает специальность. Как правило, он хочет заниматься делом, которое ему по душе. Каждая профессия в почете, потому что она нужна. Нужны и врачи, и учителя, и строители, и повара, и инженеры, и библиотекари, и музыканты, и многие другие специалис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ез знаний, старания в учении их мечты никогда не претворятся в жиз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Загадки о школьных предметах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 Нужная наука, для ума гимнасти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ас научит думать….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2.  Грамотным будет любой учен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он знает …(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3.  Хочешь ездить по разным стран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ужно знать язык …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.  Книжки полюбим, повысим культу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Мы на уроках …(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5.  Укрепит мускулатуру всем детиш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…………………………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. Чтоб найти таланты у детей вок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м нужны уроки …(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7.  Картины, краски, высокие чувст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му учит … (       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8.  Мастерить, работать с увлечение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ля этого нужно … (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9. Далекое прошлое, древние территории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 изучает наука … (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0.Знать и любить природу научит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древние времена знания передавались из поколения в поколения через устную речь. Они сохранились в старинных преданиях, пословицах и поговорках. Рисунки древних людей на стенах пещер – это тоже способ передачи знаний. Значительно позже люди научились делать записи на папирусе, глиняных табличках. С появлением письменности возникают первые библиотеки – хранилища знаний. Прошло очень  много лет, прежде чем человек изобрел печатный станок, ведь книги до него были рукописными. В наше время знания научились хранить в памяти машины – компьютера. Появился Интернет как средство получения и передачи информации, т.е. тех же зна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Вспомним поговорки и пословицы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Век живи – век учись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Грамоте учиться – всегда пригодится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Ученье – свет, неученье – тьма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Терпенье и труд- все перетрут»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Если б не было шк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йте песн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1859c"/>
                </a:solidFill>
                <a:uFillTx/>
                <a:latin typeface="Calibri"/>
              </a:rPr>
              <a:t>Если ли в этой шутке доля прав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б не было шко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чего человек бы дошё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чего человек бы дошё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Петра Велик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3828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Ни в ком практическая потребность в знаниях и природная любознательность не проявились с такой бурной силой, как в Петр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41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05:19Z</dcterms:created>
  <dc:creator>Дмитрий Каленюк</dc:creator>
  <dc:description/>
  <dc:language>en-US</dc:language>
  <cp:lastModifiedBy>Дмитрий Каленюк</cp:lastModifiedBy>
  <dcterms:modified xsi:type="dcterms:W3CDTF">2011-10-20T13:35:50Z</dcterms:modified>
  <cp:revision>10</cp:revision>
  <dc:subject/>
  <dc:title>Урок краеведения.  ТЕМА:«Ученье – свет, а неученье – тьма». </dc:title>
</cp:coreProperties>
</file>