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4452-2A84-4965-81EE-0FA7079E08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FDC-D8FA-4262-A593-52DEDAB7C4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A4F-45C9-4100-83F5-B60428C9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806-0309-4C79-A02F-F959E66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05C-1D99-4E9B-82E6-4E28041F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E43-28F2-4F22-829C-63CE097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B01-4FC1-43AC-BB2C-522C96B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007-47C5-4AD9-A85B-048B05ED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8B5-E501-44D3-B11D-995C9AB6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182-0EF1-42FC-8560-FAF44789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8B4E-2550-4E2E-9A96-827D67B4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B0F-3D1B-45BC-8583-24E009B0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127F-E9CD-4B30-A849-8B6F70FF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7898-B940-4E56-AFEE-139D759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0C4-E675-4419-A5A2-80F8811C6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21.10.Урок краеведения. 2Б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ТЕМА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«Ученье – свет, а неученье – тьма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072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: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мочь детям уяснить, зачем нужно учиться, какую роль играет образование в жизни люд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39640" y="4929120"/>
            <a:ext cx="36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 «Мысовская СОШ №5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ыло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-360"/>
            <a:ext cx="8472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етр на верфях работает плотником, сидит, согнувшись в тесной каморке над залом английского парламента – слушает речи ораторов; спускается в шахты. Он учится каждый день своей жизни, но учится для того, чтобы приобретенные знания тут же претворить в указ, распоряжение, в дело. Он не стеснялся мелочей, так как он не стеснялся учиться, не стыдился учиться. Учиться – значит покорить в себе гордыню, признаться в невежестве. Этот необузданный, своенравный человек, царь, император, владелец огромных территорий и хозяин миллионов людей, не останавливался ни перед чем и никого не боявшийся, этот человек лишь в одном не знал гордости – в учении, лишь перед одним послушно склонял голову – перед зна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1720" y="857160"/>
            <a:ext cx="7215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4000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рп. св. Сергий Радонежски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Братья его учились успешно, но Варфоломей отставал в учении, хотя учитель и помногу занимался с ним. Родители бранили ребенка, учитель наказывал, а товарищи насмехались над его несмысленностью. Тогда Варфоломей со слезами взмолился к Господу о даровании ему книжного разум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жды отец послал Варфоломея за лошадьми в поле. По дороге он встретил посланного Богом Ангела в иноческом образе: стоял старец под дубом среди поля и совершал моли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2920" y="571320"/>
            <a:ext cx="25718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арфоломей ответил: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"Всей душой я желаю научиться грамоте, Отче святой, помолись за меня Богу, чтобы Он помо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не познать грамоту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786040" y="0"/>
            <a:ext cx="6357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еди диких звере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лагословение Дмитрия Донског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000160" y="785880"/>
            <a:ext cx="4768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сужд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случится, если люди разучатся что-то создавать, производить, чинить, готовить и т.д.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оздал все, что нас окружает - дома, машины, предметы быта, одеж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ыращивает хлеб, овощи, готовит вкусную е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смотрим м/филь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500" spc="-1" strike="noStrike">
                <a:solidFill>
                  <a:srgbClr val="17375e"/>
                </a:solidFill>
                <a:latin typeface="Calibri"/>
              </a:rPr>
              <a:t>«История с единицей».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жде чем что-то создать, должен получить необходимое количество знаний, овладеть определенными умениями, приобрести навыки в работе. Для этого нужно учиться, ведь любая профессия требует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 чтобы получить эти знания, вы переходите в школу, где учитесь читать, писать, считать, узнаете законы окружающего мира, живой и неживой природы, т.е. получаете образование. После окончания школы человек выбирает специальность. Как правило, он хочет заниматься делом, которое ему по душе. Каждая профессия в почете, потому что она нужна. Нужны и врачи, и учителя, и строители, и повара, и инженеры, и библиотекари, и музыканты, и многие другие специалис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Без знаний, старания в учении их мечты никогда не претворятся в жиз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Загадки о школьных предметах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 Нужная наука, для ума гимнасти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ас научит думать….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2.  Грамотным будет любой учен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он знает …(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3.  Хочешь ездить по разным страна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Нужно знать язык …(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.  Книжки полюбим, повысим культу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Мы на уроках …(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5.  Укрепит мускулатуру всем детишк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…………………………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. Чтоб найти таланты у детей вок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м нужны уроки …(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7.  Картины, краски, высокие чувств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му учит … (          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8.  Мастерить, работать с увлечением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ля этого нужно … (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9. Далекое прошлое, древние территории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Это изучает наука … (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0.Знать и любить природу научит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      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(                                   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древние времена знания передавались из поколения в поколения через устную речь. Они сохранились в старинных преданиях, пословицах и поговорках. Рисунки древних людей на стенах пещер – это тоже способ передачи знаний. Значительно позже люди научились делать записи на папирусе, глиняных табличках. С появлением письменности возникают первые библиотеки – хранилища знаний. Прошло очень  много лет, прежде чем человек изобрел печатный станок, ведь книги до него были рукописными. В наше время знания научились хранить в памяти машины – компьютера. Появился Интернет как средство получения и передачи информации, т.е. тех же зна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Вспомним поговорки и пословицы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Век живи – век учись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Грамоте учиться – всегда пригодится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Ученье – свет, неученье – тьма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«Терпенье и труд- все перетрут»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«Если б не было школ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ушайте песн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1859c"/>
                </a:solidFill>
                <a:uFillTx/>
                <a:latin typeface="Calibri"/>
              </a:rPr>
              <a:t>Если ли в этой шутке доля прав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Если б не было шко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чего человек бы дошё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того б человек докатил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В дикаря бы опять превратил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До чего человек бы дошё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- Ел руками бы мясо сыр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И на первое, и на второ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Петра Велик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4280"/>
            <a:ext cx="3828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1859c"/>
                </a:solidFill>
                <a:latin typeface="Calibri"/>
              </a:rPr>
              <a:t>Ни в ком практическая потребность в знаниях и природная любознательность не проявились с такой бурной силой, как в Петре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286160" y="1214280"/>
            <a:ext cx="41436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05:19Z</dcterms:created>
  <dc:creator>Дмитрий Каленюк</dc:creator>
  <dc:description/>
  <dc:language>en-US</dc:language>
  <cp:lastModifiedBy>Дмитрий Каленюк</cp:lastModifiedBy>
  <dcterms:modified xsi:type="dcterms:W3CDTF">2011-10-20T13:35:50Z</dcterms:modified>
  <cp:revision>10</cp:revision>
  <dc:subject/>
  <dc:title>Урок краеведения.  ТЕМА:«Ученье – свет, а неученье – тьма». </dc:title>
</cp:coreProperties>
</file>