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EE8-DB22-495B-A94D-BA127779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4D7-AEBD-42AB-8C56-1D5E83DA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0EB-B129-4BC6-B45E-CFF35946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5FC-A717-4B23-80EA-3B14B752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9F9D-D819-4142-A9A0-E95E9BBA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EE5E-8EA1-4CAA-97E1-3BAF3A18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4C4A-9FFA-4CCF-AB89-485D2D99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DAB1-8C24-4A48-8C5E-BCBF845C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5E45-5808-4B3E-8758-7796CD7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B3C5-8460-43AF-AA59-1EB831FC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F89B-4E46-4005-812C-C9C525D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26B-6C4F-4D36-A699-90A2B2D9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160-998C-4717-A843-4E9DED0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A540-A50A-49A3-93B8-874F0A20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421-6A40-41D7-B09F-E62D990F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6596-69BE-4ABF-ADF6-B21B2283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0B1F-79D4-48A2-B02E-D80A782C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DCF-098A-4B97-891E-14432B2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B61-DE9C-4191-9608-92C49169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003-2BE5-43E4-846E-D604C8E9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1A7-E0CD-4CD6-98F2-64E029A5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8B8-85D6-4905-8E78-A0A95E6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14B-3B41-43CB-88E0-479A2DA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C02-1CE1-4DA4-95F5-5168D61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340-2596-4728-B2BC-B901B00E5A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8D4F-6731-4198-9647-67BB8688D5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Построение занятия на основе целеполаг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технологический аспе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творче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типовая ситуация) – частично-поиск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исследователь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ысокий уровень (степень) ученической самостоятельности, на обоих высоких уровнях полученные учениками знания отслеживаются по степени самостоятельности действий, свободе перехода от более простого к сложному 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2 этап –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конкретных действий на каждом из трёх уровней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ознают, различают, воспроизводят с внешней опоро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, описывают – конкретизированные действ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 причинно-следственные связи, анализируют, синтезируют, обобщают, выявляют ошибки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3 этап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чащиеся опознают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:       </a:t>
            </a:r>
            <a:r>
              <a:rPr b="1" lang="ru-RU" sz="4300" spc="-1" strike="noStrike">
                <a:solidFill>
                  <a:srgbClr val="990000"/>
                </a:solidFill>
                <a:latin typeface="Arial"/>
              </a:rPr>
              <a:t>Создать условия д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распознавания, анализа, выявления причинно-следственных связей, выражения собственного отношения к 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Ре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общи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всего класс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вспомога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с пониженным содержанием учебных возможностей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дополни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учащихся с высоким уровнем содержания учебных возможностей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Перспе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темы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чебного раздел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 определённого этапа выполнения государственного стандар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Констру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ели выступают в качестве системообразующего фактора, определяющего уровень методов и средств обучения, выбора организационных форм, методов контроля знаний (</a:t>
            </a: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только тест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оговоримся о понятия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 предвосхищаемого/ожидаемого результата, который может быть получен в определённых условиях за единицу времен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оминальный (означенный) результат обучен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формулируется в терминах государственного стандарта общего образования: обучающиеся </a:t>
            </a: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должн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знать, делать, понимать, применять; но этот результат может быть для ученика личностно отчуждённым, не значимы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Ценностный результат обучени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представленный в виде ценностного отношения обучающегося к номинально сформулированному результату обучения («личностная значимость для ученика»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Смысловая составляюща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результата, определяющая значимость деятельности, которую необходимо выполнить обучающемуся для того, чтобы достичь результата, личностно значимого для обучающегося и являющегося ценностью для него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омпетенции (интегрирующи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знания, способ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ценностно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к ним,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смысл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деятельности обучающегося по достижению результатов 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ffffff"/>
                </a:solidFill>
                <a:latin typeface="Arial"/>
              </a:rPr>
              <a:t>Ситуации-коллизи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пробуждающие и закрепляющие ценностное отношение обучающегося («значимость для меня») к знаниям и способам деятельности;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Способы со-взаимодействия педагогов и обучающихся в форме «решения задач на смысл»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решаемых по схеме рефлексии действий в поле сил и актуализирующих смысл деятельности, которую нужно совершить, чтобы достичь результата, являющегося ценностью для обучающегося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 этап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явление возможного уровня усвоения учебного материала (качественная окраска знаний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узнавание) – учебное задание – цель, решаемая определёнными действиями в определён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лгоритмическ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осознанное запоминание и применение основных алгоритмов) – цель ситуация (действие исключен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5:40:15Z</dcterms:created>
  <dc:creator>User</dc:creator>
  <dc:description/>
  <dc:language>en-US</dc:language>
  <cp:lastModifiedBy>Admin</cp:lastModifiedBy>
  <dcterms:modified xsi:type="dcterms:W3CDTF">2008-10-22T02:53:48Z</dcterms:modified>
  <cp:revision>11</cp:revision>
  <dc:subject/>
  <dc:title>Критерии цели</dc:title>
</cp:coreProperties>
</file>