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937-7B4B-4A4F-B696-DA88FC08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C67-DD1E-4086-B3F2-6B5F669B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7FC-93C6-4EAE-9CB0-8E50D0C7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AE0-E317-4E36-9B2D-B877C27D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1FCD-21B2-46AA-B4B2-0D4553C5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562A-735A-48EE-888F-0854B088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83EF-4441-45B0-B8E0-F4FBDD83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48DA-0363-45FD-A9D1-B9F57525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A897-8B0D-4614-B874-4B27A443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CFF2-53FB-4E93-868B-FB7CFD04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AF21-658D-488D-8A83-6A147A5A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1A94-16A1-454A-A563-2619D565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7E16-61D9-49C3-827F-E548BC5A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3CC3-B4EE-4E95-86A3-0C7B31A7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A97B-4CAE-403D-BBD4-D9C1EE99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EF86-4520-43C4-8D47-5C169283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B5BE-EFF0-4370-BB3E-571A52AF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556-C905-4028-B968-E0976FFF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06F-E8FE-4233-AF8B-18DC5A08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ED3-4802-485C-A77A-1C389905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C47-7EA6-442C-9226-2EF40341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D22-8CFD-4BEC-9A0C-2E77BFEA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561-001C-4C39-B998-1EA605F9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F71-4E5C-4FF1-8FB4-A5430397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4BF4-8931-4C53-B2BC-64DE56E65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2E68-44FF-43F1-B5F5-2FEC357978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Построение занятия на основе целеполагания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технологический аспек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 урове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300" spc="-1" strike="noStrike">
                <a:solidFill>
                  <a:srgbClr val="990000"/>
                </a:solidFill>
                <a:latin typeface="Arial"/>
              </a:rPr>
              <a:t>творческ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етиповая ситуация) – частично-поисков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 урове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300" spc="-1" strike="noStrike">
                <a:solidFill>
                  <a:srgbClr val="990000"/>
                </a:solidFill>
                <a:latin typeface="Arial"/>
              </a:rPr>
              <a:t>исследовательск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высокий уровень (степень) ученической самостоятельности, на обоих высоких уровнях полученные учениками знания отслеживаются по степени самостоятельности действий, свободе перехода от более простого к сложному 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2 этап –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конкретных действий на каждом из трёх уровней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1 уровень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– опознают, различают, воспроизводят с внешней опорой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2 уровень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– определяют, описывают – конкретизированные действия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3 уровень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– определяют причинно-следственные связи, анализируют, синтезируют, обобщают, выявляют ошибки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100" spc="-1" strike="noStrike" u="sng">
                <a:solidFill>
                  <a:srgbClr val="ffffff"/>
                </a:solidFill>
                <a:uFillTx/>
                <a:latin typeface="Arial"/>
              </a:rPr>
              <a:t>3 этап</a:t>
            </a: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учащиеся опознают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Приме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:       </a:t>
            </a:r>
            <a:r>
              <a:rPr b="1" lang="ru-RU" sz="4300" spc="-1" strike="noStrike">
                <a:solidFill>
                  <a:srgbClr val="990000"/>
                </a:solidFill>
                <a:latin typeface="Arial"/>
              </a:rPr>
              <a:t>Создать условия для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распознавания, анализа, выявления причинно-следственных связей, выражения собственного отношения к 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Ре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1 уровен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общи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цели для всего класс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2 уровен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вспомогательны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цели с пониженным содержанием учебных возможностей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3 уровен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100" spc="-1" strike="noStrike">
                <a:solidFill>
                  <a:srgbClr val="990000"/>
                </a:solidFill>
                <a:latin typeface="Arial"/>
              </a:rPr>
              <a:t>дополнительны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цели для учащихся с высоким уровнем содержания учебных возможностей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Перспектив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урок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темы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учебного раздел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и  определённого этапа выполнения государственного стандарт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Конструктив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ели выступают в качестве системообразующего фактора, определяющего уровень методов и средств обучения, выбора организационных форм, методов контроля знаний (</a:t>
            </a:r>
            <a:r>
              <a:rPr b="0" lang="ru-RU" sz="3100" spc="-1" strike="noStrike">
                <a:solidFill>
                  <a:srgbClr val="990000"/>
                </a:solidFill>
                <a:latin typeface="Arial"/>
              </a:rPr>
              <a:t>только тест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оговоримся о понятия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образ предвосхищаемого/ожидаемого результата, который может быть получен в определённых условиях за единицу времен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ри составные части ц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оминальный (означенный) результат обучения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(формулируется в терминах государственного стандарта общего образования: обучающиеся </a:t>
            </a: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должн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знать, делать, понимать, применять; но этот результат может быть для ученика личностно отчуждённым, не значимым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ри составные части ц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Ценностный результат обучения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представленный в виде ценностного отношения обучающегося к номинально сформулированному результату обучения («личностная значимость для ученика»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Три составные части цел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Arial"/>
              </a:rPr>
              <a:t>Смысловая составляющая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результата, определяющая значимость деятельности, которую необходимо выполнить обучающемуся для того, чтобы достичь результата, личностно значимого для обучающегося и являющегося ценностью для него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идактические единицы содержания образ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Компетенции (интегрирующие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знания, способы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, ценностное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к ним,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смыслы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деятельности обучающегося по достижению результатов образов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идактические единицы содержания образ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>
                <a:solidFill>
                  <a:srgbClr val="ffffff"/>
                </a:solidFill>
                <a:latin typeface="Arial"/>
              </a:rPr>
              <a:t>Ситуации-коллизии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, пробуждающие и закрепляющие ценностное отношение обучающегося («значимость для меня») к знаниям и способам деятельности;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идактические единицы содержания образ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Arial"/>
              </a:rPr>
              <a:t>Способы со-взаимодействия педагогов и обучающихся в форме «решения задач на смысл»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(решаемых по схеме рефлексии действий в поле сил и актуализирующих смысл деятельности, которую нужно совершить, чтобы достичь результата, являющегося ценностью для обучающегося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Диагностичност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1 этап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явление возможного уровня усвоения учебного материала (качественная окраска знаний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уровен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наком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узнавание) – учебное задание – цель, решаемая определёнными действиями в определённой ситу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 уровен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лгоритмическ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осознанное запоминание и применение основных алгоритмов) – цель ситуация (действие исключено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5:40:15Z</dcterms:created>
  <dc:creator>User</dc:creator>
  <dc:description/>
  <dc:language>en-US</dc:language>
  <cp:lastModifiedBy>Admin</cp:lastModifiedBy>
  <dcterms:modified xsi:type="dcterms:W3CDTF">2008-10-22T02:53:48Z</dcterms:modified>
  <cp:revision>11</cp:revision>
  <dc:subject/>
  <dc:title>Критерии цели</dc:title>
</cp:coreProperties>
</file>