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3EE-304A-4585-982B-B94FA071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608-7EAF-44FA-8598-BBEACB8E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B726-8D4C-48BA-90DB-BC6BA78B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5FB-F19F-4485-A1AD-128F3520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77A7-939E-48DB-AEFB-A96744C8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8533-A047-4A75-9584-C2803AC2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F404-0CCF-4F4E-ABB7-087D80B9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4248-7B14-429C-8A5F-27901211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3DAE-580C-4AB0-8B80-E8AE1C96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4BAC-2B98-499D-9DA6-5A8EF186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11AF-EEF2-4AEB-BB88-C6CB0CA3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049-A7AA-4C1A-86A7-B9AD6E5B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F4FD-77D1-4047-9D85-E8708724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B89C-6BBA-4916-8986-89B6CF17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FB85-FE59-4F98-9297-3000F5F1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A0F5-A4EA-478C-9321-530EB7E0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9626-66C7-4FB7-BCCC-39A43085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963-EDC6-4156-868A-513CCD9C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E75-3BA6-483B-87F5-301930CB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E59-3F96-4E07-8F8B-ECC7DED8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F06-DCE3-43DC-9638-F958C34D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C47-99A3-4BD8-929C-743E1542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7D4-9479-44A0-A304-75584D21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7B6-AD2D-4AC0-8329-156028A8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E1FB-EA96-47BC-A96A-5CEB9E97E7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859B-6196-47F3-A372-1163D19A69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Построение занятия на основе целеполагания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технологический аспе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Диагностич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 уровен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300" spc="-1" strike="noStrike">
                <a:solidFill>
                  <a:srgbClr val="990000"/>
                </a:solidFill>
                <a:latin typeface="Arial"/>
              </a:rPr>
              <a:t>творчески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нетиповая ситуация) – частично-поисков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 уровен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300" spc="-1" strike="noStrike">
                <a:solidFill>
                  <a:srgbClr val="990000"/>
                </a:solidFill>
                <a:latin typeface="Arial"/>
              </a:rPr>
              <a:t>исследовательски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высокий уровень (степень) ученической самостоятельности, на обоих высоких уровнях полученные учениками знания отслеживаются по степени самостоятельности действий, свободе перехода от более простого к сложному 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Диагностич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2 этап –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конкретных действий на каждом из трёх уровней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1 уровень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– опознают, различают, воспроизводят с внешней опорой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2 уровень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– определяют, описывают – конкретизированные действия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3 уровень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– определяют причинно-следственные связи, анализируют, синтезируют, обобщают, выявляют ошибки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Диагностич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100" spc="-1" strike="noStrike" u="sng">
                <a:solidFill>
                  <a:srgbClr val="ffffff"/>
                </a:solidFill>
                <a:uFillTx/>
                <a:latin typeface="Arial"/>
              </a:rPr>
              <a:t>3 этап</a:t>
            </a:r>
            <a:r>
              <a:rPr b="1" i="1" lang="ru-RU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учащиеся опознают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100" spc="-1" strike="noStrike">
                <a:solidFill>
                  <a:srgbClr val="ffffff"/>
                </a:solidFill>
                <a:latin typeface="Arial"/>
              </a:rPr>
              <a:t>Пример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:       </a:t>
            </a:r>
            <a:r>
              <a:rPr b="1" lang="ru-RU" sz="4300" spc="-1" strike="noStrike">
                <a:solidFill>
                  <a:srgbClr val="990000"/>
                </a:solidFill>
                <a:latin typeface="Arial"/>
              </a:rPr>
              <a:t>Создать условия для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распознавания, анализа, выявления причинно-следственных связей, выражения собственного отношения к 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Ре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1 уровень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100" spc="-1" strike="noStrike">
                <a:solidFill>
                  <a:srgbClr val="990000"/>
                </a:solidFill>
                <a:latin typeface="Arial"/>
              </a:rPr>
              <a:t>общи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цели для всего класс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2 уровень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100" spc="-1" strike="noStrike">
                <a:solidFill>
                  <a:srgbClr val="990000"/>
                </a:solidFill>
                <a:latin typeface="Arial"/>
              </a:rPr>
              <a:t>вспомогательны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цели с пониженным содержанием учебных возможностей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3 уровень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100" spc="-1" strike="noStrike">
                <a:solidFill>
                  <a:srgbClr val="990000"/>
                </a:solidFill>
                <a:latin typeface="Arial"/>
              </a:rPr>
              <a:t>дополнительны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цели для учащихся с высоким уровнем содержания учебных возможностей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Перспектив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и урок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и темы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и учебного раздел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и  определённого этапа выполнения государственного стандарт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Конструктив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1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ели выступают в качестве системообразующего фактора, определяющего уровень методов и средств обучения, выбора организационных форм, методов контроля знаний (</a:t>
            </a:r>
            <a:r>
              <a:rPr b="0" lang="ru-RU" sz="3100" spc="-1" strike="noStrike">
                <a:solidFill>
                  <a:srgbClr val="990000"/>
                </a:solidFill>
                <a:latin typeface="Arial"/>
              </a:rPr>
              <a:t>только тест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Договоримся о понятия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браз предвосхищаемого/ожидаемого результата, который может быть получен в определённых условиях за единицу времен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ри составные части цел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оминальный (означенный) результат обучения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(формулируется в терминах государственного стандарта общего образования: обучающиеся </a:t>
            </a: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должны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знать, делать, понимать, применять; но этот результат может быть для ученика личностно отчуждённым, не значимым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ри составные части цел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Ценностный результат обучения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представленный в виде ценностного отношения обучающегося к номинально сформулированному результату обучения («личностная значимость для ученика»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ри составные части цел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Смысловая составляющая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результата, определяющая значимость деятельности, которую необходимо выполнить обучающемуся для того, чтобы достичь результата, личностно значимого для обучающегося и являющегося ценностью для него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идактические единицы содержания образ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Компетенции (интегрирующие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знания, способы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, ценностное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к ним,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смыслы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деятельности обучающегося по достижению результатов образова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идактические единицы содержания образ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ffffff"/>
                </a:solidFill>
                <a:latin typeface="Arial"/>
              </a:rPr>
              <a:t>Ситуации-коллизии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, пробуждающие и закрепляющие ценностное отношение обучающегося («значимость для меня») к знаниям и способам деятельности;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идактические единицы содержания образ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Arial"/>
              </a:rPr>
              <a:t>Способы со-взаимодействия педагогов и обучающихся в форме «решения задач на смысл»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(решаемых по схеме рефлексии действий в поле сил и актуализирующих смысл деятельности, которую нужно совершить, чтобы достичь результата, являющегося ценностью для обучающегося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Диагностичность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 этап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явление возможного уровня усвоения учебного материала (качественная окраска знаний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 уровен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накомст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узнавание) – учебное задание – цель, решаемая определёнными действиями в определённой ситу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 уровен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лгоритмическ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осознанное запоминание и применение основных алгоритмов) – цель ситуация (действие исключено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5:40:15Z</dcterms:created>
  <dc:creator>User</dc:creator>
  <dc:description/>
  <dc:language>en-US</dc:language>
  <cp:lastModifiedBy>Admin</cp:lastModifiedBy>
  <dcterms:modified xsi:type="dcterms:W3CDTF">2008-10-22T02:53:48Z</dcterms:modified>
  <cp:revision>11</cp:revision>
  <dc:subject/>
  <dc:title>Критерии цели</dc:title>
</cp:coreProperties>
</file>