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018-DE0F-4C77-8CCB-6BA5A56D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A9A-471B-4892-86DC-E0D63C97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1EE-FFEA-4A64-A29F-7E8B0CA5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335-CD87-45CD-9486-F090AE2C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1D96-1A19-4A2B-B79A-CB7981D1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CD52-A3AE-4F1A-9F93-DFB04279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FD99-B6B5-4E85-9B71-0DE5086C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743E-5F39-4D42-99AF-23CDB584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2EB9-9F05-49CC-B90E-71C8BBD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04F6-8325-4D96-BA03-DEB36BA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2F2-1CC0-42A2-8B64-A47F1A8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835-CA1A-402F-B40C-AD0F0AF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11BC-7017-436E-8443-CC0C4DF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EB8-8C03-40A2-B543-FF02D2F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5BDB-4757-4497-AD83-5BBF978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5C69-286A-4B1F-979C-9355AA45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62E-A140-43A3-BAE9-3183F97E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E6D-61C1-4B42-8A5B-97C15016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D9B-5EE9-418B-B6F1-DE1AD276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1BC1-6352-475E-8C3F-A39B4C7C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F55-D3AE-49D7-80AF-CEA01AD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AEA-B503-4F68-AE86-A3B6675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939-7913-4D8A-8844-EDCBA87E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B28-0436-45DF-8A1C-493F077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49AC-44F9-43A3-9125-8480702BD88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9B03-8F23-415A-9622-42ECC8039F6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3800" y="-139680"/>
            <a:ext cx="843768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тский хор «Росин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2170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результат В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непосредственное духовно – нравственное приобретение ребёнка благодаря его участию в том или ином виде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Воспитательный эффект ВД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влияние (последствие) того или иного духовно-нравственного приобретения на процесс развития личности ребён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457200" y="1600200"/>
          <a:ext cx="8229600" cy="41562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ФИО ребё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онедель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Втор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ре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Четвер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Пятни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Суб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дин  Дмитрий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тэквон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-19.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кина Анастас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Ш № 20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0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рмак Милен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Мозаика» 17.0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Мозаика» 17.0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арахина Алл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00-14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30-14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МШ ф-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40-12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морева Елизаве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еатр «Коломбин» 18.00-2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16.30-18.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16.30-18.00 ДКЖД театр «Коломбин» 18.00-20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КЖД танцы «Конфетти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30-18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Юрчишин Кирилл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ОЦ каратэ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30-19.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529480" cy="15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457200" y="1600200"/>
          <a:ext cx="8229600" cy="36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кольный 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евальны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овор о правильном пит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вежлив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кольный теат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вижны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нцевальный круж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ebe7e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8007f"/>
                      </a:solidFill>
                    </a:lnL>
                    <a:lnR w="5760">
                      <a:solidFill>
                        <a:srgbClr val="68007f"/>
                      </a:solidFill>
                    </a:lnR>
                    <a:lnT w="5760">
                      <a:solidFill>
                        <a:srgbClr val="68007f"/>
                      </a:solidFill>
                    </a:lnT>
                    <a:lnB w="5760">
                      <a:solidFill>
                        <a:srgbClr val="68007f"/>
                      </a:solidFill>
                    </a:lnB>
                    <a:solidFill>
                      <a:srgbClr val="d4cb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740800" cy="17798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0000055983-171924-6571264-400"/>
          <p:cNvPicPr/>
          <p:nvPr/>
        </p:nvPicPr>
        <p:blipFill>
          <a:blip r:embed="rId2"/>
          <a:stretch/>
        </p:blipFill>
        <p:spPr>
          <a:xfrm>
            <a:off x="2031840" y="2443320"/>
            <a:ext cx="50803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4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2158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Ольга Михайловна\Мои документы\фото внеурочка\SDC11323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Ольга Михайловна\Мои документы\фото внеурочка\SDC11332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4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114720" cy="117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беспечивать ребёнку возможность реализовать свой музыкальный творческий потенциал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пособствовать формированию художественного вкуса, развитию музыкальных способностей, формировать нравственные качеств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обеспечивать приобретение социального опыта в процессе подготовки и участия в календарных праздниках,  концертах, конкурсах,  экскурсия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звивать навыки познавательной и научно- исследовательской, творческой деятельност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C:\Documents and Settings\Ольга Михайловна\Мои документы\фото внеурочка\SDC11330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7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74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0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БЁНОК НУЖДАЕТСЯ В ТВОРЧЕСКОМ РАЗВИТИИ, ВОЗМОЖНОСТИ РЕАЛИЗОВАТЬ СВОИ МУЗЫКАЛЬНЫЕ, ПЕВЧЕСКИЕ, ТАНЦЕВАЛЬНЫЕ СПОСОБНОСТИ И ПО ВОЗМОЖНОСТИ РАЗВИТЬ ИХ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3" descr="C:\Documents and Settings\Ольга Михайловна\Мои документы\фото внеурочка\SDC11321.JPG"/>
          <p:cNvPicPr/>
          <p:nvPr/>
        </p:nvPicPr>
        <p:blipFill>
          <a:blip r:embed="rId2"/>
          <a:stretch/>
        </p:blipFill>
        <p:spPr>
          <a:xfrm>
            <a:off x="457200" y="27288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Ольга Михайловна\Мои документы\фото внеурочка\SDC11329.JPG"/>
          <p:cNvPicPr/>
          <p:nvPr/>
        </p:nvPicPr>
        <p:blipFill>
          <a:blip r:embed="rId3"/>
          <a:stretch/>
        </p:blipFill>
        <p:spPr>
          <a:xfrm>
            <a:off x="4645080" y="27288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6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521560" cy="2360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философ-гуманист М. Монтенк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5:47:24Z</dcterms:created>
  <dc:creator>Ольга Михайловна</dc:creator>
  <dc:description/>
  <dc:language>en-US</dc:language>
  <cp:lastModifiedBy>Пользователь</cp:lastModifiedBy>
  <dcterms:modified xsi:type="dcterms:W3CDTF">2011-11-07T14:20:52Z</dcterms:modified>
  <cp:revision>14</cp:revision>
  <dc:subject/>
  <dc:title>Программа духовно – нравственного развития посредством кружковой деятельности.</dc:title>
</cp:coreProperties>
</file>