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701-52EB-492C-9785-80947499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A4A-4216-4761-BD6F-869CEDD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A3A-0B67-4323-9080-E72BDE4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91D-67F8-44C1-9AEC-0832EC74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C2F6-FAD1-45F0-AE96-3ED2AED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ECB1-0FEF-4F14-B0C6-54B6C20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725D-7767-4F26-9979-9BE5BCD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FBEF-4E1D-44C6-871D-5B1D1D3B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E825-5264-462D-989F-23F0570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50C-2867-439B-8075-ABA0E167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005E-562F-4EC0-BA28-019704F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E8B-51C1-4B0A-AF0D-40F25AE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53D8-B020-4564-ACCD-1EB17A6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B5CA-4FF7-45BC-BE12-E828CAD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1F5-52A8-444A-BC43-DE565CA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D07A-76A5-4190-AC6B-E6B09A09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D8F5-8CC7-4E0C-804D-CF972D76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15F-C0DE-4DED-B5E0-FEBC4809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75C-C6A5-4C7D-BA6D-335D42C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616-1AA3-4467-A0B2-842A8FF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8E0-7071-4166-8ED2-0790924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1AC-94FD-4C95-A46A-C5543EC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529-479D-46F1-8544-5C700C1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34E-CE39-4129-AB83-56E3327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EAFC-24CC-44D9-8D6E-3014AC3DFA5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62DA-1DFE-46D0-8BAC-D0628923AC6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3800" y="-139680"/>
            <a:ext cx="843768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ский хор «Росин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217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результа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епосредственное духовно – нравственное приобретение ребёнка благодаря его участию в том или ином виде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эффек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влияние (последствие) того или иного духовно-нравственного приобретения на процесс развития личности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457200" y="1600200"/>
          <a:ext cx="8229600" cy="4156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ФИО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недель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Втор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ре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етве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ят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уб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дин  Дмитрий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кина Анаста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рмак Миле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ахина Ал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00-14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30-14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40-12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морева Елизав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3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рчишин Кирил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529480" cy="15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овор о правильном пит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вежлив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740800" cy="1779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0000055983-171924-6571264-400"/>
          <p:cNvPicPr/>
          <p:nvPr/>
        </p:nvPicPr>
        <p:blipFill>
          <a:blip r:embed="rId2"/>
          <a:stretch/>
        </p:blipFill>
        <p:spPr>
          <a:xfrm>
            <a:off x="2031840" y="2443320"/>
            <a:ext cx="5080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Ольга Михайловна\Мои документы\фото внеурочка\SDC11323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Ольга Михайловна\Мои документы\фото внеурочка\SDC11332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4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14720" cy="117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ребёнку возможность реализовать свой музыкальный творческий потенциал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пособствовать формированию художественного вкуса, развитию музыкальных способностей, формировать нравственные качеств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приобретение социального опыта в процессе подготовки и участия в календарных праздниках,  концертах, конкурсах,  экскурсия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звивать навыки познавательной и научно- исследовательской, творческ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C:\Documents and Settings\Ольга Михайловна\Мои документы\фото внеурочка\SDC11330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БЁНОК НУЖДАЕТСЯ В ТВОРЧЕСКОМ РАЗВИТИИ, ВОЗМОЖНОСТИ РЕАЛИЗОВАТЬ СВОИ МУЗЫКАЛЬНЫЕ, ПЕВЧЕСКИЕ, ТАНЦЕВАЛЬНЫЕ СПОСОБНОСТИ И ПО ВОЗМОЖНОСТИ РАЗВИТЬ ИХ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C:\Documents and Settings\Ольга Михайловна\Мои документы\фото внеурочка\SDC11321.JPG"/>
          <p:cNvPicPr/>
          <p:nvPr/>
        </p:nvPicPr>
        <p:blipFill>
          <a:blip r:embed="rId2"/>
          <a:stretch/>
        </p:blipFill>
        <p:spPr>
          <a:xfrm>
            <a:off x="457200" y="27288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Ольга Михайловна\Мои документы\фото внеурочка\SDC11329.JPG"/>
          <p:cNvPicPr/>
          <p:nvPr/>
        </p:nvPicPr>
        <p:blipFill>
          <a:blip r:embed="rId3"/>
          <a:stretch/>
        </p:blipFill>
        <p:spPr>
          <a:xfrm>
            <a:off x="4645080" y="27288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521560" cy="2360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философ-гуманист М. Монтенк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5:47:24Z</dcterms:created>
  <dc:creator>Ольга Михайловна</dc:creator>
  <dc:description/>
  <dc:language>en-US</dc:language>
  <cp:lastModifiedBy>Пользователь</cp:lastModifiedBy>
  <dcterms:modified xsi:type="dcterms:W3CDTF">2011-11-07T14:20:52Z</dcterms:modified>
  <cp:revision>14</cp:revision>
  <dc:subject/>
  <dc:title>Программа духовно – нравственного развития посредством кружковой деятельности.</dc:title>
</cp:coreProperties>
</file>