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41A-5E39-4D49-B4FA-466CA8CF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A53-5598-4A4B-B5FB-C5C1014B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B9E-1922-463F-8E73-35EFE17D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DA0-5FA7-44C4-A026-34B6FB15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3FC-36C8-491B-80FD-ABD468AC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75D-A7BC-4287-8694-CB49285E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521-DBF0-4484-9C7F-4B6502A6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02B-34E0-4404-AD78-39C174A0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7FD-A0E6-482A-A0AD-93F99A6C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797-ACD7-46AC-83AA-8E838404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FE1-A6A3-4D2A-AFC9-5E97036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A6A-93F1-4C81-8266-EA35401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863B-1CFD-4372-B941-F83DE19D4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00360" y="2905200"/>
            <a:ext cx="4392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много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как мало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867120" cy="4524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456000" cy="4486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1763640" y="0"/>
            <a:ext cx="5256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много красивых те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500360" cy="566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755640" y="189000"/>
            <a:ext cx="547200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 мало толковых дел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381480" cy="476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61944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4956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46836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 много смазливых лиц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09880" cy="38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2340000" y="0"/>
            <a:ext cx="576108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Длинных ногтей и  ресниц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5175360" cy="652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240000" cy="453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76720" y="1484280"/>
            <a:ext cx="3343320" cy="5111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00000" y="260280"/>
            <a:ext cx="5327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 мало бездонных глаз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3600360" cy="5113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295800" cy="452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0" name=""/>
          <p:cNvSpPr txBox="1"/>
          <p:nvPr/>
        </p:nvSpPr>
        <p:spPr>
          <a:xfrm>
            <a:off x="900000" y="260280"/>
            <a:ext cx="5219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Улыбок не на пока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279960" cy="218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3457440" cy="2187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671640" cy="518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8360" y="189000"/>
            <a:ext cx="5219640" cy="13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много "хочу, моё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384720" cy="259236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752720" cy="4896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826920" y="404640"/>
            <a:ext cx="5220000" cy="132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Как мало "бери, твоё!"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4:05:08Z</dcterms:created>
  <dc:creator>www.PHILka.RU</dc:creator>
  <dc:description/>
  <dc:language>en-US</dc:language>
  <cp:lastModifiedBy>www.PHILka.RU</cp:lastModifiedBy>
  <dcterms:modified xsi:type="dcterms:W3CDTF">2010-10-12T17:27:37Z</dcterms:modified>
  <cp:revision>3</cp:revision>
  <dc:subject/>
  <dc:title>Слайд 1</dc:title>
</cp:coreProperties>
</file>