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6F3-6A9D-4568-A0F7-3C7F01FB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FC4-BAC3-48DB-A1F7-72411EE9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737-BF77-4A6C-9628-F3D9E791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361-F7E3-4385-B8C5-ED11CF7E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B87-5811-4296-B426-0F802075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269-B642-449C-9D39-94C0486C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37B-3DBC-48DE-AB14-C4D8070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20E-1C80-4B44-81F7-D146DD50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AB8-8E48-40B7-AFB2-C4CEC477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7E3-BD6C-4E3E-BA48-55813927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CAE-07AC-4EA8-8BCB-D6DF55E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3C8-7E5A-44F7-B952-49B10F3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1FC9-C4AD-4022-8106-5F966807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2905200"/>
            <a:ext cx="4392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мног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как мал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67120" cy="4524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56000" cy="4486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1763640" y="0"/>
            <a:ext cx="525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красивых те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5003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55640" y="189000"/>
            <a:ext cx="547200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толковых дел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381480" cy="476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6194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495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46836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ного смазливых лиц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0988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2340000" y="0"/>
            <a:ext cx="5761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Длинных ногтей и  ресниц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5175360" cy="65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43320" cy="51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260280"/>
            <a:ext cx="5327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бездонных глаз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5113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29580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900000" y="26028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Улыбок не на пока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279960" cy="21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457440" cy="218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7164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8360" y="18900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"хочу, моё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384720" cy="259236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89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826920" y="404640"/>
            <a:ext cx="522000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ало "бери, твоё!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4:05:08Z</dcterms:created>
  <dc:creator>www.PHILka.RU</dc:creator>
  <dc:description/>
  <dc:language>en-US</dc:language>
  <cp:lastModifiedBy>www.PHILka.RU</cp:lastModifiedBy>
  <dcterms:modified xsi:type="dcterms:W3CDTF">2010-10-12T17:27:37Z</dcterms:modified>
  <cp:revision>3</cp:revision>
  <dc:subject/>
  <dc:title>Слайд 1</dc:title>
</cp:coreProperties>
</file>