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63B-1936-40D2-8DC6-25CFFD15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A3C-06B7-411D-95FA-ECF9C3F4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A08-B71F-4287-9597-58FAC3D3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B74-9623-4510-A8F0-FAD27E97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204-92DA-40E3-ADB7-27E235D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46D-2643-46E9-919A-BCC7E9A6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58F-55B1-416D-8641-C7F6527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A97-AA2E-4DC6-BE25-ADA7FD4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29E-3286-4D86-8603-4F96C5F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F5E-77E7-4B8D-BFD8-C563007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2D4-0B66-4FE1-AD52-9318165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18D-FCEF-47C7-B136-E68FEF9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53D1-F436-45C7-A0EF-A2066D1F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2905200"/>
            <a:ext cx="4392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мног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как мал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67120" cy="4524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56000" cy="4486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1763640" y="0"/>
            <a:ext cx="525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красивых те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5003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55640" y="189000"/>
            <a:ext cx="547200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толковых дел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381480" cy="476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6194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495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46836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ного смазливых лиц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0988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2340000" y="0"/>
            <a:ext cx="5761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Длинных ногтей и  ресниц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5175360" cy="65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43320" cy="51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260280"/>
            <a:ext cx="5327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бездонных глаз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5113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29580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900000" y="26028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Улыбок не на пока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279960" cy="21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457440" cy="218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7164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8360" y="18900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"хочу, моё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384720" cy="259236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89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826920" y="404640"/>
            <a:ext cx="522000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ало "бери, твоё!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4:05:08Z</dcterms:created>
  <dc:creator>www.PHILka.RU</dc:creator>
  <dc:description/>
  <dc:language>en-US</dc:language>
  <cp:lastModifiedBy>www.PHILka.RU</cp:lastModifiedBy>
  <dcterms:modified xsi:type="dcterms:W3CDTF">2010-10-12T17:27:37Z</dcterms:modified>
  <cp:revision>3</cp:revision>
  <dc:subject/>
  <dc:title>Слайд 1</dc:title>
</cp:coreProperties>
</file>