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A58-2895-4372-A374-05A6891A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722-0A78-4FF0-BE47-F616F5C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5FE-8045-4081-B1CA-473B5F4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988-AF6E-4FA9-819D-8D1E1CE2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FC6-E690-46C7-8601-8F7454ED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46D-47F5-4892-8063-4C19CE87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A03-974B-42C2-9E60-4DF1667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0FB1-2C04-49CA-A4A5-B51F4FB7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6C9-892F-40B0-8DD2-0CF9EC83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1C2C-E1A7-4826-BC8A-77FEB3E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7A3-C4F0-473E-91A4-F083160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0F0-7815-41D4-B66D-99A757B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C7E-612D-4F04-B293-B1D7DE0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814C-E74D-43FC-9046-1AB1BD9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896C-100D-44D2-98AC-EBF2B2D0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51E-8F9D-4F79-8254-21502110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0BFB-2980-4AB7-A8B3-0429FCB3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4FE-B072-4305-BFEA-3CA4A24F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526-3F90-48B4-86EC-31D23AB5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C7B-CE30-4DC4-9F1B-E777EE5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163-7FAD-4864-9A25-89A77F9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9E7-2303-4E3D-A3F1-4246D57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5B8-A6C3-40F9-B63E-E676A4AF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CB2-22AB-4E2D-983C-6F7E694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E71-8947-439E-8C88-117BA4109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9037-1089-4083-95A8-8C61FF207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228840" cy="374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916360" y="404640"/>
            <a:ext cx="3024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Гайдар (Голиков) Аркадий Петрович (1904-1941)"/>
          <p:cNvPicPr/>
          <p:nvPr/>
        </p:nvPicPr>
        <p:blipFill>
          <a:blip r:embed="rId1"/>
          <a:stretch/>
        </p:blipFill>
        <p:spPr>
          <a:xfrm>
            <a:off x="1116000" y="1484280"/>
            <a:ext cx="3191040" cy="4659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4572000" y="428760"/>
            <a:ext cx="42861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айдар (Голик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ркадий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04-1941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вестный русский советский писатель. Родился в г. Льгове Курской губернии. В 14 лет вступает в Красную армию, в 15 — становится командиром роты, в 17 — командиром полка. В г. Льгове создан мемориальный музей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Воробьев Константин Дмитриевич (1919-1975)"/>
          <p:cNvPicPr/>
          <p:nvPr/>
        </p:nvPicPr>
        <p:blipFill>
          <a:blip r:embed="rId1"/>
          <a:stretch/>
        </p:blipFill>
        <p:spPr>
          <a:xfrm>
            <a:off x="1282680" y="1484280"/>
            <a:ext cx="3075120" cy="46087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1" name="Прямоугольник 2"/>
          <p:cNvSpPr/>
          <p:nvPr/>
        </p:nvSpPr>
        <p:spPr>
          <a:xfrm>
            <a:off x="4572000" y="642960"/>
            <a:ext cx="40006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роб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стантин Дмитр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919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й советский писатель. Родился в с. Нижний Реутец Курского уезда Курской губернии, последние годы жизни провел в Литве. Автор повестей «Крик», «Убиты под Москвой», «Это мы, Господи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Дейнека Александр Александрович (1899-1969)"/>
          <p:cNvPicPr/>
          <p:nvPr/>
        </p:nvPicPr>
        <p:blipFill>
          <a:blip r:embed="rId1"/>
          <a:stretch/>
        </p:blipFill>
        <p:spPr>
          <a:xfrm>
            <a:off x="971640" y="1413000"/>
            <a:ext cx="3330360" cy="48034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13" name="Прямоугольник 2"/>
          <p:cNvSpPr/>
          <p:nvPr/>
        </p:nvSpPr>
        <p:spPr>
          <a:xfrm>
            <a:off x="4427640" y="0"/>
            <a:ext cx="424800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йн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лександр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899-1969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художник, график, монументалист, действительный член АХ СССР. Родился и начал творческую деятельность в Курске. На курской земле были созданы его картины «После дождя. Курск», «Сухие листья», «Солнечный ден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3995640" y="0"/>
            <a:ext cx="45673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Хруще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Никита Сергееви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1894-1971)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ийся советский партийный и государственный деятель. Родился в с. Калиновка (ныне — Хомутовский район) Курской губернии. Рано начал трудовую жизнь, с 12 лет уже работал на заводах и шахтах Донбасс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ентябре 1953 года избирается Первым секретарем ЦК КПСС, с 1958 года — Председатель Совета Министро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208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55640" y="2060640"/>
            <a:ext cx="66038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дающиеся люд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урской области...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4572000" y="620640"/>
            <a:ext cx="4071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афим Са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к — родина одного из самых известных и почитаемых на Руси святых — Серафима Саровского. Серафим (в миру — Прохор Мошнин) родился в 1754 году в купеческой семье. Его отец на собственные деньги построил  Сергиево-Казанский собор в центре горо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400" y="549360"/>
            <a:ext cx="4593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Свиридов Георгий Васильевич (1915-1998)"/>
          <p:cNvPicPr/>
          <p:nvPr/>
        </p:nvPicPr>
        <p:blipFill>
          <a:blip r:embed="rId1"/>
          <a:stretch/>
        </p:blipFill>
        <p:spPr>
          <a:xfrm>
            <a:off x="1171440" y="1484280"/>
            <a:ext cx="329436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6" name="Прямоугольник 2"/>
          <p:cNvSpPr/>
          <p:nvPr/>
        </p:nvSpPr>
        <p:spPr>
          <a:xfrm>
            <a:off x="4932360" y="189000"/>
            <a:ext cx="37148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вир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еоргий Василье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15-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советский композитор, пианист и музыкально-общественный деятель, народный артист СССР, Родился в г.Фатеж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Плевицкая (урож.Винникова) Надежда Васильевна"/>
          <p:cNvPicPr/>
          <p:nvPr/>
        </p:nvPicPr>
        <p:blipFill>
          <a:blip r:embed="rId1"/>
          <a:stretch/>
        </p:blipFill>
        <p:spPr>
          <a:xfrm>
            <a:off x="820800" y="1197000"/>
            <a:ext cx="3394080" cy="48038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98" name="Прямоугольник 2"/>
          <p:cNvSpPr/>
          <p:nvPr/>
        </p:nvSpPr>
        <p:spPr>
          <a:xfrm>
            <a:off x="4286160" y="-66600"/>
            <a:ext cx="41022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евиц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дежда Васил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879-1940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дающаяся исполнительница русских народных и эстрадных песен. Родилась в с.Винниково Курского уезда Курской губернии. Не имела специального музыкального образования, но ее называли «русским жаворонком», «курским соловье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Николай Николаевич Асеев"/>
          <p:cNvPicPr/>
          <p:nvPr/>
        </p:nvPicPr>
        <p:blipFill>
          <a:blip r:embed="rId1"/>
          <a:stretch/>
        </p:blipFill>
        <p:spPr>
          <a:xfrm>
            <a:off x="684360" y="1341360"/>
            <a:ext cx="3300120" cy="4732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356000" y="551520"/>
            <a:ext cx="4103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Ас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Николай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(1889-19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311"/>
                </a:solidFill>
                <a:latin typeface="Calibri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13311"/>
                </a:solidFill>
                <a:latin typeface="Calibri"/>
                <a:ea typeface="Times New Roman"/>
              </a:rPr>
              <a:t>известный русский советский поэт. Родился в г. Льгове Курской губернии.  Автор поэм и сборников стихов «Самые мои стихи», «Курские края», «Богатырской поэмы».  Именем Н.Н. Асеева названа Курская областная научная библи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Носов Евгений Иванович (род. в 1925)"/>
          <p:cNvPicPr/>
          <p:nvPr/>
        </p:nvPicPr>
        <p:blipFill>
          <a:blip r:embed="rId1"/>
          <a:stretch/>
        </p:blipFill>
        <p:spPr>
          <a:xfrm>
            <a:off x="1131840" y="1484280"/>
            <a:ext cx="3514680" cy="46623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3" name="Прямоугольник 4"/>
          <p:cNvSpPr/>
          <p:nvPr/>
        </p:nvSpPr>
        <p:spPr>
          <a:xfrm>
            <a:off x="5292720" y="0"/>
            <a:ext cx="314316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вген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1925-2002) —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дающийся русский советский писатель, герой Социалистического труда, лауреат государственной премии. Родился в с. Толмачево Курского уезда Кур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Шелихов Григорий Иванович (1747-1795)"/>
          <p:cNvPicPr/>
          <p:nvPr/>
        </p:nvPicPr>
        <p:blipFill>
          <a:blip r:embed="rId1"/>
          <a:stretch/>
        </p:blipFill>
        <p:spPr>
          <a:xfrm>
            <a:off x="1079640" y="1413000"/>
            <a:ext cx="3563640" cy="473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105" name="Прямоугольник 2"/>
          <p:cNvSpPr/>
          <p:nvPr/>
        </p:nvSpPr>
        <p:spPr>
          <a:xfrm>
            <a:off x="4714920" y="189000"/>
            <a:ext cx="3960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Шелих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Григорий Иван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747-1795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мечательный русский путешественник и купец, один из первооткрывателей тихоокеанского побережья американского контине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ак называемой «Русской Америки». Родился в г.Рыльске Кур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4788000" y="33336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Щепк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хаил Семенович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1788-1863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ающийся русский актер. Родился в с.Красное Обоянского уезда Курской губернии. Начал играть на сцене Курского теа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н совершил переворот в русском сценическом искусстве, первый понял природу актерского творчества как начала созидающего, а не подражающего жизн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7466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4:39:07Z</dcterms:created>
  <dc:creator>Руднева О.Н.</dc:creator>
  <dc:description/>
  <dc:language>en-US</dc:language>
  <cp:lastModifiedBy>1</cp:lastModifiedBy>
  <dcterms:modified xsi:type="dcterms:W3CDTF">2011-01-20T19:14:25Z</dcterms:modified>
  <cp:revision>3</cp:revision>
  <dc:subject>Выдающиеся люди Курского края...</dc:subject>
  <dc:title>Слайды</dc:title>
</cp:coreProperties>
</file>