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250-773C-40FF-BFFB-07101901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38B-9422-4710-BA5B-88F5654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3F6-80AB-4EEC-AB4D-DC341AE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F02-9EA3-42A3-B55E-556C218A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C61F-7198-4D1E-8BB1-24C38ACF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5DDF-9B5B-4438-896E-D8ED0B7B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9C6-FBDC-4EA4-A096-59A5B53E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B1D-9C8E-4343-97CB-DE4213C0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D90-92D1-4F37-9FC7-D43B0447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C184-E5BE-43D3-A1DB-8F7D23C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8E1E-03AF-4B87-B002-D58DB8A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060-0EA5-4601-98C8-756C6D1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CAEB-F2C2-4535-9434-9F436F2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199-8A2C-4247-817A-3716B44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2A04-BB3E-4370-90FE-8A5C2FD5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F20-097B-4444-9C1A-716D7E35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FEB-FC69-4D3F-8B18-C6F7FAA3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F0D-636F-47A3-85B6-E4CC3A0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7E7-FCB4-4AE0-9B63-7D66D28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116-29F4-4785-B6CB-E7D0BBA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A66-4EF3-4E70-A361-C0A53DA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602-204A-4B6A-897B-9B05AEA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AE1-8B33-4E60-9532-0747949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EC9-C774-4873-8B32-732B08C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2131-860B-4C24-B035-C7045E2B5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7B4-C710-4297-9832-53A926751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228840" cy="374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916360" y="404640"/>
            <a:ext cx="30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Гайдар (Голиков) Аркадий Петрович (1904-1941)"/>
          <p:cNvPicPr/>
          <p:nvPr/>
        </p:nvPicPr>
        <p:blipFill>
          <a:blip r:embed="rId1"/>
          <a:stretch/>
        </p:blipFill>
        <p:spPr>
          <a:xfrm>
            <a:off x="1116000" y="1484280"/>
            <a:ext cx="3191040" cy="4659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4572000" y="428760"/>
            <a:ext cx="42861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айдар (Голи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ркадий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04-1941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вестный русский советский писатель. Родился в г. Льгове Курской губернии. В 14 лет вступает в Красную армию, в 15 — становится командиром роты, в 17 — командиром полка. В г. Льгове создан мемориальный музей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Воробьев Константин Дмитриевич (1919-1975)"/>
          <p:cNvPicPr/>
          <p:nvPr/>
        </p:nvPicPr>
        <p:blipFill>
          <a:blip r:embed="rId1"/>
          <a:stretch/>
        </p:blipFill>
        <p:spPr>
          <a:xfrm>
            <a:off x="1282680" y="1484280"/>
            <a:ext cx="3075120" cy="4608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1" name="Прямоугольник 2"/>
          <p:cNvSpPr/>
          <p:nvPr/>
        </p:nvSpPr>
        <p:spPr>
          <a:xfrm>
            <a:off x="4572000" y="642960"/>
            <a:ext cx="40006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б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стантин Дмитр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919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советский писатель. Родился в с. Нижний Реутец Курского уезда Курской губернии, последние годы жизни провел в Литве. Автор повестей «Крик», «Убиты под Москвой», «Это мы, Господи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Дейнека Александр Александрович (1899-1969)"/>
          <p:cNvPicPr/>
          <p:nvPr/>
        </p:nvPicPr>
        <p:blipFill>
          <a:blip r:embed="rId1"/>
          <a:stretch/>
        </p:blipFill>
        <p:spPr>
          <a:xfrm>
            <a:off x="971640" y="1413000"/>
            <a:ext cx="3330360" cy="4803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3" name="Прямоугольник 2"/>
          <p:cNvSpPr/>
          <p:nvPr/>
        </p:nvSpPr>
        <p:spPr>
          <a:xfrm>
            <a:off x="4427640" y="0"/>
            <a:ext cx="42480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йн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лександр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899-1969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художник, график, монументалист, действительный член АХ СССР. Родился и начал творческую деятельность в Курске. На курской земле были созданы его картины «После дождя. Курск», «Сухие листья», «Солнечный д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995640" y="0"/>
            <a:ext cx="45673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Хруще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икита Сергее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1894-1971)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ийся советский партийный и государственный деятель. Родился в с. Калиновка (ныне — Хомутовский район) Курской губернии. Рано начал трудовую жизнь, с 12 лет уже работал на заводах и шахтах Донбасс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ентябре 1953 года избирается Первым секретарем ЦК КПСС, с 1958 года — Председатель Совета Министро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20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2060640"/>
            <a:ext cx="66038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дающиеся люд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рской области...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4572000" y="620640"/>
            <a:ext cx="4071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афим С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к — родина одного из самых известных и почитаемых на Руси святых — Серафима Саровского. Серафим (в миру — Прохор Мошнин) родился в 1754 году в купеческой семье. Его отец на собственные деньги построил  Сергиево-Казанский собор в центре горо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400" y="549360"/>
            <a:ext cx="4593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Свиридов Георгий Васильевич (1915-1998)"/>
          <p:cNvPicPr/>
          <p:nvPr/>
        </p:nvPicPr>
        <p:blipFill>
          <a:blip r:embed="rId1"/>
          <a:stretch/>
        </p:blipFill>
        <p:spPr>
          <a:xfrm>
            <a:off x="1171440" y="1484280"/>
            <a:ext cx="329436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6" name="Прямоугольник 2"/>
          <p:cNvSpPr/>
          <p:nvPr/>
        </p:nvSpPr>
        <p:spPr>
          <a:xfrm>
            <a:off x="4932360" y="189000"/>
            <a:ext cx="37148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вир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ргий Василье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15-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композитор, пианист и музыкально-общественный деятель, народный артист СССР, Родился в г.Фатеж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Плевицкая (урож.Винникова) Надежда Васильевна"/>
          <p:cNvPicPr/>
          <p:nvPr/>
        </p:nvPicPr>
        <p:blipFill>
          <a:blip r:embed="rId1"/>
          <a:stretch/>
        </p:blipFill>
        <p:spPr>
          <a:xfrm>
            <a:off x="820800" y="1197000"/>
            <a:ext cx="3394080" cy="48038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8" name="Прямоугольник 2"/>
          <p:cNvSpPr/>
          <p:nvPr/>
        </p:nvSpPr>
        <p:spPr>
          <a:xfrm>
            <a:off x="4286160" y="-66600"/>
            <a:ext cx="41022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евиц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ежда Васил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879-1940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аяся исполнительница русских народных и эстрадных песен. Родилась в с.Винниково Курского уезда Курской губернии. Не имела специального музыкального образования, но ее называли «русским жаворонком», «курским соловье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Николай Николаевич Асеев"/>
          <p:cNvPicPr/>
          <p:nvPr/>
        </p:nvPicPr>
        <p:blipFill>
          <a:blip r:embed="rId1"/>
          <a:stretch/>
        </p:blipFill>
        <p:spPr>
          <a:xfrm>
            <a:off x="684360" y="1341360"/>
            <a:ext cx="3300120" cy="4732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356000" y="551520"/>
            <a:ext cx="4103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Ас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Никола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(1889-19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13311"/>
                </a:solidFill>
                <a:latin typeface="Calibri"/>
                <a:ea typeface="Times New Roman"/>
              </a:rPr>
              <a:t>известный русский советский поэт. Родился в г. Льгове Курской губернии.  Автор поэм и сборников стихов «Самые мои стихи», «Курские края», «Богатырской поэмы».  Именем Н.Н. Асеева названа Курская областная научная библи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Носов Евгений Иванович (род. в 1925)"/>
          <p:cNvPicPr/>
          <p:nvPr/>
        </p:nvPicPr>
        <p:blipFill>
          <a:blip r:embed="rId1"/>
          <a:stretch/>
        </p:blipFill>
        <p:spPr>
          <a:xfrm>
            <a:off x="1131840" y="1484280"/>
            <a:ext cx="3514680" cy="4662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3" name="Прямоугольник 4"/>
          <p:cNvSpPr/>
          <p:nvPr/>
        </p:nvSpPr>
        <p:spPr>
          <a:xfrm>
            <a:off x="5292720" y="0"/>
            <a:ext cx="3143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вген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1925-2002) —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русский советский писатель, герой Социалистического труда, лауреат государственной премии. Родился в с. Толмачево Курского уезда Кур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Шелихов Григорий Иванович (1747-1795)"/>
          <p:cNvPicPr/>
          <p:nvPr/>
        </p:nvPicPr>
        <p:blipFill>
          <a:blip r:embed="rId1"/>
          <a:stretch/>
        </p:blipFill>
        <p:spPr>
          <a:xfrm>
            <a:off x="1079640" y="1413000"/>
            <a:ext cx="356364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4714920" y="189000"/>
            <a:ext cx="3960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Шелих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игор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747-1795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мечательный русский путешественник и купец, один из первооткрывателей тихоокеанского побережья американского контин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называемой «Русской Америки». Родился в г.Рыльск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4788000" y="33336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еп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ил Семенович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788-18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ающийся русский актер. Родился в с.Красное Обоянского уезда Курской губернии. Начал играть на сцене Курского теа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совершил переворот в русском сценическом искусстве, первый понял природу актерского творчества как начала созидающего, а не подражающего жизн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4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39:07Z</dcterms:created>
  <dc:creator>Руднева О.Н.</dc:creator>
  <dc:description/>
  <dc:language>en-US</dc:language>
  <cp:lastModifiedBy>1</cp:lastModifiedBy>
  <dcterms:modified xsi:type="dcterms:W3CDTF">2011-01-20T19:14:25Z</dcterms:modified>
  <cp:revision>3</cp:revision>
  <dc:subject>Выдающиеся люди Курского края...</dc:subject>
  <dc:title>Слайды</dc:title>
</cp:coreProperties>
</file>