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A111-343C-4109-BDE2-381F78BF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506-15F7-4784-86D4-1CDD40C4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BA4-6C28-4618-8479-2F4EB442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7E37-687E-40F8-9EDF-A85293A4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6CFE-5849-4D83-B309-450C4D58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2CBA-2F52-40DF-BBDB-AF2410E2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5DE0-39BB-41CD-9BCF-2280E505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BF47-E3C8-4512-A920-9277EE90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2575-3B71-431D-B0AC-B8E96928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2565-3EA7-4B60-A1E0-6BDA54F6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2B49-A218-4E4B-8E10-C9D8C61A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C8DF-AF19-4119-B46F-AFB619B1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0E74-854E-42B8-A3D5-E1E286FE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2BD2-B251-4D82-B79F-381EB392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9DC1-B555-4DE1-8E7A-4B9D34B3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48C8-EC69-4D98-9083-234661BF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9E46-D008-4244-95F1-B99040D4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6CA1-ED02-4534-98A2-EA2E03DA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050D-001E-4BEB-8F45-27AE0B8B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26B3-E8C7-44B2-82A0-89DE0C54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62C-C879-4217-91E6-813ACB9D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2D9-35A3-4A74-833A-037F773E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162B-5B51-4F77-9ABE-41BE5B04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BAF-3E2C-47B2-9516-BC351388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F4D5-D516-4C59-8F82-7EE6F5BAA1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677B-F5FF-4E8F-B041-761B4C345C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916360" y="1700280"/>
            <a:ext cx="3228840" cy="3744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916360" y="404640"/>
            <a:ext cx="3024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рск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Гайдар (Голиков) Аркадий Петрович (1904-1941)"/>
          <p:cNvPicPr/>
          <p:nvPr/>
        </p:nvPicPr>
        <p:blipFill>
          <a:blip r:embed="rId1"/>
          <a:stretch/>
        </p:blipFill>
        <p:spPr>
          <a:xfrm>
            <a:off x="1116000" y="1484280"/>
            <a:ext cx="3191040" cy="46594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109" name="Прямоугольник 2"/>
          <p:cNvSpPr/>
          <p:nvPr/>
        </p:nvSpPr>
        <p:spPr>
          <a:xfrm>
            <a:off x="4572000" y="428760"/>
            <a:ext cx="42861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айдар (Голик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Аркадий Пет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904-1941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звестный русский советский писатель. Родился в г. Льгове Курской губернии. В 14 лет вступает в Красную армию, в 15 — становится командиром роты, в 17 — командиром полка. В г. Льгове создан мемориальный музей пис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Воробьев Константин Дмитриевич (1919-1975)"/>
          <p:cNvPicPr/>
          <p:nvPr/>
        </p:nvPicPr>
        <p:blipFill>
          <a:blip r:embed="rId1"/>
          <a:stretch/>
        </p:blipFill>
        <p:spPr>
          <a:xfrm>
            <a:off x="1282680" y="1484280"/>
            <a:ext cx="3075120" cy="460872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111" name="Прямоугольник 2"/>
          <p:cNvSpPr/>
          <p:nvPr/>
        </p:nvSpPr>
        <p:spPr>
          <a:xfrm>
            <a:off x="4572000" y="642960"/>
            <a:ext cx="40006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робь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стантин Дмитри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1919-19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вестный советский писатель. Родился в с. Нижний Реутец Курского уезда Курской губернии, последние годы жизни провел в Литве. Автор повестей «Крик», «Убиты под Москвой», «Это мы, Господи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Дейнека Александр Александрович (1899-1969)"/>
          <p:cNvPicPr/>
          <p:nvPr/>
        </p:nvPicPr>
        <p:blipFill>
          <a:blip r:embed="rId1"/>
          <a:stretch/>
        </p:blipFill>
        <p:spPr>
          <a:xfrm>
            <a:off x="971640" y="1413000"/>
            <a:ext cx="3330360" cy="48034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113" name="Прямоугольник 2"/>
          <p:cNvSpPr/>
          <p:nvPr/>
        </p:nvSpPr>
        <p:spPr>
          <a:xfrm>
            <a:off x="4427640" y="0"/>
            <a:ext cx="4248000" cy="55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ейн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Александр Александр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899-1969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дающийся советский художник, график, монументалист, действительный член АХ СССР. Родился и начал творческую деятельность в Курске. На курской земле были созданы его картины «После дождя. Курск», «Сухие листья», «Солнечный ден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"/>
          <p:cNvSpPr/>
          <p:nvPr/>
        </p:nvSpPr>
        <p:spPr>
          <a:xfrm>
            <a:off x="3995640" y="0"/>
            <a:ext cx="45673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Хрущев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Никита Сергееви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1894-1971)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дающийся советский партийный и государственный деятель. Родился в с. Калиновка (ныне — Хомутовский район) Курской губернии. Рано начал трудовую жизнь, с 12 лет уже работал на заводах и шахтах Донбасс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сентябре 1953 года избирается Первым секретарем ЦК КПСС, с 1958 года — Председатель Совета Министров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6208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755640" y="2060640"/>
            <a:ext cx="66038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ыдающиеся люди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урской области...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2"/>
          <p:cNvSpPr/>
          <p:nvPr/>
        </p:nvSpPr>
        <p:spPr>
          <a:xfrm>
            <a:off x="4572000" y="620640"/>
            <a:ext cx="40719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рафим Сар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ск — родина одного из самых известных и почитаемых на Руси святых — Серафима Саровского. Серафим (в миру — Прохор Мошнин) родился в 1754 году в купеческой семье. Его отец на собственные деньги построил  Сергиево-Казанский собор в центре город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1400" y="549360"/>
            <a:ext cx="45939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Свиридов Георгий Васильевич (1915-1998)"/>
          <p:cNvPicPr/>
          <p:nvPr/>
        </p:nvPicPr>
        <p:blipFill>
          <a:blip r:embed="rId1"/>
          <a:stretch/>
        </p:blipFill>
        <p:spPr>
          <a:xfrm>
            <a:off x="1171440" y="1484280"/>
            <a:ext cx="3294360" cy="47307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96" name="Прямоугольник 2"/>
          <p:cNvSpPr/>
          <p:nvPr/>
        </p:nvSpPr>
        <p:spPr>
          <a:xfrm>
            <a:off x="4932360" y="189000"/>
            <a:ext cx="37148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вири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еоргий Васильев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915-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дающийся советский композитор, пианист и музыкально-общественный деятель, народный артист СССР, Родился в г.Фатеже Курской губер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Плевицкая (урож.Винникова) Надежда Васильевна"/>
          <p:cNvPicPr/>
          <p:nvPr/>
        </p:nvPicPr>
        <p:blipFill>
          <a:blip r:embed="rId1"/>
          <a:stretch/>
        </p:blipFill>
        <p:spPr>
          <a:xfrm>
            <a:off x="820800" y="1197000"/>
            <a:ext cx="3394080" cy="480384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98" name="Прямоугольник 2"/>
          <p:cNvSpPr/>
          <p:nvPr/>
        </p:nvSpPr>
        <p:spPr>
          <a:xfrm>
            <a:off x="4286160" y="-66600"/>
            <a:ext cx="41022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евиц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дежда Василь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1879-1940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дающаяся исполнительница русских народных и эстрадных песен. Родилась в с.Винниково Курского уезда Курской губернии. Не имела специального музыкального образования, но ее называли «русским жаворонком», «курским соловьем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Николай Николаевич Асеев"/>
          <p:cNvPicPr/>
          <p:nvPr/>
        </p:nvPicPr>
        <p:blipFill>
          <a:blip r:embed="rId1"/>
          <a:stretch/>
        </p:blipFill>
        <p:spPr>
          <a:xfrm>
            <a:off x="684360" y="1341360"/>
            <a:ext cx="3300120" cy="47325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1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356000" y="551520"/>
            <a:ext cx="41036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311"/>
                </a:solidFill>
                <a:latin typeface="Calibri"/>
                <a:ea typeface="Times New Roman"/>
              </a:rPr>
              <a:t>Асе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311"/>
                </a:solidFill>
                <a:latin typeface="Calibri"/>
                <a:ea typeface="Times New Roman"/>
              </a:rPr>
              <a:t>Николай Нико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311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113311"/>
                </a:solidFill>
                <a:latin typeface="Calibri"/>
                <a:ea typeface="Times New Roman"/>
              </a:rPr>
              <a:t>(1889-1963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311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113311"/>
                </a:solidFill>
                <a:latin typeface="Calibri"/>
                <a:ea typeface="Times New Roman"/>
              </a:rPr>
              <a:t>известный русский советский поэт. Родился в г. Льгове Курской губернии.  Автор поэм и сборников стихов «Самые мои стихи», «Курские края», «Богатырской поэмы».  Именем Н.Н. Асеева названа Курская областная научная библиот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Носов Евгений Иванович (род. в 1925)"/>
          <p:cNvPicPr/>
          <p:nvPr/>
        </p:nvPicPr>
        <p:blipFill>
          <a:blip r:embed="rId1"/>
          <a:stretch/>
        </p:blipFill>
        <p:spPr>
          <a:xfrm>
            <a:off x="1131840" y="1484280"/>
            <a:ext cx="3514680" cy="46623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103" name="Прямоугольник 4"/>
          <p:cNvSpPr/>
          <p:nvPr/>
        </p:nvSpPr>
        <p:spPr>
          <a:xfrm>
            <a:off x="5292720" y="0"/>
            <a:ext cx="314316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о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Евгений Иван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1925-2002) —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дающийся русский советский писатель, герой Социалистического труда, лауреат государственной премии. Родился в с. Толмачево Курского уезда Курской губер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Шелихов Григорий Иванович (1747-1795)"/>
          <p:cNvPicPr/>
          <p:nvPr/>
        </p:nvPicPr>
        <p:blipFill>
          <a:blip r:embed="rId1"/>
          <a:stretch/>
        </p:blipFill>
        <p:spPr>
          <a:xfrm>
            <a:off x="1079640" y="1413000"/>
            <a:ext cx="3563640" cy="47307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105" name="Прямоугольник 2"/>
          <p:cNvSpPr/>
          <p:nvPr/>
        </p:nvSpPr>
        <p:spPr>
          <a:xfrm>
            <a:off x="4714920" y="189000"/>
            <a:ext cx="39607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Шелих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ригорий Иван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747-1795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мечательный русский путешественник и купец, один из первооткрывателей тихоокеанского побережья американского континен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ак называемой «Русской Америки». Родился в г.Рыльске Курской губер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"/>
          <p:cNvSpPr/>
          <p:nvPr/>
        </p:nvSpPr>
        <p:spPr>
          <a:xfrm>
            <a:off x="4788000" y="333360"/>
            <a:ext cx="378612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Щепк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хаил Семенович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1788-1863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дающийся русский актер. Родился в с.Красное Обоянского уезда Курской губернии. Начал играть на сцене Курского театра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н совершил переворот в русском сценическом искусстве, первый понял природу актерского творчества как начала созидающего, а не подражающего жизн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7466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4:39:07Z</dcterms:created>
  <dc:creator>Руднева О.Н.</dc:creator>
  <dc:description/>
  <dc:language>en-US</dc:language>
  <cp:lastModifiedBy>1</cp:lastModifiedBy>
  <dcterms:modified xsi:type="dcterms:W3CDTF">2011-01-20T19:14:25Z</dcterms:modified>
  <cp:revision>3</cp:revision>
  <dc:subject>Выдающиеся люди Курского края...</dc:subject>
  <dc:title>Слайды</dc:title>
</cp:coreProperties>
</file>