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D34-AC14-4FC1-AD1D-1E0A5AC9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C2D-1068-49B0-B74D-0B01D1CB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B84-0B17-4BD6-8775-04B8A866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0727-3418-4C16-B11B-96B40ED5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A27-8F55-47DB-9C41-496AAD82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4B9-200D-4568-887E-D9C168AC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DA2-826F-4858-9DD2-C829FA3D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3EA-8B84-4D43-A792-37C55A75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E20-5050-43FB-90E0-76CC2AE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2B5-070D-4722-B59C-8C8AF40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D61-3B05-4E72-81BE-E084C6F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39E-09D0-4A5F-AABB-0924A44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9A4E-58EB-4C19-AD45-F3B8DE40C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emia-150x150.jpg"/>
          <p:cNvPicPr/>
          <p:nvPr/>
        </p:nvPicPr>
        <p:blipFill>
          <a:blip r:embed="rId1"/>
          <a:stretch/>
        </p:blipFill>
        <p:spPr>
          <a:xfrm>
            <a:off x="2556000" y="256536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176040" y="-212760"/>
            <a:ext cx="871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 т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2349000"/>
            <a:ext cx="469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тиворечия между целью воспитания и Законом об образ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w44ywsbb.jpg"/>
          <p:cNvPicPr/>
          <p:nvPr/>
        </p:nvPicPr>
        <p:blipFill>
          <a:blip r:embed="rId1"/>
          <a:stretch/>
        </p:blipFill>
        <p:spPr>
          <a:xfrm>
            <a:off x="5580000" y="1989000"/>
            <a:ext cx="2879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Цель родительского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33360"/>
            <a:ext cx="4402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ивлечение внимания родительской общественности к значимости трудового воспитания, осознанию необходимости труда в формировании нравственно-личностных качест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CAAMN314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34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ый стол (совместно с детьм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ительный этап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лассные часы «Роль труда в воспитании личност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кетирование «Выявление отношения к ОПТ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машнее задания родителям и учащимся(сочинения, эссе, миниатюра «Труд в моей школе»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167c351d3f2779f9c76af83a2b24d939_big.jpg"/>
          <p:cNvPicPr/>
          <p:nvPr/>
        </p:nvPicPr>
        <p:blipFill>
          <a:blip r:embed="rId1"/>
          <a:stretch/>
        </p:blipFill>
        <p:spPr>
          <a:xfrm>
            <a:off x="5580000" y="3573360"/>
            <a:ext cx="33512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формление кабин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ловицы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ллаж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170479_333548.jpg"/>
          <p:cNvPicPr/>
          <p:nvPr/>
        </p:nvPicPr>
        <p:blipFill>
          <a:blip r:embed="rId1"/>
          <a:stretch/>
        </p:blipFill>
        <p:spPr>
          <a:xfrm>
            <a:off x="4716360" y="3789360"/>
            <a:ext cx="4152960" cy="2763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P1000016.jpg"/>
          <p:cNvPicPr/>
          <p:nvPr/>
        </p:nvPicPr>
        <p:blipFill>
          <a:blip r:embed="rId2"/>
          <a:stretch/>
        </p:blipFill>
        <p:spPr>
          <a:xfrm>
            <a:off x="5292720" y="1341360"/>
            <a:ext cx="2951280" cy="214956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3" descr="IMG_1156.jpg"/>
          <p:cNvPicPr/>
          <p:nvPr/>
        </p:nvPicPr>
        <p:blipFill>
          <a:blip r:embed="rId3"/>
          <a:stretch/>
        </p:blipFill>
        <p:spPr>
          <a:xfrm>
            <a:off x="1258920" y="479736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. Моделирование ситуаций из практики (не пришли на субботни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нг для сближения участников собр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домашних заданий (делает классный руководите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ести виды деятельности с ОПТ в виде игры «Солнышк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в пар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редставление положительного опыта с опорой  на нравственные общечеловеческие н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4724280"/>
          <a:ext cx="6599520" cy="1044720"/>
        </p:xfrm>
        <a:graphic>
          <a:graphicData uri="http://schemas.openxmlformats.org/drawingml/2006/table">
            <a:tbl>
              <a:tblPr/>
              <a:tblGrid>
                <a:gridCol w="3888000"/>
                <a:gridCol w="271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 личные качества воспитывает данный 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 (РЕШЕНИЕ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озврат к моделированию ситуации с целью дать нравственную оценку  с позиции общечеловеческой мора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ести изменения, дополнения в «Положение об организации ОПТ обучающихся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работка и реализация проекта «Наше общественное дело» (например: клумба или грядка класс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4:38:39Z</dcterms:created>
  <dc:creator>intel</dc:creator>
  <dc:description/>
  <dc:language>en-US</dc:language>
  <cp:lastModifiedBy>Admin</cp:lastModifiedBy>
  <dcterms:modified xsi:type="dcterms:W3CDTF">2011-03-30T15:32:13Z</dcterms:modified>
  <cp:revision>7</cp:revision>
  <dc:subject/>
  <dc:title>Слайд 1</dc:title>
</cp:coreProperties>
</file>