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74D4-9C0D-4E4A-A916-FF56323A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D487-5CFE-4869-B63A-8870B212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C889-12F0-4D0C-B1C1-996B99D2A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1C2E-8C5E-413D-A53D-770A4DC8F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ACAD-81F2-4E7A-AA70-F8D17ACB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7C8A-6787-41EB-A0A8-C0882A14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05CA-95E9-4D1A-9073-88049D8A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D055-C534-45EA-8FBF-C49A8EE7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621B-7812-4F1A-928F-FC79C847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B29B-2619-45C5-BB48-53A8EE84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9D4B-6729-488F-92BE-5850D5AC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4ADB-4743-454B-96B3-880099EB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096C-CFEA-4209-8A0E-0A531466EF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semia-150x150.jpg"/>
          <p:cNvPicPr/>
          <p:nvPr/>
        </p:nvPicPr>
        <p:blipFill>
          <a:blip r:embed="rId1"/>
          <a:stretch/>
        </p:blipFill>
        <p:spPr>
          <a:xfrm>
            <a:off x="2556000" y="2565360"/>
            <a:ext cx="4176720" cy="417672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176040" y="-212760"/>
            <a:ext cx="8718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Актуальность т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2349000"/>
            <a:ext cx="469116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тиворечия между целью воспитания и Законом об образован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w44ywsbb.jpg"/>
          <p:cNvPicPr/>
          <p:nvPr/>
        </p:nvPicPr>
        <p:blipFill>
          <a:blip r:embed="rId1"/>
          <a:stretch/>
        </p:blipFill>
        <p:spPr>
          <a:xfrm>
            <a:off x="5580000" y="1989000"/>
            <a:ext cx="28796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Цель родительского собр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133360"/>
            <a:ext cx="4402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ривлечение внимания родительской общественности к значимости трудового воспитания, осознанию необходимости труда в формировании нравственно-личностных качеств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3" descr="CAAMN314.jpg"/>
          <p:cNvPicPr/>
          <p:nvPr/>
        </p:nvPicPr>
        <p:blipFill>
          <a:blip r:embed="rId1"/>
          <a:stretch/>
        </p:blipFill>
        <p:spPr>
          <a:xfrm>
            <a:off x="5148360" y="2205000"/>
            <a:ext cx="340344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руглый стол (совместно с детьми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60020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дготовительный этап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лассные часы «Роль труда в воспитании личност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нкетирование «Выявление отношения к ОПТ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омашнее задания родителям и учащимся(сочинения, эссе, миниатюра «Труд в моей школе»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167c351d3f2779f9c76af83a2b24d939_big.jpg"/>
          <p:cNvPicPr/>
          <p:nvPr/>
        </p:nvPicPr>
        <p:blipFill>
          <a:blip r:embed="rId1"/>
          <a:stretch/>
        </p:blipFill>
        <p:spPr>
          <a:xfrm>
            <a:off x="5580000" y="3573360"/>
            <a:ext cx="335124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формление кабин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словицы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ентация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ллаж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углый сто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170479_333548.jpg"/>
          <p:cNvPicPr/>
          <p:nvPr/>
        </p:nvPicPr>
        <p:blipFill>
          <a:blip r:embed="rId1"/>
          <a:stretch/>
        </p:blipFill>
        <p:spPr>
          <a:xfrm>
            <a:off x="4716360" y="3789360"/>
            <a:ext cx="4152960" cy="27637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P1000016.jpg"/>
          <p:cNvPicPr/>
          <p:nvPr/>
        </p:nvPicPr>
        <p:blipFill>
          <a:blip r:embed="rId2"/>
          <a:stretch/>
        </p:blipFill>
        <p:spPr>
          <a:xfrm>
            <a:off x="5292720" y="1341360"/>
            <a:ext cx="2951280" cy="214956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3" descr="IMG_1156.jpg"/>
          <p:cNvPicPr/>
          <p:nvPr/>
        </p:nvPicPr>
        <p:blipFill>
          <a:blip r:embed="rId3"/>
          <a:stretch/>
        </p:blipFill>
        <p:spPr>
          <a:xfrm>
            <a:off x="1258920" y="4797360"/>
            <a:ext cx="238104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од собр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0. Моделирование ситуаций из практики (не пришли на субботник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енинг для сближения участников собр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ализ домашних заданий (делает классный руководител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отнести виды деятельности с ОПТ в виде игры «Солнышко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та в пара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Представление положительного опыта с опорой  на нравственные общечеловеческие нор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4724280"/>
          <a:ext cx="6599520" cy="1044720"/>
        </p:xfrm>
        <a:graphic>
          <a:graphicData uri="http://schemas.openxmlformats.org/drawingml/2006/table">
            <a:tbl>
              <a:tblPr/>
              <a:tblGrid>
                <a:gridCol w="3888000"/>
                <a:gridCol w="2711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ид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ие личные качества воспитывает данный вид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ТОГ (РЕШЕНИЕ)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озврат к моделированию ситуации с целью дать нравственную оценку  с позиции общечеловеческой морал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нести изменения, дополнения в «Положение об организации ОПТ обучающихся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зработка и реализация проекта «Наше общественное дело» (например: клумба или грядка класс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04:38:39Z</dcterms:created>
  <dc:creator>intel</dc:creator>
  <dc:description/>
  <dc:language>en-US</dc:language>
  <cp:lastModifiedBy>Admin</cp:lastModifiedBy>
  <dcterms:modified xsi:type="dcterms:W3CDTF">2011-03-30T15:32:13Z</dcterms:modified>
  <cp:revision>7</cp:revision>
  <dc:subject/>
  <dc:title>Слайд 1</dc:title>
</cp:coreProperties>
</file>