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6B0-EE70-4993-AAD6-42A230DD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9EC-6815-42CC-A320-5361DAA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271-C34F-47C0-AD0E-BEDB9416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B8C-79EA-4413-8404-B96F6252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20B-0AAC-4872-9AA9-C7DD100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4B3-6A9B-4CFB-9F13-3F51A2F6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1B4-BD58-43D6-A849-B171E5B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9E5-6B43-40AF-836A-03C8ADD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74A-AF44-43B9-97CF-24559992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D3C-1786-4561-AC7E-47D280A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645-FD57-4036-A9C5-B0F62CE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453-F581-45FA-99D1-DA14AEA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BA1-DA77-4F1D-83FC-45E79E709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emia-150x150.jpg"/>
          <p:cNvPicPr/>
          <p:nvPr/>
        </p:nvPicPr>
        <p:blipFill>
          <a:blip r:embed="rId1"/>
          <a:stretch/>
        </p:blipFill>
        <p:spPr>
          <a:xfrm>
            <a:off x="2556000" y="256536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76040" y="-212760"/>
            <a:ext cx="871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349000"/>
            <a:ext cx="469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оречия между целью воспитания и Законом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w44ywsbb.jpg"/>
          <p:cNvPicPr/>
          <p:nvPr/>
        </p:nvPicPr>
        <p:blipFill>
          <a:blip r:embed="rId1"/>
          <a:stretch/>
        </p:blipFill>
        <p:spPr>
          <a:xfrm>
            <a:off x="5580000" y="1989000"/>
            <a:ext cx="2879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родительского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33360"/>
            <a:ext cx="4402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ивлечение внимания родительской общественности к значимости трудового воспитания, осознанию необходимости труда в формировании нравственно-личностных качест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CAAMN314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34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ый стол (совместно с детьм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лассные часы «Роль труда в воспитании личност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кетирование «Выявление отношения к ОПТ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машнее задания родителям и учащимся(сочинения, эссе, миниатюра «Труд в моей школе»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167c351d3f2779f9c76af83a2b24d939_big.jpg"/>
          <p:cNvPicPr/>
          <p:nvPr/>
        </p:nvPicPr>
        <p:blipFill>
          <a:blip r:embed="rId1"/>
          <a:stretch/>
        </p:blipFill>
        <p:spPr>
          <a:xfrm>
            <a:off x="5580000" y="3573360"/>
            <a:ext cx="33512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формление каби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лаж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170479_333548.jpg"/>
          <p:cNvPicPr/>
          <p:nvPr/>
        </p:nvPicPr>
        <p:blipFill>
          <a:blip r:embed="rId1"/>
          <a:stretch/>
        </p:blipFill>
        <p:spPr>
          <a:xfrm>
            <a:off x="4716360" y="3789360"/>
            <a:ext cx="4152960" cy="2763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P1000016.jpg"/>
          <p:cNvPicPr/>
          <p:nvPr/>
        </p:nvPicPr>
        <p:blipFill>
          <a:blip r:embed="rId2"/>
          <a:stretch/>
        </p:blipFill>
        <p:spPr>
          <a:xfrm>
            <a:off x="5292720" y="1341360"/>
            <a:ext cx="2951280" cy="21495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IMG_1156.jpg"/>
          <p:cNvPicPr/>
          <p:nvPr/>
        </p:nvPicPr>
        <p:blipFill>
          <a:blip r:embed="rId3"/>
          <a:stretch/>
        </p:blipFill>
        <p:spPr>
          <a:xfrm>
            <a:off x="1258920" y="479736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. Моделирование ситуаций из практики (не пришли на субботни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нг для сближения участников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домашних заданий (делает классный руководите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ести виды деятельности с ОПТ в виде игры «Солнышк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 пар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редставление положительного опыта с опорой  на нравственные общечеловеческие н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4724280"/>
          <a:ext cx="6599520" cy="1044720"/>
        </p:xfrm>
        <a:graphic>
          <a:graphicData uri="http://schemas.openxmlformats.org/drawingml/2006/table">
            <a:tbl>
              <a:tblPr/>
              <a:tblGrid>
                <a:gridCol w="3888000"/>
                <a:gridCol w="271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личные качества воспитывает данный 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(РЕШЕНИЕ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зврат к моделированию ситуации с целью дать нравственную оценку  с позиции общечеловеческой мор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сти изменения, дополнения в «Положение об организации ОПТ обучающихс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работка и реализация проекта «Наше общественное дело» (например: клумба или грядка класс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4:38:39Z</dcterms:created>
  <dc:creator>intel</dc:creator>
  <dc:description/>
  <dc:language>en-US</dc:language>
  <cp:lastModifiedBy>Admin</cp:lastModifiedBy>
  <dcterms:modified xsi:type="dcterms:W3CDTF">2011-03-30T15:32:13Z</dcterms:modified>
  <cp:revision>7</cp:revision>
  <dc:subject/>
  <dc:title>Слайд 1</dc:title>
</cp:coreProperties>
</file>