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FF8-C226-4101-9475-9D9A862F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0D4-4425-4DCE-AC69-04CEC0AE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B41-537F-42CE-BBF9-9ECBA7A1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36E-5549-4B61-8BAD-7C61AFB8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FED7-D24C-4300-96EC-32D7E750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6A2-2F88-417F-BD6E-6F6A3833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02B-F352-4D16-9619-1745FA92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50AE-5A34-485A-AB13-ECA7391B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C1C-9045-4BE8-AC7C-01EF038E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0B6-5824-49BE-9ABB-25FB610E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3A9-798F-4307-98D4-B4452CAF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814-7264-4638-8E21-94E0282B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853C-B28D-4FEC-B84E-94F85975D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mc.komi.com/03/10/img/032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88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етописец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емли 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сской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89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70 лет со дня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. О. Ключ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s6[1]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48320" y="475920"/>
            <a:ext cx="4038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истор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:В 3 т. :   Полный курс лекций / В. О. Ключевский. - Мн. : Харвест.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3. - 2003. - 592 с. ; 21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ья книга В.О.Ключевского содержит двадцать пять лекций крупнейшего труда русского историка с времен правления Петра Великого до реформ Александр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середине 19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782640" y="404640"/>
            <a:ext cx="33876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азания иностранцев о Московском государств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/ Вступит. статья и коммент. А. Н. Медушевского. - М. : Прометей, 1991. - 334 с. ; 20с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исследовании известного русского историка В.О.Ключевского рассмотрено около 40 сказаний иностранцев, дающих наиболее живописные, разнообразные, разносторонние материалы по истории Московского государства VI-XVIII в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861840" y="620640"/>
            <a:ext cx="32274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0" y="404280"/>
            <a:ext cx="4038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ославие в Росс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/ В. О. Ключевский. - М. : Мысль, 2000. - 624 с. ; 21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ервые собраны оригинальные работы В.О.Ключевского, которые показывают важнейшие аспекты истории православия в России: блестящее магистерское исследование житий святых; работа, раскрывающая роль русской церкви в установлении цивилизационных норм гражданского права; статьи о характерных особенностях русских монастырей, их участий в колонизационной деятельности; о значении преподобного Сергия для русского народа и государ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833400" y="476280"/>
            <a:ext cx="32846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ие портре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/ В. О. Ключевский. - М. : Вече, 2005. - 480 с. : ил. ; 25 см. - (Великая Росс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ниге из разных источников собраны исторические портреты известных русских политических, религиозных и культурных деятелей от Древней Руси до конца XIX века. Книга разделена на две части: Правители Руси и святые и Портреты и эскизы классиков русской словесност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534960" y="333360"/>
            <a:ext cx="388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ные портре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/ В. О. Ключевский. - М.: Современник, 1991- 463 с. : ил. - 21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бликуемые в сборнике произведения раскрывают взгляды историка не только на отечественную историю, но и на развитие русской литературы от Фонвизина до Лермонтова. Они раскрывают его понимание связи изящной словесности с истор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677880" y="549360"/>
            <a:ext cx="35956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История ничему не учит, а только наказывает за незнание ур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О. Ключ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s6[1]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. О. Ключевский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841-19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172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s6[1]"/>
          <p:cNvPicPr/>
          <p:nvPr/>
        </p:nvPicPr>
        <p:blipFill>
          <a:blip r:embed="rId1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47" name="Picture 10" descr="Картинка 3 из 898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1413000"/>
            <a:ext cx="4032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лся В. О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ючевский 28 января (по старому стилю - 16 января) 1841 в селе Вознесенское Пензенской губернии, в семье сельского священника. Учился в пензенском духовном училище и духовной семина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61, преодолев трудные материальные обстоятельства, поступил на историко-филологический факультет Московского университета. В 1865 окончил университет, защитив кандидатскую диссертацию на тему "Сказания иностранцев о Московском государстве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вшись при университете, Ключевский выбрал для специального научного исследования обширный рукописный материал житий древнерусских святых. Результатом была магистерская диссертация "Древнерусские жития святых как исторический источник" (1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871 Ключевский был избран на кафедру русской истории в Московской духовной академии, которую занимал до 190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s6[1]"/>
          <p:cNvPicPr/>
          <p:nvPr/>
        </p:nvPicPr>
        <p:blipFill>
          <a:blip r:embed="rId1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ентябре 1879 был избран доцентом, в 1882 - экстраординарным, в 1885 - ординарным профессором русской истории Московского университета. В 1882 защитил докторскую диссертацию "Боярская дума Древней Рус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80-х гг. был членом Московского археологического общества, общества любителей российской словесности, Московского общества Истории и Древностей при Московском университете (председатель в 1893 - 19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89 член-корреспондент Петербургской Академии Наук, с 1900 - академик истории и древностей русских, в 1908 - был избран почетным академиком разряда изящной словесности Академии На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899 издал "Краткое пособие по Русской истории" как "частное издание для слушателей автора", а в 1904 приступил к изданию полного курса. Всего вышло 4 тома, доведенных до времени Екатерины I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чевский умер 25 мая (по старому стилю - 12 мая) 1911 в Москве. Похоронен на кладбище Донского монастыр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6[1]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Природа рождает людей, жизнь их хоронит, а история воскрешает, блуждая по их могил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О. Ключ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6[1]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дню рождения историка В. О. Ключевского Отдел гуманитарно-просветительской работы (315/1) проводит выставку его научных тр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тавка пройдет с 28.01.11 по 28.02.11 г. Ждем вас и заранее благодарим за посе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6[1]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0" y="40428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оризмы. Исторические портреты и этюды. Дневни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 В. О. Ключевский. - М. : Мысль, 1993. - 415 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борник избранных произведений одного из крупнейших отечественных историков, В.О.Ключевского, включены знаменитые афоризмы ученого, его красочные этюды о жизни и деятельности прославленных людей России -Сергия Радонежского, Ивана Грозного, Петра Великого и других ,а также дневники и дневниковые запи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58" name="Picture 12" descr=""/>
          <p:cNvPicPr/>
          <p:nvPr/>
        </p:nvPicPr>
        <p:blipFill>
          <a:blip r:embed="rId2"/>
          <a:stretch/>
        </p:blipFill>
        <p:spPr>
          <a:xfrm>
            <a:off x="911160" y="476280"/>
            <a:ext cx="31305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усская истор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В 3 т. : Полный курс лекций / В. О. Ключевский. - Мн. : Харвест. -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1. - 2003. - 592 с. ; 21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освещает основные     элементы своей концепции и общей периодизации отечественной истории. Повествование охватывает древнейший период русской истории,"удельные века", развитие Русского государства во времена правления Ивана Гроз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749160" y="333360"/>
            <a:ext cx="3453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истор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В 3 т. : Полный курс лекций / В. О. Ключевский. - Мн. : Харвест.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2. - 2003. - 592 с. ; 21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ой том В.О.Ключевского содержит двадцать девять лекций крупнейшего труда русского историка со времен Ивана Грозного до начала Северной войны в правление Петра Вел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789120" y="549360"/>
            <a:ext cx="3375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1:24:41Z</dcterms:created>
  <dc:creator>redkoed</dc:creator>
  <dc:description/>
  <dc:language>en-US</dc:language>
  <cp:lastModifiedBy>User</cp:lastModifiedBy>
  <dcterms:modified xsi:type="dcterms:W3CDTF">2011-04-24T10:34:57Z</dcterms:modified>
  <cp:revision>24</cp:revision>
  <dc:subject/>
  <dc:title>Слайд 1</dc:title>
</cp:coreProperties>
</file>