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B2C-7C74-44E0-AB9B-02F1F2C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386-73EA-4356-A0C5-B3A5760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DD2-37CB-495F-BDF7-004C474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D70-9492-43DD-8C76-A9F57F0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9BE-6582-4F5E-8A95-174BF55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B63-04C8-4686-AD26-2DCC593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228-8D4B-494E-A6E1-99EA648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A18-5A66-4A1D-A43E-04517CF0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93E-7591-45B1-A303-F8833D1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4A0-DACA-44AD-BE64-D2D4364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1CE-7BE6-4408-A358-7D6C702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E3F-8C63-4EBF-AA50-2B6DCA7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D3E-F6DF-45C6-AA61-6E50C953E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mc.komi.com/03/10/img/0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тописец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мли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сской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70 лет со дня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. О. Ключ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В 3 т. :  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3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книга В.О.Ключевского содержит двадцать пять лекций крупнейшего труда русского историка с времен правления Петра Великого до реформ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ередине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782640" y="404640"/>
            <a:ext cx="33876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азания иностранцев о Московском государст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ступит. статья и коммент. А. Н. Медушевского. - М. : Прометей, 1991. - 334 с. ; 20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сследовании известного русского историка В.О.Ключевского рассмотрено около 40 сказаний иностранцев, дающих наиболее живописные, разнообразные, разносторонние материалы по истории Московского государства VI-XVIII в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861840" y="620640"/>
            <a:ext cx="3227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ославие в Росс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Мысль, 2000. - 624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собраны оригинальные работы В.О.Ключевского, которые показывают важнейшие аспекты истории православия в России: блестящее магистерское исследование житий святых; работа, раскрывающая роль русской церкви в установлении цивилизационных норм гражданского права; статьи о характерных особенностях русских монастырей, их участий в колонизационной деятельности; о значении преподобного Сергия для русского народ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33400" y="476280"/>
            <a:ext cx="3284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и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Вече, 2005. - 480 с. : ил. ; 25 см. - (Великая Рос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ниге из разных источников собраны исторические портреты известных русских политических, религиозных и культурных деятелей от Древней Руси до конца XIX века. Книга разделена на две части: Правители Руси и святые и Портреты и эскизы классиков русской словес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534960" y="333360"/>
            <a:ext cx="388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ы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: Современник, 1991- 463 с. : ил. - 21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куемые в сборнике произведения раскрывают взгляды историка не только на отечественную историю, но и на развитие русской литературы от Фонвизина до Лермонтова. Они раскрывают его понимание связи изящной словесности с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77880" y="549360"/>
            <a:ext cx="35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стория ничему не учит, а только наказывает за незнани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. О. Ключевск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841-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172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6[1]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47" name="Picture 10" descr="Картинка 3 из 89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413000"/>
            <a:ext cx="403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лся В. О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ючевский 28 января (по старому стилю - 16 января) 1841 в селе Вознесенское Пензенской губернии, в семье сельского священника. Учился в пензенском духовном училище и духовной семин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61, преодолев трудные материальные обстоятельства, поступил на историко-филологический факультет Московского университета. В 1865 окончил университет, защитив кандидатскую диссертацию на тему "Сказания иностранцев о Московском государств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шись при университете, Ключевский выбрал для специального научного исследования обширный рукописный материал житий древнерусских святых. Результатом была магистерская диссертация "Древнерусские жития святых как исторический источник" (1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71 Ключевский был избран на кафедру русской истории в Московской духовной академии, которую занимал до 19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6[1]"/>
          <p:cNvPicPr/>
          <p:nvPr/>
        </p:nvPicPr>
        <p:blipFill>
          <a:blip r:embed="rId1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нтябре 1879 был избран доцентом, в 1882 - экстраординарным, в 1885 - ординарным профессором русской истории Московского университета. В 1882 защитил докторскую диссертацию "Боярская дума Древней Рус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0-х гг. был членом Московского археологического общества, общества любителей российской словесности, Московского общества Истории и Древностей при Московском университете (председатель в 1893 - 19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9 член-корреспондент Петербургской Академии Наук, с 1900 - академик истории и древностей русских, в 1908 - был избран почетным академиком разряда изящной словесности Академии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99 издал "Краткое пособие по Русской истории" как "частное издание для слушателей автора", а в 1904 приступил к изданию полного курса. Всего вышло 4 тома, доведенных до времени Екатерины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чевский умер 25 мая (по старому стилю - 12 мая) 1911 в Москве. Похоронен на кладбище Донского монастыр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рирода рождает людей, жизнь их хоронит, а история воскрешает, блуждая по их мог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дню рождения историка В. О. Ключевского Отдел гуманитарно-просветительской работы (315/1) проводит выставку его научных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пройдет с 28.01.11 по 28.02.11 г. Ждем вас и заранее благодарим за посе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оризмы. Исторические портреты и этюды. Днев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 В. О. Ключевский. - М. : Мысль, 1993. - 415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борник избранных произведений одного из крупнейших отечественных историков, В.О.Ключевского, включены знаменитые афоризмы ученого, его красочные этюды о жизни и деятельности прославленных людей России -Сергия Радонежского, Ивана Грозного, Петра Великого и других ,а также дневники и дневников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58" name="Picture 12" descr=""/>
          <p:cNvPicPr/>
          <p:nvPr/>
        </p:nvPicPr>
        <p:blipFill>
          <a:blip r:embed="rId2"/>
          <a:stretch/>
        </p:blipFill>
        <p:spPr>
          <a:xfrm>
            <a:off x="911160" y="476280"/>
            <a:ext cx="3130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1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освещает основные     элементы своей концепции и общей периодизации отечественной истории. Повествование охватывает древнейший период русской истории,"удельные века", развитие Русского государства во времена правления Ивана Гроз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749160" y="333360"/>
            <a:ext cx="345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2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й том В.О.Ключевского содержит двадцать девять лекций крупнейшего труда русского историка со времен Ивана Грозного до начала Северной войны в правление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89120" y="549360"/>
            <a:ext cx="3375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24:41Z</dcterms:created>
  <dc:creator>redkoed</dc:creator>
  <dc:description/>
  <dc:language>en-US</dc:language>
  <cp:lastModifiedBy>User</cp:lastModifiedBy>
  <dcterms:modified xsi:type="dcterms:W3CDTF">2011-04-24T10:34:57Z</dcterms:modified>
  <cp:revision>24</cp:revision>
  <dc:subject/>
  <dc:title>Слайд 1</dc:title>
</cp:coreProperties>
</file>