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5CD2-8BFF-46F3-A7B5-ACC7618F13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40DF-859F-4293-8605-A600003D89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7B3F-CCBF-48D7-A335-7A5F41CB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42F8-6A14-48BC-9926-41FE4923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5800-0F27-4D71-AC4D-86D4EDE3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413B-B978-4125-A0A7-B2F3A6A4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828B-997D-483F-931C-20D2449E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6F71-4B11-477D-9564-5EA9486B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C149-E89D-4E4F-BDFD-65A60F85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6710-351F-46A1-BFB3-9D03476E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314B-F94D-4DDB-8EB3-72137582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5B3-8F5D-4A3F-84C8-55AA965C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4ADF-4F39-4387-ADD2-774EB05D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E1BD-073E-4781-961D-105D2CD4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242C-12E9-4246-BB9E-6B40A4DACF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da4a"/>
            </a:gs>
            <a:gs pos="100000">
              <a:srgbClr val="208a1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900000" y="725400"/>
            <a:ext cx="770580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усский язык </a:t>
            </a:r>
            <a:br>
              <a:rPr sz="8000"/>
            </a:b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</a:t>
            </a:r>
            <a:br>
              <a:rPr sz="8000"/>
            </a:b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ультура реч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7823160" y="5219640"/>
            <a:ext cx="132084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eb35"/>
            </a:gs>
            <a:gs pos="100000">
              <a:srgbClr val="36a9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вукопис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образительный прием, основанный на повторе звуков, которые образно передают рисуемое явление, тем самым способствуют раскрытию смыслового и художественного содержания образа, усиливают его вырази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Organization Chart 11"/>
          <p:cNvGrpSpPr/>
          <p:nvPr/>
        </p:nvGrpSpPr>
        <p:grpSpPr>
          <a:xfrm>
            <a:off x="250920" y="3933720"/>
            <a:ext cx="8675280" cy="1800000"/>
            <a:chOff x="250920" y="3933720"/>
            <a:chExt cx="8675280" cy="1800000"/>
          </a:xfrm>
        </p:grpSpPr>
        <p:cxnSp>
          <p:nvCxnSpPr>
            <p:cNvPr id="53" name="_s1052"/>
            <p:cNvCxnSpPr>
              <a:stCxn id="54" idx="0"/>
              <a:endCxn id="55" idx="2"/>
            </p:cNvCxnSpPr>
            <p:nvPr/>
          </p:nvCxnSpPr>
          <p:spPr>
            <a:xfrm flipH="1" flipV="1" rot="5400000">
              <a:off x="4099320" y="4388040"/>
              <a:ext cx="428400" cy="553320"/>
            </a:xfrm>
            <a:prstGeom prst="bentConnector3">
              <a:avLst>
                <a:gd name="adj1" fmla="val 267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053"/>
            <p:cNvCxnSpPr>
              <a:stCxn id="57" idx="0"/>
              <a:endCxn id="55" idx="2"/>
            </p:cNvCxnSpPr>
            <p:nvPr/>
          </p:nvCxnSpPr>
          <p:spPr>
            <a:xfrm flipV="1" rot="16200000">
              <a:off x="6307200" y="2732760"/>
              <a:ext cx="428400" cy="3863520"/>
            </a:xfrm>
            <a:prstGeom prst="bentConnector3">
              <a:avLst>
                <a:gd name="adj1" fmla="val 267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54"/>
            <p:cNvCxnSpPr>
              <a:stCxn id="59" idx="0"/>
              <a:endCxn id="55" idx="2"/>
            </p:cNvCxnSpPr>
            <p:nvPr/>
          </p:nvCxnSpPr>
          <p:spPr>
            <a:xfrm flipH="1" flipV="1" rot="5400000">
              <a:off x="3547440" y="3836520"/>
              <a:ext cx="428400" cy="1656360"/>
            </a:xfrm>
            <a:prstGeom prst="bentConnector3">
              <a:avLst>
                <a:gd name="adj1" fmla="val 267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055"/>
            <p:cNvCxnSpPr>
              <a:stCxn id="61" idx="0"/>
              <a:endCxn id="55" idx="2"/>
            </p:cNvCxnSpPr>
            <p:nvPr/>
          </p:nvCxnSpPr>
          <p:spPr>
            <a:xfrm flipV="1" rot="16200000">
              <a:off x="4651920" y="4388040"/>
              <a:ext cx="428400" cy="552960"/>
            </a:xfrm>
            <a:prstGeom prst="bentConnector3">
              <a:avLst>
                <a:gd name="adj1" fmla="val 267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56"/>
            <p:cNvCxnSpPr>
              <a:stCxn id="63" idx="0"/>
              <a:endCxn id="55" idx="2"/>
            </p:cNvCxnSpPr>
            <p:nvPr/>
          </p:nvCxnSpPr>
          <p:spPr>
            <a:xfrm flipV="1" rot="16200000">
              <a:off x="5202720" y="3837240"/>
              <a:ext cx="428400" cy="1654920"/>
            </a:xfrm>
            <a:prstGeom prst="bentConnector3">
              <a:avLst>
                <a:gd name="adj1" fmla="val 267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57"/>
            <p:cNvCxnSpPr>
              <a:stCxn id="65" idx="0"/>
              <a:endCxn id="55" idx="2"/>
            </p:cNvCxnSpPr>
            <p:nvPr/>
          </p:nvCxnSpPr>
          <p:spPr>
            <a:xfrm flipV="1" rot="16200000">
              <a:off x="5754600" y="3285360"/>
              <a:ext cx="428400" cy="2758320"/>
            </a:xfrm>
            <a:prstGeom prst="bentConnector3">
              <a:avLst>
                <a:gd name="adj1" fmla="val 267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58"/>
            <p:cNvCxnSpPr>
              <a:stCxn id="67" idx="0"/>
              <a:endCxn id="55" idx="2"/>
            </p:cNvCxnSpPr>
            <p:nvPr/>
          </p:nvCxnSpPr>
          <p:spPr>
            <a:xfrm flipH="1" flipV="1" rot="5400000">
              <a:off x="2996280" y="3285000"/>
              <a:ext cx="428400" cy="2759760"/>
            </a:xfrm>
            <a:prstGeom prst="bentConnector3">
              <a:avLst>
                <a:gd name="adj1" fmla="val 267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59"/>
            <p:cNvCxnSpPr>
              <a:stCxn id="69" idx="0"/>
              <a:endCxn id="55" idx="2"/>
            </p:cNvCxnSpPr>
            <p:nvPr/>
          </p:nvCxnSpPr>
          <p:spPr>
            <a:xfrm flipH="1" flipV="1" rot="5400000">
              <a:off x="2443320" y="2732400"/>
              <a:ext cx="428400" cy="3864600"/>
            </a:xfrm>
            <a:prstGeom prst="bentConnector3">
              <a:avLst>
                <a:gd name="adj1" fmla="val 267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5" name="_s1060"/>
            <p:cNvSpPr/>
            <p:nvPr/>
          </p:nvSpPr>
          <p:spPr>
            <a:xfrm>
              <a:off x="3946680" y="3933720"/>
              <a:ext cx="1283040" cy="51732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Звукопис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61">
              <a:hlinkClick r:id="rId1" action="ppaction://hlinksldjump"/>
            </p:cNvPr>
            <p:cNvSpPr/>
            <p:nvPr/>
          </p:nvSpPr>
          <p:spPr>
            <a:xfrm>
              <a:off x="250920" y="4878720"/>
              <a:ext cx="947160" cy="8550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ллитерац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62"/>
            <p:cNvSpPr/>
            <p:nvPr/>
          </p:nvSpPr>
          <p:spPr>
            <a:xfrm>
              <a:off x="1355400" y="4878720"/>
              <a:ext cx="947520" cy="8550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ссонан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63"/>
            <p:cNvSpPr/>
            <p:nvPr/>
          </p:nvSpPr>
          <p:spPr>
            <a:xfrm>
              <a:off x="6875280" y="4878720"/>
              <a:ext cx="945720" cy="8550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Тавтограмм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64"/>
            <p:cNvSpPr/>
            <p:nvPr/>
          </p:nvSpPr>
          <p:spPr>
            <a:xfrm>
              <a:off x="5772240" y="4878720"/>
              <a:ext cx="945720" cy="8550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Звукопод-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раж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65"/>
            <p:cNvSpPr/>
            <p:nvPr/>
          </p:nvSpPr>
          <p:spPr>
            <a:xfrm>
              <a:off x="4667040" y="4878720"/>
              <a:ext cx="947520" cy="8550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Сты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66"/>
            <p:cNvSpPr/>
            <p:nvPr/>
          </p:nvSpPr>
          <p:spPr>
            <a:xfrm>
              <a:off x="2460240" y="4878720"/>
              <a:ext cx="945720" cy="8550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нафо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67"/>
            <p:cNvSpPr/>
            <p:nvPr/>
          </p:nvSpPr>
          <p:spPr>
            <a:xfrm>
              <a:off x="7979040" y="4878720"/>
              <a:ext cx="947160" cy="8550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Палиндро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68"/>
            <p:cNvSpPr/>
            <p:nvPr/>
          </p:nvSpPr>
          <p:spPr>
            <a:xfrm>
              <a:off x="3564000" y="4878720"/>
              <a:ext cx="945720" cy="8550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Эпифо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b21e"/>
            </a:gs>
            <a:gs pos="50000">
              <a:srgbClr val="4beb35"/>
            </a:gs>
            <a:gs pos="100000">
              <a:srgbClr val="48b2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3964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Аллитерац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 один из способов звуковой организации речи, относящейся к звуковым повторам однородных согласных зв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Гой ты, Русь моя родная,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р с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р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Хаты – в ризах образа…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з р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е видать конца и края,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ц, р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олько синь сосет глаза.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’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 с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з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                       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(С. Есен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антическую весомость согласных звуков можно увидеть в сокращенной записи слов, сделанной при помощи только гласных или только соглас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ушкин                                          Некр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/          \                                            /           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и         Пшкн                                  еао        Нкрс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eb35"/>
            </a:gs>
            <a:gs pos="100000">
              <a:srgbClr val="48b2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468360" y="1125360"/>
            <a:ext cx="822960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ссонан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одна из форм звуковой организации речи, относящейся к так называемым звуковым повторам и заключающаяся в симметрическом повторении однородных гласных зв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учно слушать нам осеннюю вьюгу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у у у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. А. Некр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b21e"/>
            </a:gs>
            <a:gs pos="50000">
              <a:srgbClr val="4beb35"/>
            </a:gs>
            <a:gs pos="100000">
              <a:srgbClr val="48b2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наф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овтор начальных звуков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539640" y="765000"/>
            <a:ext cx="822960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ечер. Взморье.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здохи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е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еличавый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озглас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ол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       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К. Бальмонт)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Эпиф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овтор конечных звуков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Я вольн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ый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ветер, я вечно во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ю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Волну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ю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волн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ы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, ласка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ю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ив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ы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     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К Бальмон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тык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втор конечного и начального звуков рядом стоящих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Пла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щ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щ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еголяющий дырою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Русской ржи от меня покло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н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Н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ив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М. Цветае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b21e"/>
            </a:gs>
            <a:gs pos="50000">
              <a:srgbClr val="4beb35"/>
            </a:gs>
            <a:gs pos="100000">
              <a:srgbClr val="48b21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вукоподраж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употребление слов, напоминающих по своему звучанию слуховые впечатления от изображаемого явления или пред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Шорох, цоканье, бренчанье, тиканье, чириканье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Тавтограмм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гровые стихи, в которых вс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инаются с одной и той ж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блик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сен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хрой –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с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блака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ловя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блик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сен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    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А. Кондрат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b21e"/>
            </a:gs>
            <a:gs pos="100000">
              <a:srgbClr val="4beb3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250920" y="260280"/>
            <a:ext cx="822960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алиндр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еревертень, слово, фраза или целое стихотворение, одинаково читаемое по буквам слева направо и справа нале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А город? а город? о, дорого! дорог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В. Брюс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короговор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искусственно придуманная для забавы фраза, построенная на трудных сочетаниях зв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о используются для исправления ди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От топота копыт пыль по полю лет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20:01:36Z</dcterms:created>
  <dc:creator>Людмила</dc:creator>
  <dc:description/>
  <dc:language>en-US</dc:language>
  <cp:lastModifiedBy>Людмила</cp:lastModifiedBy>
  <dcterms:modified xsi:type="dcterms:W3CDTF">2012-09-05T20:02:20Z</dcterms:modified>
  <cp:revision>1</cp:revision>
  <dc:subject/>
  <dc:title>Слайд 1</dc:title>
</cp:coreProperties>
</file>