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50A6-115F-45FF-BE60-E559038320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2BD9-6F07-4497-A987-7156254C7C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89B-F52E-4CC1-AC69-F9F48281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10A-064F-4365-94E6-781F37D3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915-1E87-4F34-B885-AF4C22CF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A7F-AEEE-4A9D-B7CB-A15FE622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E4D3-C5FD-475E-B27C-9D72F4E1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9E9B-73D2-4F9F-A8C0-EC7F9F81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9E40-7316-4891-8DA0-E01D0B03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D19-F16C-403E-A53C-A7B7275C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207-BE58-4BB1-B75D-80926088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40AD-0C07-4845-9744-BCB20EAA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931-574A-427D-9153-855F2717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3933-9B24-46E7-A2D9-4F024298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9C69-18CC-4B75-BD0B-2880D1444D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da4a"/>
            </a:gs>
            <a:gs pos="100000">
              <a:srgbClr val="208a1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00000" y="725400"/>
            <a:ext cx="770580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усский язык </a:t>
            </a:r>
            <a:br>
              <a:rPr sz="8000"/>
            </a:b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</a:t>
            </a:r>
            <a:br>
              <a:rPr sz="8000"/>
            </a:br>
            <a:r>
              <a:rPr b="0" lang="en-GB" sz="8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ультура реч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7823160" y="5219640"/>
            <a:ext cx="132084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eb35"/>
            </a:gs>
            <a:gs pos="100000">
              <a:srgbClr val="36a9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вукопис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образительный прием, основанный на повторе звуков, которые образно передают рисуемое явление, тем самым способствуют раскрытию смыслового и художественного содержания образа, усиливают его вырази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Organization Chart 11"/>
          <p:cNvGrpSpPr/>
          <p:nvPr/>
        </p:nvGrpSpPr>
        <p:grpSpPr>
          <a:xfrm>
            <a:off x="250920" y="3933720"/>
            <a:ext cx="8675280" cy="1800000"/>
            <a:chOff x="250920" y="3933720"/>
            <a:chExt cx="8675280" cy="1800000"/>
          </a:xfrm>
        </p:grpSpPr>
        <p:cxnSp>
          <p:nvCxnSpPr>
            <p:cNvPr id="53" name="_s1052"/>
            <p:cNvCxnSpPr>
              <a:stCxn id="54" idx="0"/>
              <a:endCxn id="55" idx="2"/>
            </p:cNvCxnSpPr>
            <p:nvPr/>
          </p:nvCxnSpPr>
          <p:spPr>
            <a:xfrm flipH="1" flipV="1" rot="5400000">
              <a:off x="4099320" y="4388040"/>
              <a:ext cx="428400" cy="55332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053"/>
            <p:cNvCxnSpPr>
              <a:stCxn id="57" idx="0"/>
              <a:endCxn id="55" idx="2"/>
            </p:cNvCxnSpPr>
            <p:nvPr/>
          </p:nvCxnSpPr>
          <p:spPr>
            <a:xfrm flipV="1" rot="16200000">
              <a:off x="6307200" y="2732760"/>
              <a:ext cx="428400" cy="386352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54"/>
            <p:cNvCxnSpPr>
              <a:stCxn id="59" idx="0"/>
              <a:endCxn id="55" idx="2"/>
            </p:cNvCxnSpPr>
            <p:nvPr/>
          </p:nvCxnSpPr>
          <p:spPr>
            <a:xfrm flipH="1" flipV="1" rot="5400000">
              <a:off x="3547440" y="3836520"/>
              <a:ext cx="428400" cy="165636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55"/>
            <p:cNvCxnSpPr>
              <a:stCxn id="61" idx="0"/>
              <a:endCxn id="55" idx="2"/>
            </p:cNvCxnSpPr>
            <p:nvPr/>
          </p:nvCxnSpPr>
          <p:spPr>
            <a:xfrm flipV="1" rot="16200000">
              <a:off x="4651920" y="4388040"/>
              <a:ext cx="428400" cy="55296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56"/>
            <p:cNvCxnSpPr>
              <a:stCxn id="63" idx="0"/>
              <a:endCxn id="55" idx="2"/>
            </p:cNvCxnSpPr>
            <p:nvPr/>
          </p:nvCxnSpPr>
          <p:spPr>
            <a:xfrm flipV="1" rot="16200000">
              <a:off x="5202720" y="3837240"/>
              <a:ext cx="428400" cy="165492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57"/>
            <p:cNvCxnSpPr>
              <a:stCxn id="65" idx="0"/>
              <a:endCxn id="55" idx="2"/>
            </p:cNvCxnSpPr>
            <p:nvPr/>
          </p:nvCxnSpPr>
          <p:spPr>
            <a:xfrm flipV="1" rot="16200000">
              <a:off x="5754600" y="3285360"/>
              <a:ext cx="428400" cy="275832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58"/>
            <p:cNvCxnSpPr>
              <a:stCxn id="67" idx="0"/>
              <a:endCxn id="55" idx="2"/>
            </p:cNvCxnSpPr>
            <p:nvPr/>
          </p:nvCxnSpPr>
          <p:spPr>
            <a:xfrm flipH="1" flipV="1" rot="5400000">
              <a:off x="2996280" y="3285000"/>
              <a:ext cx="428400" cy="275976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59"/>
            <p:cNvCxnSpPr>
              <a:stCxn id="69" idx="0"/>
              <a:endCxn id="55" idx="2"/>
            </p:cNvCxnSpPr>
            <p:nvPr/>
          </p:nvCxnSpPr>
          <p:spPr>
            <a:xfrm flipH="1" flipV="1" rot="5400000">
              <a:off x="2443320" y="2732400"/>
              <a:ext cx="428400" cy="3864600"/>
            </a:xfrm>
            <a:prstGeom prst="bentConnector3">
              <a:avLst>
                <a:gd name="adj1" fmla="val 267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5" name="_s1060"/>
            <p:cNvSpPr/>
            <p:nvPr/>
          </p:nvSpPr>
          <p:spPr>
            <a:xfrm>
              <a:off x="3946680" y="3933720"/>
              <a:ext cx="1283040" cy="51732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Звукопис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61">
              <a:hlinkClick r:id="rId1" action="ppaction://hlinksldjump"/>
            </p:cNvPr>
            <p:cNvSpPr/>
            <p:nvPr/>
          </p:nvSpPr>
          <p:spPr>
            <a:xfrm>
              <a:off x="250920" y="4878720"/>
              <a:ext cx="94716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ллитер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62"/>
            <p:cNvSpPr/>
            <p:nvPr/>
          </p:nvSpPr>
          <p:spPr>
            <a:xfrm>
              <a:off x="1355400" y="4878720"/>
              <a:ext cx="94752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ссонан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63"/>
            <p:cNvSpPr/>
            <p:nvPr/>
          </p:nvSpPr>
          <p:spPr>
            <a:xfrm>
              <a:off x="6875280" y="4878720"/>
              <a:ext cx="94572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Тавтограмм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64"/>
            <p:cNvSpPr/>
            <p:nvPr/>
          </p:nvSpPr>
          <p:spPr>
            <a:xfrm>
              <a:off x="5772240" y="4878720"/>
              <a:ext cx="94572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Звукопод-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раж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65"/>
            <p:cNvSpPr/>
            <p:nvPr/>
          </p:nvSpPr>
          <p:spPr>
            <a:xfrm>
              <a:off x="4667040" y="4878720"/>
              <a:ext cx="94752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Сты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66"/>
            <p:cNvSpPr/>
            <p:nvPr/>
          </p:nvSpPr>
          <p:spPr>
            <a:xfrm>
              <a:off x="2460240" y="4878720"/>
              <a:ext cx="94572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Анафо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67"/>
            <p:cNvSpPr/>
            <p:nvPr/>
          </p:nvSpPr>
          <p:spPr>
            <a:xfrm>
              <a:off x="7979040" y="4878720"/>
              <a:ext cx="94716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Палиндро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68"/>
            <p:cNvSpPr/>
            <p:nvPr/>
          </p:nvSpPr>
          <p:spPr>
            <a:xfrm>
              <a:off x="3564000" y="4878720"/>
              <a:ext cx="945720" cy="855000"/>
            </a:xfrm>
            <a:prstGeom prst="roundRect">
              <a:avLst>
                <a:gd name="adj" fmla="val 16667"/>
              </a:avLst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Эпифо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b21e"/>
            </a:gs>
            <a:gs pos="50000">
              <a:srgbClr val="4beb35"/>
            </a:gs>
            <a:gs pos="100000">
              <a:srgbClr val="48b2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Аллитера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один из способов звуковой организации речи, относящейся к звуковым повторам однородных согласных зв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Гой ты, Русь моя родная,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 с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р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Хаты – в ризах образа…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з р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з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е видать конца и края,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ц, р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Только синь сосет глаза.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’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 с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з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                    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(С. Есен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антическую весомость согласных звуков можно увидеть в сокращенной записи слов, сделанной при помощи только гласных или только соглас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ушкин                                          Некр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/          \                                            /           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и         Пшкн                                  еао        Нкрс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eb35"/>
            </a:gs>
            <a:gs pos="100000">
              <a:srgbClr val="48b2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468360" y="1125360"/>
            <a:ext cx="822960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ссонан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одна из форм звуковой организации речи, относящейся к так называемым звуковым повторам и заключающаяся в симметрическом повторении однородных гласных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кучно слушать нам осеннюю вьюгу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у у у у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. А. Некр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b21e"/>
            </a:gs>
            <a:gs pos="50000">
              <a:srgbClr val="4beb35"/>
            </a:gs>
            <a:gs pos="100000">
              <a:srgbClr val="48b21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наф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овтор начальных звуков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539640" y="765000"/>
            <a:ext cx="822960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ечер. Взморье.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здохи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е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еличавый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озглас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ол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     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К. Бальмонт)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Эпиф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овтор конечных звуков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Я вольн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ый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ветер, я вечно во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ю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Волну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ю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волн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ы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, ласка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ю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ив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ы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   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К Бальмон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ык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втор конечного и начального звуков рядом стоящих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Пла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щ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щ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еголяющий дырою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Русской ржи от меня покло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ив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М. Цветае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b21e"/>
            </a:gs>
            <a:gs pos="50000">
              <a:srgbClr val="4beb35"/>
            </a:gs>
            <a:gs pos="100000">
              <a:srgbClr val="48b21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вукоподраж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употребление слов, напоминающих по своему звучанию слуховые впечатления от изображаемого явления или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Шорох, цоканье, бренчанье, тиканье, чириканье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автограмм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ровые стихи, в которых вс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инаются с одной и той ж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блик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сен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хрой –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с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блака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ловя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блик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сен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  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А. Кондра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b21e"/>
            </a:gs>
            <a:gs pos="100000">
              <a:srgbClr val="4beb3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50920" y="260280"/>
            <a:ext cx="82296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алиндр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еревертень, слово, фраза или целое стихотворение, одинаково читаемое по буквам слева направо и справа нале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А город? а город? о, дорого! дорог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(В. Брюс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короговор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искусственно придуманная для забавы фраза, построенная на трудных сочетаниях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о используются для исправления ди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От топота копыт пыль по полю лет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20:01:36Z</dcterms:created>
  <dc:creator>Людмила</dc:creator>
  <dc:description/>
  <dc:language>en-US</dc:language>
  <cp:lastModifiedBy>Людмила</cp:lastModifiedBy>
  <dcterms:modified xsi:type="dcterms:W3CDTF">2012-09-05T20:02:20Z</dcterms:modified>
  <cp:revision>1</cp:revision>
  <dc:subject/>
  <dc:title>Слайд 1</dc:title>
</cp:coreProperties>
</file>