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2DA-7647-4DBA-A4B8-40ACE0A2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43D4-1806-44D9-AAA3-9B75B89F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03E-C341-42FC-BE64-84E89731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4500-53B0-4262-AFF5-EEE7776C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9386-1BE5-4D53-947D-624099AA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6778-A421-4BD4-ADBE-C7527628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7528-6217-4498-90CC-C6CC26B4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52BA-E6EE-496E-B9B4-782DAE54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599B-6F01-484C-82CD-21B7F2F4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8572-513D-4D16-97AE-F828CBDA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606A-DAF5-494A-98B6-F3924414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D37-2F83-4B6E-861E-48CF5070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50B2-55DD-42C5-AE93-48A56833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26CE-C805-4EFE-A755-8FBF8A92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87B5-BB29-4F44-8BE7-721E64C3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D3BC-C093-45C1-85B4-78E32B6C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476D-7AE9-4FCD-939D-654A858E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C1CF3-5064-43A8-A2CF-6798F235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1659A-E3C4-4E26-9DCE-75213E81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4BAE8-5C69-425A-B285-1ACB9B5A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C1210-1214-44DC-8E9A-71799159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5B1DE-100D-4885-A74E-3C26A151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1B01-31F9-4671-BB45-5E627A1B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02738-5D64-4DB5-B6D7-C52680D3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C7623-CE36-499F-8EB8-03654C8F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B50B3-0A76-4F10-A874-5A10EF2C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94945-DD38-4D24-84BA-E9155FD3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813C1-3658-46A6-A89B-4FD0AC37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CEA0E-582B-4296-B26E-BC4D6D37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79F49-327E-47F5-BF32-CB22523E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4CA31-3521-46DE-99C8-FA4F6EC5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4FFC8-3024-447D-AB49-B1A27451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5A73C-D2B4-40A0-913F-1D744C27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816-0E74-44D6-BB64-74B59776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828F6-CC46-488C-A81A-B195C016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60677-9A66-4953-AC57-C39180E2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1ECA3-9FC0-4F95-88F0-128DFB9A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A62B0-D7AE-4963-A264-F718DEB7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A6339-1023-4D63-B6CA-A508B7B7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F67BA-FC2C-448D-B796-48020F66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22FF2-E326-4557-A898-39A54A67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74367-1C31-4E3A-8C91-549894EF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2D159-20D5-4800-AB2C-D5CE3A03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FAFF2-9F71-4624-9A50-56748762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C072-BF8E-49E5-9CE3-E72D7951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19F0E-2F5A-4CC9-8434-8DB81936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A397C-58D8-4B25-AA60-7174A89E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011B7-6C0C-4A66-A99B-FB84EB37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4DE73-38BD-4CF7-988A-3E652408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3859F-13BA-49FF-B8D2-E7ACB4ED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23530-EAED-4261-9C71-1D007F49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E4E11-8120-4C6D-81FD-943C6A49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63B0C-F413-4A3B-BB55-9C1619B3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56D39-7B20-4590-97D4-7ED4E95E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3DDE7-7AE2-47B4-8B28-BF316B66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A40-FFD6-420B-9963-3AA5F5D9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E06F2-68C9-435E-B20F-A565A561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4D1-97CA-4AB9-A33B-A37ABA9D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3BB-15E0-4138-BD9A-BF06E353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ECED-10ED-467F-A715-48866F61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5382-72DB-447A-BA54-A9CCF7A287C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F138-CD70-4023-86A9-042B26C2668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D21B-CA85-450E-AE7F-48BEFA99404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599F-1CF3-4325-A6E7-E0377DEF448C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A07E-9325-48B2-A870-97FA94BD95D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688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рок русского языка в 8 классе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такое косвенная речь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ем отличается прямая речь от косвенной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правильно перестраивать предложения с прямой речью в предложения с косвенной речью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Косвенная речь-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о речь какого-либо лица,   передаваемая от его имен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Trebuchet MS"/>
              </a:rPr>
              <a:t>Л.Н.Толстой говорил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что счастье всего человечества не стоит слезы одного обиженного ребен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Trebuchet MS"/>
              </a:rPr>
              <a:t>Наполеон говорил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что он погиб тогда, когда перестал слушать други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Косвенная речь служит для передачи чужой речи от лица говорящего, а не того, кто ее на самом деле произнес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7030a0"/>
                </a:solidFill>
                <a:latin typeface="Trebuchet MS"/>
              </a:rPr>
              <a:t>Капитан приказал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, чтобы шлюпки спустили на вод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7030a0"/>
                </a:solidFill>
                <a:latin typeface="Trebuchet MS"/>
              </a:rPr>
              <a:t>Лесничий сказал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, что он видел на озере лебед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0040" y="16426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Предложения с косвенной речью передают только содержание чужой речи, но не могут передать все особенности ее формы и интонаци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Мама сказал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: «Сходи в магазин.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Мама сказал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чтобы я сходил в магази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Trebuchet MS"/>
              </a:rPr>
              <a:t>Предложения с косвенной речью представляют собой сложные предложения, состоящие из двух частей (слов автора и  косвенной речи)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Которые соединяю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союзами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что, будто, чтобы,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ли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местоимениями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кто,что,какой,как,где, когда, почему,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или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частицей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л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396720" y="317520"/>
            <a:ext cx="7309080" cy="3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285840" y="785880"/>
          <a:ext cx="7238880" cy="480060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ямая р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освенная р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вествовательное предложение: Лесничий сказал: «Я видел на озере лебедей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юзы что, что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есничий сказал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т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он видел на озере лебед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будительное предложени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питан приказал: «Шлюпки на воду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юз что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питан приказал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тобы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пустили шлюпки на вод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просительное предложени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)с вопросительным местоимением или наречием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Я спросил: «Который час?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)без вопросительного слова: Я спросил товарища: «Решишь эту задачу?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просительное местоимение или наречие: Я спросил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оторы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ас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астица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и: Я спросил товарища, решит ли он задач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оимение 1-го л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ицо автора чужой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оимение 2-го л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ицо адресата чужой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называется косвенной речью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з каких частей состоят предложения с косвенной речью?( пример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ем отличаются предложения с прямой речью от предложений с косвенной речью?(по структуре, знакам препинания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происходит с личными и притяжательными местоимениями при замене?(примеры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8:00:10Z</dcterms:created>
  <dc:creator>1</dc:creator>
  <dc:description/>
  <dc:language>en-US</dc:language>
  <cp:lastModifiedBy>1</cp:lastModifiedBy>
  <dcterms:modified xsi:type="dcterms:W3CDTF">2011-04-04T18:55:11Z</dcterms:modified>
  <cp:revision>6</cp:revision>
  <dc:subject/>
  <dc:title>Предложения с косвенной речью</dc:title>
</cp:coreProperties>
</file>