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A43-F5BC-4881-875C-A283254D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4B1-1509-4BB2-BB76-2FB50C68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4A2-E1A7-4173-A188-FA4BDD40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AB5-7AB8-4FBD-9AFB-DD89B290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DA5F-671E-4C82-8E95-73F1C5AC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F913-FE09-459A-B58C-C2BB624E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73D6-83DE-4345-AD58-6658502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C47B-89CD-47BE-A227-920B812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E0C4-4658-4ADA-85DB-178E3F25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8DDF-2754-43D7-9242-73E1564E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3D4E-7D8F-4729-9D71-7B9AB13C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482-B4E3-4466-8157-003F1FFB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E658-D9CE-4570-9FBC-51C5E86C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CBB2-BD76-45CD-AE98-B4339889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A83C-12EA-462E-A352-820F7376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D107-2694-45A4-BB2E-CEDEFD45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7CF7-E136-492F-A5C2-F309CEF1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9355-FE15-4967-919B-1AB355F4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8F5B-9C73-4F35-B206-186367E2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B65F-F2D6-4669-9EC2-C6D3F390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2917-FE39-42C0-B78B-DEE93373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C212-4593-48F4-A68D-DC20D4C7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A87-7B62-4CC1-8C28-5437FC97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4A94-8B4B-4FC7-9A7B-64D61B73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FCD3-0019-4228-9A5F-1E72CF04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84E5-2120-4260-9C83-DF1383E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E462-83FA-4ECC-938F-A0D64944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4FA4-6463-4EB8-9583-7AAD7EFC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3983-8D75-4648-9475-E2B9A1C8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B3E0-EDC0-474C-879F-65626D7F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DD0F-A797-4142-84C2-BFF34FAC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1D7E-9FD9-48B1-ABBF-62005D40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F1BD3-F4C6-4329-8C8F-D2241059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3FC-8DA8-4AB0-8B00-5B1A42A5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C0A20-59D7-4EC0-B3DD-9465FD3F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5DFD-DC83-481C-BA2F-9AFFF7B1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4509-355E-4ACF-882E-DDF5B1DB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0790-4E2B-4D82-9ED1-F7834207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8F66-25FC-4FCB-B855-32D83D4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AB7AA-1B3E-42DA-9069-2E6F15B2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76E4-ACD5-4422-8D9D-61C79FD6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BF92-8824-4A8B-A318-1B9E3EA4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25F18-1A9A-4253-BA03-2E05000A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CA52-9DD8-4CF4-9AE0-435F0F74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780-8BEA-44EE-AC1A-C4911251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A9D14-E189-4C13-8CF5-F0C0933E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F7B4D-F789-4DE6-B8C3-DA03C8FB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E173D-F23E-4CE7-B201-F476BA1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93476-E47B-4919-9DB8-02915E5E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D380-7BF8-4C35-98C1-5E76139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9FD61-718E-4E13-9756-1FB1717E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07D5C-8FE2-4252-B07C-809543B6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43050-DE8E-4BAD-A273-21A8C7A6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1138B-E7E8-4807-BD87-4190C54A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6061A-1E07-417F-AB07-45C511A9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CB1-84B3-4D21-9306-45DC7F90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FE489-9E15-4DBF-8803-B1950EE8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EC3-6209-4289-B1B8-6BB52CB9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8BC-BFC5-4A97-8B0A-1B44E70E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875-A92A-444C-A3F8-8CDE340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EE55-D7AC-4433-81DC-7AE5CFCAEB7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23C8-2FEB-443B-85D0-D0887854868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3F7E-59C5-47A5-A8D5-C74C74821DF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FAA1-5553-4C65-AB27-3185C6523CA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ABB7-1D44-48DE-8DD3-7D83FAA5D7A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рок русского языка в 8 класс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косвенная реч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м отличается прямая речь от косвенно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правильно перестраивать предложения с прямой речью в предложения с косвенной речью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Косвенная речь-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речь какого-либо лица,   передаваемая от его име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Л.Н.Толстой говори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что счастье всего человечества не стоит слезы одного обиженного реб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Наполеон говори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что он погиб тогда, когда перестал слушать други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Косвенная речь служит для передачи чужой речи от лица говорящего, а не того, кто ее на самом деле произне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Trebuchet MS"/>
              </a:rPr>
              <a:t>Капитан приказа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чтобы шлюпки спустили на вод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Trebuchet MS"/>
              </a:rPr>
              <a:t>Лесничий сказа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что он видел на озере лебед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редложения с косвенной речью передают только содержание чужой речи, но не могут передать все особенности ее формы и интонац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Мама сказа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: «Сходи в магазин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Мама сказа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чтобы я сходил в магази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Trebuchet MS"/>
              </a:rPr>
              <a:t>Предложения с косвенной речью представляют собой сложные предложения, состоящие из двух частей (слов автора и  косвенной речи)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Которые соединяю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оюзам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что, будто, чтобы,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стоимениями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то,что,какой,как,где, когда, почему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ил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частице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л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396720" y="317520"/>
            <a:ext cx="7309080" cy="3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285840" y="785880"/>
          <a:ext cx="7238880" cy="480060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ямая 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свенная 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вествовательное предложение: Лесничий сказал: «Я видел на озере лебедей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юзы что, чт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есничий сказа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он видел на озере лебе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будительное предложе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питан приказал: «Шлюпки на воду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юз чт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питан приказа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б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устили шлюпки на в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просительное предложе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)с вопросительным местоимением или наречие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 спросил: «Который час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)без вопросительного слова: Я спросил товарища: «Решишь эту задачу?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просительное местоимение или наречие: Я спроси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тор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ас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астица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: Я спросил товарища, решит ли он задач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оимение 1-го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цо автора чужой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оимение 2-го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цо адресата чужой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азывается косвенной речью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 каких частей состоят предложения с косвенной речью?( пример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м отличаются предложения с прямой речью от предложений с косвенной речью?(по структуре, знакам препинани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происходит с личными и притяжательными местоимениями при замене?(примеры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8:00:10Z</dcterms:created>
  <dc:creator>1</dc:creator>
  <dc:description/>
  <dc:language>en-US</dc:language>
  <cp:lastModifiedBy>1</cp:lastModifiedBy>
  <dcterms:modified xsi:type="dcterms:W3CDTF">2011-04-04T18:55:11Z</dcterms:modified>
  <cp:revision>6</cp:revision>
  <dc:subject/>
  <dc:title>Предложения с косвенной речью</dc:title>
</cp:coreProperties>
</file>