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C9C1-AD80-49F9-A860-131817C4B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2780-3B46-49B7-985A-0BEC9FEF6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77AF-FB09-46D9-A8AB-E6068D156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C144-27AB-492D-8FEE-AAF6CBAF3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372D6-32C2-4231-97DD-4B1BCE414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EDEDB-5F66-41CB-975A-CC83C3C60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8B8C2-45F6-4783-AA3D-FD51FC6B9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650D4-B6FC-4427-88CF-CD0F71545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1AC52-8C58-47C7-93D6-0065BFA7A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B85A0-C7B8-414F-8175-C9ED2308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0AE03-D5D4-49D3-9311-A7F7939B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1A1D-57CA-4CEA-96AD-AE5F2CD03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03E9C-518E-4F26-8E85-BBC917AA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1EE6D-C97B-4F77-874C-6E67C42A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677B9-0AAF-4E8A-93E4-62EFBF932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D8858-A683-46F3-B65B-564D5356C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44EEA-87D7-4943-85AB-C5E0B6974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19758-7376-4E24-BAE4-A2639DFD9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7455B-B5EA-4E7A-9B2A-4137E462B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543F9-AFD9-4557-9C4C-E5A429F84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D0771-E354-4B2B-A25A-EF94C0483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CAA97-94A3-494A-9945-E6D77D7D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90FD-B0DE-40BA-8EBB-AF8580BD4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E32BE-F1E0-45B3-82B7-4BF1C5C0B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30DF9-18E1-4529-9878-AC95730E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EF6D0-7B5F-4DA0-8C81-A326A496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ACB47-1F40-4F61-B46B-5C8C62A3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DC04B-9F8E-4C2B-B985-34B53ACB8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E1CA9-F047-46C5-A71C-B11EBC531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9632A-C1A7-45EE-AA0D-1B09ED661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CF5F8-3DE5-4743-9124-F00F2A262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8FBCD-1846-4754-8B2D-47483176F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3C09D-F6E4-4401-8B52-BE1BD5C59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3AD8-60F2-4CAA-929A-7AA3F06F5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56C63-6E14-43E7-9898-26444E477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928AC-7009-4646-8B4E-F15E2D199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D7061-6F79-4407-B882-B0DDD1B33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6133F-1E91-44E6-B614-4A23EA81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A3475-4181-47FB-8A58-214113A0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F05C1-7E43-4BCD-9E01-25AF7713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B160F-E219-4D51-8047-F95587C8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E2FE6-E529-4263-AB4E-81B7691B8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9C40D-2D19-4170-A994-F8E4CFD4E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68098-7E51-42AC-B12B-94E4F75BC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5C58-50B4-4D2D-BB09-46F0E96D9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8702F-4AEB-4C70-87CD-1B3395CC7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AAFE6-745B-4131-8086-1883529EF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2F74D-5165-4240-8FF5-98C18E915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9ED38-69B3-4B4F-92C9-159BFF06F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4B646-2305-4A66-9D38-8484E8D79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06A1A-7B4B-446F-9B93-1B01DC12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9EAB2-F4D6-434D-819B-19C19C8D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052CF-22B7-41CE-B7C9-4BB26555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D281C-8356-47E7-A4B2-4CDCF29F6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08CED-7BF1-4DBD-8E13-78A57F51A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3A97-1CEC-4BAA-AF54-52238484F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73A3A-4C67-4809-B921-A0998AB08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D015-83D9-4783-8093-BCF7C54F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FC2A-AA12-4B27-8470-A570D891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7213-47F5-4319-9279-2EFFB355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BA7C7-121B-47F5-89FD-99A907F8F274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F1109-7332-4147-8AC9-A6BD6B51ABDC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48085-FA97-4B42-A3A1-7E7518AAB88D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D78CB-8C89-4506-8A4C-48F1647F0B07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52EEC-99D1-48AF-BD1C-D3E76293C536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54688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Урок русского языка в 8 классе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Что такое косвенная речь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Чем отличается прямая речь от косвенной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Как правильно перестраивать предложения с прямой речью в предложения с косвенной речью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rebuchet MS"/>
              </a:rPr>
              <a:t>Косвенная речь-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это речь какого-либо лица,   передаваемая от его имен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b0f0"/>
                </a:solidFill>
                <a:latin typeface="Trebuchet MS"/>
              </a:rPr>
              <a:t>Л.Н.Толстой говорил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, что счастье всего человечества не стоит слезы одного обиженного ребенк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b0f0"/>
                </a:solidFill>
                <a:latin typeface="Trebuchet MS"/>
              </a:rPr>
              <a:t>Наполеон говорил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, что он погиб тогда, когда перестал слушать других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70c0"/>
                </a:solidFill>
                <a:latin typeface="Trebuchet MS"/>
              </a:rPr>
              <a:t>Косвенная речь служит для передачи чужой речи от лица говорящего, а не того, кто ее на самом деле произнес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7030a0"/>
                </a:solidFill>
                <a:latin typeface="Trebuchet MS"/>
              </a:rPr>
              <a:t>Капитан приказал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, чтобы шлюпки спустили на воду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7030a0"/>
                </a:solidFill>
                <a:latin typeface="Trebuchet MS"/>
              </a:rPr>
              <a:t>Лесничий сказал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, что он видел на озере лебедей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00040" y="164268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Trebuchet MS"/>
              </a:rPr>
              <a:t>Предложения с косвенной речью передают только содержание чужой речи, но не могут передать все особенности ее формы и интонаци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rebuchet MS"/>
              </a:rPr>
              <a:t>Мама сказала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: «Сходи в магазин.»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rebuchet MS"/>
              </a:rPr>
              <a:t>Мама сказала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, чтобы я сходил в магазин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b050"/>
                </a:solidFill>
                <a:latin typeface="Trebuchet MS"/>
              </a:rPr>
              <a:t>Предложения с косвенной речью представляют собой сложные предложения, состоящие из двух частей (слов автора и  косвенной речи)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. Которые соединяются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союзами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что, будто, чтобы,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ли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местоимениями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кто,что,какой,как,где, когда, почему,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или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частицей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л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396720" y="317520"/>
            <a:ext cx="7309080" cy="328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3" name=""/>
          <p:cNvGraphicFramePr/>
          <p:nvPr/>
        </p:nvGraphicFramePr>
        <p:xfrm>
          <a:off x="285840" y="785880"/>
          <a:ext cx="7238880" cy="4800600"/>
        </p:xfrm>
        <a:graphic>
          <a:graphicData uri="http://schemas.openxmlformats.org/drawingml/2006/table">
            <a:tbl>
              <a:tblPr/>
              <a:tblGrid>
                <a:gridCol w="3619440"/>
                <a:gridCol w="361944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рямая реч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Косвенная реч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овествовательное предложение: Лесничий сказал: «Я видел на озере лебедей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оюзы что, чтоб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Лесничий сказал,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что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он видел на озере лебеде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обудительное предложени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апитан приказал: «Шлюпки на воду!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оюз чтоб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апитан приказал,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чтобы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пустили шлюпки на вод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179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опросительное предложени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А)с вопросительным местоимением или наречием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Я спросил: «Который час?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Б)без вопросительного слова: Я спросил товарища: «Решишь эту задачу?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опросительное местоимение или наречие: Я спросил,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оторый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час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Частица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ли: Я спросил товарища, решит ли он задач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естоимение 1-го л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Лицо автора чужой реч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естоимение 2-го л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Лицо адресата чужой реч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Что называется косвенной речью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з каких частей состоят предложения с косвенной речью?( пример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Чем отличаются предложения с прямой речью от предложений с косвенной речью?(по структуре, знакам препинания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Что происходит с личными и притяжательными местоимениями при замене?(примеры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18:00:10Z</dcterms:created>
  <dc:creator>1</dc:creator>
  <dc:description/>
  <dc:language>en-US</dc:language>
  <cp:lastModifiedBy>1</cp:lastModifiedBy>
  <dcterms:modified xsi:type="dcterms:W3CDTF">2011-04-04T18:55:11Z</dcterms:modified>
  <cp:revision>6</cp:revision>
  <dc:subject/>
  <dc:title>Предложения с косвенной речью</dc:title>
</cp:coreProperties>
</file>