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3B6D-09DA-448C-BE98-761DA7CA1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7F03-CB6A-4E4F-B6E3-631939B81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93F1-C8E4-44FB-9231-DD7DAA3F4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A622-12BF-44F0-89FC-D3C8280B8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5442-F3E2-4F58-9F06-7957E3FE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987B-BF1F-4A80-8826-3001F54E9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666B-B822-4ED8-85AB-524BC8940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29CB-05AC-4CE2-B283-C9A9BEBB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33DB-CF72-4A1C-B384-9F95AB75B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BA7F-12E6-4629-B74E-B8DDB199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5984-F698-43DB-A066-6865114E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CBDA-0B6F-4795-AC92-7B9596D9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d943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77125-E769-4DDF-8631-0E83D8E81D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binetti.ru/studia/djachok_2.shtml" TargetMode="External"/><Relationship Id="rId2" Type="http://schemas.openxmlformats.org/officeDocument/2006/relationships/hyperlink" Target="http://gremlinmage.narod.ru/medieval.html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slide" Target="slide51.xml"/><Relationship Id="rId3" Type="http://schemas.openxmlformats.org/officeDocument/2006/relationships/slide" Target="slide52.xml"/><Relationship Id="rId4" Type="http://schemas.openxmlformats.org/officeDocument/2006/relationships/slide" Target="slide53.xml"/><Relationship Id="rId5" Type="http://schemas.openxmlformats.org/officeDocument/2006/relationships/slide" Target="slide55.xm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04560"/>
            <a:ext cx="77724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4743000"/>
            <a:ext cx="6400800" cy="173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cc"/>
                </a:solidFill>
                <a:latin typeface="Arial"/>
              </a:rPr>
              <a:t>Презентация группы литератор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662040" y="301680"/>
            <a:ext cx="7819920" cy="278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нтегрированный проект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 истории и технологии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" name="Picture 6" descr="Рисунок1"/>
          <p:cNvPicPr/>
          <p:nvPr/>
        </p:nvPicPr>
        <p:blipFill>
          <a:blip r:embed="rId1"/>
          <a:stretch/>
        </p:blipFill>
        <p:spPr>
          <a:xfrm>
            <a:off x="5257800" y="2635200"/>
            <a:ext cx="2698920" cy="20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1.М. Дьячок Раннехристианская средневековая литература Евро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  <a:hlinkClick r:id="rId1"/>
              </a:rPr>
              <a:t>http://www.binetti.ru/studia/djachok_2.s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emlin's treasure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редневековая литерату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  <a:hlinkClick r:id="rId2"/>
              </a:rPr>
              <a:t>http://gremlinmage.narod.ru/medieval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редневековая лит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ttp://www.thedarkages.ru/literature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редневековая литература - Википед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ttp://ru.wikipedia.org/wiki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5"/>
          <p:cNvSpPr txBox="1"/>
          <p:nvPr/>
        </p:nvSpPr>
        <p:spPr>
          <a:xfrm>
            <a:off x="0" y="228600"/>
            <a:ext cx="8524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опросы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кие  литературные жанры существовали в Средние ве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кие известные произведения дошли до нас из эпохи Средневековь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кие литературные произведения мы включили бы в свою библиотеку, о чем рассказали бы в экспозиции музе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48320" y="1981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11"/>
          <p:cNvSpPr txBox="1"/>
          <p:nvPr/>
        </p:nvSpPr>
        <p:spPr>
          <a:xfrm>
            <a:off x="380880" y="380880"/>
            <a:ext cx="85345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узей средневековой культуры и бы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56386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кие литературные жанры существовали в Средние 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9"/>
          <p:cNvSpPr txBox="1"/>
          <p:nvPr/>
        </p:nvSpPr>
        <p:spPr>
          <a:xfrm>
            <a:off x="457200" y="228600"/>
            <a:ext cx="7962840" cy="104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узей средневековой культуры и бы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52" name="Organization Chart 10"/>
          <p:cNvGrpSpPr/>
          <p:nvPr/>
        </p:nvGrpSpPr>
        <p:grpSpPr>
          <a:xfrm>
            <a:off x="1491120" y="2557080"/>
            <a:ext cx="5236920" cy="3014640"/>
            <a:chOff x="1491120" y="2557080"/>
            <a:chExt cx="5236920" cy="3014640"/>
          </a:xfrm>
        </p:grpSpPr>
        <p:cxnSp>
          <p:nvCxnSpPr>
            <p:cNvPr id="53" name="_s1028"/>
            <p:cNvCxnSpPr>
              <a:stCxn id="54" idx="0"/>
              <a:endCxn id="55" idx="2"/>
            </p:cNvCxnSpPr>
            <p:nvPr/>
          </p:nvCxnSpPr>
          <p:spPr>
            <a:xfrm flipV="1">
              <a:off x="5750640" y="4248720"/>
              <a:ext cx="2160" cy="293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" name="_s1029"/>
            <p:cNvCxnSpPr>
              <a:stCxn id="57" idx="0"/>
              <a:endCxn id="58" idx="2"/>
            </p:cNvCxnSpPr>
            <p:nvPr/>
          </p:nvCxnSpPr>
          <p:spPr>
            <a:xfrm flipV="1">
              <a:off x="3820680" y="4324680"/>
              <a:ext cx="1800" cy="294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9" name="_s1030"/>
            <p:cNvCxnSpPr>
              <a:stCxn id="60" idx="0"/>
              <a:endCxn id="61" idx="2"/>
            </p:cNvCxnSpPr>
            <p:nvPr/>
          </p:nvCxnSpPr>
          <p:spPr>
            <a:xfrm flipV="1">
              <a:off x="2192040" y="4170960"/>
              <a:ext cx="1800" cy="294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1031"/>
            <p:cNvCxnSpPr>
              <a:stCxn id="55" idx="0"/>
              <a:endCxn id="63" idx="2"/>
            </p:cNvCxnSpPr>
            <p:nvPr/>
          </p:nvCxnSpPr>
          <p:spPr>
            <a:xfrm flipV="1" rot="16200000">
              <a:off x="4786920" y="2216160"/>
              <a:ext cx="208080" cy="1719720"/>
            </a:xfrm>
            <a:prstGeom prst="bentConnector3">
              <a:avLst>
                <a:gd name="adj1" fmla="val 4956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" name="_s1032"/>
            <p:cNvCxnSpPr>
              <a:stCxn id="58" idx="0"/>
              <a:endCxn id="63" idx="2"/>
            </p:cNvCxnSpPr>
            <p:nvPr/>
          </p:nvCxnSpPr>
          <p:spPr>
            <a:xfrm flipH="1" flipV="1" rot="5400000">
              <a:off x="3716280" y="3076560"/>
              <a:ext cx="420120" cy="210960"/>
            </a:xfrm>
            <a:prstGeom prst="bentConnector3">
              <a:avLst>
                <a:gd name="adj1" fmla="val 111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5" name="_s1033"/>
            <p:cNvCxnSpPr/>
            <p:nvPr/>
          </p:nvCxnSpPr>
          <p:spPr>
            <a:xfrm flipH="1" flipV="1" rot="5400000">
              <a:off x="2997720" y="2181960"/>
              <a:ext cx="264600" cy="1842480"/>
            </a:xfrm>
            <a:prstGeom prst="bentConnector3">
              <a:avLst>
                <a:gd name="adj1" fmla="val 463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3" name="_s1034"/>
            <p:cNvSpPr/>
            <p:nvPr/>
          </p:nvSpPr>
          <p:spPr>
            <a:xfrm>
              <a:off x="3432600" y="2557080"/>
              <a:ext cx="1196280" cy="4150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Литератур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1035"/>
            <p:cNvSpPr/>
            <p:nvPr/>
          </p:nvSpPr>
          <p:spPr>
            <a:xfrm>
              <a:off x="1491120" y="3238200"/>
              <a:ext cx="1400400" cy="9331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3333cc"/>
                  </a:solidFill>
                  <a:uFillTx/>
                  <a:latin typeface="Arial"/>
                  <a:hlinkClick r:id="rId1" action="ppaction://hlinksldjump"/>
                </a:rPr>
                <a:t>Героический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3333cc"/>
                  </a:solidFill>
                  <a:uFillTx/>
                  <a:latin typeface="Arial"/>
                  <a:hlinkClick r:id="rId2" action="ppaction://hlinksldjump"/>
                </a:rPr>
                <a:t>эпос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1036"/>
            <p:cNvSpPr/>
            <p:nvPr/>
          </p:nvSpPr>
          <p:spPr>
            <a:xfrm>
              <a:off x="3062160" y="3392280"/>
              <a:ext cx="1517760" cy="93456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 u="sng">
                  <a:solidFill>
                    <a:srgbClr val="3333cc"/>
                  </a:solidFill>
                  <a:uFillTx/>
                  <a:latin typeface="Arial"/>
                  <a:hlinkClick r:id="rId3" action="ppaction://hlinksldjump"/>
                </a:rPr>
                <a:t>Рыцарская поэзия</a:t>
              </a:r>
              <a:r>
                <a:rPr b="0" lang="en-US" sz="900" spc="-1" strike="noStrike" u="sng">
                  <a:solidFill>
                    <a:srgbClr val="000000"/>
                  </a:solidFill>
                  <a:uFillTx/>
                  <a:latin typeface="Arial"/>
                </a:rPr>
                <a:t>,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 u="sng">
                  <a:solidFill>
                    <a:srgbClr val="3333cc"/>
                  </a:solidFill>
                  <a:uFillTx/>
                  <a:latin typeface="Arial"/>
                  <a:hlinkClick r:id="rId4" action="ppaction://hlinksldjump"/>
                </a:rPr>
                <a:t>рыцарский роман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1037"/>
            <p:cNvSpPr/>
            <p:nvPr/>
          </p:nvSpPr>
          <p:spPr>
            <a:xfrm>
              <a:off x="4771080" y="3180240"/>
              <a:ext cx="1956960" cy="10688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Литературные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произведения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городского сословия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038"/>
            <p:cNvSpPr/>
            <p:nvPr/>
          </p:nvSpPr>
          <p:spPr>
            <a:xfrm>
              <a:off x="1491120" y="4465440"/>
              <a:ext cx="1400400" cy="952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Песнь о Роланде,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Песнь о Нибелунгах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1039"/>
            <p:cNvSpPr/>
            <p:nvPr/>
          </p:nvSpPr>
          <p:spPr>
            <a:xfrm>
              <a:off x="3062160" y="4619880"/>
              <a:ext cx="1517760" cy="9518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Куртуазная поэзия,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Тристан и Изольд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1040"/>
            <p:cNvSpPr/>
            <p:nvPr/>
          </p:nvSpPr>
          <p:spPr>
            <a:xfrm>
              <a:off x="4771080" y="4542120"/>
              <a:ext cx="1956960" cy="9518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 u="sng">
                  <a:solidFill>
                    <a:srgbClr val="3333cc"/>
                  </a:solidFill>
                  <a:uFillTx/>
                  <a:latin typeface="Arial"/>
                  <a:hlinkClick r:id="rId5" action="ppaction://hlinksldjump"/>
                </a:rPr>
                <a:t>Роман о лисе,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поэзия вагантов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Text Box 25"/>
          <p:cNvSpPr/>
          <p:nvPr/>
        </p:nvSpPr>
        <p:spPr>
          <a:xfrm>
            <a:off x="1523880" y="144792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Мы изучил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ы выявили те произведения, которые могли бы попасть в средневековую библиотеку и составили содержание экспозиции «Средневековая библиоте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WordArt 6"/>
          <p:cNvSpPr txBox="1"/>
          <p:nvPr/>
        </p:nvSpPr>
        <p:spPr>
          <a:xfrm>
            <a:off x="457200" y="228600"/>
            <a:ext cx="7962840" cy="104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узей средневековой культуры и бы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0" name="Picture 2" descr="C:\Documents and Settings\Администратор\Мои документы\Мои рисунки\Средневековая литература\1.bmp"/>
          <p:cNvPicPr/>
          <p:nvPr/>
        </p:nvPicPr>
        <p:blipFill>
          <a:blip r:embed="rId1"/>
          <a:stretch/>
        </p:blipFill>
        <p:spPr>
          <a:xfrm>
            <a:off x="3429000" y="3581280"/>
            <a:ext cx="22096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ы включили бы в экспозицию рассказ о «Песни о Роланд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4"/>
          <p:cNvSpPr txBox="1"/>
          <p:nvPr/>
        </p:nvSpPr>
        <p:spPr>
          <a:xfrm>
            <a:off x="457200" y="228600"/>
            <a:ext cx="7962840" cy="104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узей средневековой культуры и бы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4" name="Picture 7" descr=""/>
          <p:cNvPicPr/>
          <p:nvPr/>
        </p:nvPicPr>
        <p:blipFill>
          <a:blip r:embed="rId1"/>
          <a:stretch/>
        </p:blipFill>
        <p:spPr>
          <a:xfrm>
            <a:off x="5867280" y="2819520"/>
            <a:ext cx="2438640" cy="281916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8"/>
          <p:cNvSpPr/>
          <p:nvPr/>
        </p:nvSpPr>
        <p:spPr>
          <a:xfrm>
            <a:off x="533520" y="2819520"/>
            <a:ext cx="457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одом послужили события 778 года в перевале Ронсенва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генда представила Роланда как идеального рыцаря, защитника христиан, беспредельно преданным долгу, который понимался как преданность коро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ы включили бы в экспозицию рассказ 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Тристане и Изольд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WordArt 4"/>
          <p:cNvSpPr txBox="1"/>
          <p:nvPr/>
        </p:nvSpPr>
        <p:spPr>
          <a:xfrm>
            <a:off x="457200" y="228600"/>
            <a:ext cx="7962840" cy="104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узей средневековой культуры и бы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9" name="Picture 8" descr=""/>
          <p:cNvPicPr/>
          <p:nvPr/>
        </p:nvPicPr>
        <p:blipFill>
          <a:blip r:embed="rId1"/>
          <a:stretch/>
        </p:blipFill>
        <p:spPr>
          <a:xfrm>
            <a:off x="5707080" y="2971800"/>
            <a:ext cx="2593800" cy="335268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9"/>
          <p:cNvSpPr/>
          <p:nvPr/>
        </p:nvSpPr>
        <p:spPr>
          <a:xfrm>
            <a:off x="380880" y="274320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основу легли ирландские сказания о трагической любви двух молодых прекрасных серде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ие романы о светлой и самоотверженной любви отразили представление о долге, чести, благород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3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ы включили бы в экспозицию рассказ 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Романе о лис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4"/>
          <p:cNvSpPr txBox="1"/>
          <p:nvPr/>
        </p:nvSpPr>
        <p:spPr>
          <a:xfrm>
            <a:off x="457200" y="228600"/>
            <a:ext cx="7962840" cy="104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узей средневековой культуры и бы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4" name="Picture 8" descr=""/>
          <p:cNvPicPr/>
          <p:nvPr/>
        </p:nvPicPr>
        <p:blipFill>
          <a:blip r:embed="rId1"/>
          <a:stretch/>
        </p:blipFill>
        <p:spPr>
          <a:xfrm>
            <a:off x="531720" y="2743200"/>
            <a:ext cx="2668680" cy="35053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0"/>
          <p:cNvSpPr/>
          <p:nvPr/>
        </p:nvSpPr>
        <p:spPr>
          <a:xfrm>
            <a:off x="3809880" y="2666880"/>
            <a:ext cx="4572000" cy="35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иносказательной форме изображается жизнь средневековой Европ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сновная тема романа- успешная борьба лиса с тупым кровожадным вол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97" nodeType="afterEffect" fill="hold" presetClass="entr" presetID="4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10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11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4"/>
          <p:cNvSpPr txBox="1"/>
          <p:nvPr/>
        </p:nvSpPr>
        <p:spPr>
          <a:xfrm>
            <a:off x="457200" y="228600"/>
            <a:ext cx="7962840" cy="104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узей средневековой культуры и бы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358128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2819520" y="1374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2971800" y="15271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914400" y="31240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685800" y="15271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ы узнали о том, что в средние века существовал культ да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5" descr="культ дамы"/>
          <p:cNvPicPr/>
          <p:nvPr/>
        </p:nvPicPr>
        <p:blipFill>
          <a:blip r:embed="rId1"/>
          <a:stretch/>
        </p:blipFill>
        <p:spPr>
          <a:xfrm>
            <a:off x="5105520" y="3124080"/>
            <a:ext cx="3639960" cy="306072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6"/>
          <p:cNvSpPr/>
          <p:nvPr/>
        </p:nvSpPr>
        <p:spPr>
          <a:xfrm>
            <a:off x="0" y="2514600"/>
            <a:ext cx="457200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мы обладают огромными прав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зносятся в сознании мужского окружения на недосягаемую высоту - вплоть до небывалой доселе возможности вершить суд над мужчи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нято было носить      цвета своей возлюбленной и предметы ее туалета, подаренные в знак любв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ывод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 средние века существовали: героический эпос, рыцарская поэзия, рыцарские романы, литературные произведения городского сосло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ами была подготовлена экспозиция «Средневековая библиотека», в которую вошли «Песнь о Роланде», «Тристан и Изольда»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5"/>
          <p:cNvSpPr txBox="1"/>
          <p:nvPr/>
        </p:nvSpPr>
        <p:spPr>
          <a:xfrm>
            <a:off x="533520" y="228600"/>
            <a:ext cx="7991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узей Средневековой культуры и бы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4-22T09:54:01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