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7D3-95F2-4DC1-A84F-3979A9B8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ECA-ACF2-499A-9659-3DC02DD4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B35-4F2C-4A19-99C5-7B7D498F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733-2BBC-47F0-B834-460D5467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D80-5A31-4B83-B4E7-B76C80A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D55-485C-4866-B9FC-93000FE2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FAC-0F3D-454F-BDDB-7713E7D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62D-46CA-4FEB-88AC-C90215C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395-1471-417C-856B-09FA96B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C95-3BC2-4ACF-832A-87FEEA6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FD8-0B20-49BE-9D6B-437EC839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EE7-4764-4F7D-ABCD-FCC5326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d943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FBC5-65D2-4D8A-AEDA-61B5A11C4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netti.ru/studia/djachok_2.shtml" TargetMode="External"/><Relationship Id="rId2" Type="http://schemas.openxmlformats.org/officeDocument/2006/relationships/hyperlink" Target="http://gremlinmage.narod.ru/medieval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3.xml"/><Relationship Id="rId5" Type="http://schemas.openxmlformats.org/officeDocument/2006/relationships/slide" Target="slide5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743000"/>
            <a:ext cx="640080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Презентация группы литерат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62040" y="301680"/>
            <a:ext cx="78199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грированный проект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стории и технологии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6" descr="Рисунок1"/>
          <p:cNvPicPr/>
          <p:nvPr/>
        </p:nvPicPr>
        <p:blipFill>
          <a:blip r:embed="rId1"/>
          <a:stretch/>
        </p:blipFill>
        <p:spPr>
          <a:xfrm>
            <a:off x="5257800" y="2635200"/>
            <a:ext cx="26989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М. Дьячок Раннехристианская средневековая литератур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binetti.ru/studia/djachok_2.s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mlin's treasu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gremlinmage.narod.ru/mediev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невеков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www.thedarkages.ru/literatu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невековая литература 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tp://ru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0" y="228600"/>
            <a:ext cx="852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прос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 литературные жанры существовали в Средние 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вестные произведения дошли до нас из эпохи Средневеков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произведения мы включили бы в свою библиотеку, о чем рассказали бы в экспозиции музе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380880" y="380880"/>
            <a:ext cx="8534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литературные жанры существовали в Средние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2" name="Organization Chart 10"/>
          <p:cNvGrpSpPr/>
          <p:nvPr/>
        </p:nvGrpSpPr>
        <p:grpSpPr>
          <a:xfrm>
            <a:off x="1491120" y="2557080"/>
            <a:ext cx="5236920" cy="3014640"/>
            <a:chOff x="1491120" y="2557080"/>
            <a:chExt cx="5236920" cy="3014640"/>
          </a:xfrm>
        </p:grpSpPr>
        <p:cxnSp>
          <p:nvCxnSpPr>
            <p:cNvPr id="53" name="_s1028"/>
            <p:cNvCxnSpPr>
              <a:stCxn id="54" idx="0"/>
              <a:endCxn id="55" idx="2"/>
            </p:cNvCxnSpPr>
            <p:nvPr/>
          </p:nvCxnSpPr>
          <p:spPr>
            <a:xfrm flipV="1">
              <a:off x="5750640" y="4248720"/>
              <a:ext cx="2160" cy="29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29"/>
            <p:cNvCxnSpPr>
              <a:stCxn id="57" idx="0"/>
              <a:endCxn id="58" idx="2"/>
            </p:cNvCxnSpPr>
            <p:nvPr/>
          </p:nvCxnSpPr>
          <p:spPr>
            <a:xfrm flipV="1">
              <a:off x="3820680" y="4324680"/>
              <a:ext cx="1800" cy="29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61" idx="2"/>
            </p:cNvCxnSpPr>
            <p:nvPr/>
          </p:nvCxnSpPr>
          <p:spPr>
            <a:xfrm flipV="1">
              <a:off x="2192040" y="4170960"/>
              <a:ext cx="1800" cy="29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1"/>
            <p:cNvCxnSpPr>
              <a:stCxn id="55" idx="0"/>
              <a:endCxn id="63" idx="2"/>
            </p:cNvCxnSpPr>
            <p:nvPr/>
          </p:nvCxnSpPr>
          <p:spPr>
            <a:xfrm flipV="1" rot="16200000">
              <a:off x="4786920" y="2216160"/>
              <a:ext cx="208080" cy="1719720"/>
            </a:xfrm>
            <a:prstGeom prst="bentConnector3">
              <a:avLst>
                <a:gd name="adj1" fmla="val 495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2"/>
            <p:cNvCxnSpPr>
              <a:stCxn id="58" idx="0"/>
              <a:endCxn id="63" idx="2"/>
            </p:cNvCxnSpPr>
            <p:nvPr/>
          </p:nvCxnSpPr>
          <p:spPr>
            <a:xfrm flipH="1" flipV="1" rot="5400000">
              <a:off x="3716280" y="3076560"/>
              <a:ext cx="420120" cy="210960"/>
            </a:xfrm>
            <a:prstGeom prst="bentConnector3">
              <a:avLst>
                <a:gd name="adj1" fmla="val 11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3"/>
            <p:cNvCxnSpPr/>
            <p:nvPr/>
          </p:nvCxnSpPr>
          <p:spPr>
            <a:xfrm flipH="1" flipV="1" rot="5400000">
              <a:off x="2997720" y="2181960"/>
              <a:ext cx="264600" cy="1842480"/>
            </a:xfrm>
            <a:prstGeom prst="bentConnector3">
              <a:avLst>
                <a:gd name="adj1" fmla="val 463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4"/>
            <p:cNvSpPr/>
            <p:nvPr/>
          </p:nvSpPr>
          <p:spPr>
            <a:xfrm>
              <a:off x="3432600" y="2557080"/>
              <a:ext cx="1196280" cy="415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5"/>
            <p:cNvSpPr/>
            <p:nvPr/>
          </p:nvSpPr>
          <p:spPr>
            <a:xfrm>
              <a:off x="1491120" y="3238200"/>
              <a:ext cx="1400400" cy="933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1" action="ppaction://hlinksldjump"/>
                </a:rPr>
                <a:t>Героический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эпо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6"/>
            <p:cNvSpPr/>
            <p:nvPr/>
          </p:nvSpPr>
          <p:spPr>
            <a:xfrm>
              <a:off x="3062160" y="3392280"/>
              <a:ext cx="1517760" cy="934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Рыцарская поэзия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рыцарский рома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7"/>
            <p:cNvSpPr/>
            <p:nvPr/>
          </p:nvSpPr>
          <p:spPr>
            <a:xfrm>
              <a:off x="4771080" y="3180240"/>
              <a:ext cx="1956960" cy="1068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Литературны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роизвед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городского сослов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8"/>
            <p:cNvSpPr/>
            <p:nvPr/>
          </p:nvSpPr>
          <p:spPr>
            <a:xfrm>
              <a:off x="1491120" y="4465440"/>
              <a:ext cx="1400400" cy="95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Роланд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еснь о Нибелунга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9"/>
            <p:cNvSpPr/>
            <p:nvPr/>
          </p:nvSpPr>
          <p:spPr>
            <a:xfrm>
              <a:off x="3062160" y="4619880"/>
              <a:ext cx="15177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Куртуазная поэзия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Тристан и Изоль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40"/>
            <p:cNvSpPr/>
            <p:nvPr/>
          </p:nvSpPr>
          <p:spPr>
            <a:xfrm>
              <a:off x="4771080" y="4542120"/>
              <a:ext cx="1956960" cy="951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Роман о лисе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поэзия вагант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5"/>
          <p:cNvSpPr/>
          <p:nvPr/>
        </p:nvSpPr>
        <p:spPr>
          <a:xfrm>
            <a:off x="1523880" y="1447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изучи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ыявили те произведения, которые могли бы попасть в средневековую библиотеку и составили содержание экспозиции «Средневековая библиоте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" name="Picture 2" descr="C:\Documents and Settings\Администратор\Мои документы\Мои рисунки\Средневековая литература\1.bmp"/>
          <p:cNvPicPr/>
          <p:nvPr/>
        </p:nvPicPr>
        <p:blipFill>
          <a:blip r:embed="rId1"/>
          <a:stretch/>
        </p:blipFill>
        <p:spPr>
          <a:xfrm>
            <a:off x="3429000" y="3581280"/>
            <a:ext cx="2209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 «Песни о Ролан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43864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33520" y="281952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одом послужили события 778 года в перевале Ронсенв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енда представила Роланда как идеального рыцаря, защитника христиан, беспредельно преданным долгу, который понимался как преданность кор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Тристане и Изоль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5707080" y="2971800"/>
            <a:ext cx="2593800" cy="33526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380880" y="2743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у легли ирландские сказания о трагической любви двух молодых прекрасных серд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е романы о светлой и самоотверженной любви отразили представление о долге, чести, благор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ы включили бы в экспозицию рассказ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Романе о ли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531720" y="2743200"/>
            <a:ext cx="26686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809880" y="2666880"/>
            <a:ext cx="45720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иносказательной форме изображается жизнь средневеков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новная тема романа- успешная борьба лиса с тупым кровожадным вол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457200" y="228600"/>
            <a:ext cx="79628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19520" y="13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971800" y="1527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914400" y="3124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85800" y="1527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 узнали о том, что в средние века существовал культ да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культ дамы"/>
          <p:cNvPicPr/>
          <p:nvPr/>
        </p:nvPicPr>
        <p:blipFill>
          <a:blip r:embed="rId1"/>
          <a:stretch/>
        </p:blipFill>
        <p:spPr>
          <a:xfrm>
            <a:off x="5105520" y="3124080"/>
            <a:ext cx="3639960" cy="3060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6"/>
          <p:cNvSpPr/>
          <p:nvPr/>
        </p:nvSpPr>
        <p:spPr>
          <a:xfrm>
            <a:off x="0" y="2514600"/>
            <a:ext cx="4572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мы обладают огромными пра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носятся в сознании мужского окружения на недосягаемую высоту - вплоть до небывалой доселе возможности вершить суд над мужч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о было носить      цвета своей возлюбленной и предметы ее туалета, подаренные в знак люб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редние века существовали: героический эпос, рыцарская поэзия, рыцарские романы, литературные произведения городского со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ми была подготовлена экспозиция «Средневековая библиотека», в которую вошли «Песнь о Роланде», «Тристан и Изольд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533520" y="228600"/>
            <a:ext cx="799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Средневековой культуры и бы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2T09:54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