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35A3-F2A4-4293-8EEE-33E09088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859-2AA9-44C3-9079-94BBCB41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D08-B1FD-4DC9-82E7-00F2F5D1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A1C-99C7-4877-AA06-74DC936F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114F-87DA-4A28-BEEB-0DFA6DBF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7865-BDEC-4410-9D67-ADC8FAB6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827-55AF-4F92-A3D2-EB72D617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7771-73BF-4CA8-9E67-8B4D2C82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3F8-A2E6-4522-8105-251A320A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D21-2C2F-465E-A817-0BBBEFC6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0DF-A67D-4AA3-961D-EB1A2278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6A86-0C6B-4F50-BF9D-E329B61C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d943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88C8-A6C2-45DD-87DB-7DFE260672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netti.ru/studia/djachok_2.shtml" TargetMode="External"/><Relationship Id="rId2" Type="http://schemas.openxmlformats.org/officeDocument/2006/relationships/hyperlink" Target="http://gremlinmage.narod.ru/medieval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1.xml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slide" Target="slide5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0456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743000"/>
            <a:ext cx="6400800" cy="17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Arial"/>
              </a:rPr>
              <a:t>Презентация группы литера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62040" y="301680"/>
            <a:ext cx="7819920" cy="27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тегрированный проект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истории и технологии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6" descr="Рисунок1"/>
          <p:cNvPicPr/>
          <p:nvPr/>
        </p:nvPicPr>
        <p:blipFill>
          <a:blip r:embed="rId1"/>
          <a:stretch/>
        </p:blipFill>
        <p:spPr>
          <a:xfrm>
            <a:off x="5257800" y="2635200"/>
            <a:ext cx="269892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М. Дьячок Раннехристианская средневековая литература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www.binetti.ru/studia/djachok_2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mlin's treasur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редневековая литерату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gremlinmage.narod.ru/medieval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редневеков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www.thedarkages.ru/literatu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редневековая литература - Вики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ru.wikipedia.org/wik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0" y="228600"/>
            <a:ext cx="8524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просы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 литературные жанры существовали в Средние 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известные произведения дошли до нас из эпохи Средневековь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литературные произведения мы включили бы в свою библиотеку, о чем рассказали бы в экспозиции музе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11"/>
          <p:cNvSpPr txBox="1"/>
          <p:nvPr/>
        </p:nvSpPr>
        <p:spPr>
          <a:xfrm>
            <a:off x="380880" y="380880"/>
            <a:ext cx="8534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литературные жанры существовали в Средние 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457200" y="228600"/>
            <a:ext cx="79628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2" name="Organization Chart 10"/>
          <p:cNvGrpSpPr/>
          <p:nvPr/>
        </p:nvGrpSpPr>
        <p:grpSpPr>
          <a:xfrm>
            <a:off x="1491120" y="2557080"/>
            <a:ext cx="5236920" cy="3014640"/>
            <a:chOff x="1491120" y="2557080"/>
            <a:chExt cx="5236920" cy="3014640"/>
          </a:xfrm>
        </p:grpSpPr>
        <p:cxnSp>
          <p:nvCxnSpPr>
            <p:cNvPr id="53" name="_s1028"/>
            <p:cNvCxnSpPr>
              <a:stCxn id="54" idx="0"/>
              <a:endCxn id="55" idx="2"/>
            </p:cNvCxnSpPr>
            <p:nvPr/>
          </p:nvCxnSpPr>
          <p:spPr>
            <a:xfrm flipV="1">
              <a:off x="5750640" y="4248720"/>
              <a:ext cx="2160" cy="293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29"/>
            <p:cNvCxnSpPr>
              <a:stCxn id="57" idx="0"/>
              <a:endCxn id="58" idx="2"/>
            </p:cNvCxnSpPr>
            <p:nvPr/>
          </p:nvCxnSpPr>
          <p:spPr>
            <a:xfrm flipV="1">
              <a:off x="3820680" y="4324680"/>
              <a:ext cx="1800" cy="29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030"/>
            <p:cNvCxnSpPr>
              <a:stCxn id="60" idx="0"/>
              <a:endCxn id="61" idx="2"/>
            </p:cNvCxnSpPr>
            <p:nvPr/>
          </p:nvCxnSpPr>
          <p:spPr>
            <a:xfrm flipV="1">
              <a:off x="2192040" y="4170960"/>
              <a:ext cx="1800" cy="29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31"/>
            <p:cNvCxnSpPr>
              <a:stCxn id="55" idx="0"/>
              <a:endCxn id="63" idx="2"/>
            </p:cNvCxnSpPr>
            <p:nvPr/>
          </p:nvCxnSpPr>
          <p:spPr>
            <a:xfrm flipV="1" rot="16200000">
              <a:off x="4786920" y="2216160"/>
              <a:ext cx="208080" cy="1719720"/>
            </a:xfrm>
            <a:prstGeom prst="bentConnector3">
              <a:avLst>
                <a:gd name="adj1" fmla="val 495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2"/>
            <p:cNvCxnSpPr>
              <a:stCxn id="58" idx="0"/>
              <a:endCxn id="63" idx="2"/>
            </p:cNvCxnSpPr>
            <p:nvPr/>
          </p:nvCxnSpPr>
          <p:spPr>
            <a:xfrm flipH="1" flipV="1" rot="5400000">
              <a:off x="3716280" y="3076560"/>
              <a:ext cx="420120" cy="210960"/>
            </a:xfrm>
            <a:prstGeom prst="bentConnector3">
              <a:avLst>
                <a:gd name="adj1" fmla="val 11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3"/>
            <p:cNvCxnSpPr/>
            <p:nvPr/>
          </p:nvCxnSpPr>
          <p:spPr>
            <a:xfrm flipH="1" flipV="1" rot="5400000">
              <a:off x="2997720" y="2181960"/>
              <a:ext cx="264600" cy="1842480"/>
            </a:xfrm>
            <a:prstGeom prst="bentConnector3">
              <a:avLst>
                <a:gd name="adj1" fmla="val 463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" name="_s1034"/>
            <p:cNvSpPr/>
            <p:nvPr/>
          </p:nvSpPr>
          <p:spPr>
            <a:xfrm>
              <a:off x="3432600" y="2557080"/>
              <a:ext cx="1196280" cy="415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5"/>
            <p:cNvSpPr/>
            <p:nvPr/>
          </p:nvSpPr>
          <p:spPr>
            <a:xfrm>
              <a:off x="1491120" y="3238200"/>
              <a:ext cx="1400400" cy="933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3333cc"/>
                  </a:solidFill>
                  <a:uFillTx/>
                  <a:latin typeface="Arial"/>
                  <a:hlinkClick r:id="rId1" action="ppaction://hlinksldjump"/>
                </a:rPr>
                <a:t>Героический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3333cc"/>
                  </a:solidFill>
                  <a:uFillTx/>
                  <a:latin typeface="Arial"/>
                  <a:hlinkClick r:id="rId2" action="ppaction://hlinksldjump"/>
                </a:rPr>
                <a:t>эпо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6"/>
            <p:cNvSpPr/>
            <p:nvPr/>
          </p:nvSpPr>
          <p:spPr>
            <a:xfrm>
              <a:off x="3062160" y="3392280"/>
              <a:ext cx="1517760" cy="9345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3333cc"/>
                  </a:solidFill>
                  <a:uFillTx/>
                  <a:latin typeface="Arial"/>
                  <a:hlinkClick r:id="rId3" action="ppaction://hlinksldjump"/>
                </a:rPr>
                <a:t>Рыцарская поэзия</a:t>
              </a:r>
              <a:r>
                <a:rPr b="0" lang="en-US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3333cc"/>
                  </a:solidFill>
                  <a:uFillTx/>
                  <a:latin typeface="Arial"/>
                  <a:hlinkClick r:id="rId4" action="ppaction://hlinksldjump"/>
                </a:rPr>
                <a:t>рыцарский роман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7"/>
            <p:cNvSpPr/>
            <p:nvPr/>
          </p:nvSpPr>
          <p:spPr>
            <a:xfrm>
              <a:off x="4771080" y="3180240"/>
              <a:ext cx="1956960" cy="1068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Литературны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роизведени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городского сослов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8"/>
            <p:cNvSpPr/>
            <p:nvPr/>
          </p:nvSpPr>
          <p:spPr>
            <a:xfrm>
              <a:off x="1491120" y="4465440"/>
              <a:ext cx="1400400" cy="95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еснь о Роланде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еснь о Нибелунгах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9"/>
            <p:cNvSpPr/>
            <p:nvPr/>
          </p:nvSpPr>
          <p:spPr>
            <a:xfrm>
              <a:off x="3062160" y="4619880"/>
              <a:ext cx="1517760" cy="951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Куртуазная поэзия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Тристан и Изольд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40"/>
            <p:cNvSpPr/>
            <p:nvPr/>
          </p:nvSpPr>
          <p:spPr>
            <a:xfrm>
              <a:off x="4771080" y="4542120"/>
              <a:ext cx="1956960" cy="951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3333cc"/>
                  </a:solidFill>
                  <a:uFillTx/>
                  <a:latin typeface="Arial"/>
                  <a:hlinkClick r:id="rId5" action="ppaction://hlinksldjump"/>
                </a:rPr>
                <a:t>Роман о лисе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оэзия вагант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25"/>
          <p:cNvSpPr/>
          <p:nvPr/>
        </p:nvSpPr>
        <p:spPr>
          <a:xfrm>
            <a:off x="1523880" y="1447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ы изучи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выявили те произведения, которые могли бы попасть в средневековую библиотеку и составили содержание экспозиции «Средневековая библиоте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457200" y="228600"/>
            <a:ext cx="79628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0" name="Picture 2" descr="C:\Documents and Settings\Администратор\Мои документы\Мои рисунки\Средневековая литература\1.bmp"/>
          <p:cNvPicPr/>
          <p:nvPr/>
        </p:nvPicPr>
        <p:blipFill>
          <a:blip r:embed="rId1"/>
          <a:stretch/>
        </p:blipFill>
        <p:spPr>
          <a:xfrm>
            <a:off x="3429000" y="3581280"/>
            <a:ext cx="2209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ы включили бы в экспозицию рассказ о «Песни о Роланд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457200" y="228600"/>
            <a:ext cx="79628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438640" cy="28191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533520" y="281952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одом послужили события 778 года в перевале Ронсенв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генда представила Роланда как идеального рыцаря, защитника христиан, беспредельно преданным долгу, который понимался как преданность коро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ы включили бы в экспозицию рассказ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Тристане и Изольд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457200" y="228600"/>
            <a:ext cx="79628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5707080" y="2971800"/>
            <a:ext cx="2593800" cy="33526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9"/>
          <p:cNvSpPr/>
          <p:nvPr/>
        </p:nvSpPr>
        <p:spPr>
          <a:xfrm>
            <a:off x="380880" y="27432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снову легли ирландские сказания о трагической любви двух молодых прекрасных серд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ие романы о светлой и самоотверженной любви отразили представление о долге, чести, благород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ы включили бы в экспозицию рассказ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Романе о лис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457200" y="228600"/>
            <a:ext cx="79628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1"/>
          <a:stretch/>
        </p:blipFill>
        <p:spPr>
          <a:xfrm>
            <a:off x="531720" y="2743200"/>
            <a:ext cx="2668680" cy="35053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3809880" y="2666880"/>
            <a:ext cx="457200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иносказательной форме изображается жизнь средневековой Евр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новная тема романа- успешная борьба лиса с тупым кровожадным вол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1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457200" y="228600"/>
            <a:ext cx="79628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19520" y="137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2971800" y="15271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914400" y="31240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685800" y="1527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 узнали о том, что в средние века существовал культ да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5" descr="культ дамы"/>
          <p:cNvPicPr/>
          <p:nvPr/>
        </p:nvPicPr>
        <p:blipFill>
          <a:blip r:embed="rId1"/>
          <a:stretch/>
        </p:blipFill>
        <p:spPr>
          <a:xfrm>
            <a:off x="5105520" y="3124080"/>
            <a:ext cx="3639960" cy="3060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6"/>
          <p:cNvSpPr/>
          <p:nvPr/>
        </p:nvSpPr>
        <p:spPr>
          <a:xfrm>
            <a:off x="0" y="2514600"/>
            <a:ext cx="4572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мы обладают огромными пра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носятся в сознании мужского окружения на недосягаемую высоту - вплоть до небывалой доселе возможности вершить суд над мужчи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о было носить      цвета своей возлюбленной и предметы ее туалета, подаренные в знак любв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средние века существовали: героический эпос, рыцарская поэзия, рыцарские романы, литературные произведения городского сосло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ми была подготовлена экспозиция «Средневековая библиотека», в которую вошли «Песнь о Роланде», «Тристан и Изольда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533520" y="228600"/>
            <a:ext cx="7991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22T09:54:0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