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24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920-CB54-4DD3-A8BB-8751171F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967C-2CFF-4B19-BE11-8221CBC5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33B3F-1EEB-43F0-B5A8-01E8932F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B17BA-6547-4685-84AB-AFE4ECF9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9DAC9-58D6-4FC4-9C1E-89FA955F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3ACEA-DC60-4352-BB1F-1C6F998D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EE7D9-7BDA-4023-B90A-DBD73BD1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52E14-1DF8-4826-8C56-1473FA9D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755C2-90B0-4210-9D81-041FED31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2BC5E-0BCF-4E79-80BB-440DFBF3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200BA-8787-411B-BDBC-DAD30F77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D08-3E2E-4947-999F-D06A2D7D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BE5-7967-468D-A2BF-920035EB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1D1F-6ADE-4324-92DE-162CBEC4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2E1A-23EB-4211-BCDA-7667962E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D6C4-1C46-4C5C-B87F-D16989AE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9722-9764-4C8B-8E87-0CE65D6A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1FA8-3FE2-4924-97FC-4C5F170B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A1F8-7EE0-45B3-AD54-871032EA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6560-5B48-4C85-A1E2-7475671B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CA4-EFC6-4C6F-B688-664B3220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ECF6-76A5-413B-957F-2E4127F7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5C19-483B-421C-871B-9403895F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38D7-36AA-4FB2-BAA1-9AC2B03E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EE4E-FF53-46C0-9B03-BD144E0C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0E70-4577-4202-856A-8C6290A7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A6938-A4CF-4D1C-A16D-08BD12FD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727DB-3B62-4279-B4B7-758296E1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737F8-F074-4B0E-8B2D-0B5D8626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04C6B-F1C0-4DBD-B18D-89686F37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57957-7532-45D6-9DF8-971939AD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3C0E-69D1-4B15-B16C-D29BABC2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F1CD5-32EC-4EEE-95CB-3726A7D5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92ECC-3F63-4108-99EB-6E214276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F8B91-D549-45C6-B73A-0B22EE5B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2CC96-606B-4354-AC86-1F3D3371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BF486-B3D2-4BA2-B3B4-DBBBB64C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025FF-38BD-48BF-8627-0F895C99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1804B-FA2C-4598-B49C-841D8DFD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0533A-C763-474F-B388-F984AA74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610EA-3D20-454E-A4AC-80D82F68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4178D-1AAB-42C5-9A8D-EECCB39B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F00-17AB-4A3B-8F0B-9440C1F1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F3AD6-A771-4ACC-A164-051772C8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9B6C1-C342-4474-9727-30CDD708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248A7-92C3-44FE-B04C-D6A67B38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66D40-3E40-46CF-B067-BB92FF6F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C840A-A6BA-4611-8D43-416350BA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84D99-C578-4F45-A27E-E608A653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91AEC-96EF-4B34-B25F-B65C03FC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D6096-DB6F-4B06-97CA-6C18E82E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960DA-AE25-4978-B73A-D8AA3E7F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4EBC0-247D-4946-813C-894D238E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B393-71CB-4555-8B7A-2946F3C4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B5960-5C37-4C08-8187-D3BC7880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B13DF-9346-4499-9A0B-F67DA902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923D9-0BB5-4B17-8F6F-B2A8889F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80F08-A42C-4064-9DE6-68E1FCBB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1A48C-4BB1-48AD-BD9E-E469B962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3FA2F-1051-4E6F-9C12-5171D7F0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587A4-1609-43C6-ABAA-2483DD72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AAD11-9C7E-4131-963D-6000DDFA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EA1B6-E22C-4E69-8AAC-F2B9B355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6DF6E-7D0C-4ED5-B70A-9859B25E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B074-BED0-453E-BF46-B0D1BBE0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3F592-58E5-4631-85D8-C75D25EC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16C78-D412-4468-817E-B370D4B2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01C9D-811A-43C4-A6D8-91A0C800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6E017-72A6-4A5C-BB93-41293E37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CA8E3-BE27-485E-9400-D7AC320A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94127-77B7-472A-B621-37FD99CE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9CDDF-641E-4A6F-87A2-A143B553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375E0-69EC-47D2-907E-D842F182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040F1-FF4B-41DB-8ACA-112A2BD2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57755-01FF-42CC-A3BF-EE26316D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909-7DF2-4C63-B767-EC754000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36196-C493-4FBF-A226-BDD85A13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DD04C-CAD2-43C9-B2C2-8ECCF23E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84387-05B2-4920-917F-2722564C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EB71C-96A1-47AD-9B91-D917B03B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D7007-9E2E-4497-92B4-37B6C437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248BF-7128-499F-844B-08382EE2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007D4-AD01-41B4-A4E4-3DFF6311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6BA0D-18F8-40E0-86EC-7D1E8CFB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5D2FA-EA78-4D5F-89A5-C06CF543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90E60-11FE-46C3-AC4C-7CC2186E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F97-CBBA-4A98-B1DF-065C6334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FEB30-D20C-411F-B660-BFD8ECAC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50D49-215B-4957-BEC8-69E68C86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7B28E-CB3C-4DBE-95C6-9BAEBA31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81225-EF67-41EE-840F-6A6E0EF4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588B5-7864-455C-B123-4511447D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27623-1815-4787-8C1B-53DAAA21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46A7A-C35E-4568-AE80-31320B7B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61AFC-D81A-47FB-92CE-DAE8E7FF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4A33F-9EFE-42C9-8DE9-F46187E6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BEB84-FD42-4AE0-AB80-35433682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B93-EF12-4365-A553-58BA3A2F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08D8A-839F-4F8A-9612-A021921E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BA5BF-7809-47C9-B637-9C83EA3C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6BD92-4B78-4DE0-AB16-2404A4BF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020B3-BF5A-43FA-A472-3BAD6E01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E8D14-C369-4EA5-94FC-B18522EA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A6DCD-A1AB-4C9A-BF60-6D3F7D48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09663-4682-4717-A826-877153B7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B095A-AF2E-451A-9747-14305375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02B1B-D835-4BC3-AB7A-602A7AF9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6691C-D89A-48E2-B574-C18BF02A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7F02-E423-482E-9EA8-582F4E37C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9B58-941B-4B96-A708-EFE5A6030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444F-96C4-4DDE-90DD-61651DA93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76BA-70B3-417A-938E-025086D43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2979-605D-40C4-AF56-20854853D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7891-E72E-410B-B2C3-1238B0BDB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2BC4-0D7F-47D1-83E6-972CA48B1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2B77-03DE-4A23-8EE5-54ED33B27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B010-B321-4E3B-A205-C755A8FEF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c1c1c"/>
                </a:solidFill>
                <a:latin typeface="Arial"/>
              </a:rPr>
              <a:t>Иван Андреевич Крылов</a:t>
            </a: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 – 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еликий  русский баснописе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12" descr="krylov13.gif"/>
          <p:cNvPicPr/>
          <p:nvPr/>
        </p:nvPicPr>
        <p:blipFill>
          <a:blip r:embed="rId1"/>
          <a:stretch/>
        </p:blipFill>
        <p:spPr>
          <a:xfrm>
            <a:off x="1835280" y="333360"/>
            <a:ext cx="4897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9" descr="Martishka_ochki5.jpg"/>
          <p:cNvPicPr/>
          <p:nvPr/>
        </p:nvPicPr>
        <p:blipFill>
          <a:blip r:embed="rId1"/>
          <a:stretch/>
        </p:blipFill>
        <p:spPr>
          <a:xfrm>
            <a:off x="1308240" y="720720"/>
            <a:ext cx="67928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Рисунок 8" descr="Lebed_chuka_rak03.jpg"/>
          <p:cNvPicPr/>
          <p:nvPr/>
        </p:nvPicPr>
        <p:blipFill>
          <a:blip r:embed="rId1"/>
          <a:stretch/>
        </p:blipFill>
        <p:spPr>
          <a:xfrm>
            <a:off x="1308240" y="720720"/>
            <a:ext cx="686412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4" descr="5447cdb8a225.jpg"/>
          <p:cNvPicPr/>
          <p:nvPr/>
        </p:nvPicPr>
        <p:blipFill>
          <a:blip r:embed="rId1"/>
          <a:stretch/>
        </p:blipFill>
        <p:spPr>
          <a:xfrm>
            <a:off x="1308240" y="720720"/>
            <a:ext cx="68641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632720" cy="633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611280" y="458640"/>
            <a:ext cx="784836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632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100_0129"/>
          <p:cNvPicPr/>
          <p:nvPr/>
        </p:nvPicPr>
        <p:blipFill>
          <a:blip r:embed="rId1"/>
          <a:stretch/>
        </p:blipFill>
        <p:spPr>
          <a:xfrm>
            <a:off x="914400" y="438120"/>
            <a:ext cx="7238880" cy="5430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100_0130"/>
          <p:cNvPicPr/>
          <p:nvPr/>
        </p:nvPicPr>
        <p:blipFill>
          <a:blip r:embed="rId1"/>
          <a:stretch/>
        </p:blipFill>
        <p:spPr>
          <a:xfrm>
            <a:off x="539640" y="333360"/>
            <a:ext cx="8136000" cy="5748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762480" y="2156040"/>
            <a:ext cx="759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ые сай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www.arttrans.com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www.childhoodbook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krylov.net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krugosvet.ru/articles/104/1010420/1010420a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peoples.ru/art/literature/poetry/oldage/ivan_krylov/index1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нированные иллюстрации из детских книг «Басни Крыл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1187280" y="7884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з биографии писател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971640" y="2105640"/>
            <a:ext cx="71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а рождения       13 февраля 1769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рождения     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а смерти            21 ноября 184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смерти         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жданство            Российская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 деятельности    пис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нр                         бас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1c1c1c"/>
                </a:solidFill>
                <a:uFillTx/>
                <a:latin typeface="Arial"/>
              </a:rPr>
              <a:t>Этапы жизненного пути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74г. – г.Тверь - служба   подканцеляристом в су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83г. – Санкт-Петербург - секретарь Казенной пал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01г. – г.Рига - секретарь губерна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06г. – Санкт-Петербург - работа в журнале «Московский зр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180px-Krylov_Grave_Summer[1]"/>
          <p:cNvPicPr/>
          <p:nvPr/>
        </p:nvPicPr>
        <p:blipFill>
          <a:blip r:embed="rId1"/>
          <a:stretch/>
        </p:blipFill>
        <p:spPr>
          <a:xfrm>
            <a:off x="2251080" y="333360"/>
            <a:ext cx="4589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1c1c1c"/>
                </a:solidFill>
                <a:uFillTx/>
                <a:latin typeface="Arial"/>
              </a:rPr>
              <a:t>Известные басни Крылова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екоза и мурав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к на псар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на и лис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тышка и 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вар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н и Мос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р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Рисунок 6" descr="7af98756c5fce0b12049f3e2843b1adc.gif"/>
          <p:cNvPicPr/>
          <p:nvPr/>
        </p:nvPicPr>
        <p:blipFill>
          <a:blip r:embed="rId1"/>
          <a:stretch/>
        </p:blipFill>
        <p:spPr>
          <a:xfrm>
            <a:off x="1079640" y="720720"/>
            <a:ext cx="2112840" cy="342900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16" descr="a90225c9cfc23cc11b4c980d428f8219.gif"/>
          <p:cNvPicPr/>
          <p:nvPr/>
        </p:nvPicPr>
        <p:blipFill>
          <a:blip r:embed="rId2"/>
          <a:stretch/>
        </p:blipFill>
        <p:spPr>
          <a:xfrm>
            <a:off x="6012000" y="3068640"/>
            <a:ext cx="22190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Рисунок 14" descr="стрекоза и муравей.jpg"/>
          <p:cNvPicPr/>
          <p:nvPr/>
        </p:nvPicPr>
        <p:blipFill>
          <a:blip r:embed="rId1"/>
          <a:stretch/>
        </p:blipFill>
        <p:spPr>
          <a:xfrm>
            <a:off x="1403280" y="189000"/>
            <a:ext cx="64087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10" descr="Martishka_zerkalo01.jpg"/>
          <p:cNvPicPr/>
          <p:nvPr/>
        </p:nvPicPr>
        <p:blipFill>
          <a:blip r:embed="rId1"/>
          <a:stretch/>
        </p:blipFill>
        <p:spPr>
          <a:xfrm>
            <a:off x="1042920" y="444600"/>
            <a:ext cx="7416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Рисунок 2" descr="i_kalend3-fev2004_3.jpg"/>
          <p:cNvPicPr/>
          <p:nvPr/>
        </p:nvPicPr>
        <p:blipFill>
          <a:blip r:embed="rId1"/>
          <a:stretch/>
        </p:blipFill>
        <p:spPr>
          <a:xfrm>
            <a:off x="1835280" y="333360"/>
            <a:ext cx="540072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6:01:45Z</dcterms:created>
  <dc:creator>1</dc:creator>
  <dc:description/>
  <dc:language>en-US</dc:language>
  <cp:lastModifiedBy>Пользователь</cp:lastModifiedBy>
  <dcterms:modified xsi:type="dcterms:W3CDTF">2014-01-15T10:33:52Z</dcterms:modified>
  <cp:revision>9</cp:revision>
  <dc:subject/>
  <dc:title>Слайд 1</dc:title>
</cp:coreProperties>
</file>