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69A-EAB7-4D95-A81D-695D2848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877-CC20-4368-B5EB-570272A6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A2A1F-6CCC-4A44-BE1B-F43C46CF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A9922-58A8-4E76-839A-AE38513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CBC32-3D55-488E-9DB9-5D08B0F3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0CEB7-E915-4682-9CAC-2CF2E4B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2240-04F0-4F14-A817-DDA55F5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F4BD-1D33-4BFC-807D-A9C7E456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71F35-FF82-403A-8C01-4587BBBE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18717-58DA-455D-9116-8905DC21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55FA-9955-4676-AD64-6FB29E78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D9D-6C01-48F7-A228-5298AC9C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DD0-214A-409B-BB16-908731C7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A4F9-D2D9-4165-A489-BEFC60EF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1B25-1123-4C29-8072-DEB043C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897-C177-47DF-8251-A666CC2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3212-970E-4D69-BFB2-C0856C4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BBEB-CBBE-4414-9422-A9AAE41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CDD-5DA6-4EBC-B904-62ADB685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77F-2E9A-4511-A1BF-83CFC41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880-CF7B-4C14-B620-48FC98C1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40BE-208F-4F65-AF3A-DBC324A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298-89A1-45B6-BFFA-2AC45312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872F-EE2D-48CB-98A2-C1F5A18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C58-CDAA-42EA-9574-22F609D1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C7CF-44FC-4E42-BAA0-23874275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F2FC-4EF0-4C60-9E0C-F2938F0B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DA9F-564B-46F0-9645-80C6B988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565E-ED1C-42BA-9A4C-A8C0BED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250E-BEA6-472E-A9AD-61AEA2CE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35BF-9AA1-4CC0-AFDB-C999B24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693-85CF-44F3-A2DC-B79C78A8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9FF7-B4D4-43F4-B47B-DCF5161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4AAB-4E8F-4A81-AC04-FCB1A32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0F83-2641-491F-8698-8594549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407C-60D3-45E4-B655-B62B1AF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26AB-35F9-4908-9272-4F93874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278B-5157-42C3-90AD-B379EEAA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2BAD-64D3-44B4-90B1-A28C78BB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B669-37F9-4F12-B0FA-E7EE3603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5DCA-F056-4306-9CB3-638B6349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3D82-C637-454E-95EB-3B83A4F8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E70-0355-4AC9-AECC-BB96CA6D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383C-D7B1-4BDC-8C72-5D4CB18F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50BE-BA60-42D2-866C-13068C5F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587B-5C4A-4126-BFF8-7F9A26E1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7F41-ED46-41C8-8EE4-0DDF967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E25C-533C-450A-BB17-0747AD3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1DC5-3C92-47AD-A94E-597F35C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5C00-7779-4EFA-AC77-8853502C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0AFD-19E1-4467-B8B2-76079232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E365-E757-4232-9348-6189DDAD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E8B2-DB9C-4A81-9206-03E94F25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A2E-7F19-4784-9B39-CC338322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EF758-2FE9-45E5-BFBA-6C5506E4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1B1A0-4881-4C5B-A6C4-21A3B195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9E13-0C2A-4321-97DB-8AE856DF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00A7-E8CC-4AE0-9A46-BA8CE4E7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39F71-F842-483F-A714-667FBF6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9AFBD-CF89-4AE6-BB28-0145DC8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677D-6489-4DF9-9AD2-E80126D4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31B35-EA80-4F81-82A0-CCB041F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CAE5-A8AC-4561-BE6A-C56E19FC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ABCC-66C0-46F5-92A5-A0901396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65F-7FD2-4BC5-BE6C-3B91AE20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A4DC8-6E69-49CB-9B06-DB9A9AED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BAE4-7222-42DD-9173-D55E9AE7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4757-AC44-4B4C-B186-152FC89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BE60E-1EC0-4939-BBB4-311C6B4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F681-1128-4DB3-BA07-6C2AE8C9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E1EC-5F7D-4E50-A634-EA7A4CD3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E61C-A801-4D10-8309-1155C1F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0AC8-602D-49B2-8454-0F7DBF1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5829-D80B-4BE2-BE12-DE2C9B3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4FDC-66B5-40CD-96C0-2AA96317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D18-6393-4944-90C1-0625212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56F7-C1C5-4168-B87A-A74F5A9D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C7BF4-BE05-4382-8122-1042CE8A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73C16-12C5-401E-B750-1C179387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E1C8F-7A3A-4C18-92D8-DB94E8D8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23AA-46DE-47C2-B7FA-38B366C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7D11-892E-4480-8704-57C8946D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1FD3-7F66-461A-A6C1-B00A4589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C2E8-05A2-4973-B707-2A87356C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629FD-9672-4658-8CDF-1053DD03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73A6-DD28-4129-BAF6-BB8D266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CA6-7B6A-4B05-AFC5-0CF25669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B75B-F84B-4CFE-B92E-75B99C9E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749B5-157D-4A7F-BA04-3F1FDC7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2984-FF83-4759-AE6F-B3F57C4C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5D05-34D7-44DD-8A4D-C4F2F764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AA61-4EE6-474A-935E-ABFD4EE2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F7960-DC2A-4B2B-B5CE-7197AE26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864C-0DDA-4F58-80DC-537CFF10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03E13-0C2D-4FF5-84A8-2087849E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7350-C787-422D-987E-01EA0F25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74A12-E8C8-4716-8A26-BE81554E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673-2F9B-496F-8183-0EDD277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0C07-C443-46EF-9D11-F46EB1D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E04C9-3474-4AC5-BCCE-6A15DD7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0A745-0CA6-4B4B-821D-32D87F77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C50B1-5712-4ABC-8ED0-17E95FA4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2D774-C6CA-4B43-AEC7-D459C70C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240D3-A1E2-4609-A2D9-FDCA49FE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DB91-B789-4D47-B6C0-428184DF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62D37-03C7-4D00-8359-74A9392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3CF82-5A47-45AB-BBB6-B04C5814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488AC-00A8-4752-9AD8-7CBC193D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F1FD-5C37-493A-B84E-B05832E1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5EE5-F3E3-44CE-8421-1DD2B38C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1E88-F35F-4675-B6BD-6D80BCF6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8EFE-1DDD-4ADF-8A4B-FD4D056D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AAC-DC53-4EDB-BB67-65586063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1E29-D27C-4FCD-AE9A-55856CA1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F8C-BD6B-48B2-9A68-A4C39200E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EC67-5337-44BF-84F0-6BD05D58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EBC6-FBA9-4042-A497-52D030E7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Иван Андреевич Крылов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ликий  русский баснопис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2" descr="krylov13.gif"/>
          <p:cNvPicPr/>
          <p:nvPr/>
        </p:nvPicPr>
        <p:blipFill>
          <a:blip r:embed="rId1"/>
          <a:stretch/>
        </p:blipFill>
        <p:spPr>
          <a:xfrm>
            <a:off x="1835280" y="333360"/>
            <a:ext cx="489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9" descr="Martishka_ochki5.jpg"/>
          <p:cNvPicPr/>
          <p:nvPr/>
        </p:nvPicPr>
        <p:blipFill>
          <a:blip r:embed="rId1"/>
          <a:stretch/>
        </p:blipFill>
        <p:spPr>
          <a:xfrm>
            <a:off x="1308240" y="720720"/>
            <a:ext cx="6792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8" descr="Lebed_chuka_rak03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4" descr="5447cdb8a225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100_0129"/>
          <p:cNvPicPr/>
          <p:nvPr/>
        </p:nvPicPr>
        <p:blipFill>
          <a:blip r:embed="rId1"/>
          <a:stretch/>
        </p:blipFill>
        <p:spPr>
          <a:xfrm>
            <a:off x="914400" y="438120"/>
            <a:ext cx="7238880" cy="543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00_0130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74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62480" y="2156040"/>
            <a:ext cx="759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ые с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arttrans.com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childhoodbook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ylov.ne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ugosvet.ru/articles/104/1010420/1010420a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eoples.ru/art/literature/poetry/oldage/ivan_krylov/index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нированные иллюстрации из детских книг «Басни Кры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187280" y="7884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з биографии писате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71640" y="2105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рождения       13 февраля 1769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рождения  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смерти            21 ноября 18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смерти         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ство            Россий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 деятельности    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р                         ба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Этапы жизненного пу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74г. – г.Тверь - служба   подканцеляристом в с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83г. – Санкт-Петербург - секретарь Казенной па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1г. – г.Рига - секретарь губерн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6г. – Санкт-Петербург - работа в журнале «Московский з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180px-Krylov_Grave_Summer[1]"/>
          <p:cNvPicPr/>
          <p:nvPr/>
        </p:nvPicPr>
        <p:blipFill>
          <a:blip r:embed="rId1"/>
          <a:stretch/>
        </p:blipFill>
        <p:spPr>
          <a:xfrm>
            <a:off x="2251080" y="333360"/>
            <a:ext cx="4589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Известные басни Крылов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коза и 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к на пса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р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 и Мо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1079640" y="72072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012000" y="3068640"/>
            <a:ext cx="2219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4" descr="стрекоза и муравей.jpg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0" descr="Martishka_zerkalo01.jpg"/>
          <p:cNvPicPr/>
          <p:nvPr/>
        </p:nvPicPr>
        <p:blipFill>
          <a:blip r:embed="rId1"/>
          <a:stretch/>
        </p:blipFill>
        <p:spPr>
          <a:xfrm>
            <a:off x="1042920" y="444600"/>
            <a:ext cx="7416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i_kalend3-fev2004_3.jpg"/>
          <p:cNvPicPr/>
          <p:nvPr/>
        </p:nvPicPr>
        <p:blipFill>
          <a:blip r:embed="rId1"/>
          <a:stretch/>
        </p:blipFill>
        <p:spPr>
          <a:xfrm>
            <a:off x="1835280" y="333360"/>
            <a:ext cx="5400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01:45Z</dcterms:created>
  <dc:creator>1</dc:creator>
  <dc:description/>
  <dc:language>en-US</dc:language>
  <cp:lastModifiedBy>Пользователь</cp:lastModifiedBy>
  <dcterms:modified xsi:type="dcterms:W3CDTF">2014-01-15T10:33:52Z</dcterms:modified>
  <cp:revision>9</cp:revision>
  <dc:subject/>
  <dc:title>Слайд 1</dc:title>
</cp:coreProperties>
</file>