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24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CEB-C630-485F-9E86-BDC6FE2F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60C-44DC-4372-9969-BEA0E5DC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CBB0A-DBCF-47B1-8BAF-DA8484FF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4D076-7EAE-47D2-BD0A-2CE58E4D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1ABA0-778A-467C-B825-E270E790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11A8C-1A61-4020-8F9B-22AB5F7E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19B0-229B-4BF3-BC29-F0827CFD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D2EFF-CCA1-4D66-B792-43E37879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8FAE0-2F48-4329-9B6F-99C8507E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E0AD5-69D8-4FBE-99B1-3CF84FBA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91CB-E994-4637-B93C-97393259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123-AFCE-47FC-B3B0-C719F574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9A9-3CB7-4D21-BA9A-C23C0CD4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730-C94D-46B3-83D3-E794B730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BCE-6842-4D2B-A3B5-2E4184F1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4263-DD85-4B29-9DB3-30025E14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BADC-9F23-425E-AEDA-DBEDF70B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2D9-ED42-4581-88DA-18C088D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900-B445-44CB-BE74-A1DC15C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EF78-FFAD-49AB-9EC7-BE5AD61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99C-A6F4-4CD2-AB77-BEE83227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5E71-2BC1-4A12-9F03-2B2E4E3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41F-ED1C-45D6-9408-84AD9D8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43EC-5CEE-4AB5-9517-723EA4AF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36C-91CB-4507-BB55-60DF3312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2477-8E1D-48ED-AA75-322AA3B3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DB3B2-C161-4690-8246-6018CEC1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A5A3-831F-4E85-8765-E94DC064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DADC-0D2D-4A73-A2DB-0D1794D3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6A40-02EB-4A5D-9B04-506D6A0B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B2C6-442A-4D87-81EA-6E04F0E0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E58-A731-41C6-8025-F1F7717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C679-F523-4B7F-8798-43190E4C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D7D7-FD1B-441B-BEB5-5CA16AF9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E3F3-8A60-437D-BAA6-3F732B88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B4714-BE07-434D-AB72-2B3771A6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048A-495B-41A1-B6CA-3ABD2524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8B83-AC07-4004-870F-01BCD70C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39D5-43BA-4D6C-93D1-86EF698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6A77-4D98-4A4F-9BDD-A7CF3CDC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D164-46AA-4795-B65D-BE32B4EB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97BF-5B4C-4EA6-8DD2-571AC31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134-E1B5-4B8D-9DC8-D9BD6F21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BE8B-B24B-49C7-A25A-D581BDFC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B55D1-4CB3-4D4B-9EFE-C1E6DC8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B6D1-5F21-4113-AA68-B996DA6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B957F-847C-4FAB-BBF8-B0BDCC45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83FA-0EF0-4148-8F74-CE1745BD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6E45-C6E0-4A08-A544-AED5A17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32BE-0E4D-438F-A68A-A889D07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D3F3-F3D9-4567-9D79-3A4C040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EAA6E-4D62-4CC6-B365-A108C868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009B-DADA-4410-A83D-39460464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CE4-FA86-4613-BFCE-9E6F43DB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6CA0-FEA3-4601-8B7E-6DFB448F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3A3CD-B1E6-470A-A252-35A5689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92B6C-47D0-4490-86A7-0C5B0B15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5104-3C7A-4A0D-8E5E-DCC9F6C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82877-9E83-422A-85EB-256B7B81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6477-325F-46FF-8BA7-BDE6202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5D332-D604-4A2B-A75B-3D49A81A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0C91-4BD9-434E-8CE9-3150128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CA044-1516-4343-A529-5EDFB98E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B9ECA-BBA4-4732-89FF-8D8C193D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632-761B-482E-B163-5A7A958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8FE87-395C-4690-AA8C-1D61E76D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2A3C0-E9FE-4CD2-AE64-EE070025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5AA8-4403-4833-91CE-53BE7DF6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C6CAD-6866-4899-AF1E-E917534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2FD1-CEEF-4957-BA43-721902E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4A2A8-4256-4A3B-AEFA-DD608374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4198-E935-4D4C-8956-9EA9B7B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139A3-F659-47DF-9FD9-A408F18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93764-05D4-459A-B651-B15BEC5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BE591-BE10-4888-AF32-6FB37C7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884-D383-496A-81B3-685744C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C10D8-F5AE-4F3B-BC05-6DB2B96A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A2396-19C4-4C19-A0B3-85166993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4A97D-9C7B-4E03-9363-985755B2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EBD1-02F3-4D99-9199-46270FD5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577BA-EBA3-47EA-954F-9B7D4D6C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95C30-BB02-497C-A6E2-B68A975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5FB2-7EBE-42AD-9D8B-4410FF6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86A0-034F-49E4-B4C1-48C73C63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3F24-4062-4957-AF47-C3EC9ED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6785-D24C-44B8-B821-47BC250C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91D-F6FE-4B6B-BA70-71ED0BAD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142E-DC05-489A-8432-0F2D024D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4AA06-0A33-41F3-9E71-9B8A587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2B1BD-C17D-4ACC-B9FC-8BE4290C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40E38-D6F4-45FC-81A6-F7C9D29E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B56F4-6318-4E79-8ECF-876B9332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F8553-B9C5-49A4-A9A0-EAF51B81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89A4D-2EC2-42A3-A2AA-1D1854F0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76619-DC90-4107-82A7-51058289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610F-1598-492B-9BFD-16C1B981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62302-86D0-4BD5-B23F-054931A1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43C-80F2-477C-981C-D2428F0E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8C39-B30A-4034-93C7-D55D0564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D9C8-6ACB-43BC-BC32-A5BAE40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117F8-B803-4A4C-84E0-D44B1CD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214E-1971-4815-8588-FD788C4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5A3B2-B08B-4BA5-A9B8-8EDFCE0A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735FF-A925-4B15-B374-AB00DBF0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8362D-BB9E-413D-99B2-2B808AFC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555D-F576-496B-A084-4D5C0442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43B02-8AB2-437F-8B26-63FB61E7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2D888-9848-4CD1-82C2-DD208F0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F1C2-A1D9-4B3B-8619-109347E4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99D6-67FE-4880-9F44-A213F08A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45A-3A74-49B0-9543-A5EEA094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C54-423D-48C3-BE02-34AF5878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AC28-34DC-42AA-94E0-DB5A3CBC5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2F7C-BB1F-4BD9-85F4-BF57FF884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8DD-1D0D-4128-9889-D496FBCF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4F18-5859-4175-9A25-9EAD87B9C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4CDF-7930-4712-84C3-3D86D635E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Иван Андреевич Крылов</a:t>
            </a: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–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ликий  русский баснопис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2" descr="krylov13.gif"/>
          <p:cNvPicPr/>
          <p:nvPr/>
        </p:nvPicPr>
        <p:blipFill>
          <a:blip r:embed="rId1"/>
          <a:stretch/>
        </p:blipFill>
        <p:spPr>
          <a:xfrm>
            <a:off x="1835280" y="333360"/>
            <a:ext cx="4897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Рисунок 9" descr="Martishka_ochki5.jpg"/>
          <p:cNvPicPr/>
          <p:nvPr/>
        </p:nvPicPr>
        <p:blipFill>
          <a:blip r:embed="rId1"/>
          <a:stretch/>
        </p:blipFill>
        <p:spPr>
          <a:xfrm>
            <a:off x="1308240" y="720720"/>
            <a:ext cx="67928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Рисунок 8" descr="Lebed_chuka_rak03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4" descr="5447cdb8a225.jpg"/>
          <p:cNvPicPr/>
          <p:nvPr/>
        </p:nvPicPr>
        <p:blipFill>
          <a:blip r:embed="rId1"/>
          <a:stretch/>
        </p:blipFill>
        <p:spPr>
          <a:xfrm>
            <a:off x="1308240" y="720720"/>
            <a:ext cx="6864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632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684360" y="5126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100_0129"/>
          <p:cNvPicPr/>
          <p:nvPr/>
        </p:nvPicPr>
        <p:blipFill>
          <a:blip r:embed="rId1"/>
          <a:stretch/>
        </p:blipFill>
        <p:spPr>
          <a:xfrm>
            <a:off x="914400" y="438120"/>
            <a:ext cx="7238880" cy="5430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00_0130"/>
          <p:cNvPicPr/>
          <p:nvPr/>
        </p:nvPicPr>
        <p:blipFill>
          <a:blip r:embed="rId1"/>
          <a:stretch/>
        </p:blipFill>
        <p:spPr>
          <a:xfrm>
            <a:off x="539640" y="333360"/>
            <a:ext cx="8136000" cy="574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62480" y="2156040"/>
            <a:ext cx="759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ые с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arttrans.com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www.childhoodbooks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ylov.net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krugosvet.ru/articles/104/1010420/1010420a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eoples.ru/art/literature/poetry/oldage/ivan_krylov/index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нированные иллюстрации из детских книг «Басни Кры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187280" y="7884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з биографии писател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71640" y="2105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рождения       13 февраля 1769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рождения    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смерти            21 ноября 184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смерти          Санкт-Петерб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ство            Российская имп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 деятельности    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нр                         бас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Этапы жизненного пу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74г. – г.Тверь - служба   подканцеляристом в су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83г. – Санкт-Петербург - секретарь Казенной па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1г. – г.Рига - секретарь губерн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06г. – Санкт-Петербург - работа в журнале «Московский з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180px-Krylov_Grave_Summer[1]"/>
          <p:cNvPicPr/>
          <p:nvPr/>
        </p:nvPicPr>
        <p:blipFill>
          <a:blip r:embed="rId1"/>
          <a:stretch/>
        </p:blipFill>
        <p:spPr>
          <a:xfrm>
            <a:off x="225108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1c1c1c"/>
                </a:solidFill>
                <a:uFillTx/>
                <a:latin typeface="Arial"/>
              </a:rPr>
              <a:t>Известные басни Крыло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екоза и мурав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 на псар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и лис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и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р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и Мо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6" descr="7af98756c5fce0b12049f3e2843b1adc.gif"/>
          <p:cNvPicPr/>
          <p:nvPr/>
        </p:nvPicPr>
        <p:blipFill>
          <a:blip r:embed="rId1"/>
          <a:stretch/>
        </p:blipFill>
        <p:spPr>
          <a:xfrm>
            <a:off x="1079640" y="720720"/>
            <a:ext cx="2112840" cy="34290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16" descr="a90225c9cfc23cc11b4c980d428f8219.gif"/>
          <p:cNvPicPr/>
          <p:nvPr/>
        </p:nvPicPr>
        <p:blipFill>
          <a:blip r:embed="rId2"/>
          <a:stretch/>
        </p:blipFill>
        <p:spPr>
          <a:xfrm>
            <a:off x="6012000" y="3068640"/>
            <a:ext cx="2219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Рисунок 14" descr="стрекоза и муравей.jpg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0" descr="Martishka_zerkalo01.jpg"/>
          <p:cNvPicPr/>
          <p:nvPr/>
        </p:nvPicPr>
        <p:blipFill>
          <a:blip r:embed="rId1"/>
          <a:stretch/>
        </p:blipFill>
        <p:spPr>
          <a:xfrm>
            <a:off x="1042920" y="444600"/>
            <a:ext cx="74167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2" descr="i_kalend3-fev2004_3.jpg"/>
          <p:cNvPicPr/>
          <p:nvPr/>
        </p:nvPicPr>
        <p:blipFill>
          <a:blip r:embed="rId1"/>
          <a:stretch/>
        </p:blipFill>
        <p:spPr>
          <a:xfrm>
            <a:off x="1835280" y="333360"/>
            <a:ext cx="540072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01:45Z</dcterms:created>
  <dc:creator>1</dc:creator>
  <dc:description/>
  <dc:language>en-US</dc:language>
  <cp:lastModifiedBy>Пользователь</cp:lastModifiedBy>
  <dcterms:modified xsi:type="dcterms:W3CDTF">2014-01-15T10:33:52Z</dcterms:modified>
  <cp:revision>9</cp:revision>
  <dc:subject/>
  <dc:title>Слайд 1</dc:title>
</cp:coreProperties>
</file>