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899953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1D4-A6AB-4E77-A270-D559DB7D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4B7-A3A7-4FAD-9CE4-BA47BD2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C61-A641-497D-9AF0-4FBEB166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2E9-EADB-448C-9E34-656D9A1B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0A2-1EA2-427D-A0DD-05935E33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653-5CF2-47FB-9C9E-4D73C76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8DA3-413F-49A2-A583-62484625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C389-C4C6-4A6F-B55F-8DA80D8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2F9-E19C-48BB-9D33-6E8DD3F0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1374-0652-491A-91AF-79CF13F5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D83-FD2A-4896-ADB4-9F65821F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865-9421-45F0-BDEA-161A94E4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5442-117C-4549-A980-902ABC5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EFCD-DA26-4027-A6B2-02303F7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A999-2FE6-4563-B0EB-5280F46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CCB4-4BEA-46D4-BD26-AF27669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124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48200" y="264168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28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124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48200" y="5507640"/>
            <a:ext cx="24634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5035-AD3F-446B-9EFE-8E90FE94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8AA-245D-4821-A0C6-FF64B26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CFF-6E86-4319-8D50-773C497E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7C8-07A5-4683-BAB3-1A82101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4280" y="812520"/>
            <a:ext cx="7651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C66-C9E6-42FF-9DC1-64AD6685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1DE-4626-4827-9391-8B4AFEA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5400" y="550764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C82-6767-49BF-9F63-39ECBE0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28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5400" y="2641680"/>
            <a:ext cx="3733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280" y="5507640"/>
            <a:ext cx="76518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476-B320-4B84-B1D5-4DA4D75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280360" y="1440"/>
            <a:ext cx="17271720" cy="18255240"/>
            <a:chOff x="-8280360" y="1440"/>
            <a:chExt cx="17271720" cy="18255240"/>
          </a:xfrm>
        </p:grpSpPr>
        <p:sp>
          <p:nvSpPr>
            <p:cNvPr id="1" name=""/>
            <p:cNvSpPr/>
            <p:nvPr/>
          </p:nvSpPr>
          <p:spPr>
            <a:xfrm>
              <a:off x="5304600" y="2113920"/>
              <a:ext cx="3686760" cy="70153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280360" y="1440"/>
              <a:ext cx="16560720" cy="18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4280" y="812520"/>
            <a:ext cx="7651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74280" y="2641680"/>
            <a:ext cx="7651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60A8-8374-4709-8818-E62D76EE74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637760" y="1947240"/>
            <a:ext cx="16638480" cy="14392800"/>
            <a:chOff x="-7637760" y="1947240"/>
            <a:chExt cx="16638480" cy="14392800"/>
          </a:xfrm>
        </p:grpSpPr>
        <p:sp>
          <p:nvSpPr>
            <p:cNvPr id="45" name=""/>
            <p:cNvSpPr/>
            <p:nvPr/>
          </p:nvSpPr>
          <p:spPr>
            <a:xfrm>
              <a:off x="3220920" y="3612600"/>
              <a:ext cx="5779800" cy="553104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637760" y="1947240"/>
              <a:ext cx="13239720" cy="1439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4760" y="1015920"/>
            <a:ext cx="76485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7464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076200" y="8331120"/>
            <a:ext cx="2849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451560" y="8331120"/>
            <a:ext cx="1874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2EC7-BF8B-43B0-A430-89A87D25F8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0000" y="2139480"/>
            <a:ext cx="80996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476000"/>
            <a:ext cx="94154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Этапы </a:t>
            </a:r>
            <a:br>
              <a:rPr sz="6600"/>
            </a:br>
            <a:r>
              <a:rPr b="1" i="1" lang="ru-RU" sz="6600" spc="-1" strike="noStrike">
                <a:solidFill>
                  <a:srgbClr val="bebed4"/>
                </a:solidFill>
                <a:latin typeface="Arial"/>
              </a:rPr>
              <a:t>моделирования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2720" y="3851280"/>
            <a:ext cx="4779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36680" y="0"/>
            <a:ext cx="6897240" cy="6803280"/>
            <a:chOff x="436680" y="0"/>
            <a:chExt cx="6897240" cy="6803280"/>
          </a:xfrm>
        </p:grpSpPr>
        <p:cxnSp>
          <p:nvCxnSpPr>
            <p:cNvPr id="91" name="_s7201"/>
            <p:cNvCxnSpPr>
              <a:stCxn id="92" idx="0"/>
              <a:endCxn id="93" idx="3"/>
            </p:cNvCxnSpPr>
            <p:nvPr/>
          </p:nvCxnSpPr>
          <p:spPr>
            <a:xfrm flipV="1" rot="16200000">
              <a:off x="3641760" y="11512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91"/>
            <p:cNvCxnSpPr>
              <a:stCxn id="95" idx="0"/>
              <a:endCxn id="96" idx="3"/>
            </p:cNvCxnSpPr>
            <p:nvPr/>
          </p:nvCxnSpPr>
          <p:spPr>
            <a:xfrm flipV="1" rot="16200000">
              <a:off x="3641760" y="5523480"/>
              <a:ext cx="486720" cy="127440"/>
            </a:xfrm>
            <a:prstGeom prst="bentConnector3">
              <a:avLst>
                <a:gd name="adj1" fmla="val 234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7187"/>
            <p:cNvCxnSpPr>
              <a:stCxn id="96" idx="0"/>
              <a:endCxn id="98" idx="3"/>
            </p:cNvCxnSpPr>
            <p:nvPr/>
          </p:nvCxnSpPr>
          <p:spPr>
            <a:xfrm flipV="1" rot="16200000">
              <a:off x="3641760" y="406476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7185"/>
            <p:cNvCxnSpPr>
              <a:stCxn id="98" idx="0"/>
              <a:endCxn id="92" idx="3"/>
            </p:cNvCxnSpPr>
            <p:nvPr/>
          </p:nvCxnSpPr>
          <p:spPr>
            <a:xfrm flipV="1" rot="16200000">
              <a:off x="3641760" y="2610000"/>
              <a:ext cx="486720" cy="127440"/>
            </a:xfrm>
            <a:prstGeom prst="bentConnector3">
              <a:avLst>
                <a:gd name="adj1" fmla="val 233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7174"/>
            <p:cNvSpPr/>
            <p:nvPr/>
          </p:nvSpPr>
          <p:spPr>
            <a:xfrm>
              <a:off x="436680" y="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Постановка задачи: 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Описание задачи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Цель моделирования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Анализ объек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_s7182"/>
            <p:cNvSpPr/>
            <p:nvPr/>
          </p:nvSpPr>
          <p:spPr>
            <a:xfrm>
              <a:off x="436680" y="14587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00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Разработка информационной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_s7184"/>
            <p:cNvSpPr/>
            <p:nvPr/>
          </p:nvSpPr>
          <p:spPr>
            <a:xfrm>
              <a:off x="436680" y="2917440"/>
              <a:ext cx="6897240" cy="968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Разработка компьютерной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_s7186"/>
            <p:cNvSpPr/>
            <p:nvPr/>
          </p:nvSpPr>
          <p:spPr>
            <a:xfrm>
              <a:off x="436680" y="437220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0033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Исследование модели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_s7190"/>
            <p:cNvSpPr/>
            <p:nvPr/>
          </p:nvSpPr>
          <p:spPr>
            <a:xfrm>
              <a:off x="436680" y="5830920"/>
              <a:ext cx="6897240" cy="9723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ff">
                    <a:alpha val="40000"/>
                  </a:srgbClr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ffffff"/>
                  </a:solidFill>
                  <a:latin typeface="Times New Roman"/>
                </a:rPr>
                <a:t>Анализ результатов</a:t>
              </a:r>
              <a:endParaRPr b="0" lang="en-US" sz="3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745080" y="6804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720" y="7093080"/>
            <a:ext cx="6427800" cy="1150920"/>
          </a:xfrm>
          <a:prstGeom prst="flowChartDecis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Результаты соот-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етствуют цели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71760" y="8532720"/>
            <a:ext cx="4252680" cy="611280"/>
          </a:xfrm>
          <a:prstGeom prst="flowChartTerminator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5080" y="8244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58080" y="7667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469360" y="1258920"/>
            <a:ext cx="0" cy="640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38320" y="125892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38320" y="2700360"/>
            <a:ext cx="4630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33720" y="8172360"/>
            <a:ext cx="11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40680" y="7236000"/>
            <a:ext cx="113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324000"/>
            <a:ext cx="9000360" cy="8387280"/>
            <a:chOff x="0" y="324000"/>
            <a:chExt cx="9000360" cy="8387280"/>
          </a:xfrm>
        </p:grpSpPr>
        <p:cxnSp>
          <p:nvCxnSpPr>
            <p:cNvPr id="111" name="_s9242"/>
            <p:cNvCxnSpPr>
              <a:stCxn id="112" idx="1"/>
              <a:endCxn id="113" idx="2"/>
            </p:cNvCxnSpPr>
            <p:nvPr/>
          </p:nvCxnSpPr>
          <p:spPr>
            <a:xfrm rot="10800000">
              <a:off x="4499640" y="511128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9240"/>
            <p:cNvCxnSpPr>
              <a:stCxn id="115" idx="3"/>
              <a:endCxn id="113" idx="2"/>
            </p:cNvCxnSpPr>
            <p:nvPr/>
          </p:nvCxnSpPr>
          <p:spPr>
            <a:xfrm flipV="1">
              <a:off x="4050000" y="5111640"/>
              <a:ext cx="450720" cy="300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238"/>
            <p:cNvCxnSpPr>
              <a:stCxn id="117" idx="1"/>
              <a:endCxn id="113" idx="2"/>
            </p:cNvCxnSpPr>
            <p:nvPr/>
          </p:nvCxnSpPr>
          <p:spPr>
            <a:xfrm rot="10800000">
              <a:off x="449964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236"/>
            <p:cNvCxnSpPr>
              <a:stCxn id="119" idx="3"/>
              <a:endCxn id="113" idx="2"/>
            </p:cNvCxnSpPr>
            <p:nvPr/>
          </p:nvCxnSpPr>
          <p:spPr>
            <a:xfrm flipV="1">
              <a:off x="4050000" y="5111280"/>
              <a:ext cx="450720" cy="12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9234"/>
            <p:cNvCxnSpPr>
              <a:stCxn id="121" idx="0"/>
              <a:endCxn id="122" idx="2"/>
            </p:cNvCxnSpPr>
            <p:nvPr/>
          </p:nvCxnSpPr>
          <p:spPr>
            <a:xfrm flipV="1">
              <a:off x="765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9232"/>
            <p:cNvCxnSpPr>
              <a:stCxn id="113" idx="0"/>
              <a:endCxn id="124" idx="2"/>
            </p:cNvCxnSpPr>
            <p:nvPr/>
          </p:nvCxnSpPr>
          <p:spPr>
            <a:xfrm flipV="1">
              <a:off x="450000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9230"/>
            <p:cNvCxnSpPr>
              <a:stCxn id="126" idx="0"/>
              <a:endCxn id="127" idx="2"/>
            </p:cNvCxnSpPr>
            <p:nvPr/>
          </p:nvCxnSpPr>
          <p:spPr>
            <a:xfrm flipV="1">
              <a:off x="1349640" y="331920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9228"/>
            <p:cNvCxnSpPr>
              <a:stCxn id="122" idx="0"/>
              <a:endCxn id="129" idx="2"/>
            </p:cNvCxnSpPr>
            <p:nvPr/>
          </p:nvCxnSpPr>
          <p:spPr>
            <a:xfrm flipV="1" rot="16200000">
              <a:off x="5775480" y="24588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9227"/>
            <p:cNvCxnSpPr>
              <a:stCxn id="124" idx="0"/>
              <a:endCxn id="129" idx="2"/>
            </p:cNvCxnSpPr>
            <p:nvPr/>
          </p:nvCxnSpPr>
          <p:spPr>
            <a:xfrm flipV="1">
              <a:off x="4500000" y="1521720"/>
              <a:ext cx="3960" cy="59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9226"/>
            <p:cNvCxnSpPr>
              <a:stCxn id="127" idx="0"/>
              <a:endCxn id="129" idx="2"/>
            </p:cNvCxnSpPr>
            <p:nvPr/>
          </p:nvCxnSpPr>
          <p:spPr>
            <a:xfrm flipH="1" flipV="1" rot="5400000">
              <a:off x="2625120" y="246240"/>
              <a:ext cx="599760" cy="3150720"/>
            </a:xfrm>
            <a:prstGeom prst="bentConnector3">
              <a:avLst>
                <a:gd name="adj1" fmla="val 17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9222"/>
            <p:cNvSpPr/>
            <p:nvPr/>
          </p:nvSpPr>
          <p:spPr>
            <a:xfrm>
              <a:off x="3150000" y="324000"/>
              <a:ext cx="2700000" cy="1198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33"/>
              </a:solidFill>
              <a:miter/>
            </a:ln>
            <a:effectLst>
              <a:outerShdw dist="63504" dir="19383909" blurRad="0" rotWithShape="0">
                <a:srgbClr val="ff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</a:t>
              </a: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этап.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Постанов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9223"/>
            <p:cNvSpPr/>
            <p:nvPr/>
          </p:nvSpPr>
          <p:spPr>
            <a:xfrm>
              <a:off x="0" y="2121120"/>
              <a:ext cx="2700000" cy="1198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писание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задач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_s9224"/>
            <p:cNvSpPr/>
            <p:nvPr/>
          </p:nvSpPr>
          <p:spPr>
            <a:xfrm>
              <a:off x="3150000" y="2121120"/>
              <a:ext cx="2700000" cy="1198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Цел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оделиро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ани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_s9225"/>
            <p:cNvSpPr/>
            <p:nvPr/>
          </p:nvSpPr>
          <p:spPr>
            <a:xfrm>
              <a:off x="6300360" y="2121120"/>
              <a:ext cx="2700000" cy="1198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66ff"/>
              </a:solidFill>
              <a:miter/>
            </a:ln>
            <a:effectLst>
              <a:outerShdw dist="63504" dir="19383909" blurRad="0" rotWithShape="0">
                <a:srgbClr val="3366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Анализ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9229"/>
            <p:cNvSpPr/>
            <p:nvPr/>
          </p:nvSpPr>
          <p:spPr>
            <a:xfrm>
              <a:off x="0" y="3918600"/>
              <a:ext cx="2700000" cy="1198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преде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бъект модел-ни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 представляется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онечный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зульта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9231"/>
            <p:cNvSpPr/>
            <p:nvPr/>
          </p:nvSpPr>
          <p:spPr>
            <a:xfrm>
              <a:off x="3150000" y="3918600"/>
              <a:ext cx="2700000" cy="1193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Должна быть определена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 соответствии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с поставленной задачей.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Она оказывае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направляюще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лияние на весь процесс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овани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_s9233"/>
            <p:cNvSpPr/>
            <p:nvPr/>
          </p:nvSpPr>
          <p:spPr>
            <a:xfrm>
              <a:off x="6300360" y="3918600"/>
              <a:ext cx="2700000" cy="1193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ыделя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моделируемый  объект,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все его составляющие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 рассматривают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lnSpc>
                  <a:spcPct val="8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их основные свойств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_s9235"/>
            <p:cNvSpPr/>
            <p:nvPr/>
          </p:nvSpPr>
          <p:spPr>
            <a:xfrm>
              <a:off x="1353600" y="5716080"/>
              <a:ext cx="2696400" cy="11980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озн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кружающего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мир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_s9237"/>
            <p:cNvSpPr/>
            <p:nvPr/>
          </p:nvSpPr>
          <p:spPr>
            <a:xfrm>
              <a:off x="4950360" y="5716080"/>
              <a:ext cx="2697120" cy="11980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оздание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объектов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 заданными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свойствами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9239"/>
            <p:cNvSpPr/>
            <p:nvPr/>
          </p:nvSpPr>
          <p:spPr>
            <a:xfrm>
              <a:off x="1353600" y="7513200"/>
              <a:ext cx="2696400" cy="1198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Определение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последствий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воздействия на объект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 принятие правильного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решения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_s9241"/>
            <p:cNvSpPr/>
            <p:nvPr/>
          </p:nvSpPr>
          <p:spPr>
            <a:xfrm>
              <a:off x="4950360" y="7513200"/>
              <a:ext cx="2697120" cy="119808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Эффективность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управления объектом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ff"/>
                  </a:solidFill>
                  <a:latin typeface="Times New Roman"/>
                </a:rPr>
                <a:t>или процессом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94920"/>
            <a:ext cx="76514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Разработка информационной модели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265600">
            <a:off x="1404720" y="219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720" y="320364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Описатель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720" y="6588000"/>
            <a:ext cx="3456000" cy="1584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Формализова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265600">
            <a:off x="1547640" y="5435280"/>
            <a:ext cx="863640" cy="432000"/>
          </a:xfrm>
          <a:custGeom>
            <a:avLst/>
            <a:gdLst>
              <a:gd name="textAreaLeft" fmla="*/ 108000 w 863640"/>
              <a:gd name="textAreaRight" fmla="*/ 756000 w 86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000ff"/>
              </a:gs>
              <a:gs pos="100000">
                <a:srgbClr val="00ffff"/>
              </a:gs>
            </a:gsLst>
            <a:lin ang="553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2720" y="1547640"/>
            <a:ext cx="5148360" cy="3529080"/>
          </a:xfrm>
          <a:prstGeom prst="irregularSeal2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писываютс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войства, состоян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действия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оставляющих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кт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и системы в цело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5292720"/>
            <a:ext cx="4464000" cy="35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Формализация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цесс постро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нформационны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ей с помощь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ормальных язы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132000" y="248400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629080" y="6012000"/>
            <a:ext cx="15112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5508720"/>
            <a:ext cx="5076720" cy="3635280"/>
          </a:xfrm>
          <a:prstGeom prst="irregularSeal1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. е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здаю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знаковы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модел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724360"/>
            <a:ext cx="453528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д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формулы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5940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аблиц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6156360"/>
            <a:ext cx="453564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6372360"/>
            <a:ext cx="4535280" cy="215892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ертеж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6588000"/>
            <a:ext cx="4535640" cy="2159280"/>
          </a:xfrm>
          <a:prstGeom prst="flowChartPreparation">
            <a:avLst/>
          </a:pr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лок-сх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94920"/>
            <a:ext cx="853272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bebed4"/>
                </a:solidFill>
                <a:uFillTx/>
                <a:latin typeface="Arial"/>
              </a:rPr>
              <a:t>III </a:t>
            </a:r>
            <a:r>
              <a:rPr b="1" lang="ru-RU" sz="4000" spc="-1" strike="noStrike" u="sng">
                <a:solidFill>
                  <a:srgbClr val="bebed4"/>
                </a:solidFill>
                <a:uFillTx/>
                <a:latin typeface="Arial"/>
              </a:rPr>
              <a:t>этап. Разработка компьютерной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Выбор инструментов моделирования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Создание модели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Тестирование модел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3203280"/>
            <a:ext cx="8280360" cy="71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Компьютерная модель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– это модель, реализованная средствами программной среды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рафически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Текстовые 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реды программирова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лектронные таблиц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атематические пакет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TML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редакторы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УБД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ругие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т выбора программной среды зависит алгоритм построения модели и форма его представления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37080" y="4788000"/>
            <a:ext cx="3095640" cy="26114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00720" y="468360"/>
            <a:ext cx="2700360" cy="2685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3640" y="250920"/>
            <a:ext cx="78483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полняется реализация компьютерной модели по законам выбранной мод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изводится тестирование или отладка модели на компьюте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ирование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оцесс проверки правильности модели. Подбираются несколько вариантов исходных значений и заранее просчитывается ожидаемый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ст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набор исходных данных, для которых заранее известен результа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тладка програм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трансляция программы и проверка правильности работы в программной сре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50560"/>
            <a:ext cx="9001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ebed4"/>
                </a:solidFill>
                <a:latin typeface="Arial"/>
              </a:rPr>
              <a:t>IV </a:t>
            </a:r>
            <a:r>
              <a:rPr b="0" lang="ru-RU" sz="4400" spc="-1" strike="noStrike">
                <a:solidFill>
                  <a:srgbClr val="bebed4"/>
                </a:solidFill>
                <a:latin typeface="Arial"/>
              </a:rPr>
              <a:t>этап. Исследование модели:</a:t>
            </a:r>
            <a:br>
              <a:rPr sz="4000"/>
            </a:br>
            <a:r>
              <a:rPr b="0" lang="ru-RU" sz="40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Проведение серии экспериментов</a:t>
            </a:r>
            <a:br>
              <a:rPr sz="2800"/>
            </a:b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ebed4"/>
                </a:solidFill>
                <a:latin typeface="Arial"/>
              </a:rPr>
              <a:t>Накопление результатов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4280" y="2124000"/>
            <a:ext cx="7651800" cy="600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Эксперимен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это опыт, который производится с объектом или моделью. Он заключается в выполнении некоторых действий, чтобы определить, как реагирует эксперементальный образец на эти действия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140360" y="5796000"/>
            <a:ext cx="345744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75520" y="7020000"/>
            <a:ext cx="1825560" cy="1679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77080" y="3419640"/>
            <a:ext cx="2124000" cy="1992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316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ebed4"/>
                </a:solidFill>
                <a:latin typeface="Arial"/>
              </a:rPr>
              <a:t>V </a:t>
            </a:r>
            <a:r>
              <a:rPr b="0" lang="ru-RU" sz="4800" spc="-1" strike="noStrike">
                <a:solidFill>
                  <a:srgbClr val="bebed4"/>
                </a:solidFill>
                <a:latin typeface="Arial"/>
              </a:rPr>
              <a:t>этап. Анализ результатов моделирования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000" y="1763280"/>
            <a:ext cx="7201080" cy="70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ающий этап: «Продолжать исследование или заканчивать?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результаты не соответствуют целям поставленной задачи, значит, на предыдущих этапах были допущены ошибки. Это может быт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правильно отобранные существенные свойства объек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шибки в формулах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удачно выбрана среда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ехнологических приемов при построении моде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ошибки выявлены, то требуется корректировка модели, нужно вернуться к одному из предыдущих этапов, и процесс повторять до тех пор, пока результаты эксперимента, не будут соответствовать целям модел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2:13Z</dcterms:created>
  <dc:creator>Шапошникова Н. Т.</dc:creator>
  <dc:description/>
  <cp:keywords/>
  <dc:language>en-US</dc:language>
  <cp:lastModifiedBy>Шапошникова Н. Т.</cp:lastModifiedBy>
  <dcterms:modified xsi:type="dcterms:W3CDTF">2008-01-22T00:37:05Z</dcterms:modified>
  <cp:revision>3</cp:revision>
  <dc:subject/>
  <dc:title>Этапы моделиров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