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899953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5DCC-509B-4F82-B837-EF2517D1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76518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4280" y="5507640"/>
            <a:ext cx="76518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A4DF-FDD3-4833-B92B-211B9449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4280" y="550764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5400" y="550764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55A6-8D13-4DEE-988A-A4F1A082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240" y="264168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48200" y="264168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74280" y="550764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240" y="550764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48200" y="550764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4484-EAD3-44A6-B5A7-3F13DDBF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F419-729C-4C26-8F97-37326DE1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74280" y="2641680"/>
            <a:ext cx="7651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4C8C-0DB1-4838-9C3E-51F19972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7651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D497-8EC4-4837-BB67-9053EF47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90F7-93AE-4FE4-8BE4-424BA28F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D2C8-ECC9-419D-84E2-ECCA72D2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74280" y="812520"/>
            <a:ext cx="76518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E73D-DFD9-4A6F-ABDC-9E1B3AF1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4280" y="550764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4E2B-6CEA-4993-A053-E3EB14DD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74280" y="2641680"/>
            <a:ext cx="7651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778C-2E50-495A-8FDC-23D0666C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95400" y="550764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17C7-A669-4A92-BB43-E0755630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4280" y="5507640"/>
            <a:ext cx="76518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6530-80C4-400A-A29C-A2C0066A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76518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4280" y="5507640"/>
            <a:ext cx="76518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3273-F0C5-45B1-A433-C0268AC7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4280" y="550764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95400" y="550764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900D-72DA-44C7-A9F1-B565BC80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1240" y="264168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48200" y="264168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74280" y="550764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1240" y="550764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48200" y="550764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C37A-FF86-48F7-8D0C-F2BA4EC4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7651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EE4D-A827-430C-A9BA-EC7F92A5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C8B-2421-4A41-91C8-9D3CE27D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8C3B-1D13-4407-9637-408F6126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74280" y="812520"/>
            <a:ext cx="76518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A658-D840-4158-A57B-0062E96F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74280" y="550764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7F63-6476-43C2-86DF-76733717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5400" y="550764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1599-8335-4913-9B78-BB3655D9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4280" y="5507640"/>
            <a:ext cx="76518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2467-C8D2-4C46-80F6-5B50D3A4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280360" y="1440"/>
            <a:ext cx="17271720" cy="18255240"/>
            <a:chOff x="-8280360" y="1440"/>
            <a:chExt cx="17271720" cy="18255240"/>
          </a:xfrm>
        </p:grpSpPr>
        <p:sp>
          <p:nvSpPr>
            <p:cNvPr id="1" name=""/>
            <p:cNvSpPr/>
            <p:nvPr/>
          </p:nvSpPr>
          <p:spPr>
            <a:xfrm>
              <a:off x="5304600" y="2113920"/>
              <a:ext cx="3686760" cy="701532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280360" y="1440"/>
              <a:ext cx="16560720" cy="1825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74280" y="2641680"/>
            <a:ext cx="7651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74640" y="8331120"/>
            <a:ext cx="1874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076200" y="8331120"/>
            <a:ext cx="2849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451560" y="8331120"/>
            <a:ext cx="1874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9E7A-CDAC-4AB0-8736-B616B1CCE2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637760" y="1947240"/>
            <a:ext cx="16638480" cy="14392800"/>
            <a:chOff x="-7637760" y="1947240"/>
            <a:chExt cx="16638480" cy="14392800"/>
          </a:xfrm>
        </p:grpSpPr>
        <p:sp>
          <p:nvSpPr>
            <p:cNvPr id="45" name=""/>
            <p:cNvSpPr/>
            <p:nvPr/>
          </p:nvSpPr>
          <p:spPr>
            <a:xfrm>
              <a:off x="3220920" y="3612600"/>
              <a:ext cx="5779800" cy="553104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637760" y="1947240"/>
              <a:ext cx="13239720" cy="1439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4760" y="1015920"/>
            <a:ext cx="76485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74640" y="8331120"/>
            <a:ext cx="1874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076200" y="8331120"/>
            <a:ext cx="2849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451560" y="8331120"/>
            <a:ext cx="1874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2818-4A3D-4F93-8D59-D392B02D578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0000" y="2139480"/>
            <a:ext cx="80996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476000"/>
            <a:ext cx="94154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bebed4"/>
                </a:solidFill>
                <a:latin typeface="Arial"/>
              </a:rPr>
              <a:t>Этапы </a:t>
            </a:r>
            <a:br>
              <a:rPr sz="6600"/>
            </a:br>
            <a:r>
              <a:rPr b="1" i="1" lang="ru-RU" sz="6600" spc="-1" strike="noStrike">
                <a:solidFill>
                  <a:srgbClr val="bebed4"/>
                </a:solidFill>
                <a:latin typeface="Arial"/>
              </a:rPr>
              <a:t>моделирования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2720" y="3851280"/>
            <a:ext cx="4779720" cy="45655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436680" y="0"/>
            <a:ext cx="6897240" cy="6803280"/>
            <a:chOff x="436680" y="0"/>
            <a:chExt cx="6897240" cy="6803280"/>
          </a:xfrm>
        </p:grpSpPr>
        <p:cxnSp>
          <p:nvCxnSpPr>
            <p:cNvPr id="91" name="_s7201"/>
            <p:cNvCxnSpPr>
              <a:stCxn id="92" idx="0"/>
              <a:endCxn id="93" idx="3"/>
            </p:cNvCxnSpPr>
            <p:nvPr/>
          </p:nvCxnSpPr>
          <p:spPr>
            <a:xfrm flipV="1" rot="16200000">
              <a:off x="3641760" y="1151280"/>
              <a:ext cx="486720" cy="127440"/>
            </a:xfrm>
            <a:prstGeom prst="bentConnector3">
              <a:avLst>
                <a:gd name="adj1" fmla="val 234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7191"/>
            <p:cNvCxnSpPr>
              <a:stCxn id="95" idx="0"/>
              <a:endCxn id="96" idx="3"/>
            </p:cNvCxnSpPr>
            <p:nvPr/>
          </p:nvCxnSpPr>
          <p:spPr>
            <a:xfrm flipV="1" rot="16200000">
              <a:off x="3641760" y="5523480"/>
              <a:ext cx="486720" cy="127440"/>
            </a:xfrm>
            <a:prstGeom prst="bentConnector3">
              <a:avLst>
                <a:gd name="adj1" fmla="val 234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7187"/>
            <p:cNvCxnSpPr>
              <a:stCxn id="96" idx="0"/>
              <a:endCxn id="98" idx="3"/>
            </p:cNvCxnSpPr>
            <p:nvPr/>
          </p:nvCxnSpPr>
          <p:spPr>
            <a:xfrm flipV="1" rot="16200000">
              <a:off x="3641760" y="4064760"/>
              <a:ext cx="486720" cy="127440"/>
            </a:xfrm>
            <a:prstGeom prst="bentConnector3">
              <a:avLst>
                <a:gd name="adj1" fmla="val 233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7185"/>
            <p:cNvCxnSpPr>
              <a:stCxn id="98" idx="0"/>
              <a:endCxn id="92" idx="3"/>
            </p:cNvCxnSpPr>
            <p:nvPr/>
          </p:nvCxnSpPr>
          <p:spPr>
            <a:xfrm flipV="1" rot="16200000">
              <a:off x="3641760" y="2610000"/>
              <a:ext cx="486720" cy="127440"/>
            </a:xfrm>
            <a:prstGeom prst="bentConnector3">
              <a:avLst>
                <a:gd name="adj1" fmla="val 233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3" name="_s7174"/>
            <p:cNvSpPr/>
            <p:nvPr/>
          </p:nvSpPr>
          <p:spPr>
            <a:xfrm>
              <a:off x="436680" y="0"/>
              <a:ext cx="6897240" cy="972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ffff">
                    <a:alpha val="40000"/>
                  </a:srgbClr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300" spc="-1" strike="noStrike">
                  <a:solidFill>
                    <a:srgbClr val="ffffff"/>
                  </a:solidFill>
                  <a:latin typeface="Times New Roman"/>
                </a:rPr>
                <a:t>Постановка задачи: 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Описание задачи;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Цель моделирования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Анализ объект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_s7182"/>
            <p:cNvSpPr/>
            <p:nvPr/>
          </p:nvSpPr>
          <p:spPr>
            <a:xfrm>
              <a:off x="436680" y="1458720"/>
              <a:ext cx="6897240" cy="972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00">
                    <a:alpha val="40000"/>
                  </a:srgbClr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Times New Roman"/>
                </a:rPr>
                <a:t>Разработка информационной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Times New Roman"/>
                </a:rPr>
                <a:t>модели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_s7184"/>
            <p:cNvSpPr/>
            <p:nvPr/>
          </p:nvSpPr>
          <p:spPr>
            <a:xfrm>
              <a:off x="436680" y="2917440"/>
              <a:ext cx="6897240" cy="9684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33">
                    <a:alpha val="40000"/>
                  </a:srgbClr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300" spc="-1" strike="noStrike">
                  <a:solidFill>
                    <a:srgbClr val="ffffff"/>
                  </a:solidFill>
                  <a:latin typeface="Times New Roman"/>
                </a:rPr>
                <a:t>Разработка компьютерной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300" spc="-1" strike="noStrike">
                  <a:solidFill>
                    <a:srgbClr val="ffffff"/>
                  </a:solidFill>
                  <a:latin typeface="Times New Roman"/>
                </a:rPr>
                <a:t>модели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_s7186"/>
            <p:cNvSpPr/>
            <p:nvPr/>
          </p:nvSpPr>
          <p:spPr>
            <a:xfrm>
              <a:off x="436680" y="4372200"/>
              <a:ext cx="6897240" cy="972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33">
                    <a:alpha val="40000"/>
                  </a:srgbClr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300" spc="-1" strike="noStrike">
                  <a:solidFill>
                    <a:srgbClr val="ffffff"/>
                  </a:solidFill>
                  <a:latin typeface="Times New Roman"/>
                </a:rPr>
                <a:t>Исследование модели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_s7190"/>
            <p:cNvSpPr/>
            <p:nvPr/>
          </p:nvSpPr>
          <p:spPr>
            <a:xfrm>
              <a:off x="436680" y="5830920"/>
              <a:ext cx="6897240" cy="972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ffff">
                    <a:alpha val="40000"/>
                  </a:srgbClr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300" spc="-1" strike="noStrike">
                  <a:solidFill>
                    <a:srgbClr val="ffffff"/>
                  </a:solidFill>
                  <a:latin typeface="Times New Roman"/>
                </a:rPr>
                <a:t>Анализ результатов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745080" y="6804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1720" y="7093080"/>
            <a:ext cx="6427800" cy="1150920"/>
          </a:xfrm>
          <a:prstGeom prst="flowChartDecision">
            <a:avLst/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Результаты соот-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ветствуют цели?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71760" y="8532720"/>
            <a:ext cx="4252680" cy="611280"/>
          </a:xfrm>
          <a:prstGeom prst="flowChartTerminator">
            <a:avLst/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во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45080" y="82440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58080" y="766764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8469360" y="1258920"/>
            <a:ext cx="0" cy="640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838320" y="1258920"/>
            <a:ext cx="4630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838320" y="2700360"/>
            <a:ext cx="4630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33720" y="8172360"/>
            <a:ext cx="11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40680" y="7236000"/>
            <a:ext cx="113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324000"/>
            <a:ext cx="9000360" cy="8387280"/>
            <a:chOff x="0" y="324000"/>
            <a:chExt cx="9000360" cy="8387280"/>
          </a:xfrm>
        </p:grpSpPr>
        <p:cxnSp>
          <p:nvCxnSpPr>
            <p:cNvPr id="111" name="_s9242"/>
            <p:cNvCxnSpPr>
              <a:stCxn id="112" idx="1"/>
              <a:endCxn id="113" idx="2"/>
            </p:cNvCxnSpPr>
            <p:nvPr/>
          </p:nvCxnSpPr>
          <p:spPr>
            <a:xfrm rot="10800000">
              <a:off x="4499640" y="5111280"/>
              <a:ext cx="450720" cy="300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9240"/>
            <p:cNvCxnSpPr>
              <a:stCxn id="115" idx="3"/>
              <a:endCxn id="113" idx="2"/>
            </p:cNvCxnSpPr>
            <p:nvPr/>
          </p:nvCxnSpPr>
          <p:spPr>
            <a:xfrm flipV="1">
              <a:off x="4050000" y="5111640"/>
              <a:ext cx="450720" cy="300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9238"/>
            <p:cNvCxnSpPr>
              <a:stCxn id="117" idx="1"/>
              <a:endCxn id="113" idx="2"/>
            </p:cNvCxnSpPr>
            <p:nvPr/>
          </p:nvCxnSpPr>
          <p:spPr>
            <a:xfrm rot="10800000">
              <a:off x="4499640" y="5111280"/>
              <a:ext cx="450720" cy="120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9236"/>
            <p:cNvCxnSpPr>
              <a:stCxn id="119" idx="3"/>
              <a:endCxn id="113" idx="2"/>
            </p:cNvCxnSpPr>
            <p:nvPr/>
          </p:nvCxnSpPr>
          <p:spPr>
            <a:xfrm flipV="1">
              <a:off x="4050000" y="5111280"/>
              <a:ext cx="450720" cy="120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9234"/>
            <p:cNvCxnSpPr>
              <a:stCxn id="121" idx="0"/>
              <a:endCxn id="122" idx="2"/>
            </p:cNvCxnSpPr>
            <p:nvPr/>
          </p:nvCxnSpPr>
          <p:spPr>
            <a:xfrm flipV="1">
              <a:off x="7650000" y="3319200"/>
              <a:ext cx="3960" cy="599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9232"/>
            <p:cNvCxnSpPr>
              <a:stCxn id="113" idx="0"/>
              <a:endCxn id="124" idx="2"/>
            </p:cNvCxnSpPr>
            <p:nvPr/>
          </p:nvCxnSpPr>
          <p:spPr>
            <a:xfrm flipV="1">
              <a:off x="4500000" y="3319200"/>
              <a:ext cx="3960" cy="599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9230"/>
            <p:cNvCxnSpPr>
              <a:stCxn id="126" idx="0"/>
              <a:endCxn id="127" idx="2"/>
            </p:cNvCxnSpPr>
            <p:nvPr/>
          </p:nvCxnSpPr>
          <p:spPr>
            <a:xfrm flipV="1">
              <a:off x="1349640" y="3319200"/>
              <a:ext cx="3960" cy="599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9228"/>
            <p:cNvCxnSpPr>
              <a:stCxn id="122" idx="0"/>
              <a:endCxn id="129" idx="2"/>
            </p:cNvCxnSpPr>
            <p:nvPr/>
          </p:nvCxnSpPr>
          <p:spPr>
            <a:xfrm flipV="1" rot="16200000">
              <a:off x="5775480" y="245880"/>
              <a:ext cx="599760" cy="3150720"/>
            </a:xfrm>
            <a:prstGeom prst="bentConnector3">
              <a:avLst>
                <a:gd name="adj1" fmla="val 174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9227"/>
            <p:cNvCxnSpPr>
              <a:stCxn id="124" idx="0"/>
              <a:endCxn id="129" idx="2"/>
            </p:cNvCxnSpPr>
            <p:nvPr/>
          </p:nvCxnSpPr>
          <p:spPr>
            <a:xfrm flipV="1">
              <a:off x="4500000" y="1521720"/>
              <a:ext cx="3960" cy="599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9226"/>
            <p:cNvCxnSpPr>
              <a:stCxn id="127" idx="0"/>
              <a:endCxn id="129" idx="2"/>
            </p:cNvCxnSpPr>
            <p:nvPr/>
          </p:nvCxnSpPr>
          <p:spPr>
            <a:xfrm flipH="1" flipV="1" rot="5400000">
              <a:off x="2625120" y="246240"/>
              <a:ext cx="599760" cy="3150720"/>
            </a:xfrm>
            <a:prstGeom prst="bentConnector3">
              <a:avLst>
                <a:gd name="adj1" fmla="val 174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9222"/>
            <p:cNvSpPr/>
            <p:nvPr/>
          </p:nvSpPr>
          <p:spPr>
            <a:xfrm>
              <a:off x="3150000" y="324000"/>
              <a:ext cx="2700000" cy="1198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0033"/>
              </a:solidFill>
              <a:miter/>
            </a:ln>
            <a:effectLst>
              <a:outerShdw dist="63504" dir="19383909" blurRad="0" rotWithShape="0">
                <a:srgbClr val="ff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</a:rPr>
                <a:t>этап.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</a:rPr>
                <a:t>Постановк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</a:rPr>
                <a:t>задачи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_s9223"/>
            <p:cNvSpPr/>
            <p:nvPr/>
          </p:nvSpPr>
          <p:spPr>
            <a:xfrm>
              <a:off x="0" y="2121120"/>
              <a:ext cx="2700000" cy="1198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3366ff"/>
              </a:solidFill>
              <a:miter/>
            </a:ln>
            <a:effectLst>
              <a:outerShdw dist="63504" dir="19383909" blurRad="0" rotWithShape="0">
                <a:srgbClr val="3366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Описание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задачи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_s9224"/>
            <p:cNvSpPr/>
            <p:nvPr/>
          </p:nvSpPr>
          <p:spPr>
            <a:xfrm>
              <a:off x="3150000" y="2121120"/>
              <a:ext cx="2700000" cy="1198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3366ff"/>
              </a:solidFill>
              <a:miter/>
            </a:ln>
            <a:effectLst>
              <a:outerShdw dist="63504" dir="19383909" blurRad="0" rotWithShape="0">
                <a:srgbClr val="3366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Цел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моделиро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вания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_s9225"/>
            <p:cNvSpPr/>
            <p:nvPr/>
          </p:nvSpPr>
          <p:spPr>
            <a:xfrm>
              <a:off x="6300360" y="2121120"/>
              <a:ext cx="2700000" cy="1198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3366ff"/>
              </a:solidFill>
              <a:miter/>
            </a:ln>
            <a:effectLst>
              <a:outerShdw dist="63504" dir="19383909" blurRad="0" rotWithShape="0">
                <a:srgbClr val="3366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Анализ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объект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_s9229"/>
            <p:cNvSpPr/>
            <p:nvPr/>
          </p:nvSpPr>
          <p:spPr>
            <a:xfrm>
              <a:off x="0" y="3918600"/>
              <a:ext cx="2700000" cy="1198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пределяется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бъект модел-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 представляется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онечный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езульта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_s9231"/>
            <p:cNvSpPr/>
            <p:nvPr/>
          </p:nvSpPr>
          <p:spPr>
            <a:xfrm>
              <a:off x="3150000" y="3918600"/>
              <a:ext cx="2700000" cy="1193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Должна быть определена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в соответствии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с поставленной задачей.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Она оказывает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направляющее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влияние на весь процесс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моделировани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_s9233"/>
            <p:cNvSpPr/>
            <p:nvPr/>
          </p:nvSpPr>
          <p:spPr>
            <a:xfrm>
              <a:off x="6300360" y="3918600"/>
              <a:ext cx="2700000" cy="1193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457200" indent="-457200" algn="ctr">
                <a:lnSpc>
                  <a:spcPct val="8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Выделяют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 algn="ctr">
                <a:lnSpc>
                  <a:spcPct val="8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моделируемый  объект,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 algn="ctr">
                <a:lnSpc>
                  <a:spcPct val="8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все его составляющие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 algn="ctr">
                <a:lnSpc>
                  <a:spcPct val="8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и рассматривают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 algn="ctr">
                <a:lnSpc>
                  <a:spcPct val="8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их основные свойств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_s9235"/>
            <p:cNvSpPr/>
            <p:nvPr/>
          </p:nvSpPr>
          <p:spPr>
            <a:xfrm>
              <a:off x="1353600" y="5716080"/>
              <a:ext cx="2696400" cy="11980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Познание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окружающего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мир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_s9237"/>
            <p:cNvSpPr/>
            <p:nvPr/>
          </p:nvSpPr>
          <p:spPr>
            <a:xfrm>
              <a:off x="4950360" y="5716080"/>
              <a:ext cx="2697120" cy="11980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Создание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объектов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с заданными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свойствами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_s9239"/>
            <p:cNvSpPr/>
            <p:nvPr/>
          </p:nvSpPr>
          <p:spPr>
            <a:xfrm>
              <a:off x="1353600" y="7513200"/>
              <a:ext cx="2696400" cy="119808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Определение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последствий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воздействия на объект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и принятие правильного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решения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_s9241"/>
            <p:cNvSpPr/>
            <p:nvPr/>
          </p:nvSpPr>
          <p:spPr>
            <a:xfrm>
              <a:off x="4950360" y="7513200"/>
              <a:ext cx="2697120" cy="119808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Эффективность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управления объектом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или процессом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394920"/>
            <a:ext cx="76514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bed4"/>
                </a:solidFill>
                <a:latin typeface="Arial"/>
              </a:rPr>
              <a:t>II </a:t>
            </a:r>
            <a:r>
              <a:rPr b="0" lang="ru-RU" sz="4400" spc="-1" strike="noStrike">
                <a:solidFill>
                  <a:srgbClr val="bebed4"/>
                </a:solidFill>
                <a:latin typeface="Arial"/>
              </a:rPr>
              <a:t>этап. Разработка информационной модели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265600">
            <a:off x="1404720" y="2195280"/>
            <a:ext cx="863640" cy="432000"/>
          </a:xfrm>
          <a:custGeom>
            <a:avLst/>
            <a:gdLst>
              <a:gd name="textAreaLeft" fmla="*/ 108000 w 863640"/>
              <a:gd name="textAreaRight" fmla="*/ 756000 w 86364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50000">
                <a:srgbClr val="0000ff"/>
              </a:gs>
              <a:gs pos="100000">
                <a:srgbClr val="00ffff"/>
              </a:gs>
            </a:gsLst>
            <a:lin ang="553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720" y="3203640"/>
            <a:ext cx="3456000" cy="1584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0000ff"/>
              </a:gs>
              <a:gs pos="100000">
                <a:srgbClr val="00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Описательная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информационная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модель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720" y="6588000"/>
            <a:ext cx="3456000" cy="1584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0000ff"/>
              </a:gs>
              <a:gs pos="100000">
                <a:srgbClr val="00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Формализованная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информационная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модель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265600">
            <a:off x="1547640" y="5435280"/>
            <a:ext cx="863640" cy="432000"/>
          </a:xfrm>
          <a:custGeom>
            <a:avLst/>
            <a:gdLst>
              <a:gd name="textAreaLeft" fmla="*/ 108000 w 863640"/>
              <a:gd name="textAreaRight" fmla="*/ 756000 w 86364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50000">
                <a:srgbClr val="0000ff"/>
              </a:gs>
              <a:gs pos="100000">
                <a:srgbClr val="00ffff"/>
              </a:gs>
            </a:gsLst>
            <a:lin ang="553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2720" y="1547640"/>
            <a:ext cx="5148360" cy="3529080"/>
          </a:xfrm>
          <a:prstGeom prst="irregularSeal2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писываются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свойства, состояния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и действия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составляющих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бъектов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и системы в целом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5292720"/>
            <a:ext cx="4464000" cy="352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Формализация –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оцесс построени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нформационных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оделей с помощь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формальных язы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132000" y="2484000"/>
            <a:ext cx="165600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629080" y="6012000"/>
            <a:ext cx="1511280" cy="504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5508720"/>
            <a:ext cx="5076720" cy="3635280"/>
          </a:xfrm>
          <a:prstGeom prst="irregularSeal1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. е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оздаютс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знаковы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модел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40360" y="5724360"/>
            <a:ext cx="4535280" cy="2159280"/>
          </a:xfrm>
          <a:prstGeom prst="flowChartPreparation">
            <a:avLst/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тематическа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одел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формулы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5940360"/>
            <a:ext cx="4535640" cy="2158920"/>
          </a:xfrm>
          <a:prstGeom prst="flowChartPreparation">
            <a:avLst/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аблиц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6156360"/>
            <a:ext cx="4535640" cy="2158920"/>
          </a:xfrm>
          <a:prstGeom prst="flowChartPreparation">
            <a:avLst/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хем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6372360"/>
            <a:ext cx="4535280" cy="2158920"/>
          </a:xfrm>
          <a:prstGeom prst="flowChartPreparation">
            <a:avLst/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ертеж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6588000"/>
            <a:ext cx="4535640" cy="2159280"/>
          </a:xfrm>
          <a:prstGeom prst="flowChartPreparation">
            <a:avLst/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лок-схем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394920"/>
            <a:ext cx="8532720" cy="237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bebed4"/>
                </a:solidFill>
                <a:uFillTx/>
                <a:latin typeface="Arial"/>
              </a:rPr>
              <a:t>III </a:t>
            </a:r>
            <a:r>
              <a:rPr b="1" lang="ru-RU" sz="4000" spc="-1" strike="noStrike" u="sng">
                <a:solidFill>
                  <a:srgbClr val="bebed4"/>
                </a:solidFill>
                <a:uFillTx/>
                <a:latin typeface="Arial"/>
              </a:rPr>
              <a:t>этап. Разработка компьютерной модели:</a:t>
            </a:r>
            <a:br>
              <a:rPr sz="4000"/>
            </a:br>
            <a:r>
              <a:rPr b="0" lang="ru-RU" sz="4000" spc="-1" strike="noStrike">
                <a:solidFill>
                  <a:srgbClr val="bebed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bebed4"/>
                </a:solidFill>
                <a:latin typeface="Arial"/>
              </a:rPr>
              <a:t>Выбор инструментов моделирования</a:t>
            </a:r>
            <a:br>
              <a:rPr sz="2800"/>
            </a:br>
            <a:r>
              <a:rPr b="0" lang="ru-RU" sz="2800" spc="-1" strike="noStrike">
                <a:solidFill>
                  <a:srgbClr val="bebed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bebed4"/>
                </a:solidFill>
                <a:latin typeface="Arial"/>
              </a:rPr>
              <a:t>Создание модели</a:t>
            </a:r>
            <a:br>
              <a:rPr sz="2800"/>
            </a:br>
            <a:r>
              <a:rPr b="0" lang="ru-RU" sz="2800" spc="-1" strike="noStrike">
                <a:solidFill>
                  <a:srgbClr val="bebed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bebed4"/>
                </a:solidFill>
                <a:latin typeface="Arial"/>
              </a:rPr>
              <a:t>Тестирование модели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3203280"/>
            <a:ext cx="8280360" cy="71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ffffff"/>
                </a:solidFill>
                <a:uFillTx/>
                <a:latin typeface="Times New Roman"/>
              </a:rPr>
              <a:t>Компьютерная модель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 – это модель, реализованная средствами программной среды: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Графические редакторы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Текстовые редакторы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Среды программирования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Электронные таблицы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Математические пакеты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HTML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-редакторы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СУБД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Другие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От выбора программной среды зависит алгоритм построения модели и форма его представления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437080" y="4788000"/>
            <a:ext cx="3095640" cy="26114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00720" y="468360"/>
            <a:ext cx="2700360" cy="26859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3640" y="250920"/>
            <a:ext cx="7848360" cy="74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ыполняется реализация компьютерной модели по законам выбранной модел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оизводится тестирование или отладка модели на компьютер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Тестирование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процесс проверки правильности модели. Подбираются несколько вариантов исходных значений и заранее просчитывается ожидаемый результа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Тест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– набор исходных данных, для которых заранее известен результа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Отладка программы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– трансляция программы и проверка правильности работы в программной сред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250560"/>
            <a:ext cx="90010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bed4"/>
                </a:solidFill>
                <a:latin typeface="Arial"/>
              </a:rPr>
              <a:t>IV </a:t>
            </a:r>
            <a:r>
              <a:rPr b="0" lang="ru-RU" sz="4400" spc="-1" strike="noStrike">
                <a:solidFill>
                  <a:srgbClr val="bebed4"/>
                </a:solidFill>
                <a:latin typeface="Arial"/>
              </a:rPr>
              <a:t>этап. Исследование модели:</a:t>
            </a:r>
            <a:br>
              <a:rPr sz="4000"/>
            </a:br>
            <a:r>
              <a:rPr b="0" lang="ru-RU" sz="4000" spc="-1" strike="noStrike">
                <a:solidFill>
                  <a:srgbClr val="bebed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bebed4"/>
                </a:solidFill>
                <a:latin typeface="Arial"/>
              </a:rPr>
              <a:t>Проведение серии экспериментов</a:t>
            </a:r>
            <a:br>
              <a:rPr sz="2800"/>
            </a:br>
            <a:r>
              <a:rPr b="0" lang="ru-RU" sz="2800" spc="-1" strike="noStrike">
                <a:solidFill>
                  <a:srgbClr val="bebed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bebed4"/>
                </a:solidFill>
                <a:latin typeface="Arial"/>
              </a:rPr>
              <a:t>Накопление результатов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4280" y="2124000"/>
            <a:ext cx="7651800" cy="600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Эксперимент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– это опыт, который производится с объектом или моделью. Он заключается в выполнении некоторых действий, чтобы определить, как реагирует эксперементальный образец на эти действия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140360" y="5796000"/>
            <a:ext cx="3457440" cy="30621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175520" y="7020000"/>
            <a:ext cx="1825560" cy="1679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877080" y="3419640"/>
            <a:ext cx="2124000" cy="19922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3167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ebed4"/>
                </a:solidFill>
                <a:latin typeface="Arial"/>
              </a:rPr>
              <a:t>V </a:t>
            </a:r>
            <a:r>
              <a:rPr b="0" lang="ru-RU" sz="4800" spc="-1" strike="noStrike">
                <a:solidFill>
                  <a:srgbClr val="bebed4"/>
                </a:solidFill>
                <a:latin typeface="Arial"/>
              </a:rPr>
              <a:t>этап. Анализ результатов моделирования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2000" y="1763280"/>
            <a:ext cx="7201080" cy="70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ающий этап: «Продолжать исследование или заканчивать?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результаты не соответствуют целям поставленной задачи, значит, на предыдущих этапах были допущены ошибки. Это может быть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правильно отобранные существенные свойства объек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шибки в формулах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удачно выбрана среда моделир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шение технологических приемов при построении моде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ошибки выявлены, то требуется корректировка модели, нужно вернуться к одному из предыдущих этапов, и процесс повторять до тех пор, пока результаты эксперимента, не будут соответствовать целям моделир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0:32:13Z</dcterms:created>
  <dc:creator>Шапошникова Н. Т.</dc:creator>
  <dc:description/>
  <cp:keywords/>
  <dc:language>en-US</dc:language>
  <cp:lastModifiedBy>Шапошникова Н. Т.</cp:lastModifiedBy>
  <dcterms:modified xsi:type="dcterms:W3CDTF">2008-01-22T00:37:05Z</dcterms:modified>
  <cp:revision>3</cp:revision>
  <dc:subject/>
  <dc:title>Этапы моделиров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21049</vt:lpwstr>
  </property>
</Properties>
</file>