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899953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3D1-FD42-454A-8BF6-22251FBF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90E-7E87-4E50-8254-FC354B6D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1E1-5637-43B8-931F-D35EAC23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24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820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428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24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820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0EF-F101-4B0E-8D9F-093843FA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00BF-D7F2-4660-B0FD-42435EE0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E3A5-B92B-4A4D-8841-CC273E7F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0BBB-BDC7-4301-8A50-47AAAD3C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1642-F61F-4C65-A99B-42104175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9E54-D3EC-46EE-8F7E-923F5E32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4280" y="812520"/>
            <a:ext cx="76518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E5A2-06BA-421C-B404-704E327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E8FC-11F4-4534-9FB1-3E318675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584-02A2-4779-B459-98E83968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1EE0-7888-4598-ABD3-5A7EEA05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227A-670C-4030-83C9-83204B60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233B-6F03-4C55-94CB-D794DF4C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C6CF-5184-4BEC-9021-07645D3D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124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4820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7428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124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4820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B5C3-C641-4ABB-9152-F6334F21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224-B435-48BD-A3F1-353E4A68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4EC-F547-4EF0-AD67-7A97B82E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312-75DF-454E-87E4-68CC048D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4280" y="812520"/>
            <a:ext cx="76518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A83-0E89-4CB9-A2D0-41D4E546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FEA-ED00-46E7-AE69-8E774C1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026-2D7B-4ABC-9C0B-2D20C19C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7E0-1214-4B8C-8106-115CF480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280360" y="1440"/>
            <a:ext cx="17271720" cy="18255240"/>
            <a:chOff x="-8280360" y="1440"/>
            <a:chExt cx="17271720" cy="18255240"/>
          </a:xfrm>
        </p:grpSpPr>
        <p:sp>
          <p:nvSpPr>
            <p:cNvPr id="1" name=""/>
            <p:cNvSpPr/>
            <p:nvPr/>
          </p:nvSpPr>
          <p:spPr>
            <a:xfrm>
              <a:off x="5304600" y="2113920"/>
              <a:ext cx="3686760" cy="70153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280360" y="1440"/>
              <a:ext cx="16560720" cy="18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464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076200" y="8331120"/>
            <a:ext cx="2849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156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378D-12DF-4108-A505-EC163AE6CF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637760" y="1947240"/>
            <a:ext cx="16638480" cy="14392800"/>
            <a:chOff x="-7637760" y="1947240"/>
            <a:chExt cx="16638480" cy="14392800"/>
          </a:xfrm>
        </p:grpSpPr>
        <p:sp>
          <p:nvSpPr>
            <p:cNvPr id="45" name=""/>
            <p:cNvSpPr/>
            <p:nvPr/>
          </p:nvSpPr>
          <p:spPr>
            <a:xfrm>
              <a:off x="3220920" y="3612600"/>
              <a:ext cx="5779800" cy="55310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637760" y="1947240"/>
              <a:ext cx="13239720" cy="143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4760" y="1015920"/>
            <a:ext cx="76485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7464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076200" y="8331120"/>
            <a:ext cx="2849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45156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23E7-5702-4074-9D4D-74CF6C8948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0000" y="2139480"/>
            <a:ext cx="80996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476000"/>
            <a:ext cx="94154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bebed4"/>
                </a:solidFill>
                <a:latin typeface="Arial"/>
              </a:rPr>
              <a:t>Этапы </a:t>
            </a:r>
            <a:br>
              <a:rPr sz="6600"/>
            </a:br>
            <a:r>
              <a:rPr b="1" i="1" lang="ru-RU" sz="6600" spc="-1" strike="noStrike">
                <a:solidFill>
                  <a:srgbClr val="bebed4"/>
                </a:solidFill>
                <a:latin typeface="Arial"/>
              </a:rPr>
              <a:t>моделирования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2720" y="3851280"/>
            <a:ext cx="4779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36680" y="0"/>
            <a:ext cx="6897240" cy="6803280"/>
            <a:chOff x="436680" y="0"/>
            <a:chExt cx="6897240" cy="6803280"/>
          </a:xfrm>
        </p:grpSpPr>
        <p:cxnSp>
          <p:nvCxnSpPr>
            <p:cNvPr id="91" name="_s7201"/>
            <p:cNvCxnSpPr>
              <a:stCxn id="92" idx="0"/>
              <a:endCxn id="93" idx="3"/>
            </p:cNvCxnSpPr>
            <p:nvPr/>
          </p:nvCxnSpPr>
          <p:spPr>
            <a:xfrm flipV="1" rot="16200000">
              <a:off x="3641760" y="1151280"/>
              <a:ext cx="486720" cy="127440"/>
            </a:xfrm>
            <a:prstGeom prst="bentConnector3">
              <a:avLst>
                <a:gd name="adj1" fmla="val 234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91"/>
            <p:cNvCxnSpPr>
              <a:stCxn id="95" idx="0"/>
              <a:endCxn id="96" idx="3"/>
            </p:cNvCxnSpPr>
            <p:nvPr/>
          </p:nvCxnSpPr>
          <p:spPr>
            <a:xfrm flipV="1" rot="16200000">
              <a:off x="3641760" y="5523480"/>
              <a:ext cx="486720" cy="127440"/>
            </a:xfrm>
            <a:prstGeom prst="bentConnector3">
              <a:avLst>
                <a:gd name="adj1" fmla="val 234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7187"/>
            <p:cNvCxnSpPr>
              <a:stCxn id="96" idx="0"/>
              <a:endCxn id="98" idx="3"/>
            </p:cNvCxnSpPr>
            <p:nvPr/>
          </p:nvCxnSpPr>
          <p:spPr>
            <a:xfrm flipV="1" rot="16200000">
              <a:off x="3641760" y="4064760"/>
              <a:ext cx="486720" cy="127440"/>
            </a:xfrm>
            <a:prstGeom prst="bentConnector3">
              <a:avLst>
                <a:gd name="adj1" fmla="val 233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7185"/>
            <p:cNvCxnSpPr>
              <a:stCxn id="98" idx="0"/>
              <a:endCxn id="92" idx="3"/>
            </p:cNvCxnSpPr>
            <p:nvPr/>
          </p:nvCxnSpPr>
          <p:spPr>
            <a:xfrm flipV="1" rot="16200000">
              <a:off x="3641760" y="2610000"/>
              <a:ext cx="486720" cy="127440"/>
            </a:xfrm>
            <a:prstGeom prst="bentConnector3">
              <a:avLst>
                <a:gd name="adj1" fmla="val 233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7174"/>
            <p:cNvSpPr/>
            <p:nvPr/>
          </p:nvSpPr>
          <p:spPr>
            <a:xfrm>
              <a:off x="436680" y="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ff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Постановка задачи: 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Описание задачи;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Цель моделирования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Анализ объек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_s7182"/>
            <p:cNvSpPr/>
            <p:nvPr/>
          </p:nvSpPr>
          <p:spPr>
            <a:xfrm>
              <a:off x="436680" y="145872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Разработка информационной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модели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_s7184"/>
            <p:cNvSpPr/>
            <p:nvPr/>
          </p:nvSpPr>
          <p:spPr>
            <a:xfrm>
              <a:off x="436680" y="2917440"/>
              <a:ext cx="6897240" cy="968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33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Разработка компьютерной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модели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_s7186"/>
            <p:cNvSpPr/>
            <p:nvPr/>
          </p:nvSpPr>
          <p:spPr>
            <a:xfrm>
              <a:off x="436680" y="437220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33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Исследование модели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_s7190"/>
            <p:cNvSpPr/>
            <p:nvPr/>
          </p:nvSpPr>
          <p:spPr>
            <a:xfrm>
              <a:off x="436680" y="583092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ff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Анализ результатов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745080" y="6804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720" y="7093080"/>
            <a:ext cx="6427800" cy="1150920"/>
          </a:xfrm>
          <a:prstGeom prst="flowChartDecis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Результаты соот-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ветствуют цели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71760" y="8532720"/>
            <a:ext cx="4252680" cy="611280"/>
          </a:xfrm>
          <a:prstGeom prst="flowChartTerminator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45080" y="8244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58080" y="7667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469360" y="1258920"/>
            <a:ext cx="0" cy="640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38320" y="1258920"/>
            <a:ext cx="4630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838320" y="2700360"/>
            <a:ext cx="4630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33720" y="817236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40680" y="723600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324000"/>
            <a:ext cx="9000360" cy="8387280"/>
            <a:chOff x="0" y="324000"/>
            <a:chExt cx="9000360" cy="8387280"/>
          </a:xfrm>
        </p:grpSpPr>
        <p:cxnSp>
          <p:nvCxnSpPr>
            <p:cNvPr id="111" name="_s9242"/>
            <p:cNvCxnSpPr>
              <a:stCxn id="112" idx="1"/>
              <a:endCxn id="113" idx="2"/>
            </p:cNvCxnSpPr>
            <p:nvPr/>
          </p:nvCxnSpPr>
          <p:spPr>
            <a:xfrm rot="10800000">
              <a:off x="4499640" y="5111280"/>
              <a:ext cx="450720" cy="300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9240"/>
            <p:cNvCxnSpPr>
              <a:stCxn id="115" idx="3"/>
              <a:endCxn id="113" idx="2"/>
            </p:cNvCxnSpPr>
            <p:nvPr/>
          </p:nvCxnSpPr>
          <p:spPr>
            <a:xfrm flipV="1">
              <a:off x="4050000" y="5111640"/>
              <a:ext cx="450720" cy="300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9238"/>
            <p:cNvCxnSpPr>
              <a:stCxn id="117" idx="1"/>
              <a:endCxn id="113" idx="2"/>
            </p:cNvCxnSpPr>
            <p:nvPr/>
          </p:nvCxnSpPr>
          <p:spPr>
            <a:xfrm rot="10800000">
              <a:off x="4499640" y="5111280"/>
              <a:ext cx="450720" cy="12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9236"/>
            <p:cNvCxnSpPr>
              <a:stCxn id="119" idx="3"/>
              <a:endCxn id="113" idx="2"/>
            </p:cNvCxnSpPr>
            <p:nvPr/>
          </p:nvCxnSpPr>
          <p:spPr>
            <a:xfrm flipV="1">
              <a:off x="4050000" y="5111280"/>
              <a:ext cx="450720" cy="12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9234"/>
            <p:cNvCxnSpPr>
              <a:stCxn id="121" idx="0"/>
              <a:endCxn id="122" idx="2"/>
            </p:cNvCxnSpPr>
            <p:nvPr/>
          </p:nvCxnSpPr>
          <p:spPr>
            <a:xfrm flipV="1">
              <a:off x="7650000" y="331920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9232"/>
            <p:cNvCxnSpPr>
              <a:stCxn id="113" idx="0"/>
              <a:endCxn id="124" idx="2"/>
            </p:cNvCxnSpPr>
            <p:nvPr/>
          </p:nvCxnSpPr>
          <p:spPr>
            <a:xfrm flipV="1">
              <a:off x="4500000" y="331920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9230"/>
            <p:cNvCxnSpPr>
              <a:stCxn id="126" idx="0"/>
              <a:endCxn id="127" idx="2"/>
            </p:cNvCxnSpPr>
            <p:nvPr/>
          </p:nvCxnSpPr>
          <p:spPr>
            <a:xfrm flipV="1">
              <a:off x="1349640" y="331920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9228"/>
            <p:cNvCxnSpPr>
              <a:stCxn id="122" idx="0"/>
              <a:endCxn id="129" idx="2"/>
            </p:cNvCxnSpPr>
            <p:nvPr/>
          </p:nvCxnSpPr>
          <p:spPr>
            <a:xfrm flipV="1" rot="16200000">
              <a:off x="5775480" y="245880"/>
              <a:ext cx="599760" cy="3150720"/>
            </a:xfrm>
            <a:prstGeom prst="bentConnector3">
              <a:avLst>
                <a:gd name="adj1" fmla="val 17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9227"/>
            <p:cNvCxnSpPr>
              <a:stCxn id="124" idx="0"/>
              <a:endCxn id="129" idx="2"/>
            </p:cNvCxnSpPr>
            <p:nvPr/>
          </p:nvCxnSpPr>
          <p:spPr>
            <a:xfrm flipV="1">
              <a:off x="4500000" y="152172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9226"/>
            <p:cNvCxnSpPr>
              <a:stCxn id="127" idx="0"/>
              <a:endCxn id="129" idx="2"/>
            </p:cNvCxnSpPr>
            <p:nvPr/>
          </p:nvCxnSpPr>
          <p:spPr>
            <a:xfrm flipH="1" flipV="1" rot="5400000">
              <a:off x="2625120" y="246240"/>
              <a:ext cx="599760" cy="3150720"/>
            </a:xfrm>
            <a:prstGeom prst="bentConnector3">
              <a:avLst>
                <a:gd name="adj1" fmla="val 17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9222"/>
            <p:cNvSpPr/>
            <p:nvPr/>
          </p:nvSpPr>
          <p:spPr>
            <a:xfrm>
              <a:off x="3150000" y="324000"/>
              <a:ext cx="2700000" cy="1198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0033"/>
              </a:solidFill>
              <a:miter/>
            </a:ln>
            <a:effectLst>
              <a:outerShdw dist="63504" dir="19383909" blurRad="0" rotWithShape="0">
                <a:srgbClr val="ff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этап.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Постановк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задач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9223"/>
            <p:cNvSpPr/>
            <p:nvPr/>
          </p:nvSpPr>
          <p:spPr>
            <a:xfrm>
              <a:off x="0" y="2121120"/>
              <a:ext cx="2700000" cy="1198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3366ff"/>
              </a:solidFill>
              <a:miter/>
            </a:ln>
            <a:effectLst>
              <a:outerShdw dist="63504" dir="19383909" blurRad="0" rotWithShape="0">
                <a:srgbClr val="33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писани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задач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9224"/>
            <p:cNvSpPr/>
            <p:nvPr/>
          </p:nvSpPr>
          <p:spPr>
            <a:xfrm>
              <a:off x="3150000" y="2121120"/>
              <a:ext cx="2700000" cy="1198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3366ff"/>
              </a:solidFill>
              <a:miter/>
            </a:ln>
            <a:effectLst>
              <a:outerShdw dist="63504" dir="19383909" blurRad="0" rotWithShape="0">
                <a:srgbClr val="33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Цел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моделиро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вани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_s9225"/>
            <p:cNvSpPr/>
            <p:nvPr/>
          </p:nvSpPr>
          <p:spPr>
            <a:xfrm>
              <a:off x="6300360" y="2121120"/>
              <a:ext cx="2700000" cy="1198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66ff"/>
              </a:solidFill>
              <a:miter/>
            </a:ln>
            <a:effectLst>
              <a:outerShdw dist="63504" dir="19383909" blurRad="0" rotWithShape="0">
                <a:srgbClr val="33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Анали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9229"/>
            <p:cNvSpPr/>
            <p:nvPr/>
          </p:nvSpPr>
          <p:spPr>
            <a:xfrm>
              <a:off x="0" y="3918600"/>
              <a:ext cx="2700000" cy="1198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пределяется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бъект модел-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 представляется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онечный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зульта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9231"/>
            <p:cNvSpPr/>
            <p:nvPr/>
          </p:nvSpPr>
          <p:spPr>
            <a:xfrm>
              <a:off x="3150000" y="3918600"/>
              <a:ext cx="2700000" cy="1193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олжна быть определена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 соответствии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 поставленной задачей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Она оказывае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направляющее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лияние на весь процесс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оделирован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_s9233"/>
            <p:cNvSpPr/>
            <p:nvPr/>
          </p:nvSpPr>
          <p:spPr>
            <a:xfrm>
              <a:off x="6300360" y="3918600"/>
              <a:ext cx="2700000" cy="1193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ыделяю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оделируемый  объект,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се его составляющие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и рассматриваю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их основные свойст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_s9235"/>
            <p:cNvSpPr/>
            <p:nvPr/>
          </p:nvSpPr>
          <p:spPr>
            <a:xfrm>
              <a:off x="1353600" y="5716080"/>
              <a:ext cx="2696400" cy="11980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Познание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кружающего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мир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_s9237"/>
            <p:cNvSpPr/>
            <p:nvPr/>
          </p:nvSpPr>
          <p:spPr>
            <a:xfrm>
              <a:off x="4950360" y="5716080"/>
              <a:ext cx="2697120" cy="11980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Создание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ов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с заданными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свойствам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9239"/>
            <p:cNvSpPr/>
            <p:nvPr/>
          </p:nvSpPr>
          <p:spPr>
            <a:xfrm>
              <a:off x="1353600" y="7513200"/>
              <a:ext cx="2696400" cy="11980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пределение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оследствий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воздействия на объект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и принятие правильного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решен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9241"/>
            <p:cNvSpPr/>
            <p:nvPr/>
          </p:nvSpPr>
          <p:spPr>
            <a:xfrm>
              <a:off x="4950360" y="7513200"/>
              <a:ext cx="2697120" cy="119808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Эффективность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управления объектом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или процессом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94920"/>
            <a:ext cx="76514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bed4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bebed4"/>
                </a:solidFill>
                <a:latin typeface="Arial"/>
              </a:rPr>
              <a:t>этап. Разработка информационной модели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265600">
            <a:off x="1404720" y="2195280"/>
            <a:ext cx="863640" cy="432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55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720" y="3203640"/>
            <a:ext cx="3456000" cy="1584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Описательная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информационная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модель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720" y="6588000"/>
            <a:ext cx="3456000" cy="1584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Формализованная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модель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265600">
            <a:off x="1547640" y="5435280"/>
            <a:ext cx="863640" cy="432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55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2720" y="1547640"/>
            <a:ext cx="5148360" cy="3529080"/>
          </a:xfrm>
          <a:prstGeom prst="irregularSeal2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писываются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войства, состояния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 действия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оставляющих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ектов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 системы в цело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5292720"/>
            <a:ext cx="4464000" cy="35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Формализация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цесс построен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нформационны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делей с помощь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ормальных язы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132000" y="248400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629080" y="6012000"/>
            <a:ext cx="151128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5508720"/>
            <a:ext cx="5076720" cy="3635280"/>
          </a:xfrm>
          <a:prstGeom prst="irregularSeal1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. е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здают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знаковы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модел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5724360"/>
            <a:ext cx="4535280" cy="215928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д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формулы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5940360"/>
            <a:ext cx="4535640" cy="215892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аблиц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6156360"/>
            <a:ext cx="4535640" cy="215892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хе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6372360"/>
            <a:ext cx="4535280" cy="215892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ертеж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6588000"/>
            <a:ext cx="4535640" cy="215928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лок-схе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394920"/>
            <a:ext cx="8532720" cy="23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bebed4"/>
                </a:solidFill>
                <a:uFillTx/>
                <a:latin typeface="Arial"/>
              </a:rPr>
              <a:t>III </a:t>
            </a:r>
            <a:r>
              <a:rPr b="1" lang="ru-RU" sz="4000" spc="-1" strike="noStrike" u="sng">
                <a:solidFill>
                  <a:srgbClr val="bebed4"/>
                </a:solidFill>
                <a:uFillTx/>
                <a:latin typeface="Arial"/>
              </a:rPr>
              <a:t>этап. Разработка компьютерной модели:</a:t>
            </a:r>
            <a:br>
              <a:rPr sz="4000"/>
            </a:br>
            <a:r>
              <a:rPr b="0" lang="ru-RU" sz="40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Выбор инструментов моделирования</a:t>
            </a:r>
            <a:br>
              <a:rPr sz="2800"/>
            </a:b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Создание модели</a:t>
            </a:r>
            <a:br>
              <a:rPr sz="2800"/>
            </a:b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Тестирование модели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3203280"/>
            <a:ext cx="8280360" cy="71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ffffff"/>
                </a:solidFill>
                <a:uFillTx/>
                <a:latin typeface="Times New Roman"/>
              </a:rPr>
              <a:t>Компьютерная модель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– это модель, реализованная средствами программной среды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Графические редактор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Текстовые редактор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реды программирования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Электронные таблиц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Математические пакет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редактор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УБД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ругие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От выбора программной среды зависит алгоритм построения модели и форма его представления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37080" y="4788000"/>
            <a:ext cx="3095640" cy="2611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00720" y="468360"/>
            <a:ext cx="2700360" cy="26859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3640" y="250920"/>
            <a:ext cx="784836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полняется реализация компьютерной модели по законам выбранной мод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изводится тестирование или отладка модели на компьюте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стирование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роцесс проверки правильности модели. Подбираются несколько вариантов исходных значений и заранее просчитывается ожидаемый результа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ст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набор исходных данных, для которых заранее известен результа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Отладка программы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трансляция программы и проверка правильности работы в программной сред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50560"/>
            <a:ext cx="9001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bed4"/>
                </a:solidFill>
                <a:latin typeface="Arial"/>
              </a:rPr>
              <a:t>IV </a:t>
            </a:r>
            <a:r>
              <a:rPr b="0" lang="ru-RU" sz="4400" spc="-1" strike="noStrike">
                <a:solidFill>
                  <a:srgbClr val="bebed4"/>
                </a:solidFill>
                <a:latin typeface="Arial"/>
              </a:rPr>
              <a:t>этап. Исследование модели:</a:t>
            </a:r>
            <a:br>
              <a:rPr sz="4000"/>
            </a:br>
            <a:r>
              <a:rPr b="0" lang="ru-RU" sz="40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Проведение серии экспериментов</a:t>
            </a:r>
            <a:br>
              <a:rPr sz="2800"/>
            </a:b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Накопление результатов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4280" y="2124000"/>
            <a:ext cx="7651800" cy="60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Эксперимент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это опыт, который производится с объектом или моделью. Он заключается в выполнении некоторых действий, чтобы определить, как реагирует эксперементальный образец на эти действия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140360" y="5796000"/>
            <a:ext cx="3457440" cy="3062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75520" y="7020000"/>
            <a:ext cx="1825560" cy="1679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77080" y="3419640"/>
            <a:ext cx="2124000" cy="19922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316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ebed4"/>
                </a:solidFill>
                <a:latin typeface="Arial"/>
              </a:rPr>
              <a:t>V </a:t>
            </a:r>
            <a:r>
              <a:rPr b="0" lang="ru-RU" sz="4800" spc="-1" strike="noStrike">
                <a:solidFill>
                  <a:srgbClr val="bebed4"/>
                </a:solidFill>
                <a:latin typeface="Arial"/>
              </a:rPr>
              <a:t>этап. Анализ результатов моделирования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000" y="1763280"/>
            <a:ext cx="7201080" cy="70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ающий этап: «Продолжать исследование или заканчивать?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результаты не соответствуют целям поставленной задачи, значит, на предыдущих этапах были допущены ошибки. Это может быт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правильно отобранные существенные свойства объек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шибки в формула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удачно выбрана среда модел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ехнологических приемов при построении мод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ошибки выявлены, то требуется корректировка модели, нужно вернуться к одному из предыдущих этапов, и процесс повторять до тех пор, пока результаты эксперимента, не будут соответствовать целям модел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2:13Z</dcterms:created>
  <dc:creator>Шапошникова Н. Т.</dc:creator>
  <dc:description/>
  <cp:keywords/>
  <dc:language>en-US</dc:language>
  <cp:lastModifiedBy>Шапошникова Н. Т.</cp:lastModifiedBy>
  <dcterms:modified xsi:type="dcterms:W3CDTF">2008-01-22T00:37:05Z</dcterms:modified>
  <cp:revision>3</cp:revision>
  <dc:subject/>
  <dc:title>Этапы моделир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49</vt:lpwstr>
  </property>
</Properties>
</file>