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AE7-7A39-49B3-9A83-2A5D0D808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4F9-CE37-485C-97D9-1B26C9A44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68-6CED-4F73-B3BF-34F11ECF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1EC-0A85-4825-A73B-E62B35C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D67-FBDB-43C2-9EF5-C3F8B5B8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00E-222D-4AEA-A463-2A6275C1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D1D-1774-4735-95F9-D5E0825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E14-7B21-4A7E-9BC4-FCD21F1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1B3-00C0-4142-9594-85F25387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A0B-AD3E-4B80-B01B-76DCBB3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3F6-54EC-4B37-9E84-E0BC2A92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38F-5962-4E3F-83E0-D501CB5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A08-ABD2-43AA-B962-77F1DCF0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B42-249A-40EE-9509-92ED24F9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B0B-A3A2-43D1-9805-1A4AEFB15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idos.ucoz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ic.ru/res" TargetMode="External"/><Relationship Id="rId2" Type="http://schemas.openxmlformats.org/officeDocument/2006/relationships/hyperlink" Target="http://mega.km.ru/oji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clopedia.ru/novelties/esyul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oppag2"/>
          <p:cNvPicPr/>
          <p:nvPr/>
        </p:nvPicPr>
        <p:blipFill>
          <a:blip r:embed="rId1"/>
          <a:stretch/>
        </p:blipFill>
        <p:spPr>
          <a:xfrm>
            <a:off x="2268360" y="0"/>
            <a:ext cx="4710240" cy="22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лошадь-маленькая-маленькая"/>
          <p:cNvPicPr/>
          <p:nvPr/>
        </p:nvPicPr>
        <p:blipFill>
          <a:blip r:embed="rId2"/>
          <a:stretch/>
        </p:blipFill>
        <p:spPr>
          <a:xfrm rot="20709600">
            <a:off x="-484200" y="4114800"/>
            <a:ext cx="3014640" cy="23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Леди Макбет"/>
          <p:cNvPicPr/>
          <p:nvPr/>
        </p:nvPicPr>
        <p:blipFill>
          <a:blip r:embed="rId3"/>
          <a:stretch/>
        </p:blipFill>
        <p:spPr>
          <a:xfrm rot="879600">
            <a:off x="6249960" y="4089240"/>
            <a:ext cx="325764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Куприн мален"/>
          <p:cNvPicPr/>
          <p:nvPr/>
        </p:nvPicPr>
        <p:blipFill>
          <a:blip r:embed="rId4"/>
          <a:stretch/>
        </p:blipFill>
        <p:spPr>
          <a:xfrm rot="20590800">
            <a:off x="-328320" y="-437760"/>
            <a:ext cx="2233800" cy="284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oppag1"/>
          <p:cNvPicPr/>
          <p:nvPr/>
        </p:nvPicPr>
        <p:blipFill>
          <a:blip r:embed="rId5"/>
          <a:stretch/>
        </p:blipFill>
        <p:spPr>
          <a:xfrm>
            <a:off x="2916360" y="4076640"/>
            <a:ext cx="2982960" cy="237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демон мален"/>
          <p:cNvPicPr/>
          <p:nvPr/>
        </p:nvPicPr>
        <p:blipFill>
          <a:blip r:embed="rId6"/>
          <a:stretch/>
        </p:blipFill>
        <p:spPr>
          <a:xfrm rot="959400">
            <a:off x="7313760" y="-15480"/>
            <a:ext cx="2017440" cy="2751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2700360" y="2278080"/>
            <a:ext cx="3960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же та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1979640" y="3294000"/>
            <a:ext cx="5040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йдос-конспект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>
            <a:off x="6732720" y="2617920"/>
            <a:ext cx="936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187280" y="0"/>
            <a:ext cx="6409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фр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9640" y="6093000"/>
            <a:ext cx="820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ные на компьютер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6" descr="стена красная"/>
          <p:cNvPicPr/>
          <p:nvPr/>
        </p:nvPicPr>
        <p:blipFill>
          <a:blip r:embed="rId1"/>
          <a:stretch/>
        </p:blipFill>
        <p:spPr>
          <a:xfrm>
            <a:off x="-973080" y="1413000"/>
            <a:ext cx="5616360" cy="4464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724360" y="2060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500720" y="836640"/>
            <a:ext cx="46432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 в творчестве Л.Андреева) -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гра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тои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 пути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 сча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то политический и социальный гнё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несовершенство человеческой природы  с её болезнями, животными инстинктами, злобою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- вопросы о смысле жизни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34936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эйдос-конспек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3635280" y="3860640"/>
            <a:ext cx="157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ча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лошадь-маленькая-маленькая"/>
          <p:cNvPicPr/>
          <p:nvPr/>
        </p:nvPicPr>
        <p:blipFill>
          <a:blip r:embed="rId1"/>
          <a:stretch/>
        </p:blipFill>
        <p:spPr>
          <a:xfrm rot="20709600">
            <a:off x="539640" y="1699920"/>
            <a:ext cx="4768920" cy="33829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3"/>
          <p:cNvSpPr txBox="1"/>
          <p:nvPr/>
        </p:nvSpPr>
        <p:spPr>
          <a:xfrm>
            <a:off x="1476360" y="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лицевой сторон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5"/>
          <p:cNvSpPr txBox="1"/>
          <p:nvPr/>
        </p:nvSpPr>
        <p:spPr>
          <a:xfrm>
            <a:off x="324000" y="1413000"/>
            <a:ext cx="1079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5724360" y="1628640"/>
            <a:ext cx="28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татный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риал,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ждающий”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1187280" y="5157720"/>
            <a:ext cx="5185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к, схема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 цветов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граф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980640"/>
            <a:ext cx="9144000" cy="43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«Образ Лошади – «безответной жертвы народа» в произведениях писателей 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века: Некрасова, Достоевского, Салтыкова-Щедр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внивая цитаты из произведений наших классиков, живущих в одну эпоху («О погоде» Н.А.Некрасова, «Преступление и наказание» Ф.М.Достоевского, «Коняга» М.Е.Салтыкова-Щедрина), видим общее в изображении жизни народа, понимаем, что образ измученной, избиваемой Лошади, как никакой другой образ, пере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яжелый каждодневный тру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надрывается лошадь-калека, непосильную ношу влача» – Н.; «часто ... надрываются ... с высоким каким-нибудь возом»,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дорвала-а-с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»- Д.; « всё нутро ... о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ровавой натуг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жгло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ищенское существова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безобразн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- Н.; «маленькая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... клячонка»- Д.;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 обыкновенный мужичий живот, ... узкогрудый,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пученными ребр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обожженными плечами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ззащитность народ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тольк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лубоко и глядела»- Н.; «падает на землю, ... тяжел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умирает»- Д.; «и пожаловаться не может»- С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ходство судьбы животного и бедного человека указывают и такие ци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шадь глядела - «так люди глядят, покоряясь неправым нападкам»- Н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 умирающей Катерины Ивановны: «Уездили клячу!.. Надорвала-а-сь!»- 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оняга - обыкновенный мужичий живот»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2771640" y="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братной стороны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395280" y="5589720"/>
            <a:ext cx="87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ментарий (развёрнутое рассуждение,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ющее толкование своего видения темы)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7488360" y="476280"/>
            <a:ext cx="165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ец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2482920" y="23760"/>
            <a:ext cx="41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й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913040" y="119700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думывайс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1373040" y="2637000"/>
            <a:ext cx="6264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50920" y="544500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- Головацкая Надежда Феоктистовна, учитель литературы МАОУ СОШ № 42 г.Том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idos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ся к словарям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ч. éidos — вид, образ.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ic.ru/ r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раткое изложение или краткая запись содержания чего-н. </a:t>
            </a:r>
            <a:br>
              <a:rPr sz="3200"/>
            </a:b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mega.km.ru/ oji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-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изображение и краткое рассуждение, дающие толкование   своего видения темы и образов художествен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981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442764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Обра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 из основных понятий литературы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ритике термин применяют в  разных смыслах: 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зображение человеческой жизни;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троп; 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художественная деталь;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браз народа, Родины.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cyclopedia.ru/novelties/esyul.html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11280" y="2643120"/>
            <a:ext cx="7777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эйдос-конспек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700360" y="386064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о форме)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демон мален"/>
          <p:cNvPicPr/>
          <p:nvPr/>
        </p:nvPicPr>
        <p:blipFill>
          <a:blip r:embed="rId1"/>
          <a:stretch/>
        </p:blipFill>
        <p:spPr>
          <a:xfrm>
            <a:off x="2700360" y="-316080"/>
            <a:ext cx="5281560" cy="7174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332000" y="0"/>
            <a:ext cx="685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468360" y="6021360"/>
            <a:ext cx="820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 рисун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0" y="1700280"/>
            <a:ext cx="25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755640" y="836640"/>
            <a:ext cx="794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бразы какого поэта представлены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3419640" y="1916280"/>
            <a:ext cx="125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7524720" y="3860640"/>
            <a:ext cx="129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м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5435640" y="2276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Пар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sp>
        <p:nvSpPr>
          <p:cNvPr id="72" name="WordArt 15"/>
          <p:cNvSpPr txBox="1"/>
          <p:nvPr/>
        </p:nvSpPr>
        <p:spPr>
          <a:xfrm>
            <a:off x="0" y="692280"/>
            <a:ext cx="43545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ую роль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играю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эти образы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М.Ю.Лермонтова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73" name="WordArt 17"/>
          <p:cNvSpPr txBox="1"/>
          <p:nvPr/>
        </p:nvSpPr>
        <p:spPr>
          <a:xfrm>
            <a:off x="395280" y="4076640"/>
            <a:ext cx="277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строки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помните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oppag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21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611280" y="6237360"/>
            <a:ext cx="7705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схемы -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539640" y="0"/>
            <a:ext cx="813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0" y="3068640"/>
            <a:ext cx="11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руг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11280" y="1125360"/>
            <a:ext cx="1081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ул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539640" y="5661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аленький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оле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4"/>
          <p:cNvSpPr txBox="1"/>
          <p:nvPr/>
        </p:nvSpPr>
        <p:spPr>
          <a:xfrm>
            <a:off x="1979640" y="1341360"/>
            <a:ext cx="174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ечное небо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1619280" y="3141720"/>
            <a:ext cx="6481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>
            <a:off x="1835280" y="3284640"/>
            <a:ext cx="59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Проследи дальнеший путь!..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toppag2"/>
          <p:cNvPicPr/>
          <p:nvPr/>
        </p:nvPicPr>
        <p:blipFill>
          <a:blip r:embed="rId1"/>
          <a:stretch/>
        </p:blipFill>
        <p:spPr>
          <a:xfrm>
            <a:off x="0" y="0"/>
            <a:ext cx="10896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9"/>
          <p:cNvSpPr txBox="1"/>
          <p:nvPr/>
        </p:nvSpPr>
        <p:spPr>
          <a:xfrm>
            <a:off x="0" y="4797360"/>
            <a:ext cx="298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324000" y="549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>
            <a:off x="0" y="3213000"/>
            <a:ext cx="298764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ого писателя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цвет играе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чень важную роль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Куприн мален"/>
          <p:cNvPicPr/>
          <p:nvPr/>
        </p:nvPicPr>
        <p:blipFill>
          <a:blip r:embed="rId1"/>
          <a:stretch/>
        </p:blipFill>
        <p:spPr>
          <a:xfrm>
            <a:off x="395280" y="1484280"/>
            <a:ext cx="325908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4030560" y="1341360"/>
            <a:ext cx="5113440" cy="402588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рин писал о любви в ”Суламифи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а… любовь, потому что кажд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щ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любит,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ариц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тому ч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юбовь -  прекрас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любящая женщина ассоциируется у учащейся                 с красивой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берёз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любовь – с таким пейзаж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95280" y="333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ссоциатив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395280" y="5877000"/>
            <a:ext cx="8424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е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3780000" y="5300640"/>
            <a:ext cx="4968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А какие обр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озникают у В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Леди Макбет"/>
          <p:cNvPicPr/>
          <p:nvPr/>
        </p:nvPicPr>
        <p:blipFill>
          <a:blip r:embed="rId1"/>
          <a:stretch/>
        </p:blipFill>
        <p:spPr>
          <a:xfrm>
            <a:off x="2627280" y="1125360"/>
            <a:ext cx="6985080" cy="501984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468360" y="0"/>
            <a:ext cx="79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бинирован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0" y="1844640"/>
            <a:ext cx="29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х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0" y="4149720"/>
            <a:ext cx="277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х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2627280" y="981000"/>
            <a:ext cx="360036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6732720" y="3789360"/>
            <a:ext cx="295272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0" y="981000"/>
            <a:ext cx="9828360" cy="5877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539640" y="1268280"/>
            <a:ext cx="820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кем из писателей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 хотели бы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месте создавать образы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2:01:24Z</dcterms:created>
  <dc:creator>User</dc:creator>
  <dc:description/>
  <dc:language>en-US</dc:language>
  <cp:lastModifiedBy>Admin</cp:lastModifiedBy>
  <dcterms:modified xsi:type="dcterms:W3CDTF">2013-06-09T08:02:24Z</dcterms:modified>
  <cp:revision>32</cp:revision>
  <dc:subject/>
  <dc:title>Слайд 1</dc:title>
</cp:coreProperties>
</file>