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82E7-C48E-432A-BE13-B5EE7F8BF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FB15-7813-4826-ADAF-9B27B5D5C0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160-78DD-4CDB-8723-9ED0EDD0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18F-D274-4F80-987B-4FA03A19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805-35AB-4984-AF4D-DF616639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57B-ABA0-4B72-8D6E-D8F5D46F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8A8-8AB0-47D4-B33C-A729C201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765-6C04-4007-87D3-D437CABF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43B-D33C-4BB3-B4C6-E8329F0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02F-C3D5-4180-B2A6-EFFAECC9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8D8-5EA6-4BD5-8B25-69ADD870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896-12AD-4038-BF2D-28387E0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875-4888-442C-95FD-A307149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74F-148B-4EBA-BC9F-1F6680C0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6100-A391-4A1E-A6C8-6A9904BB2F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idos.ucoz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ic.ru/res" TargetMode="External"/><Relationship Id="rId2" Type="http://schemas.openxmlformats.org/officeDocument/2006/relationships/hyperlink" Target="http://mega.km.ru/ojigo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yclopedia.ru/novelties/esyul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toppag2"/>
          <p:cNvPicPr/>
          <p:nvPr/>
        </p:nvPicPr>
        <p:blipFill>
          <a:blip r:embed="rId1"/>
          <a:stretch/>
        </p:blipFill>
        <p:spPr>
          <a:xfrm>
            <a:off x="2268360" y="0"/>
            <a:ext cx="4710240" cy="223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лошадь-маленькая-маленькая"/>
          <p:cNvPicPr/>
          <p:nvPr/>
        </p:nvPicPr>
        <p:blipFill>
          <a:blip r:embed="rId2"/>
          <a:stretch/>
        </p:blipFill>
        <p:spPr>
          <a:xfrm rot="20709600">
            <a:off x="-484200" y="4114800"/>
            <a:ext cx="3014640" cy="236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Леди Макбет"/>
          <p:cNvPicPr/>
          <p:nvPr/>
        </p:nvPicPr>
        <p:blipFill>
          <a:blip r:embed="rId3"/>
          <a:stretch/>
        </p:blipFill>
        <p:spPr>
          <a:xfrm rot="879600">
            <a:off x="6249960" y="4089240"/>
            <a:ext cx="3257640" cy="234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Куприн мален"/>
          <p:cNvPicPr/>
          <p:nvPr/>
        </p:nvPicPr>
        <p:blipFill>
          <a:blip r:embed="rId4"/>
          <a:stretch/>
        </p:blipFill>
        <p:spPr>
          <a:xfrm rot="20590800">
            <a:off x="-328320" y="-437760"/>
            <a:ext cx="2233800" cy="284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oppag1"/>
          <p:cNvPicPr/>
          <p:nvPr/>
        </p:nvPicPr>
        <p:blipFill>
          <a:blip r:embed="rId5"/>
          <a:stretch/>
        </p:blipFill>
        <p:spPr>
          <a:xfrm>
            <a:off x="2916360" y="4076640"/>
            <a:ext cx="2982960" cy="2378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демон мален"/>
          <p:cNvPicPr/>
          <p:nvPr/>
        </p:nvPicPr>
        <p:blipFill>
          <a:blip r:embed="rId6"/>
          <a:stretch/>
        </p:blipFill>
        <p:spPr>
          <a:xfrm rot="959400">
            <a:off x="7313760" y="-15480"/>
            <a:ext cx="2017440" cy="2751120"/>
          </a:xfrm>
          <a:prstGeom prst="rect">
            <a:avLst/>
          </a:prstGeom>
          <a:ln w="0">
            <a:noFill/>
          </a:ln>
        </p:spPr>
      </p:pic>
      <p:sp>
        <p:nvSpPr>
          <p:cNvPr id="54" name="WordArt 16"/>
          <p:cNvSpPr txBox="1"/>
          <p:nvPr/>
        </p:nvSpPr>
        <p:spPr>
          <a:xfrm>
            <a:off x="2700360" y="2278080"/>
            <a:ext cx="39607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же так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1979640" y="3294000"/>
            <a:ext cx="50403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йдос-конспект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WordArt 18"/>
          <p:cNvSpPr txBox="1"/>
          <p:nvPr/>
        </p:nvSpPr>
        <p:spPr>
          <a:xfrm>
            <a:off x="6732720" y="2617920"/>
            <a:ext cx="9363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187280" y="0"/>
            <a:ext cx="6409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фров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539640" y="6093000"/>
            <a:ext cx="820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ные на компьютере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6" descr="стена красная"/>
          <p:cNvPicPr/>
          <p:nvPr/>
        </p:nvPicPr>
        <p:blipFill>
          <a:blip r:embed="rId1"/>
          <a:stretch/>
        </p:blipFill>
        <p:spPr>
          <a:xfrm>
            <a:off x="-973080" y="1413000"/>
            <a:ext cx="5616360" cy="4464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5724360" y="2060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4500720" y="836640"/>
            <a:ext cx="46432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т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раз в творчестве Л.Андреева) -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гра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стои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 пути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 сча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то политический и социальный гнё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несовершенство человеческой природы  с её болезнями, животными инстинктами, злобою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- вопросы о смысле жизни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539640" y="2349360"/>
            <a:ext cx="79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уктура эйдос-конспек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3635280" y="3860640"/>
            <a:ext cx="1571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ча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лошадь-маленькая-маленькая"/>
          <p:cNvPicPr/>
          <p:nvPr/>
        </p:nvPicPr>
        <p:blipFill>
          <a:blip r:embed="rId1"/>
          <a:stretch/>
        </p:blipFill>
        <p:spPr>
          <a:xfrm rot="20709600">
            <a:off x="539640" y="1699920"/>
            <a:ext cx="4768920" cy="33829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3"/>
          <p:cNvSpPr txBox="1"/>
          <p:nvPr/>
        </p:nvSpPr>
        <p:spPr>
          <a:xfrm>
            <a:off x="1476360" y="0"/>
            <a:ext cx="64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лицевой сторон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5"/>
          <p:cNvSpPr txBox="1"/>
          <p:nvPr/>
        </p:nvSpPr>
        <p:spPr>
          <a:xfrm>
            <a:off x="324000" y="1413000"/>
            <a:ext cx="1079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16"/>
          <p:cNvSpPr txBox="1"/>
          <p:nvPr/>
        </p:nvSpPr>
        <p:spPr>
          <a:xfrm>
            <a:off x="5724360" y="1628640"/>
            <a:ext cx="2880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татный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териал,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“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ждающий”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18"/>
          <p:cNvSpPr txBox="1"/>
          <p:nvPr/>
        </p:nvSpPr>
        <p:spPr>
          <a:xfrm>
            <a:off x="1187280" y="5157720"/>
            <a:ext cx="5185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исунок, схема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четание цветов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тограф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980640"/>
            <a:ext cx="9144000" cy="43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«Образ Лошади – «безответной жертвы народа» в произведениях писателей 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 века: Некрасова, Достоевского, Салтыкова-Щедр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авнивая цитаты из произведений наших классиков, живущих в одну эпоху («О погоде» Н.А.Некрасова, «Преступление и наказание» Ф.М.Достоевского, «Коняга» М.Е.Салтыкова-Щедрина), видим общее в изображении жизни народа, понимаем, что образ измученной, избиваемой Лошади, как никакой другой образ, пере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яжелый каждодневный труд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«надрывается лошадь-калека, непосильную ношу влача» – Н.; «часто ... надрываются ... с высоким каким-нибудь возом»,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дорвала-а-с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!»- Д.; « всё нутро ... о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кровавой натуг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жгло»- С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ищенское существовани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«безобразн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ощ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- Н.; «маленькая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оща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... клячонка»- Д.;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 обыкновенный мужичий живот, ... узкогрудый, с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ыпученными ребра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обожженными плечами»- С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еззащитность народ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«тольк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здыха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лубоко и глядела»- Н.; «падает на землю, ... тяжел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здыхае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умирает»- Д.; «и пожаловаться не может»- С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ходство судьбы животного и бедного человека указывают и такие цита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ошадь глядела - «так люди глядят, покоряясь неправым нападкам»- Н.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а умирающей Катерины Ивановны: «Уездили клячу!.. Надорвала-а-сь!»- Д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оняга - обыкновенный мужичий живот»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2771640" y="0"/>
            <a:ext cx="309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обратной стороны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13"/>
          <p:cNvSpPr txBox="1"/>
          <p:nvPr/>
        </p:nvSpPr>
        <p:spPr>
          <a:xfrm>
            <a:off x="395280" y="5589720"/>
            <a:ext cx="8748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ментарий (развёрнутое рассуждение,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ющее толкование своего видения темы)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15"/>
          <p:cNvSpPr txBox="1"/>
          <p:nvPr/>
        </p:nvSpPr>
        <p:spPr>
          <a:xfrm>
            <a:off x="7488360" y="476280"/>
            <a:ext cx="165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ец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6"/>
          <p:cNvSpPr txBox="1"/>
          <p:nvPr/>
        </p:nvSpPr>
        <p:spPr>
          <a:xfrm>
            <a:off x="2482920" y="23760"/>
            <a:ext cx="410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й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1913040" y="1197000"/>
            <a:ext cx="55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думывайся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1373040" y="2637000"/>
            <a:ext cx="62643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и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Прямоугольник 1"/>
          <p:cNvSpPr/>
          <p:nvPr/>
        </p:nvSpPr>
        <p:spPr>
          <a:xfrm>
            <a:off x="250920" y="544500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- Головацкая Надежда Феоктистовна, учитель литературы МАОУ СОШ № 42 г.Том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-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idos.ucoz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тимся к словарям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Эйд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еч. éidos — вид, образ.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ic.ru/ r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конспек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краткое изложение или краткая запись содержания чего-н. </a:t>
            </a:r>
            <a:br>
              <a:rPr sz="3200"/>
            </a:b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mega.km.ru/ oji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Эйдос-конспек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изображение и краткое рассуждение, дающие толкование   своего видения темы и образов художественного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26920" y="981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4427640" y="35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Обра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 из основных понятий литературы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ритике термин применяют в  разных смыслах: 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зображение человеческой жизни;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троп; 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художественная деталь;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браз народа, Родины. 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ncyclopedia.ru/novelties/esyul.html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611280" y="2643120"/>
            <a:ext cx="7777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эйдос-конспект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2700360" y="3860640"/>
            <a:ext cx="374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по форме)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демон мален"/>
          <p:cNvPicPr/>
          <p:nvPr/>
        </p:nvPicPr>
        <p:blipFill>
          <a:blip r:embed="rId1"/>
          <a:stretch/>
        </p:blipFill>
        <p:spPr>
          <a:xfrm>
            <a:off x="2700360" y="-316080"/>
            <a:ext cx="5281560" cy="7174080"/>
          </a:xfrm>
          <a:prstGeom prst="rect">
            <a:avLst/>
          </a:prstGeom>
          <a:ln w="0">
            <a:noFill/>
          </a:ln>
        </p:spPr>
      </p:pic>
      <p:sp>
        <p:nvSpPr>
          <p:cNvPr id="65" name="WordArt 6"/>
          <p:cNvSpPr txBox="1"/>
          <p:nvPr/>
        </p:nvSpPr>
        <p:spPr>
          <a:xfrm>
            <a:off x="1332000" y="0"/>
            <a:ext cx="685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удожествен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468360" y="6021360"/>
            <a:ext cx="8207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снове - рисуно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0" y="1700280"/>
            <a:ext cx="255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торск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755640" y="836640"/>
            <a:ext cx="794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Образы какого поэта представлены?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69" name="WordArt 12"/>
          <p:cNvSpPr txBox="1"/>
          <p:nvPr/>
        </p:nvSpPr>
        <p:spPr>
          <a:xfrm>
            <a:off x="3419640" y="1916280"/>
            <a:ext cx="125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г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3"/>
          <p:cNvSpPr txBox="1"/>
          <p:nvPr/>
        </p:nvSpPr>
        <p:spPr>
          <a:xfrm>
            <a:off x="7524720" y="3860640"/>
            <a:ext cx="1295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м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14"/>
          <p:cNvSpPr txBox="1"/>
          <p:nvPr/>
        </p:nvSpPr>
        <p:spPr>
          <a:xfrm>
            <a:off x="5435640" y="227664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"/>
              </a:rPr>
              <a:t>Пару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"/>
              <a:ea typeface="Arial"/>
            </a:endParaRPr>
          </a:p>
        </p:txBody>
      </p:sp>
      <p:sp>
        <p:nvSpPr>
          <p:cNvPr id="72" name="WordArt 15"/>
          <p:cNvSpPr txBox="1"/>
          <p:nvPr/>
        </p:nvSpPr>
        <p:spPr>
          <a:xfrm>
            <a:off x="0" y="692280"/>
            <a:ext cx="43545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Какую роль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играют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эти образы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в творчестве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М.Ю.Лермонтова?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73" name="WordArt 17"/>
          <p:cNvSpPr txBox="1"/>
          <p:nvPr/>
        </p:nvSpPr>
        <p:spPr>
          <a:xfrm>
            <a:off x="395280" y="4076640"/>
            <a:ext cx="277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строки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помните?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toppag1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22144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611280" y="6237360"/>
            <a:ext cx="7705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снове схемы - образ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539640" y="0"/>
            <a:ext cx="8136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афическ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WordArt 11"/>
          <p:cNvSpPr txBox="1"/>
          <p:nvPr/>
        </p:nvSpPr>
        <p:spPr>
          <a:xfrm>
            <a:off x="0" y="3068640"/>
            <a:ext cx="11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круг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12"/>
          <p:cNvSpPr txBox="1"/>
          <p:nvPr/>
        </p:nvSpPr>
        <p:spPr>
          <a:xfrm>
            <a:off x="611280" y="1125360"/>
            <a:ext cx="1081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Тулон"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WordArt 13"/>
          <p:cNvSpPr txBox="1"/>
          <p:nvPr/>
        </p:nvSpPr>
        <p:spPr>
          <a:xfrm>
            <a:off x="539640" y="5661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маленький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полеон"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14"/>
          <p:cNvSpPr txBox="1"/>
          <p:nvPr/>
        </p:nvSpPr>
        <p:spPr>
          <a:xfrm>
            <a:off x="1979640" y="1341360"/>
            <a:ext cx="174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вечное небо"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1619280" y="3141720"/>
            <a:ext cx="64818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5"/>
          <p:cNvSpPr txBox="1"/>
          <p:nvPr/>
        </p:nvSpPr>
        <p:spPr>
          <a:xfrm>
            <a:off x="1835280" y="3284640"/>
            <a:ext cx="597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Проследи дальнеший путь!..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toppag2"/>
          <p:cNvPicPr/>
          <p:nvPr/>
        </p:nvPicPr>
        <p:blipFill>
          <a:blip r:embed="rId1"/>
          <a:stretch/>
        </p:blipFill>
        <p:spPr>
          <a:xfrm>
            <a:off x="0" y="0"/>
            <a:ext cx="10896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9"/>
          <p:cNvSpPr txBox="1"/>
          <p:nvPr/>
        </p:nvSpPr>
        <p:spPr>
          <a:xfrm>
            <a:off x="0" y="4797360"/>
            <a:ext cx="2987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снове 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вет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324000" y="549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ветов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WordArt 11"/>
          <p:cNvSpPr txBox="1"/>
          <p:nvPr/>
        </p:nvSpPr>
        <p:spPr>
          <a:xfrm>
            <a:off x="0" y="3213000"/>
            <a:ext cx="2987640" cy="36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В творчестве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какого писателя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цвет играет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очень важную роль?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Куприн мален"/>
          <p:cNvPicPr/>
          <p:nvPr/>
        </p:nvPicPr>
        <p:blipFill>
          <a:blip r:embed="rId1"/>
          <a:stretch/>
        </p:blipFill>
        <p:spPr>
          <a:xfrm>
            <a:off x="395280" y="1484280"/>
            <a:ext cx="3259080" cy="4608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7"/>
          <p:cNvSpPr/>
          <p:nvPr/>
        </p:nvSpPr>
        <p:spPr>
          <a:xfrm>
            <a:off x="4030560" y="1341360"/>
            <a:ext cx="5113440" cy="402588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рин писал о любви в ”Суламифи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пка… любовь, потому что кажд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щ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оторая любит,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ариц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тому ч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юбовь -  прекрас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любящая женщина ассоциируется у учащейся                 с красивой 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берёз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любовь – с таким пейзаже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9"/>
          <p:cNvSpPr txBox="1"/>
          <p:nvPr/>
        </p:nvSpPr>
        <p:spPr>
          <a:xfrm>
            <a:off x="395280" y="333360"/>
            <a:ext cx="820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ссоциатив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20"/>
          <p:cNvSpPr txBox="1"/>
          <p:nvPr/>
        </p:nvSpPr>
        <p:spPr>
          <a:xfrm>
            <a:off x="395280" y="5877000"/>
            <a:ext cx="8424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тельские образ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21"/>
          <p:cNvSpPr txBox="1"/>
          <p:nvPr/>
        </p:nvSpPr>
        <p:spPr>
          <a:xfrm>
            <a:off x="3780000" y="5300640"/>
            <a:ext cx="4968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А какие обра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возникают у В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Леди Макбет"/>
          <p:cNvPicPr/>
          <p:nvPr/>
        </p:nvPicPr>
        <p:blipFill>
          <a:blip r:embed="rId1"/>
          <a:stretch/>
        </p:blipFill>
        <p:spPr>
          <a:xfrm>
            <a:off x="2627280" y="1125360"/>
            <a:ext cx="6985080" cy="501984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468360" y="0"/>
            <a:ext cx="79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бинированны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0" y="1844640"/>
            <a:ext cx="298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четание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тельских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0" y="4149720"/>
            <a:ext cx="277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торских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ов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2627280" y="981000"/>
            <a:ext cx="3600360" cy="24480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6732720" y="3789360"/>
            <a:ext cx="2952720" cy="24480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0" y="981000"/>
            <a:ext cx="9828360" cy="58770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1"/>
          <p:cNvSpPr txBox="1"/>
          <p:nvPr/>
        </p:nvSpPr>
        <p:spPr>
          <a:xfrm>
            <a:off x="539640" y="1268280"/>
            <a:ext cx="8209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кем из писателей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 хотели бы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месте создавать образы?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2:01:24Z</dcterms:created>
  <dc:creator>User</dc:creator>
  <dc:description/>
  <dc:language>en-US</dc:language>
  <cp:lastModifiedBy>Admin</cp:lastModifiedBy>
  <dcterms:modified xsi:type="dcterms:W3CDTF">2013-06-09T08:02:24Z</dcterms:modified>
  <cp:revision>32</cp:revision>
  <dc:subject/>
  <dc:title>Слайд 1</dc:title>
</cp:coreProperties>
</file>