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C40B-C4BB-4B1E-AF3F-A0E760B3E7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1E8B-87E0-4649-AF4F-2113EAD9D5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C547-E0A4-4931-87E6-C9143429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A2F-F2EA-4928-99ED-5100916E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143-801A-487F-9998-86E69A19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DCB-CB48-4775-8EF6-EB9698AD6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8B2-13A8-4770-A7D7-DB2A2D33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C97-70ED-43C2-A066-6DB3A260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7C2-D9EC-4382-AC40-D7D2D8AA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334C-6212-42E7-BDFF-A70269F7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7BC-7994-4E52-849A-92CFC7FB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09E-B369-4C00-BE1A-B7AF5628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01C-2ADA-4FB2-A1D3-82D36188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ABA-B796-4254-A7E9-9CA4D3B3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5BC1-73EC-4470-9B74-4CBC284435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idos.ucoz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dic.ru/res" TargetMode="External"/><Relationship Id="rId2" Type="http://schemas.openxmlformats.org/officeDocument/2006/relationships/hyperlink" Target="http://mega.km.ru/ojigo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yclopedia.ru/novelties/esyul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toppag2"/>
          <p:cNvPicPr/>
          <p:nvPr/>
        </p:nvPicPr>
        <p:blipFill>
          <a:blip r:embed="rId1"/>
          <a:stretch/>
        </p:blipFill>
        <p:spPr>
          <a:xfrm>
            <a:off x="2268360" y="0"/>
            <a:ext cx="4710240" cy="223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лошадь-маленькая-маленькая"/>
          <p:cNvPicPr/>
          <p:nvPr/>
        </p:nvPicPr>
        <p:blipFill>
          <a:blip r:embed="rId2"/>
          <a:stretch/>
        </p:blipFill>
        <p:spPr>
          <a:xfrm rot="20709600">
            <a:off x="-484200" y="4114800"/>
            <a:ext cx="3014640" cy="236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Леди Макбет"/>
          <p:cNvPicPr/>
          <p:nvPr/>
        </p:nvPicPr>
        <p:blipFill>
          <a:blip r:embed="rId3"/>
          <a:stretch/>
        </p:blipFill>
        <p:spPr>
          <a:xfrm rot="879600">
            <a:off x="6249960" y="4089240"/>
            <a:ext cx="3257640" cy="2343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Куприн мален"/>
          <p:cNvPicPr/>
          <p:nvPr/>
        </p:nvPicPr>
        <p:blipFill>
          <a:blip r:embed="rId4"/>
          <a:stretch/>
        </p:blipFill>
        <p:spPr>
          <a:xfrm rot="20590800">
            <a:off x="-328320" y="-437760"/>
            <a:ext cx="2233800" cy="284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toppag1"/>
          <p:cNvPicPr/>
          <p:nvPr/>
        </p:nvPicPr>
        <p:blipFill>
          <a:blip r:embed="rId5"/>
          <a:stretch/>
        </p:blipFill>
        <p:spPr>
          <a:xfrm>
            <a:off x="2916360" y="4076640"/>
            <a:ext cx="2982960" cy="2378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демон мален"/>
          <p:cNvPicPr/>
          <p:nvPr/>
        </p:nvPicPr>
        <p:blipFill>
          <a:blip r:embed="rId6"/>
          <a:stretch/>
        </p:blipFill>
        <p:spPr>
          <a:xfrm rot="959400">
            <a:off x="7313760" y="-15480"/>
            <a:ext cx="2017440" cy="2751120"/>
          </a:xfrm>
          <a:prstGeom prst="rect">
            <a:avLst/>
          </a:prstGeom>
          <a:ln w="0">
            <a:noFill/>
          </a:ln>
        </p:spPr>
      </p:pic>
      <p:sp>
        <p:nvSpPr>
          <p:cNvPr id="54" name="WordArt 16"/>
          <p:cNvSpPr txBox="1"/>
          <p:nvPr/>
        </p:nvSpPr>
        <p:spPr>
          <a:xfrm>
            <a:off x="2700360" y="2278080"/>
            <a:ext cx="39607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же тако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WordArt 17"/>
          <p:cNvSpPr txBox="1"/>
          <p:nvPr/>
        </p:nvSpPr>
        <p:spPr>
          <a:xfrm>
            <a:off x="1979640" y="3294000"/>
            <a:ext cx="504036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йдос-конспект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" name="WordArt 18"/>
          <p:cNvSpPr txBox="1"/>
          <p:nvPr/>
        </p:nvSpPr>
        <p:spPr>
          <a:xfrm>
            <a:off x="6732720" y="2617920"/>
            <a:ext cx="93636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1187280" y="0"/>
            <a:ext cx="640908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фров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539640" y="6093000"/>
            <a:ext cx="820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зданные на компьютере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6" descr="стена красная"/>
          <p:cNvPicPr/>
          <p:nvPr/>
        </p:nvPicPr>
        <p:blipFill>
          <a:blip r:embed="rId1"/>
          <a:stretch/>
        </p:blipFill>
        <p:spPr>
          <a:xfrm>
            <a:off x="-973080" y="1413000"/>
            <a:ext cx="5616360" cy="4464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5724360" y="206064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4500720" y="836640"/>
            <a:ext cx="46432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те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раз в творчестве Л.Андреева) -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гра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стоит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а пути люд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 сча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то политический и социальный гнё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– несовершенство человеческой природы  с её болезнями, животными инстинктами, злобою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- вопросы о смысле жизни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539640" y="2349360"/>
            <a:ext cx="799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уктура эйдос-конспект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8"/>
          <p:cNvSpPr txBox="1"/>
          <p:nvPr/>
        </p:nvSpPr>
        <p:spPr>
          <a:xfrm>
            <a:off x="3635280" y="3860640"/>
            <a:ext cx="1571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 час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лошадь-маленькая-маленькая"/>
          <p:cNvPicPr/>
          <p:nvPr/>
        </p:nvPicPr>
        <p:blipFill>
          <a:blip r:embed="rId1"/>
          <a:stretch/>
        </p:blipFill>
        <p:spPr>
          <a:xfrm rot="20709600">
            <a:off x="539640" y="1699920"/>
            <a:ext cx="4768920" cy="338292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3"/>
          <p:cNvSpPr txBox="1"/>
          <p:nvPr/>
        </p:nvSpPr>
        <p:spPr>
          <a:xfrm>
            <a:off x="1476360" y="0"/>
            <a:ext cx="6408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лицевой сторон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15"/>
          <p:cNvSpPr txBox="1"/>
          <p:nvPr/>
        </p:nvSpPr>
        <p:spPr>
          <a:xfrm>
            <a:off x="324000" y="1413000"/>
            <a:ext cx="10792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WordArt 16"/>
          <p:cNvSpPr txBox="1"/>
          <p:nvPr/>
        </p:nvSpPr>
        <p:spPr>
          <a:xfrm>
            <a:off x="5724360" y="1628640"/>
            <a:ext cx="2880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татный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териал,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“</a:t>
            </a: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ждающий”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раз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WordArt 18"/>
          <p:cNvSpPr txBox="1"/>
          <p:nvPr/>
        </p:nvSpPr>
        <p:spPr>
          <a:xfrm>
            <a:off x="1187280" y="5157720"/>
            <a:ext cx="518508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исунок, схема,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четание цветов,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отограф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0" y="980640"/>
            <a:ext cx="9144000" cy="43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«Образ Лошади – «безответной жертвы народа» в произведениях писателей 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 века: Некрасова, Достоевского, Салтыкова-Щедри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авнивая цитаты из произведений наших классиков, живущих в одну эпоху («О погоде» Н.А.Некрасова, «Преступление и наказание» Ф.М.Достоевского, «Коняга» М.Е.Салтыкова-Щедрина), видим общее в изображении жизни народа, понимаем, что образ измученной, избиваемой Лошади, как никакой другой образ, пере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яжелый каждодневный труд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«надрывается лошадь-калека, непосильную ношу влача» – Н.; «часто ... надрываются ... с высоким каким-нибудь возом»,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адорвала-а-сь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!»- Д.; « всё нутро ... о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кровавой натуг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жгло»- С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ищенское существовани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«безобразно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ощ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»- Н.; «маленькая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оща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... клячонка»- Д.;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 обыкновенный мужичий живот, ... узкогрудый, с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ыпученными ребрам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обожженными плечами»- С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еззащитность народ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«только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здыхал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глубоко и глядела»- Н.; «падает на землю, ... тяжело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вздыхае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умирает»- Д.; «и пожаловаться не может»- С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сходство судьбы животного и бедного человека указывают и такие цита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ошадь глядела - «так люди глядят, покоряясь неправым нападкам»- Н.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ова умирающей Катерины Ивановны: «Уездили клячу!.. Надорвала-а-сь!»- Д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Коняга - обыкновенный мужичий живот»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2"/>
          <p:cNvSpPr txBox="1"/>
          <p:nvPr/>
        </p:nvSpPr>
        <p:spPr>
          <a:xfrm>
            <a:off x="2771640" y="0"/>
            <a:ext cx="309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обратной стороны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13"/>
          <p:cNvSpPr txBox="1"/>
          <p:nvPr/>
        </p:nvSpPr>
        <p:spPr>
          <a:xfrm>
            <a:off x="395280" y="5589720"/>
            <a:ext cx="8748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ментарий (развёрнутое рассуждение,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ающее толкование своего видения темы)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15"/>
          <p:cNvSpPr txBox="1"/>
          <p:nvPr/>
        </p:nvSpPr>
        <p:spPr>
          <a:xfrm>
            <a:off x="7488360" y="476280"/>
            <a:ext cx="1655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разец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6"/>
          <p:cNvSpPr txBox="1"/>
          <p:nvPr/>
        </p:nvSpPr>
        <p:spPr>
          <a:xfrm>
            <a:off x="2482920" y="23760"/>
            <a:ext cx="410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итай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1913040" y="1197000"/>
            <a:ext cx="554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думывайся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1373040" y="2637000"/>
            <a:ext cx="626436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вори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Прямоугольник 1"/>
          <p:cNvSpPr/>
          <p:nvPr/>
        </p:nvSpPr>
        <p:spPr>
          <a:xfrm>
            <a:off x="250920" y="544500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- Головацкая Надежда Феоктистовна, учитель литературы МАОУ СОШ № 42 г.Том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 -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idos.ucoz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тимся к словарям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Эйдо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еч. éidos — вид, образ.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dic.ru/ r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конспек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краткое изложение или краткая запись содержания чего-н. </a:t>
            </a:r>
            <a:br>
              <a:rPr sz="3200"/>
            </a:b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mega.km.ru/ oji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Эйдос-конспек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- изображение и краткое рассуждение, дающие толкование   своего видения темы и образов художественного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26920" y="981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4427640" y="3500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ff6699"/>
                </a:solidFill>
                <a:latin typeface="Arial"/>
              </a:rPr>
              <a:t>Образ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 из основных понятий литературы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ритике термин применяют в  разных смыслах: </a:t>
            </a: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зображение человеческой жизни;</a:t>
            </a:r>
            <a:br>
              <a:rPr sz="4000"/>
            </a:br>
            <a:r>
              <a:rPr b="1" lang="ru-RU" sz="4000" spc="-1" strike="noStrike">
                <a:solidFill>
                  <a:srgbClr val="990099"/>
                </a:solidFill>
                <a:latin typeface="Arial"/>
              </a:rPr>
              <a:t>троп;  </a:t>
            </a:r>
            <a:br>
              <a:rPr sz="4000"/>
            </a:b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художественная деталь; </a:t>
            </a:r>
            <a:br>
              <a:rPr sz="4000"/>
            </a:b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образ народа, Родины. 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ncyclopedia.ru/novelties/esyul.html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611280" y="2643120"/>
            <a:ext cx="77770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ы эйдос-конспект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2700360" y="3860640"/>
            <a:ext cx="374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по форме)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демон мален"/>
          <p:cNvPicPr/>
          <p:nvPr/>
        </p:nvPicPr>
        <p:blipFill>
          <a:blip r:embed="rId1"/>
          <a:stretch/>
        </p:blipFill>
        <p:spPr>
          <a:xfrm>
            <a:off x="2700360" y="-316080"/>
            <a:ext cx="5281560" cy="7174080"/>
          </a:xfrm>
          <a:prstGeom prst="rect">
            <a:avLst/>
          </a:prstGeom>
          <a:ln w="0">
            <a:noFill/>
          </a:ln>
        </p:spPr>
      </p:pic>
      <p:sp>
        <p:nvSpPr>
          <p:cNvPr id="65" name="WordArt 6"/>
          <p:cNvSpPr txBox="1"/>
          <p:nvPr/>
        </p:nvSpPr>
        <p:spPr>
          <a:xfrm>
            <a:off x="1332000" y="0"/>
            <a:ext cx="685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удожественн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468360" y="6021360"/>
            <a:ext cx="8207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основе - рисуно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0" y="1700280"/>
            <a:ext cx="2556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вторск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разы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WordArt 11"/>
          <p:cNvSpPr txBox="1"/>
          <p:nvPr/>
        </p:nvSpPr>
        <p:spPr>
          <a:xfrm>
            <a:off x="755640" y="836640"/>
            <a:ext cx="7943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Образы какого поэта представлены?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69" name="WordArt 12"/>
          <p:cNvSpPr txBox="1"/>
          <p:nvPr/>
        </p:nvSpPr>
        <p:spPr>
          <a:xfrm>
            <a:off x="3419640" y="1916280"/>
            <a:ext cx="1257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г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0" name="WordArt 13"/>
          <p:cNvSpPr txBox="1"/>
          <p:nvPr/>
        </p:nvSpPr>
        <p:spPr>
          <a:xfrm>
            <a:off x="7524720" y="3860640"/>
            <a:ext cx="1295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м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WordArt 14"/>
          <p:cNvSpPr txBox="1"/>
          <p:nvPr/>
        </p:nvSpPr>
        <p:spPr>
          <a:xfrm>
            <a:off x="5435640" y="2276640"/>
            <a:ext cx="129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"/>
              </a:rPr>
              <a:t>Пару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"/>
              <a:ea typeface="Arial"/>
            </a:endParaRPr>
          </a:p>
        </p:txBody>
      </p:sp>
      <p:sp>
        <p:nvSpPr>
          <p:cNvPr id="72" name="WordArt 15"/>
          <p:cNvSpPr txBox="1"/>
          <p:nvPr/>
        </p:nvSpPr>
        <p:spPr>
          <a:xfrm>
            <a:off x="0" y="692280"/>
            <a:ext cx="435456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Какую роль 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играют 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эти образы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в творчестве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М.Ю.Лермонтова?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sp>
        <p:nvSpPr>
          <p:cNvPr id="73" name="WordArt 17"/>
          <p:cNvSpPr txBox="1"/>
          <p:nvPr/>
        </p:nvSpPr>
        <p:spPr>
          <a:xfrm>
            <a:off x="395280" y="4076640"/>
            <a:ext cx="277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ие строки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помните?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toppag1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221440"/>
          </a:xfrm>
          <a:prstGeom prst="rect">
            <a:avLst/>
          </a:prstGeom>
          <a:ln w="0">
            <a:noFill/>
          </a:ln>
        </p:spPr>
      </p:pic>
      <p:sp>
        <p:nvSpPr>
          <p:cNvPr id="75" name="WordArt 9"/>
          <p:cNvSpPr txBox="1"/>
          <p:nvPr/>
        </p:nvSpPr>
        <p:spPr>
          <a:xfrm>
            <a:off x="611280" y="6237360"/>
            <a:ext cx="77058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основе схемы - образы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WordArt 10"/>
          <p:cNvSpPr txBox="1"/>
          <p:nvPr/>
        </p:nvSpPr>
        <p:spPr>
          <a:xfrm>
            <a:off x="539640" y="0"/>
            <a:ext cx="8136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рафическ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WordArt 11"/>
          <p:cNvSpPr txBox="1"/>
          <p:nvPr/>
        </p:nvSpPr>
        <p:spPr>
          <a:xfrm>
            <a:off x="0" y="3068640"/>
            <a:ext cx="1187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круг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WordArt 12"/>
          <p:cNvSpPr txBox="1"/>
          <p:nvPr/>
        </p:nvSpPr>
        <p:spPr>
          <a:xfrm>
            <a:off x="611280" y="1125360"/>
            <a:ext cx="1081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Тулон"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WordArt 13"/>
          <p:cNvSpPr txBox="1"/>
          <p:nvPr/>
        </p:nvSpPr>
        <p:spPr>
          <a:xfrm>
            <a:off x="539640" y="5661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маленький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полеон"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WordArt 14"/>
          <p:cNvSpPr txBox="1"/>
          <p:nvPr/>
        </p:nvSpPr>
        <p:spPr>
          <a:xfrm>
            <a:off x="1979640" y="1341360"/>
            <a:ext cx="174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вечное небо"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1619280" y="3141720"/>
            <a:ext cx="64818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5"/>
          <p:cNvSpPr txBox="1"/>
          <p:nvPr/>
        </p:nvSpPr>
        <p:spPr>
          <a:xfrm>
            <a:off x="1835280" y="3284640"/>
            <a:ext cx="5976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Проследи дальнеший путь!..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toppag2"/>
          <p:cNvPicPr/>
          <p:nvPr/>
        </p:nvPicPr>
        <p:blipFill>
          <a:blip r:embed="rId1"/>
          <a:stretch/>
        </p:blipFill>
        <p:spPr>
          <a:xfrm>
            <a:off x="0" y="0"/>
            <a:ext cx="108964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9"/>
          <p:cNvSpPr txBox="1"/>
          <p:nvPr/>
        </p:nvSpPr>
        <p:spPr>
          <a:xfrm>
            <a:off x="0" y="4797360"/>
            <a:ext cx="2987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основе -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вет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324000" y="549360"/>
            <a:ext cx="33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ветов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WordArt 11"/>
          <p:cNvSpPr txBox="1"/>
          <p:nvPr/>
        </p:nvSpPr>
        <p:spPr>
          <a:xfrm>
            <a:off x="0" y="3213000"/>
            <a:ext cx="2987640" cy="36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В творчестве 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какого писателя 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цвет играет 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очень важную роль?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Куприн мален"/>
          <p:cNvPicPr/>
          <p:nvPr/>
        </p:nvPicPr>
        <p:blipFill>
          <a:blip r:embed="rId1"/>
          <a:stretch/>
        </p:blipFill>
        <p:spPr>
          <a:xfrm>
            <a:off x="395280" y="1484280"/>
            <a:ext cx="3259080" cy="4608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7"/>
          <p:cNvSpPr/>
          <p:nvPr/>
        </p:nvSpPr>
        <p:spPr>
          <a:xfrm>
            <a:off x="4030560" y="1341360"/>
            <a:ext cx="5113440" cy="402588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прин писал о любви в ”Суламифи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епка… любовь, потому что кажда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енщи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которая любит, -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ариц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отому чт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юбовь -  прекрас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ому любящая женщина ассоциируется у учащейся                 с красивой </a:t>
            </a:r>
            <a:r>
              <a:rPr b="1" lang="ru-RU" sz="2400" spc="-1" strike="noStrike">
                <a:solidFill>
                  <a:srgbClr val="ff6699"/>
                </a:solidFill>
                <a:latin typeface="Arial"/>
              </a:rPr>
              <a:t>берёзо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любовь – с таким пейзаже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19"/>
          <p:cNvSpPr txBox="1"/>
          <p:nvPr/>
        </p:nvSpPr>
        <p:spPr>
          <a:xfrm>
            <a:off x="395280" y="333360"/>
            <a:ext cx="820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ссоциативны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WordArt 20"/>
          <p:cNvSpPr txBox="1"/>
          <p:nvPr/>
        </p:nvSpPr>
        <p:spPr>
          <a:xfrm>
            <a:off x="395280" y="5877000"/>
            <a:ext cx="8424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итательские образы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WordArt 21"/>
          <p:cNvSpPr txBox="1"/>
          <p:nvPr/>
        </p:nvSpPr>
        <p:spPr>
          <a:xfrm>
            <a:off x="3780000" y="5300640"/>
            <a:ext cx="4968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А какие образ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возникают у В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Леди Макбет"/>
          <p:cNvPicPr/>
          <p:nvPr/>
        </p:nvPicPr>
        <p:blipFill>
          <a:blip r:embed="rId1"/>
          <a:stretch/>
        </p:blipFill>
        <p:spPr>
          <a:xfrm>
            <a:off x="2627280" y="1125360"/>
            <a:ext cx="6985080" cy="501984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468360" y="0"/>
            <a:ext cx="799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бинированны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0" y="1844640"/>
            <a:ext cx="298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четание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итательских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0" y="4149720"/>
            <a:ext cx="2771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вторских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разов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Oval 9"/>
          <p:cNvSpPr/>
          <p:nvPr/>
        </p:nvSpPr>
        <p:spPr>
          <a:xfrm>
            <a:off x="2627280" y="981000"/>
            <a:ext cx="3600360" cy="24480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6732720" y="3789360"/>
            <a:ext cx="2952720" cy="244800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0" y="981000"/>
            <a:ext cx="9828360" cy="587700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11"/>
          <p:cNvSpPr txBox="1"/>
          <p:nvPr/>
        </p:nvSpPr>
        <p:spPr>
          <a:xfrm>
            <a:off x="539640" y="1268280"/>
            <a:ext cx="8209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кем из писателей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 хотели бы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99"/>
                  </a:solidFill>
                  <a:miter/>
                </a:ln>
                <a:solidFill>
                  <a:srgbClr val="ff66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месте создавать образы?</a:t>
            </a:r>
            <a:endParaRPr b="0" lang="en-US" sz="1800" spc="1" strike="noStrike">
              <a:ln w="12600">
                <a:solidFill>
                  <a:srgbClr val="ff6699"/>
                </a:solidFill>
                <a:miter/>
              </a:ln>
              <a:solidFill>
                <a:srgbClr val="ff66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2:01:24Z</dcterms:created>
  <dc:creator>User</dc:creator>
  <dc:description/>
  <dc:language>en-US</dc:language>
  <cp:lastModifiedBy>Admin</cp:lastModifiedBy>
  <dcterms:modified xsi:type="dcterms:W3CDTF">2013-06-09T08:02:24Z</dcterms:modified>
  <cp:revision>32</cp:revision>
  <dc:subject/>
  <dc:title>Слайд 1</dc:title>
</cp:coreProperties>
</file>