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8904-7A61-42F0-8008-7EC664F8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C5E-0E72-4D3C-9D08-9AF17344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0AD-1DF8-4B50-A038-E139E308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F44-2A36-4821-B515-F4BDE8DC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8F8-CEA4-4A3C-9708-EA430D4A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13A-A5E1-4A74-BDD9-75038F3F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252-6852-4F01-B8AE-701F5982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398-330C-4A34-AC4A-DC9FF980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A10-7F84-4FE7-B4EC-DD1C7C09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867-031E-40F4-AFC8-E9812497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A62-CE1D-48FF-AEB2-BCF5155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AEC-ACF0-4D41-A741-C0FFE588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4E57-363D-4FEE-AA53-C47D770352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42976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дмет математики на столько серьезен, что полезно не упускать случаев делать его немного занимательным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Б. Паскаль                                                                                            </a:t>
            </a:r>
            <a:r>
              <a:rPr b="0" lang="ru-RU" sz="8000" spc="-1" strike="noStrike">
                <a:solidFill>
                  <a:srgbClr val="b00000"/>
                </a:solidFill>
                <a:latin typeface="Times New Roman"/>
              </a:rPr>
              <a:t>Математическая викторин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643280"/>
            <a:ext cx="553104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тор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мольникова  Ирина  Вячеслав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БОУ лицей №32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. Санкт-Петербур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00040"/>
            <a:ext cx="8043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семье семь братьев, у каждого по одной сестре.  Сколько детей в семь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1.  Палку распилили на 12 частей. Сколько сделали  распил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тицелов поймал в клетку 5 синиц, по дороге встретил 5 учениц. Каждой подарил по синиц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клетке осталась одна птица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85480" y="500040"/>
            <a:ext cx="77864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0. В семье семь братьев, у каждого по одной сестре. Сколько детей в семь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8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1. Палку распилили на 12 частей. Сколько сделали распил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11 распи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2. Птицелов поймал в клетку 5 синиц, по дороге встретил 5 учениц. Каждой подарил по синице, в клетке осталась одна птица. Как это могло случиться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                                      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Последнюю отдал вместе с клет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3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3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3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3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3. Вы – пилот самолета. Самолет летит в Лондон через Париж. Высота полета 8 тыс. метров, температура за бортом минус 40 градусов, средняя скорость 900 км/ч. Сколько лет пилот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4. В комнате 4 угла. В каждом углу сидит кошка. Напротив каждой кошки по три кошки. На хвосте каждой кошки по одной кошке. Сколько всего кошек в комна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5. Профессор ложиться спать в восемь вечера. Будильник заводит на девять. Сколько спит профессо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3. Вы – пилот самолета. Самолет летит в Лондон через Париж. Высота полета 8 тыс. метров, температура за бортом минус 40 градусов, средняя скорость 900 км/ч. Сколько лет пилот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Столько, сколько капита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4. В комнате 4 угла. В каждом углу сидит кошка. Напротив каждой кошки по три кошки. На хвосте каждой кошки по одной кошке. Сколько всего кошек в комна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4 кош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5. Профессор ложиться спать в восемь вечера. Будильник заводит на девять. Сколько спит профессор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                    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1 ча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3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3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3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3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2 тур </a:t>
            </a:r>
            <a:br>
              <a:rPr sz="5400"/>
            </a:b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«Геометрия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42560" y="2000160"/>
            <a:ext cx="9001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                 №2            №3               №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14200" y="2928960"/>
            <a:ext cx="1928880" cy="1928880"/>
          </a:xfrm>
          <a:prstGeom prst="rect">
            <a:avLst/>
          </a:prstGeom>
          <a:solidFill>
            <a:srgbClr val="2ac43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араллелограмм 4"/>
          <p:cNvSpPr/>
          <p:nvPr/>
        </p:nvSpPr>
        <p:spPr>
          <a:xfrm>
            <a:off x="2571840" y="2928960"/>
            <a:ext cx="1714320" cy="1928880"/>
          </a:xfrm>
          <a:prstGeom prst="parallelogram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Трапеция 5"/>
          <p:cNvSpPr/>
          <p:nvPr/>
        </p:nvSpPr>
        <p:spPr>
          <a:xfrm>
            <a:off x="4643280" y="2928960"/>
            <a:ext cx="1785960" cy="19288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6858000" y="2928960"/>
            <a:ext cx="1357200" cy="192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Ответьте на вопросы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2560" y="114264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акой четырехугольник по очень важно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изнаку является лишним?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. Какая из этих фигур обладает наибольш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оличеством свойст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Для какого четырехугольника имеет смыс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ражение: «Найдите среднюю лини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Название какой фигуры в переводе с грече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языка означает «обеденный столик»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7786800" y="1785960"/>
            <a:ext cx="1143000" cy="1143000"/>
          </a:xfrm>
          <a:prstGeom prst="rect">
            <a:avLst/>
          </a:prstGeom>
          <a:solidFill>
            <a:srgbClr val="2ac43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араллелограмм 4"/>
          <p:cNvSpPr/>
          <p:nvPr/>
        </p:nvSpPr>
        <p:spPr>
          <a:xfrm>
            <a:off x="6572160" y="1357200"/>
            <a:ext cx="1071720" cy="1143000"/>
          </a:xfrm>
          <a:prstGeom prst="parallelogram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Трапеция 5"/>
          <p:cNvSpPr/>
          <p:nvPr/>
        </p:nvSpPr>
        <p:spPr>
          <a:xfrm>
            <a:off x="6286680" y="2786040"/>
            <a:ext cx="1285560" cy="11430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7786800" y="3071880"/>
            <a:ext cx="785880" cy="1143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Ответы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№ 3 Трапец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(Все эти четырехугольники, кроме трапеции, являются параллелограммами, т.к. у них противоположные стороны попарно параллельн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№1 Квадр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№3 Трапе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№3 Трапе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3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3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3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3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3 тур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«Графики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13840" y="2142720"/>
            <a:ext cx="8472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  y = |5</a:t>
            </a:r>
            <a:r>
              <a:rPr b="1" i="1" lang="en-US" sz="3200" spc="-1" strike="noStrike">
                <a:solidFill>
                  <a:srgbClr val="e56d0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|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      №2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e56d09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5</a:t>
            </a:r>
            <a:r>
              <a:rPr b="1" i="1" lang="en-US" sz="3200" spc="-1" strike="noStrike">
                <a:solidFill>
                  <a:srgbClr val="e56d0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e56d09"/>
                </a:solidFill>
                <a:latin typeface="Calibri"/>
              </a:rPr>
              <a:t>|</a:t>
            </a:r>
            <a:r>
              <a:rPr b="1" lang="ru-RU" sz="3200" spc="-1" strike="noStrike">
                <a:solidFill>
                  <a:srgbClr val="e56d09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 №3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e56d0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y = </a:t>
            </a:r>
            <a:r>
              <a:rPr b="1" lang="en-US" sz="3200" spc="-1" strike="noStrike">
                <a:solidFill>
                  <a:srgbClr val="e56d09"/>
                </a:solidFill>
                <a:latin typeface="Calibri"/>
              </a:rPr>
              <a:t>|</a:t>
            </a:r>
            <a:r>
              <a:rPr b="1" i="1" lang="en-US" sz="3200" spc="-1" strike="noStrike">
                <a:solidFill>
                  <a:srgbClr val="e56d0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e56d09"/>
                </a:solidFill>
                <a:latin typeface="Calibri"/>
              </a:rPr>
              <a:t>|</a:t>
            </a:r>
            <a:r>
              <a:rPr b="1" lang="en-US" sz="3200" spc="-1" strike="noStrike">
                <a:solidFill>
                  <a:srgbClr val="e56d0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рафики всех предложенных функций расположены в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и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I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координатных четвертях. Верно ли эт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Times New Roman"/>
              </a:rPr>
              <a:t>Ответ : №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3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3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4 тур</a:t>
            </a:r>
            <a:br>
              <a:rPr sz="5400"/>
            </a:b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А н а г р а м м 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2428560"/>
            <a:ext cx="87868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0d53"/>
                </a:solidFill>
                <a:latin typeface="Times New Roman"/>
              </a:rPr>
              <a:t>АРИФМЕТИК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57168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Times New Roman"/>
              </a:rPr>
              <a:t>Желаю всем успехов!                          </a:t>
            </a:r>
            <a:r>
              <a:rPr b="1" lang="ru-RU" sz="15000" spc="-1" strike="noStrike">
                <a:solidFill>
                  <a:srgbClr val="ffc000"/>
                </a:solidFill>
                <a:latin typeface="Wingdings"/>
                <a:ea typeface="Wingdings"/>
              </a:rPr>
              <a:t>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</a:rPr>
              <a:t>Команд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1 команда       Умн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2 команда       Смекалист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Times New Roman"/>
              </a:rPr>
              <a:t>3 команда       Почемуч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ркуль: http://www.daviddarling.info/images/compasses.jp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андаш: http://www.proshkolu.ru/content/media/pic/std/3000000/2240000/2239093-7acd9447b354cc7e.g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ольник-транспортир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/p.alejka.pl/i2/p_new/25/38/duza-ekierka-geometryczna-z-uchwytem-rotring-14-cm_0_b.jp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н «тетрадная клетка»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ttp://radikal.ua/data/upload/49112/4efc3/3bd0a3d6bb.jp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Автор шабло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http://pedsovet.su/load/321-1-0-296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56d09"/>
                </a:solidFill>
                <a:latin typeface="Times New Roman"/>
              </a:rPr>
              <a:t>Наши капитаны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Афанасьев Ег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Захарова Екатери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Шиловский Фед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429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1 тур - конкурс капитанов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«В е с е л ы е  в о п р о с ы»</a:t>
            </a:r>
            <a:br>
              <a:rPr sz="6000"/>
            </a:b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714680"/>
            <a:ext cx="83916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путник Земли делает один оборот за 100 минут, а другой оборот за 1 час 40 минут. Как это объяснить?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Яйцо вкрутую надо варить 5 минут.  Сколько времени надо варить 6 яиц вкрутую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 двух руках 10 пальцев. Сколько пальцев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есяти руках?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c43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. Спутник Земли делает один оборот за 100 минут, а другой оборот за 1 час 40 минут. Как это объяснить?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Ответ:1 час 40 минут=100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. Яйцо вкрутую надо варить 5 минут.  Сколько времени надо варить 6 яиц вкрутую?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Ответ: 5 мину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3. На двух руках 10 пальцев. Сколько пальцев 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есяти руках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Ответ: 50 пальцев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4.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ыба весит 8 кг. плюс половина ее собственного веса. Сколько весит рыб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5.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У Мамеда было 10 овец. Все, кроме девяти, околели.   Сколько овец осталось у Маме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.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вое подошли к реке. У берега стояла лодка, которая  может вместить лишь одного, но оба переправились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 Рыба весит 8 кг. плюс половина ее собственного веса. Сколько весит рыб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16 к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 У Мамеда было 10 овец. Все, кроме девяти, околели. Сколько овец осталось у Маме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9 ов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6.  Двое подошли к реке. У берега стояла лодка, которая может вместить лишь одного, но оба переправились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Они подошли к разным берег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3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ройка лошадей пробежала 30 км. Какое расстояние пробежит каждая лошад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рач прописал 3 укола. Через полчаса на укол. Через сколько часов будут сделаны все укол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9.  Два отца и два сына купили 3 апельсина. Каждому из них досталось по апельсину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428400"/>
            <a:ext cx="7400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ройка лошадей пробежала 30 км. Какое расстояние пробежит каждая лошад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30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рач прописал 3 укола. Через полчаса на укол. Через сколько часов будут сделаны все укол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через 1 ч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9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ва отца и два сына купили 3 апельсина. Каждому из них досталось по апельсину. Как это могло случить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336600"/>
                </a:solidFill>
                <a:latin typeface="Times New Roman"/>
              </a:rPr>
              <a:t>Ответ: дед – отец – сы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3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3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3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1</cp:lastModifiedBy>
  <dcterms:modified xsi:type="dcterms:W3CDTF">2013-07-16T10:45:32Z</dcterms:modified>
  <cp:revision>85</cp:revision>
  <dc:subject/>
  <dc:title>Слайд 1</dc:title>
</cp:coreProperties>
</file>