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2D3-9E16-4CB3-B357-FFFB6CD1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E903-5337-46C1-9A9F-09BC0B86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E429-0D73-4E40-AC07-1661E977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A21B-0EB3-441A-B629-798CF1CF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4112-9B3B-4EAA-8CEF-523A04B2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58F8-3D9D-4650-AEA9-C3978591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DC20-1A52-40A0-8BBF-7C174253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CECD-BE8A-4138-B3C7-BAFDDB19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599D-89EF-4D7F-85F7-51E79111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C0FD-2868-423A-BF5B-E3F5F815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414C-C8C4-48B3-B2DE-8D6943B9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6B42-A86C-4510-A534-D9846310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6914-7F76-45AE-8A76-D5EA2B2AB6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42976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едмет математики на столько серьезен, что полезно не упускать случаев делать его немного занимательным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Б. Паскаль                                                                                            </a:t>
            </a:r>
            <a:r>
              <a:rPr b="0" lang="ru-RU" sz="8000" spc="-1" strike="noStrike">
                <a:solidFill>
                  <a:srgbClr val="b00000"/>
                </a:solidFill>
                <a:latin typeface="Times New Roman"/>
              </a:rPr>
              <a:t>Математическая викторин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4643280"/>
            <a:ext cx="553104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втор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мольникова  Ирина  Вячеслав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БОУ лицей №329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. Санкт-Петербур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500040"/>
            <a:ext cx="8043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 семье семь братьев, у каждого по одной сестре.  Сколько детей в семь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1.  Палку распилили на 12 частей. Сколько сделали  распило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тицелов поймал в клетку 5 синиц, по дороге встретил 5 учениц. Каждой подарил по синиц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 клетке осталась одна птица. Как это могло случить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85480" y="500040"/>
            <a:ext cx="77864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0. В семье семь братьев, у каждого по одной сестре. Сколько детей в семь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8 де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1. Палку распилили на 12 частей. Сколько сделали распило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11 распил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2. Птицелов поймал в клетку 5 синиц, по дороге встретил 5 учениц. Каждой подарил по синице, в клетке осталась одна птица. Как это могло случиться?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Times New Roman"/>
              </a:rPr>
              <a:t>                                           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Последнюю отдал вместе с клетк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3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3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3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3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3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3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3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3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3. Вы – пилот самолета. Самолет летит в Лондон через Париж. Высота полета 8 тыс. метров, температура за бортом минус 40 градусов, средняя скорость 900 км/ч. Сколько лет пилот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4. В комнате 4 угла. В каждом углу сидит кошка. Напротив каждой кошки по три кошки. На хвосте каждой кошки по одной кошке. Сколько всего кошек в комнат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5. Профессор ложиться спать в восемь вечера. Будильник заводит на девять. Сколько спит профессор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50004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3. Вы – пилот самолета. Самолет летит в Лондон через Париж. Высота полета 8 тыс. метров, температура за бортом минус 40 градусов, средняя скорость 900 км/ч. Сколько лет пилот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Столько, сколько капитан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4. В комнате 4 угла. В каждом углу сидит кошка. Напротив каждой кошки по три кошки. На хвосте каждой кошки по одной кошке. Сколько всего кошек в комнат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4 кош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5. Профессор ложиться спать в восемь вечера. Будильник заводит на девять. Сколько спит профессор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                                     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1 ча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3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3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3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3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3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</a:rPr>
              <a:t>2 тур </a:t>
            </a:r>
            <a:br>
              <a:rPr sz="5400"/>
            </a:b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«Геометрия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2560" y="2000160"/>
            <a:ext cx="9001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                 №2            №3               №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214200" y="2928960"/>
            <a:ext cx="1928880" cy="1928880"/>
          </a:xfrm>
          <a:prstGeom prst="rect">
            <a:avLst/>
          </a:prstGeom>
          <a:solidFill>
            <a:srgbClr val="2ac43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араллелограмм 4"/>
          <p:cNvSpPr/>
          <p:nvPr/>
        </p:nvSpPr>
        <p:spPr>
          <a:xfrm>
            <a:off x="2571840" y="2928960"/>
            <a:ext cx="1714320" cy="1928880"/>
          </a:xfrm>
          <a:prstGeom prst="parallelogram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Трапеция 5"/>
          <p:cNvSpPr/>
          <p:nvPr/>
        </p:nvSpPr>
        <p:spPr>
          <a:xfrm>
            <a:off x="4643280" y="2928960"/>
            <a:ext cx="1785960" cy="19288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6858000" y="2928960"/>
            <a:ext cx="1357200" cy="192888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Ответьте на вопросы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42560" y="1142640"/>
            <a:ext cx="9001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Какой четырехугольник по очень важном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ризнаку является лишним?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2. Какая из этих фигур обладает наибольш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количеством свойст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3. Для какого четырехугольника имеет смыс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ыражение: «Найдите среднюю линию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4. Название какой фигуры в переводе с греческ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языка означает «обеденный столик»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7786800" y="1785960"/>
            <a:ext cx="1143000" cy="1143000"/>
          </a:xfrm>
          <a:prstGeom prst="rect">
            <a:avLst/>
          </a:prstGeom>
          <a:solidFill>
            <a:srgbClr val="2ac43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араллелограмм 4"/>
          <p:cNvSpPr/>
          <p:nvPr/>
        </p:nvSpPr>
        <p:spPr>
          <a:xfrm>
            <a:off x="6572160" y="1357200"/>
            <a:ext cx="1071720" cy="1143000"/>
          </a:xfrm>
          <a:prstGeom prst="parallelogram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Трапеция 5"/>
          <p:cNvSpPr/>
          <p:nvPr/>
        </p:nvSpPr>
        <p:spPr>
          <a:xfrm>
            <a:off x="6286680" y="2786040"/>
            <a:ext cx="1285560" cy="11430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7786800" y="3071880"/>
            <a:ext cx="785880" cy="1143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Ответы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№ 3 Трапец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(Все эти четырехугольники, кроме трапеции, являются параллелограммами, т.к. у них противоположные стороны попарно параллельн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№1 Квадр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№3 Трапе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№3 Трапе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3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3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3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3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3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</a:rPr>
              <a:t>3 тур 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«Графики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13840" y="2142720"/>
            <a:ext cx="8472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e56d09"/>
                </a:solidFill>
                <a:latin typeface="Times New Roman"/>
              </a:rPr>
              <a:t>№</a:t>
            </a:r>
            <a:r>
              <a:rPr b="1" lang="ru-RU" sz="3200" spc="-1" strike="noStrike">
                <a:solidFill>
                  <a:srgbClr val="e56d09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e56d09"/>
                </a:solidFill>
                <a:latin typeface="Times New Roman"/>
              </a:rPr>
              <a:t>   y = |5</a:t>
            </a:r>
            <a:r>
              <a:rPr b="1" i="1" lang="en-US" sz="3200" spc="-1" strike="noStrike">
                <a:solidFill>
                  <a:srgbClr val="e56d0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e56d09"/>
                </a:solidFill>
                <a:latin typeface="Times New Roman"/>
              </a:rPr>
              <a:t>|</a:t>
            </a:r>
            <a:r>
              <a:rPr b="1" lang="ru-RU" sz="3200" spc="-1" strike="noStrike">
                <a:solidFill>
                  <a:srgbClr val="e56d09"/>
                </a:solidFill>
                <a:latin typeface="Times New Roman"/>
              </a:rPr>
              <a:t>      №2</a:t>
            </a:r>
            <a:r>
              <a:rPr b="1" lang="en-US" sz="3200" spc="-1" strike="noStrike">
                <a:solidFill>
                  <a:srgbClr val="e56d0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e56d0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e56d09"/>
                </a:solidFill>
                <a:latin typeface="Times New Roman"/>
              </a:rPr>
              <a:t>y = -</a:t>
            </a:r>
            <a:r>
              <a:rPr b="1" lang="en-US" sz="3200" spc="-1" strike="noStrike">
                <a:solidFill>
                  <a:srgbClr val="e56d09"/>
                </a:solidFill>
                <a:latin typeface="Calibri"/>
              </a:rPr>
              <a:t>|</a:t>
            </a:r>
            <a:r>
              <a:rPr b="1" lang="en-US" sz="3200" spc="-1" strike="noStrike">
                <a:solidFill>
                  <a:srgbClr val="e56d09"/>
                </a:solidFill>
                <a:latin typeface="Times New Roman"/>
              </a:rPr>
              <a:t>5</a:t>
            </a:r>
            <a:r>
              <a:rPr b="1" i="1" lang="en-US" sz="3200" spc="-1" strike="noStrike">
                <a:solidFill>
                  <a:srgbClr val="e56d0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e56d09"/>
                </a:solidFill>
                <a:latin typeface="Calibri"/>
              </a:rPr>
              <a:t>|</a:t>
            </a:r>
            <a:r>
              <a:rPr b="1" lang="ru-RU" sz="3200" spc="-1" strike="noStrike">
                <a:solidFill>
                  <a:srgbClr val="e56d09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e56d09"/>
                </a:solidFill>
                <a:latin typeface="Times New Roman"/>
              </a:rPr>
              <a:t> №3</a:t>
            </a:r>
            <a:r>
              <a:rPr b="1" lang="en-US" sz="3200" spc="-1" strike="noStrike">
                <a:solidFill>
                  <a:srgbClr val="e56d0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e56d0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56d09"/>
                </a:solidFill>
                <a:latin typeface="Times New Roman"/>
              </a:rPr>
              <a:t> y = </a:t>
            </a:r>
            <a:r>
              <a:rPr b="1" lang="en-US" sz="3200" spc="-1" strike="noStrike">
                <a:solidFill>
                  <a:srgbClr val="e56d09"/>
                </a:solidFill>
                <a:latin typeface="Calibri"/>
              </a:rPr>
              <a:t>|</a:t>
            </a:r>
            <a:r>
              <a:rPr b="1" i="1" lang="en-US" sz="3200" spc="-1" strike="noStrike">
                <a:solidFill>
                  <a:srgbClr val="e56d0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e56d09"/>
                </a:solidFill>
                <a:latin typeface="Calibri"/>
              </a:rPr>
              <a:t>|</a:t>
            </a:r>
            <a:r>
              <a:rPr b="1" lang="en-US" sz="3200" spc="-1" strike="noStrike">
                <a:solidFill>
                  <a:srgbClr val="e56d0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Графики всех предложенных функций расположены в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и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I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координатных четвертях. Верно ли эт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Times New Roman"/>
              </a:rPr>
              <a:t>Ответ : №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3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3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3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</a:rPr>
              <a:t>4 тур</a:t>
            </a:r>
            <a:br>
              <a:rPr sz="5400"/>
            </a:b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А н а г р а м м 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2428560"/>
            <a:ext cx="878688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40d53"/>
                </a:solidFill>
                <a:latin typeface="Times New Roman"/>
              </a:rPr>
              <a:t>АРИФМЕТИК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57168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Times New Roman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Times New Roman"/>
              </a:rPr>
              <a:t>Желаю всем успехов!                          </a:t>
            </a:r>
            <a:r>
              <a:rPr b="1" lang="ru-RU" sz="15000" spc="-1" strike="noStrike">
                <a:solidFill>
                  <a:srgbClr val="ffc000"/>
                </a:solidFill>
                <a:latin typeface="Wingdings"/>
                <a:ea typeface="Wingdings"/>
              </a:rPr>
              <a:t>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Times New Roman"/>
              </a:rPr>
              <a:t>Команды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</a:rPr>
              <a:t>1 команда       Умни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</a:rPr>
              <a:t>2 команда       Смекалисты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</a:rPr>
              <a:t>3 команда       Почемуч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иркуль: http://www.daviddarling.info/images/compasses.jp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андаш: http://www.proshkolu.ru/content/media/pic/std/3000000/2240000/2239093-7acd9447b354cc7e.g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гольник-транспортир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ttp://p.alejka.pl/i2/p_new/25/38/duza-ekierka-geometryczna-z-uchwytem-rotring-14-cm_0_b.jp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н «тетрадная клетка»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ttp://radikal.ua/data/upload/49112/4efc3/3bd0a3d6bb.jp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Автор шабло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АОУ лицей №21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айт: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</a:rPr>
              <a:t>http://pedsovet.su/load/321-1-0-296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e56d09"/>
                </a:solidFill>
                <a:latin typeface="Times New Roman"/>
              </a:rPr>
              <a:t>Наши капитаны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Афанасьев Его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Захарова Екатери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Шиловский Федо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42920"/>
            <a:ext cx="82803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1 тур - конкурс капитанов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«В е с е л ы е  в о п р о с ы»</a:t>
            </a:r>
            <a:br>
              <a:rPr sz="6000"/>
            </a:br>
            <a:br>
              <a:rPr sz="60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714680"/>
            <a:ext cx="83916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путник Земли делает один оборот за 100 минут, а другой оборот за 1 час 40 минут. Как это объяснить?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Яйцо вкрутую надо варить 5 минут.  Сколько времени надо варить 6 яиц вкрутую?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а двух руках 10 пальцев. Сколько пальцев 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есяти руках?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Times New Roman"/>
              </a:rPr>
              <a:t>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c43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. Спутник Земли делает один оборот за 100 минут, а другой оборот за 1 час 40 минут. Как это объяснить?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</a:rPr>
              <a:t>Ответ:1 час 40 минут=100 мину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2. Яйцо вкрутую надо варить 5 минут.  Сколько времени надо варить 6 яиц вкрутую?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</a:rPr>
              <a:t>Ответ: 5 мину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3. На двух руках 10 пальцев. Сколько пальцев 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десяти руках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</a:rPr>
              <a:t>Ответ: 50 пальцев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3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3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3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3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3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4.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Рыба весит 8 кг. плюс половина ее собственного веса. Сколько весит рыб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5.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У Мамеда было 10 овец. Все, кроме девяти, околели.   Сколько овец осталось у Мамед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6.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вое подошли к реке. У берега стояла лодка, которая  может вместить лишь одного, но оба переправились. Как это могло случить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4.  Рыба весит 8 кг. плюс половина ее собственного веса. Сколько весит рыб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16 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5.  У Мамеда было 10 овец. Все, кроме девяти, околели. Сколько овец осталось у Мамед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9 ов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6.  Двое подошли к реке. У берега стояла лодка, которая может вместить лишь одного, но оба переправились. Как это могло случить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Они подошли к разным берег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3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3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Тройка лошадей пробежала 30 км. Какое расстояние пробежит каждая лошад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рач прописал 3 укола. Через полчаса на укол. Через сколько часов будут сделаны все укол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9.  Два отца и два сына купили 3 апельсина. Каждому из них досталось по апельсину. Как это могло случить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428400"/>
            <a:ext cx="74008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Тройка лошадей пробежала 30 км. Какое расстояние пробежит каждая лошад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30 к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рач прописал 3 укола. Через полчаса на укол. Через сколько часов будут сделаны все укол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через 1 ча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9.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ва отца и два сына купили 3 апельсина. Каждому из них досталось по апельсину. Как это могло случить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дед – отец – сы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3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3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3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3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3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3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1</cp:lastModifiedBy>
  <dcterms:modified xsi:type="dcterms:W3CDTF">2013-07-16T10:45:32Z</dcterms:modified>
  <cp:revision>85</cp:revision>
  <dc:subject/>
  <dc:title>Слайд 1</dc:title>
</cp:coreProperties>
</file>