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835-4F4D-4EE7-9A4C-ACD2212D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0A9-D536-428E-9BFF-7EC625AA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9CE-9BFA-4FCB-A13E-86FE9AE7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FB1-D465-4091-B3EB-2C49A8DB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863-B555-4DBA-B158-65C2B230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B6C-B7E8-4916-94E4-918CC209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D63-37CC-48FF-AB52-2686E373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B83-78DC-4CC2-8F23-D564260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E2F-F7FE-40FE-B5A2-FF4D4E15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8F3-3B0C-4486-B617-DD1C94B0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1BD-688B-49C4-AFB3-1FF16C3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0D0-B82A-4B91-8F23-D4B82FD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9B52-895D-4EED-9186-83022055C4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мет математики на столько серьезен, что полезно не упускать случаев делать его немного занимательным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Б. Паскаль                                                                                            </a:t>
            </a:r>
            <a:r>
              <a:rPr b="0" lang="ru-RU" sz="8000" spc="-1" strike="noStrike">
                <a:solidFill>
                  <a:srgbClr val="b00000"/>
                </a:solidFill>
                <a:latin typeface="Times New Roman"/>
              </a:rPr>
              <a:t>Математическая викторин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643280"/>
            <a:ext cx="55310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ольникова  Ирина  Вячеслав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БОУ лицей №32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00040"/>
            <a:ext cx="8043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семье семь братьев, у каждого по одной сестре. 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1.  Палку распилили на 12 частей. Сколько сделали  распи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тицелов поймал в клетку 5 синиц, по дороге встретил 5 учениц. Каждой подарил по синиц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клетке осталась одна птица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5480" y="500040"/>
            <a:ext cx="7786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0. В семье семь братьев, у каждого по одной сестре.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8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1. Палку распилили на 12 частей. Сколько сделали распи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1 распи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2. Птицелов поймал в клетку 5 синиц, по дороге встретил 5 учениц. Каждой подарил по синице, в клетке осталась одна птица. Как это могло случиться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Последнюю отдал вместе с клет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3. Вы – пилот самолета. Самолет летит в Лондон через Париж. Высота полета 8 тыс. метров, температура за бортом минус 40 градусов, средняя скорость 900 км/ч. Сколько лет пило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4. В комнате 4 угла. В каждом углу сидит кошка. Напротив каждой кошки по три кошки. На хвосте каждой кошки по одной кошке. Сколько всего кошек в комн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5. Профессор ложиться спать в восемь вечера. Будильник заводит на девять. Сколько спит професс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3. Вы – пилот самолета. Самолет летит в Лондон через Париж. Высота полета 8 тыс. метров, температура за бортом минус 40 градусов, средняя скорость 900 км/ч. Сколько лет пило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Столько, сколько капита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4. В комнате 4 угла. В каждом углу сидит кошка. Напротив каждой кошки по три кошки. На хвосте каждой кошки по одной кошке. Сколько всего кошек в комн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4 кош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5. Профессор ложиться спать в восемь вечера. Будильник заводит на девять. Сколько спит професс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3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2 тур </a:t>
            </a:r>
            <a:br>
              <a:rPr sz="54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«Геометри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2000160"/>
            <a:ext cx="900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                 №2            №3               №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200" y="2928960"/>
            <a:ext cx="1928880" cy="1928880"/>
          </a:xfrm>
          <a:prstGeom prst="rect">
            <a:avLst/>
          </a:prstGeom>
          <a:solidFill>
            <a:srgbClr val="2ac43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араллелограмм 4"/>
          <p:cNvSpPr/>
          <p:nvPr/>
        </p:nvSpPr>
        <p:spPr>
          <a:xfrm>
            <a:off x="2571840" y="2928960"/>
            <a:ext cx="1714320" cy="1928880"/>
          </a:xfrm>
          <a:prstGeom prst="parallelogram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Трапеция 5"/>
          <p:cNvSpPr/>
          <p:nvPr/>
        </p:nvSpPr>
        <p:spPr>
          <a:xfrm>
            <a:off x="4643280" y="2928960"/>
            <a:ext cx="1785960" cy="1928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858000" y="2928960"/>
            <a:ext cx="1357200" cy="192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тветьте на вопрос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560" y="114264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акой четырехугольник по очень важн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знаку является лишним?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Какая из этих фигур обладает наиболь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личеством свой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Для какого четырехугольника имеет смыс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ражение: «Найдите среднюю ли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Название какой фигуры в переводе с грече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зыка означает «обеденный столик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7786800" y="1785960"/>
            <a:ext cx="1143000" cy="1143000"/>
          </a:xfrm>
          <a:prstGeom prst="rect">
            <a:avLst/>
          </a:prstGeom>
          <a:solidFill>
            <a:srgbClr val="2ac43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араллелограмм 4"/>
          <p:cNvSpPr/>
          <p:nvPr/>
        </p:nvSpPr>
        <p:spPr>
          <a:xfrm>
            <a:off x="6572160" y="1357200"/>
            <a:ext cx="1071720" cy="1143000"/>
          </a:xfrm>
          <a:prstGeom prst="parallelogram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Трапеция 5"/>
          <p:cNvSpPr/>
          <p:nvPr/>
        </p:nvSpPr>
        <p:spPr>
          <a:xfrm>
            <a:off x="6286680" y="2786040"/>
            <a:ext cx="128556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7786800" y="3071880"/>
            <a:ext cx="785880" cy="1143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твет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 3 Трапе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(Все эти четырехугольники, кроме трапеции, являются параллелограммами, т.к. у них противоположные стороны попарно параллель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1 Квад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3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3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3 тур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«Графики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3840" y="2142720"/>
            <a:ext cx="8472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  y = |5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|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     №2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ru-RU" sz="3200" spc="-1" strike="noStrike">
                <a:solidFill>
                  <a:srgbClr val="e56d09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№3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y = 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рафики всех предложенных функций расположены в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координатных четвертях. Верно ли эт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Ответ : №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4 тур</a:t>
            </a:r>
            <a:br>
              <a:rPr sz="54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А н а г р а м м 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2428560"/>
            <a:ext cx="87868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0d53"/>
                </a:solidFill>
                <a:latin typeface="Times New Roman"/>
              </a:rPr>
              <a:t>АРИФМЕТИ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Желаю всем успехов!                          </a:t>
            </a:r>
            <a:r>
              <a:rPr b="1" lang="ru-RU" sz="15000" spc="-1" strike="noStrike">
                <a:solidFill>
                  <a:srgbClr val="ffc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</a:rPr>
              <a:t>Команд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1 команда       Ум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2 команда       Смекалист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3 команда       Почемуч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ркуль: http://www.daviddarling.info/images/compasses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ндаш: http://www.proshkolu.ru/content/media/pic/std/3000000/2240000/2239093-7acd9447b354cc7e.g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ольник-транспортир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p.alejka.pl/i2/p_new/25/38/duza-ekierka-geometryczna-z-uchwytem-rotring-14-cm_0_b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 «тетрадная клетка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radikal.ua/data/upload/49112/4efc3/3bd0a3d6bb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втор шабл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http://pedsovet.su/load/321-1-0-296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6d09"/>
                </a:solidFill>
                <a:latin typeface="Times New Roman"/>
              </a:rPr>
              <a:t>Наши капитаны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Афанасьев Ег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Захарова Екатери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Шиловский Фед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429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1 тур - конкурс капитанов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В е с е л ы е  в о п р о с ы»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14680"/>
            <a:ext cx="8391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утник Земли делает один оборот за 100 минут, а другой оборот за 1 час 40 минут. Как это объяснить?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йцо вкрутую надо варить 5 минут.  Сколько времени надо варить 6 яиц вкрутую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двух руках 10 пальцев. Сколько пальцев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есяти руках?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c43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Спутник Земли делает один оборот за 100 минут, а другой оборот за 1 час 40 минут. Как это объяснить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1 час 40 минут=10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Яйцо вкрутую надо варить 5 минут.  Сколько времени надо варить 6 яиц вкрутую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 5 мину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На двух руках 10 пальцев. Сколько пальцев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есяти рук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 50 пальцев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4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ыба весит 8 кг. плюс половина ее собственного веса. Сколько весит ры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 Мамеда было 10 овец. Все, кроме девяти, околели.   Сколько овец осталось у Маме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ое подошли к реке. У берега стояла лодка, которая  может вместить лишь одного, но оба переправились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 Рыба весит 8 кг. плюс половина ее собственного веса. Сколько весит ры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6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 У Мамеда было 10 овец. Все, кроме девяти, околели. Сколько овец осталось у Маме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9 ов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 Двое подошли к реке. У берега стояла лодка, которая может вместить лишь одного, но оба переправились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Они подошли к разным берег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ойка лошадей пробежала 30 км. Какое расстояние пробежит каждая лошад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ч прописал 3 укола. Через полчаса на укол. Через сколько часов будут сделаны все ук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9.  Два отца и два сына купили 3 апельсина. Каждому из них досталось по апельсину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28400"/>
            <a:ext cx="7400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ойка лошадей пробежала 30 км. Какое расстояние пробежит каждая лошад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3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ч прописал 3 укола. Через полчаса на укол. Через сколько часов будут сделаны все ук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через 1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а отца и два сына купили 3 апельсина. Каждому из них досталось по апельсину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дед – отец – сы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13-07-16T10:45:32Z</dcterms:modified>
  <cp:revision>85</cp:revision>
  <dc:subject/>
  <dc:title>Слайд 1</dc:title>
</cp:coreProperties>
</file>