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623-A01A-4BBC-815A-838E08C8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620-CDCD-44C2-9518-4A1E82FA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484-D2F3-4590-9EDB-051CBD77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039-4A32-408C-9027-E79053C6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B6D4D-1937-4229-8ACF-94D34955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B81C5-3470-48D7-A6BE-2A0A2ABD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85FE8-6937-4AE8-8D99-4C9540A4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FADD5-B6FA-4D55-A4F2-D66069BE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5F9C5-CDFB-427C-977F-77C2017C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7C261-72A7-49E0-8EB7-6169ABD9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BCFA8-295D-4038-8211-0DF1E1E8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9AB-FF29-40AC-8067-B1EB4085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85344-78EF-4468-8F73-0D35B2A4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D530F-DA1F-4981-BD4F-7AEAE444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9DD32-81CC-4D65-884A-C27B229D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2ACCC-E7A9-49D0-AF52-AD4AC6CF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3516E-1880-4448-AAD4-935EC665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D84-BED7-408A-BC2A-1AD75B0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9AC-EBF7-4309-A2BE-D84280AB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C2E-838F-44F1-9E9F-DE5CB6A8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BC8-9D60-4B1F-A5F6-F8B2C0B7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5A2-EE26-46B5-842F-3B031605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CC5-DA54-496F-BB65-86368997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1C2-BB10-4418-B5DB-17F9E6D2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58E0-038B-4545-AA51-F13AD3C73A24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F2C5-5584-417E-9FB3-6F73C4D053C3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2"/>
          <p:cNvSpPr txBox="1"/>
          <p:nvPr/>
        </p:nvSpPr>
        <p:spPr>
          <a:xfrm>
            <a:off x="1187280" y="2857680"/>
            <a:ext cx="698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205ff6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говорим о курен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205ff6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324000" y="6922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Холмушинская основная общеобразовательная школ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Дыхатель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Хронические заболевания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дыхательных органов: бронхит, астма, гибель эпителия, усиленное выделение слизи, воспаление голосовых связок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Туберкулез легких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(из 100 случаев заболевания туберкулезом 95% - курильщики)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к легких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(почти 97% больных раком – курильщики,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к гортани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(в 6 – 10 раз больше)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067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ВЕНОС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Снижается количество эритроцитов  и гемоглобина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Стенокардия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у курильщиков чаще в 13 раз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Инфаркт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миокарда чаще в 13 раз (особенно у лиц до 40лет)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Острый инфаркт миокарда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( у курильщиков до 35 лет, у 80% курящих со школьной скамьи)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Курение способствует возникновению атеросклероза, гипертонической болезни, кровоизлияния в мозг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Picture 4" descr="HM00304_"/>
          <p:cNvPicPr/>
          <p:nvPr/>
        </p:nvPicPr>
        <p:blipFill>
          <a:blip r:embed="rId1"/>
          <a:stretch/>
        </p:blipFill>
        <p:spPr>
          <a:xfrm>
            <a:off x="4876920" y="5029200"/>
            <a:ext cx="879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 Narrow"/>
              </a:rPr>
              <a:t>ПИЩЕВАРИТЕЛЬНАЯ СИСТЕМ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Развивается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кариес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; 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Ухудшается аппетит, обоняние, вкус извращается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Возникают спазмы желудка, кишечника, кишечная непроходимость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(парез)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кишечника ведет к смерти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Развивается хронический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гастрит, колит, язвенная болезнь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желудка и 12- перстной кишки (в 10 раз чаще)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Приводит к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циррозу</a:t>
            </a:r>
            <a:r>
              <a:rPr b="0" i="1" lang="ru-RU" sz="26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печени;</a:t>
            </a:r>
            <a:r>
              <a:rPr b="0" i="1" lang="ru-RU" sz="2600" spc="-1" strike="noStrike">
                <a:solidFill>
                  <a:srgbClr val="9933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Развивается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рак полости рта, пищевода, поджелудочной железы</a:t>
            </a:r>
            <a:r>
              <a:rPr b="0" i="1" lang="ru-RU" sz="26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Picture 4" descr="HM00307_"/>
          <p:cNvPicPr/>
          <p:nvPr/>
        </p:nvPicPr>
        <p:blipFill>
          <a:blip r:embed="rId1"/>
          <a:stretch/>
        </p:blipFill>
        <p:spPr>
          <a:xfrm>
            <a:off x="3995640" y="5300640"/>
            <a:ext cx="12193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ВЫДЕЛИТЕЛЬ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205ff6"/>
                </a:solidFill>
                <a:latin typeface="Arial Narrow"/>
              </a:rPr>
              <a:t>Развитие </a:t>
            </a:r>
            <a:r>
              <a:rPr b="1" i="1" lang="ru-RU" sz="3000" spc="-1" strike="noStrike">
                <a:solidFill>
                  <a:srgbClr val="993300"/>
                </a:solidFill>
                <a:latin typeface="Arial Narrow"/>
              </a:rPr>
              <a:t>хронических болезней почек и мочевого пузыря</a:t>
            </a:r>
            <a:r>
              <a:rPr b="0" i="1" lang="ru-RU" sz="3000" spc="-1" strike="noStrike">
                <a:solidFill>
                  <a:srgbClr val="205ff6"/>
                </a:solidFill>
                <a:latin typeface="Arial Narrow"/>
              </a:rPr>
              <a:t>, вплоть до рака мочевого пузыря; 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(В моче образуется </a:t>
            </a: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бензапирен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– канцерогенное химическое соединение, вызывающее рак. Это вещество обнаруживается и у пассивных курильщиков)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3300"/>
                </a:solidFill>
                <a:latin typeface="Arial Narrow"/>
              </a:rPr>
              <a:t>Рак почек</a:t>
            </a:r>
            <a:r>
              <a:rPr b="0" i="1" lang="ru-RU" sz="3000" spc="-1" strike="noStrike">
                <a:solidFill>
                  <a:srgbClr val="205ff6"/>
                </a:solidFill>
                <a:latin typeface="Arial Narrow"/>
              </a:rPr>
              <a:t> 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(встречается у курильщиков в 5 раз чаще)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HH00887_"/>
          <p:cNvPicPr/>
          <p:nvPr/>
        </p:nvPicPr>
        <p:blipFill>
          <a:blip r:embed="rId1"/>
          <a:stretch/>
        </p:blipFill>
        <p:spPr>
          <a:xfrm>
            <a:off x="3962520" y="5029200"/>
            <a:ext cx="99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Narrow"/>
              </a:rPr>
              <a:t>ОПОРНО-ДВИГАТЕЛЬНАЯ СИСТЕМ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Ухудшение кровоснабжения из–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гангргене 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конечносте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6" name="Picture 4" descr="PE01080_"/>
          <p:cNvPicPr/>
          <p:nvPr/>
        </p:nvPicPr>
        <p:blipFill>
          <a:blip r:embed="rId1"/>
          <a:stretch/>
        </p:blipFill>
        <p:spPr>
          <a:xfrm>
            <a:off x="324000" y="4869000"/>
            <a:ext cx="1284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ПОЛОВ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809360"/>
            <a:ext cx="7848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 Narrow"/>
              </a:rPr>
              <a:t>МУЖЧИНЫ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Курение начатое в любом возрасте, отрицательно влияет на половую функцию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Никотиновая интоксикация в юношеском возрасте - одна из причин будущего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бесплодия</a:t>
            </a: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Увеличивается количество уродливых, неполноценных сперматозоидов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Угнетает центры эрекции, резко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снижает 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влечение мужчин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Лечение импотенции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возможно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тогда, когда  больной бросит курить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ЖЕНЩИ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Самое частое осложнение  -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выкидыши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до 36 недель в 2 раза чаще некурящих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Патологии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при родах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Выше процент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мертворожденных 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дете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Чаще  других курильщицы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не могут родить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детей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Курящая женщина болеет в 3-4 раза чаще, чем некурящие!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30120" y="4657680"/>
            <a:ext cx="171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Рак матки 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Бесплод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5" descr="PE02328_"/>
          <p:cNvPicPr/>
          <p:nvPr/>
        </p:nvPicPr>
        <p:blipFill>
          <a:blip r:embed="rId1"/>
          <a:stretch/>
        </p:blipFill>
        <p:spPr>
          <a:xfrm>
            <a:off x="4859280" y="4221000"/>
            <a:ext cx="228600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лияет ли курение на интеллект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одном из номеров  журнала «The New Scientist» и в   опубликованы исследования ученых из Абердинского университета (Шотландия) согласно которым курение табака медленно, но верно снижает IQ. Исследователи в 1947 г. определяли коэффициент интеллектуальности у 465 добровольцев (в то время им было 11 лет). В 2002 году исследование повторили (испытуемым ?стукнуло&gt; по 64). Половина обследованных были курильщиками, а другая половина волонтеров не курила. Установлено, что у курильщиков показатели IQ были достоверно ниже, чем у некурящих. С учетом действия фактора образования, работы и уровня потребления алкоголя курение само по себе снижает интеллект примерно на 1%. Профессор Абердинского университета Lawrence Whally, который возглавлял проведение исследования пока затрудняется обьяснить причины такого  «поглупения»  вследствие табакокурения.</a:t>
            </a: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 чего все начинаетс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28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Банальное любопытство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212400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50920" y="220500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Ежедневная (ежечасная, ежеминутная) потребност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2195640" y="285264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24000" y="3429000"/>
            <a:ext cx="57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Заболевания мочеполовой, сердечно – сосудистой, нервной и дыхательной систе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1" name="Picture 10" descr="j0337276"/>
          <p:cNvPicPr/>
          <p:nvPr/>
        </p:nvPicPr>
        <p:blipFill>
          <a:blip r:embed="rId1"/>
          <a:stretch/>
        </p:blipFill>
        <p:spPr>
          <a:xfrm>
            <a:off x="5651640" y="1341360"/>
            <a:ext cx="2971800" cy="21211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3"/>
          <p:cNvSpPr/>
          <p:nvPr/>
        </p:nvSpPr>
        <p:spPr>
          <a:xfrm>
            <a:off x="2195640" y="4149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95280" y="4869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Рак легких, бесплодие, гипертензия, малокровие и многие другие заболевания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2195640" y="5589720"/>
            <a:ext cx="288720" cy="431640"/>
          </a:xfrm>
          <a:prstGeom prst="downArrow">
            <a:avLst>
              <a:gd name="adj1" fmla="val 50000"/>
              <a:gd name="adj2" fmla="val 37375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539640" y="60213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окращение продолжительности жизн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6" name="Picture 17" descr="skele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84720" y="3860640"/>
            <a:ext cx="2248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же бросить кури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0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САМЫЙ ЛУЧШИЙ – НЕ НАЧИНАТЬ!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оверьте в себя. Поверьте, что вы можете бросить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опросите свою семью и друзей поддержать Вас в Вашем решении бросить курить.  Попросите их о полной поддержке и терпимости. Поставьте их в известность заранее, что Вы, возможно, будете раздражительным даже раздражающим во время расставания с этой вредной привычкой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Начните делать зарядку. Спорт просто несовместим с курением. Упражнения снимают стресс и помогают Вашему телу восстановиться от вреда нанесенного сигаретами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Делайте глубокие дыхательные упражнения каждый день по 3-5 минут. Очень медленно вдохните через нос, задержите дыхание на несколько секунд, очень медленно выдохните через рот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Найдите себе партнера - другого курильщика, который также хочет бросить курить.  Подбадривайте и помогайте друг другу, обращайтесь к другу,  когда почувствуете, что не выдерживаете. Зайдите к нам на Форум  или в чат, там наверняка найдется помощь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щательно чистите зубы. Обращайте внимание на то, как быстро улучшается их состояние и как они белеют. Представьте себе и получите удовольствие от мысли о том,  как они будут выглядеть через месяц, три или год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        </a:t>
            </a:r>
            <a:r>
              <a:rPr b="0" lang="ru-RU" sz="4800" spc="-1" strike="noStrike">
                <a:solidFill>
                  <a:srgbClr val="205ff6"/>
                </a:solidFill>
                <a:latin typeface="Arial"/>
              </a:rPr>
              <a:t>Табак приносит вред                телу, разрушает разум, отупляет целые нации.</a:t>
            </a:r>
            <a:endParaRPr b="0" lang="en-US" sz="4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норе де Бальзак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5" name="Picture 5" descr="HH00887_"/>
          <p:cNvPicPr/>
          <p:nvPr/>
        </p:nvPicPr>
        <p:blipFill>
          <a:blip r:embed="rId1"/>
          <a:stretch/>
        </p:blipFill>
        <p:spPr>
          <a:xfrm>
            <a:off x="1187280" y="4005360"/>
            <a:ext cx="15116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53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чальные факты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От курения ежедневно умирает 700 россиян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Люди начавшие курить до 15 летнего возраста, умирают от рака легких в 5 раз чаще, чем те которые начали курить после 25 лет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Смертельная доза для взрослого человека содержится в одной пачке сигарет, если ее выкурить сразу, а для подростков полпачки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ОИТ ЗАДУМАТЬСЯ !!!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просы для обсужд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AutoNum type="arabicPeriod"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Monotype Corsiva"/>
              </a:rPr>
              <a:t>За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и</a:t>
            </a:r>
            <a:r>
              <a:rPr b="0" i="1" lang="ru-RU" sz="4000" spc="-1" strike="noStrike">
                <a:solidFill>
                  <a:srgbClr val="0000ff"/>
                </a:solidFill>
                <a:latin typeface="Monotype Corsiva"/>
              </a:rPr>
              <a:t> против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курения ?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AutoNum type="arabicPeriod"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Влияние никотина на основные системы организма ?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AutoNum type="arabicPeriod"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Как же бросить курить ?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ДУМАЙ ХОРОШО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skelet"/>
          <p:cNvPicPr/>
          <p:nvPr/>
        </p:nvPicPr>
        <p:blipFill>
          <a:blip r:embed="rId1"/>
          <a:stretch/>
        </p:blipFill>
        <p:spPr>
          <a:xfrm>
            <a:off x="2700360" y="1773360"/>
            <a:ext cx="33703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60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абак родом из Америки. Первыми европейцами, попробовавшими его в 1492 году были матросы знаменитой флотилии адмирала Христофора Колумб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числе подарков жители острова Гуанахани, который Колумб назвал Сан – Сальвадор, поднесли сушенные листья растения «петум». Сами они курили эти подсушенные на солнце листья, свернутые в трубочки. Жители Кубы, куда Колумб высадился 27 октября 1492 года назвали траву для курения «сигаро»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, в эпоху Элизаветы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, курильщиков приравнивали к ворам и водили по улицам с веревкой на ше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России, во времена царствования Михаила Федоровича Романова, уличенных в курении в первый раз наказывали 60 ударами палок по стопам, во второй – обрезанием носа или ушей. После сильнейшего пожара в Москве в 1634 году, причиной которого, как стало известно, было курение, оно было запрещено под страхом смертной казн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орговля табаком и курение  были разрешены в России в царствование Петр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, который стал сам заядлым курильщиком после посещения Голланд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Горящая сигарет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771200"/>
            <a:ext cx="80773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это химическая фабрика, продуцир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00  </a:t>
            </a: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соединений, в их числе более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 </a:t>
            </a: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канцерогенов и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12 </a:t>
            </a: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кокаканцерогенов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КАНЦЕРОГЕН - ракообразовывающий,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КОКАКАНЦЕРОГЕН – вещество, усиливающее воздействи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143760" y="2971800"/>
            <a:ext cx="20095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атистика гласи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1640" y="1628640"/>
          <a:ext cx="7543800" cy="4356360"/>
        </p:xfrm>
        <a:graphic>
          <a:graphicData uri="http://schemas.openxmlformats.org/drawingml/2006/table">
            <a:tbl>
              <a:tblPr/>
              <a:tblGrid>
                <a:gridCol w="3836880"/>
                <a:gridCol w="1916280"/>
                <a:gridCol w="17906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Состояние подростка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урящие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не курящие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. нервные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4%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. понижение слуха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. плохая память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. плохое физическое состояние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. плохое умственное состояние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6. нечистоплотны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7. плохие отметки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8. медленно соображают</a:t>
                      </a: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тчего же подростки начинают курить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тому что все мои друзья куря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бы выглядеть более взрослым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тому что мне нравится курить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лияние старших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тоянные стрессы и нервные напряжен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юбопытство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755640" y="1413000"/>
            <a:ext cx="7848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 т о  ж е  н а м  г о в о р я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д и к и  и  у ч е н ы 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7" descr="j0240719"/>
          <p:cNvPicPr/>
          <p:nvPr/>
        </p:nvPicPr>
        <p:blipFill>
          <a:blip r:embed="rId1"/>
          <a:stretch/>
        </p:blipFill>
        <p:spPr>
          <a:xfrm>
            <a:off x="179280" y="3860640"/>
            <a:ext cx="148428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торожно!!! Яд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кись углерода (угарный газ) соединяется с гемоглобином, при этом кровь переносит меньше  кислорода. А это очень тяжело переносит головной мозг подростка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ммиак раздражает слизистую оболочку рта, гортани, трахеи, бронхов. Вот почему у курильщиков не редкость рыхлость десен, язвочки во рту, часто восполяется зев, что приводит к возникновению ангин. От длительного курения происходит сужение голосовой щели, появляется осиплость голос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сигаретах содержатся вещества, вызывающим рак. К ним в первую очередь, относятся бензопирен и радиоактивный изотоп полоний-210. Если курильщик наберет в рот дым, а затем выдохнет его через платок, то на белой ткани останется коричневое пятно. Это и есть табачный деготь. В нем особенно много веществ вызывающих рак. Если ухо кролика несколько раз смазать табачным дегтем, то у животного образуется раковая опухоль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табаке содержится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1200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довитых веществ!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ияние курения на орган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59280" y="3357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5ff6"/>
                </a:solidFill>
                <a:latin typeface="Arial"/>
              </a:rPr>
              <a:t>Курение влияет 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1844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Сердечно – сосудист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465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ыхательн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508720" y="1916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очеполов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01200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ервн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 rot="12691800">
            <a:off x="2627280" y="270792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 rot="8670000">
            <a:off x="2555640" y="407664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 rot="18243000">
            <a:off x="5327280" y="260172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 rot="1927800">
            <a:off x="5651280" y="400500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4211640" y="3933720"/>
            <a:ext cx="358920" cy="1440000"/>
          </a:xfrm>
          <a:prstGeom prst="downArrow">
            <a:avLst>
              <a:gd name="adj1" fmla="val 50000"/>
              <a:gd name="adj2" fmla="val 100301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411280" y="5734080"/>
            <a:ext cx="40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ищеварительная систем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 rot="16200000">
            <a:off x="3887640" y="231300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132000" y="148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ровеносная систем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6:04:49Z</dcterms:created>
  <dc:creator>Бабкин</dc:creator>
  <dc:description/>
  <dc:language>en-US</dc:language>
  <cp:lastModifiedBy>Школьник 4</cp:lastModifiedBy>
  <dcterms:modified xsi:type="dcterms:W3CDTF">2010-11-10T05:48:37Z</dcterms:modified>
  <cp:revision>7</cp:revision>
  <dc:subject/>
  <dc:title>Слайд 1</dc:title>
</cp:coreProperties>
</file>