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919-8197-4AA8-9038-AB32E7DE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8A9-CA8C-41A8-8031-EB838C80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2F7-8B6E-471A-A058-032B5D26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10A-7076-438B-BA48-D1D48EF8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B1CE0-B5AE-4F0D-B54B-910EC7B4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07DB1-9B9D-4C35-9E65-0E097DB5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62A7E-0718-4755-8054-905D965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096B3-2ACE-431E-874B-CBF81106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E8836-5EC9-4AF4-AF78-FEEA868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2F2D5-54A3-48F7-976C-9CBC464F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2F48D-2A11-464B-B5DF-85F3167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32F-8859-4049-816E-7C190D0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E403D-456D-4C1E-AE70-D8430E2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D1F19-E25C-4ED0-9064-F889CA7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69994-4813-48F9-9032-6066B69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3C3A0-567F-4B17-BDEA-AD901DE0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D15D-B2AD-41A4-A365-93A45E29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6B2-D15D-4548-BD1F-FA588957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166-B355-4937-9C73-48CF18D9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84B-7481-4484-AE0F-90E2B9B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62D-D6C2-4263-B3DA-C44AD3E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5C5-43C5-4538-8DC7-F64DF99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07B-30F2-4F6B-87DB-5CD83DC1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BC6-5BCC-427F-8094-51C8E6C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AC6-ECA2-4680-8948-92C35A6A9E83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DC9-757B-425D-8B43-E1D5F93479E8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2"/>
          <p:cNvSpPr txBox="1"/>
          <p:nvPr/>
        </p:nvSpPr>
        <p:spPr>
          <a:xfrm>
            <a:off x="1187280" y="2857680"/>
            <a:ext cx="69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205ff6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оворим о куре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205ff6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24000" y="692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Холмушинская основная общеобразовательная школ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Дыхатель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почти 97% больных раком – курильщики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067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ВЕНОС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Стенокардия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у курильщиков чаще в 13 раз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Инфаркт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Острый инфаркт миокарда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Picture 4" descr="HM00304_"/>
          <p:cNvPicPr/>
          <p:nvPr/>
        </p:nvPicPr>
        <p:blipFill>
          <a:blip r:embed="rId1"/>
          <a:stretch/>
        </p:blipFill>
        <p:spPr>
          <a:xfrm>
            <a:off x="4876920" y="5029200"/>
            <a:ext cx="879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 Narrow"/>
              </a:rPr>
              <a:t>ПИЩЕВАРИТЕЛЬНАЯ СИСТЕМ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;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кишечника ведет к смерти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хронический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желудка и 12- перстной кишки (в 10 раз чаще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Приводит к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Picture 4" descr="HM00307_"/>
          <p:cNvPicPr/>
          <p:nvPr/>
        </p:nvPicPr>
        <p:blipFill>
          <a:blip r:embed="rId1"/>
          <a:stretch/>
        </p:blipFill>
        <p:spPr>
          <a:xfrm>
            <a:off x="3995640" y="5300640"/>
            <a:ext cx="12193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ЫДЕЛ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Развитие </a:t>
            </a: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, вплоть до рака мочевого пузыря; 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 моче образуется </a:t>
            </a: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бензапирен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стречается у курильщиков в 5 раз чаще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HH00887_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</a:rPr>
              <a:t>ОПОРНО-ДВИГАТЕЛЬНАЯ СИСТЕМ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6" name="Picture 4" descr="PE01080_"/>
          <p:cNvPicPr/>
          <p:nvPr/>
        </p:nvPicPr>
        <p:blipFill>
          <a:blip r:embed="rId1"/>
          <a:stretch/>
        </p:blipFill>
        <p:spPr>
          <a:xfrm>
            <a:off x="324000" y="4869000"/>
            <a:ext cx="1284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ПОЛОВ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809360"/>
            <a:ext cx="7848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величивается количество уродливых, неполноценных сперматозоидов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гнетает центры эрекции, резк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снижает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лечение мужчин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Лечение импотенц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озможно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тогда, когда  больной бросит курить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ЖЕНЩИ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Самое частое осложнение  -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о 36 недель в 2 раза чаще некурящи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при рода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ыше процент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дете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Чаще  других курильщицы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етей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30120" y="4657680"/>
            <a:ext cx="171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5" descr="PE02328_"/>
          <p:cNvPicPr/>
          <p:nvPr/>
        </p:nvPicPr>
        <p:blipFill>
          <a:blip r:embed="rId1"/>
          <a:stretch/>
        </p:blipFill>
        <p:spPr>
          <a:xfrm>
            <a:off x="4859280" y="422100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лияет ли курение на интеллект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одном из номеров  журнала «The New Scientist» и в   опубликованы исследования ученых из Абердинского университета (Шотландия) согласно которым курение табака медленно, но верно снижает IQ. Исследователи в 1947 г. определяли коэффициент интеллектуальности у 465 добровольцев (в то время им было 11 лет). В 2002 году исследование повторили (испытуемым ?стукнуло&gt; по 64). Половина обследованных были курильщиками, а другая половина волонтеров не курила. Установлено, что у курильщиков показатели IQ были достоверно ниже, чем у некурящих. С учетом действия фактора образования, работы и уровня потребления алкоголя курение само по себе снижает интеллект примерно на 1%. Профессор Абердинского университета Lawrence Whally, который возглавлял проведение исследования пока затрудняется обьяснить причины такого  «поглупения»  вследствие табакокурения.</a:t>
            </a: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чего все начинае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28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Банальное любопытство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12400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0920" y="2205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Ежедневная (ежечасная, ежеминутная) потребност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219564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24000" y="3429000"/>
            <a:ext cx="57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Заболевания мочеполовой, сердечно – сосудистой, нервной и дыхательной систе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1" name="Picture 10" descr="j0337276"/>
          <p:cNvPicPr/>
          <p:nvPr/>
        </p:nvPicPr>
        <p:blipFill>
          <a:blip r:embed="rId1"/>
          <a:stretch/>
        </p:blipFill>
        <p:spPr>
          <a:xfrm>
            <a:off x="5651640" y="1341360"/>
            <a:ext cx="2971800" cy="2121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2195640" y="414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95280" y="4869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ак легких, бесплодие, гипертензия, малокровие и многие другие заболевания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195640" y="5589720"/>
            <a:ext cx="288720" cy="431640"/>
          </a:xfrm>
          <a:prstGeom prst="down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39640" y="6021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окращение продолжительности жизн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6" name="Picture 17" descr="skele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860640"/>
            <a:ext cx="2248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же бросить кури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АМЫЙ ЛУЧШИЙ – НЕ НАЧИНАТЬ!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верьте в себя. Поверьте, что вы можете бросить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просите свою семью и друзей поддержать Вас в Вашем решении бросить курить.  Попросите их о полной поддержке и терпимости. Поставьте их в известность заранее, что Вы, возможно, будете раздражительным даже раздражающим во время расставания с этой вредной привычкой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чните делать зарядку. Спорт просто несовместим с курением. Упражнения снимают стресс и помогают Вашему телу восстановиться от вреда нанесенного сигаретами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Делайте глубокие дыхательные упражнения каждый день по 3-5 минут. Очень медленно вдохните через нос, задержите дыхание на несколько секунд, очень медленно выдохните через рот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йдите себе партнера - другого курильщика, который также хочет бросить курить.  Подбадривайте и помогайте друг другу, обращайтесь к другу,  когда почувствуете, что не выдерживаете. Зайдите к нам на Форум  или в чат, там наверняка найдется помощь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щательно чистите зубы. Обращайте внимание на то, как быстро улучшается их состояние и как они белеют. Представьте себе и получите удовольствие от мысли о том,  как они будут выглядеть через месяц, три или год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205ff6"/>
                </a:solidFill>
                <a:latin typeface="Arial"/>
              </a:rPr>
              <a:t>Табак приносит вред                телу, разрушает разум, отупляет целые нации.</a:t>
            </a:r>
            <a:endParaRPr b="0" lang="en-US" sz="4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оре де Бальзак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5" name="Picture 5" descr="HH00887_"/>
          <p:cNvPicPr/>
          <p:nvPr/>
        </p:nvPicPr>
        <p:blipFill>
          <a:blip r:embed="rId1"/>
          <a:stretch/>
        </p:blipFill>
        <p:spPr>
          <a:xfrm>
            <a:off x="1187280" y="4005360"/>
            <a:ext cx="1511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чальные факты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От курения ежедневно умирает 700 россиян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Люди начавшие курить до 15 летнего возраста, умирают от рака легких в 5 раз чаще, чем те которые начали курить после 25 лет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ОИТ ЗАДУМАТЬСЯ !!!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ы для обсу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За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и</a:t>
            </a: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 против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урения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Влияние никотина на основные системы организма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Как же бросить курить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ДУМАЙ ХОРОШ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skelet"/>
          <p:cNvPicPr/>
          <p:nvPr/>
        </p:nvPicPr>
        <p:blipFill>
          <a:blip r:embed="rId1"/>
          <a:stretch/>
        </p:blipFill>
        <p:spPr>
          <a:xfrm>
            <a:off x="2700360" y="1773360"/>
            <a:ext cx="33703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абак родом из Америки. Первыми европейцами, попробовавшими его в 1492 году были матросы знаменитой флотилии адмирала Христофора Колумб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числе подарков жители острова Гуанахани, который Колумб назвал Сан – Сальвадор, поднесли сушенные листья растения «петум». Сами они курили эти подсушенные на солнце листья, свернутые в трубочки. Жители Кубы, куда Колумб высадился 27 октября 1492 года назвали траву для курения «сигаро»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, в эпоху Элизаветы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урильщиков приравнивали к ворам и водили по улицам с веревкой на ше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России, во времена царствования Михаила Федоровича Романова, уличенных в курении в первый раз наказывали 60 ударами палок по стопам, во второй – обрезанием носа или ушей. После сильнейшего пожара в Москве в 1634 году, причиной которого, как стало известно, было курение, оно было запрещено под страхом смертной казн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орговля табаком и курение  были разрешены в России в царствование Петр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оторый стал сам заядлым курильщиком после посещения Голланд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Горящая сигарет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771200"/>
            <a:ext cx="80773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143760" y="2971800"/>
            <a:ext cx="20095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тистика гласи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1640" y="1628640"/>
          <a:ext cx="7543800" cy="4356360"/>
        </p:xfrm>
        <a:graphic>
          <a:graphicData uri="http://schemas.openxmlformats.org/drawingml/2006/table">
            <a:tbl>
              <a:tblPr/>
              <a:tblGrid>
                <a:gridCol w="3836880"/>
                <a:gridCol w="1916280"/>
                <a:gridCol w="17906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остояние подростк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 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. нервны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4%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. понижение слуха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. плохая память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. плохое физическ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. плохое умственн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. нечистоплотны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7. плохие отметки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8. медленно соображают</a:t>
                      </a: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чего же подростки начинают курить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все мои друзья куря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бы выглядеть более взросл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мне нравится курить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ияние старших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оянные стрессы и нервные напряж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юбопытство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1413000"/>
            <a:ext cx="784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т о  ж е  н а м  г о в о р я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д и к и  и  у ч е н ы 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7" descr="j0240719"/>
          <p:cNvPicPr/>
          <p:nvPr/>
        </p:nvPicPr>
        <p:blipFill>
          <a:blip r:embed="rId1"/>
          <a:stretch/>
        </p:blipFill>
        <p:spPr>
          <a:xfrm>
            <a:off x="179280" y="3860640"/>
            <a:ext cx="14842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орожно!!! Яд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кись углерода (угарный газ) соединяется с гемоглобином, при этом кровь переносит меньше  кислорода. А это очень тяжело переносит головной мозг подростка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ммиак раздражает слизистую оболочку рта, гортани, трахеи, бронхов. Вот почему у курильщиков не редкость рыхлость десен, язвочки во рту, часто восполяется зев, что приводит к возникновению ангин. От длительного курения происходит сужение голосовой щели, появляется осиплость голос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сигаретах содержатся вещества, вызывающим рак. К ним в первую очередь, относятся бензопирен и радиоактивный изотоп полоний-210. Если курильщик наберет в рот дым, а затем выдохнет его через платок, то на белой ткани останется коричневое пятно. Это и есть табачный деготь. В нем особенно много веществ вызывающих рак. Если ухо кролика несколько раз смазать табачным дегтем, то у животного образуется раковая опухоль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табаке содержится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1200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довитых веществ!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ияние курения на орган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59280" y="3357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5ff6"/>
                </a:solidFill>
                <a:latin typeface="Arial"/>
              </a:rPr>
              <a:t>Курение влияет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4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ердечно – сосудист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65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ыхатель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508720" y="1916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очеполов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12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ерв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12691800">
            <a:off x="2627280" y="270792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rot="8670000">
            <a:off x="2555640" y="407664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8243000">
            <a:off x="5327280" y="260172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927800">
            <a:off x="5651280" y="400500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4211640" y="3933720"/>
            <a:ext cx="358920" cy="1440000"/>
          </a:xfrm>
          <a:prstGeom prst="downArrow">
            <a:avLst>
              <a:gd name="adj1" fmla="val 50000"/>
              <a:gd name="adj2" fmla="val 100301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411280" y="5734080"/>
            <a:ext cx="40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ищеваритель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 rot="16200000">
            <a:off x="3887640" y="231300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132000" y="148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6:04:49Z</dcterms:created>
  <dc:creator>Бабкин</dc:creator>
  <dc:description/>
  <dc:language>en-US</dc:language>
  <cp:lastModifiedBy>Школьник 4</cp:lastModifiedBy>
  <dcterms:modified xsi:type="dcterms:W3CDTF">2010-11-10T05:48:37Z</dcterms:modified>
  <cp:revision>7</cp:revision>
  <dc:subject/>
  <dc:title>Слайд 1</dc:title>
</cp:coreProperties>
</file>