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E82-E5FE-436F-97B9-597F4863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49E-A269-4B54-9264-62F43382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2C4-30E5-4FDF-9DD1-C02BF13B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DA3-B64B-4754-8C4A-C0BD8FA1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E960-8159-4D7E-909F-25FFD099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9F8B-72A9-473F-B1FA-9AD4CDE4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B3AF-B8B3-41DA-A74F-E7E4A4E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5E5B-C3CF-412E-8122-D1FD5A6A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D80D-4FB8-4AD6-BA70-E3F11749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79E7-4309-465F-9633-67D00ACB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EF89-3677-411E-AFCB-B6E4BC9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58B-D5D3-465A-8D7F-1F03D593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261C-0D4E-437B-8CA7-49D58FA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A639-43E9-462C-B02C-3FB7FC8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17B0-046C-44E4-9B50-F416BA1F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EE53-A2F0-4EEF-BEB3-D04BE84D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7764-F498-4A55-99D9-40D221D9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391-ABBE-45AE-A525-D63F5CD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C02-D551-410D-80AF-6A2BA020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B70-6132-4FB4-BA0E-C9EEC31A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0BA-D62D-45C0-A354-6C0CB16C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778-6B7F-471A-A3D0-D13A39A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4F0-EF5D-46D9-B19C-17D60D1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976-768D-4EE6-89A9-7443A87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d3696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d3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46A3-E3C0-452C-92FC-939B4F181E86}" type="slidenum">
              <a:rPr b="0" lang="en-US" sz="1000" spc="-1" strike="noStrike">
                <a:solidFill>
                  <a:srgbClr val="cc66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d3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66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66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2E5C-E150-4616-9501-7913395ED6CA}" type="slidenum">
              <a:rPr b="0" lang="en-US" sz="1000" spc="-1" strike="noStrike">
                <a:solidFill>
                  <a:srgbClr val="cc66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d3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66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c66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d369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cc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00360" y="685440"/>
            <a:ext cx="575784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6699"/>
                </a:solidFill>
                <a:latin typeface="Garamond"/>
              </a:rPr>
              <a:t>ПРОЕКТ </a:t>
            </a:r>
            <a:endParaRPr b="0" lang="en-US" sz="5800" spc="-1" strike="noStrike">
              <a:solidFill>
                <a:srgbClr val="ff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4535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«Святыни</a:t>
            </a:r>
            <a:endParaRPr b="0" lang="en-US" sz="5400" spc="-1" strike="noStrike">
              <a:solidFill>
                <a:srgbClr val="cc66ff"/>
              </a:solidFill>
              <a:latin typeface="Verdan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cc66ff"/>
                </a:solidFill>
                <a:latin typeface="Verdana"/>
              </a:rPr>
              <a:t>России»</a:t>
            </a:r>
            <a:endParaRPr b="0" lang="en-US" sz="54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805360"/>
            <a:ext cx="622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Над проектом работали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учащиеся 5 класса А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867280" y="3068640"/>
            <a:ext cx="2989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22222E-006 -1.48148E-006 L 0.0158 0.91991 E">
                                      <p:cBhvr>
                                        <p:cTn id="15" dur="9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4440"/>
          </a:xfrm>
          <a:prstGeom prst="rect">
            <a:avLst/>
          </a:prstGeom>
          <a:ln w="88920">
            <a:solidFill>
              <a:srgbClr val="80008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500280"/>
          </a:xfrm>
          <a:prstGeom prst="rect">
            <a:avLst/>
          </a:prstGeom>
          <a:ln w="88920">
            <a:solidFill>
              <a:srgbClr val="993366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187280" y="3716280"/>
            <a:ext cx="7317000" cy="26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Любите Русь- святынь оплот, 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Мир кроткой кельи монастырской,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Дух мощный рати богатырской, 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Нас всех хранящей от невзгод!..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Любите дети свой народ!</a:t>
            </a:r>
            <a:br>
              <a:rPr sz="2800"/>
            </a:br>
            <a:r>
              <a:rPr b="1" lang="ru-RU" sz="2800" spc="-1" strike="noStrike">
                <a:solidFill>
                  <a:srgbClr val="6d3696"/>
                </a:solidFill>
                <a:latin typeface="Garamond"/>
              </a:rPr>
              <a:t>                                    С.С. Бехтеев</a:t>
            </a:r>
            <a:endParaRPr b="0" lang="en-US" sz="2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4270320" cy="4753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Garamond"/>
              </a:rPr>
              <a:t>ПСКОВО-ПЕЧЁРСКИЙ </a:t>
            </a:r>
            <a:br>
              <a:rPr sz="3600"/>
            </a:br>
            <a:r>
              <a:rPr b="1" lang="en-US" sz="3600" spc="-1" strike="noStrike">
                <a:solidFill>
                  <a:srgbClr val="ff6699"/>
                </a:solidFill>
                <a:latin typeface="Garamond"/>
              </a:rPr>
              <a:t>МОНАСТЫРЬ</a:t>
            </a:r>
            <a:endParaRPr b="0" lang="en-US" sz="3600" spc="-1" strike="noStrike">
              <a:solidFill>
                <a:srgbClr val="ff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3735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4788000" cy="3573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4292640"/>
            <a:ext cx="3600360" cy="165564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ФЕРАПОНТОВ</a:t>
            </a:r>
            <a:endParaRPr b="0" lang="en-US" sz="2400" spc="-1" strike="noStrike">
              <a:solidFill>
                <a:srgbClr val="cc66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МОНАСТЫРЬ</a:t>
            </a: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51280" y="2060640"/>
            <a:ext cx="475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Garamond"/>
              </a:rPr>
              <a:t>В 1798 упразднен, восстановлен в 1903 как женский монастырь. Закрыт после 1917, с 1924 музей, ныне филиал Кирилло-Белозерского историко-архитектурного и художественного музея-заповедника. Часть зданий Ферапонтова монастыря передана Русской православной церкви. Архитектурный ансамбль 15-17 вв. В соборе Рождества богородицы (1490) — росписи Дионисия  и его сыновей (1502-03).</a:t>
            </a:r>
            <a:endParaRPr b="0" lang="en-US" sz="20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0"/>
            <a:ext cx="55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ФЕРАПОНТОВ МОНАСТЫРЬ-мужской, основан ок. 1398 монахом московского Симонова монастыря Ферапонтом между Бородавским и Пасским озерами (ныне с. Ферапонтово Вологодской обл.).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527640" cy="2633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Garamond"/>
              </a:rPr>
              <a:t>Троице- Сергиева лавра</a:t>
            </a:r>
            <a:endParaRPr b="0" lang="en-US" sz="4400" spc="-1" strike="noStrike">
              <a:solidFill>
                <a:srgbClr val="ff6699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4268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292720" cy="3951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414972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православный мужской монастырь, расположен в 71 км к северу от Москвы в городе Сергиевом Посаде Московской области; основан Сергием Радонежским в середине 14 века. Дату основания монастыря возводят к 1337 году, когда Сергий основал пустынь в честь Троицы на горе Маковец недалеко от Радонежа и Хотькова.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41300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Garamond"/>
              </a:rPr>
              <a:t>ТРОИЦЕ-СЕРГИЕВА ЛАВРА,</a:t>
            </a:r>
            <a:endParaRPr b="0" lang="en-US" sz="24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689440" cy="424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42940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Verdana"/>
              </a:rPr>
              <a:t>Первый монастырский деревянный храм во имя Троицы был освящен в 1340-х годах. В это же время здесь был принят устав монашескогго общежития, и Сергий стал игуменом нового монастыря. Благодаря авторитету Сергия Троицкая обитель становится духовным центром Московской Руси; здесь Сергий благословил Дмитрия Донского на Куликовскую битву, влияние Сергия нередко помогало разрешать междуусобные споры князей. Ученики и последователи Сергия впоследствии основали 37 обителей в разных местах Руси. 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404640"/>
            <a:ext cx="3776760" cy="5832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859280" y="134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427640" y="1360440"/>
            <a:ext cx="471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«Монастырь честной воздвиг, который и доныне стоит благодатию Христовой»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800080"/>
                </a:solidFill>
                <a:latin typeface="Monotype Corsiva"/>
              </a:rPr>
              <a:t>Епифаний Премудрый</a:t>
            </a:r>
            <a:r>
              <a:rPr b="0" lang="ru-RU" sz="3600" spc="-1" strike="noStrike">
                <a:solidFill>
                  <a:srgbClr val="800080"/>
                </a:solidFill>
                <a:latin typeface="Monotype Corsiva"/>
              </a:rPr>
              <a:t> 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1:15:04Z</dcterms:created>
  <dc:creator>Ultra</dc:creator>
  <dc:description/>
  <dc:language>en-US</dc:language>
  <cp:lastModifiedBy>Ultra</cp:lastModifiedBy>
  <dcterms:modified xsi:type="dcterms:W3CDTF">2010-11-01T01:47:36Z</dcterms:modified>
  <cp:revision>2</cp:revision>
  <dc:subject/>
  <dc:title>ПРОЕКТ </dc:title>
</cp:coreProperties>
</file>