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9D9D8-C580-4874-A6E1-1B00F8AA1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99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B0118-9095-4107-9D40-DCFB63A05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99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EF0D2-9F7D-4937-8FD0-0DBFD6627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99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9EFD3-FE21-4658-8B15-64BA98E03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FCEE9-5172-427D-B3FC-28117C0E1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99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BF1B0-E0A6-4ED8-9539-22F35DC69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99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1E10C-5225-4250-A203-D94DB2E04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99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B1BC2-12A0-423D-B32C-034241467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48AC3-B4F5-488A-80AA-84174E765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07C05-EE6E-4542-AFF7-06476D854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99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3A70D-634F-4E31-979B-8BAE3730A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99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3425E-2925-403C-8CC5-240E4D174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99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973FB-DB78-49B3-9E47-D7DA53273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99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3672B-E998-404B-9C69-1A736E0E7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99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605AA-058E-4232-AB7D-46C99610B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99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16284-8917-46DC-AE8C-11B253924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99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5B110-4915-4219-81F4-EDB90CBEE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99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40894-2AC5-4C17-B657-96FC6A26C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99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FA29B-026A-422C-AA51-C756C1DFE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493B9-727D-4CDF-9F12-3C7C05853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73BC3-D723-4913-9B85-F7BA3E10D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99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A1E38-82D4-41AA-BF93-D7C93CE3E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99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7F0C6-13DE-462F-AAD3-B0656EECD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99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54B6D-C994-4180-A0D7-842FB7286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99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6699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d3696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ff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666699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ff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d369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ff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f66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ff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cc66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ff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cc66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ff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cc66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66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cc66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66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cc66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8A94D-CC3C-47B0-829B-B06DBB9A74BB}" type="slidenum">
              <a:rPr b="0" lang="en-US" sz="1000" spc="-1" strike="noStrike">
                <a:solidFill>
                  <a:srgbClr val="cc66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d3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66ff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66ff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66ff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ff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66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ff6699"/>
                </a:solidFill>
                <a:latin typeface="Garamond"/>
              </a:rPr>
              <a:t>Click to edit the title text format</a:t>
            </a:r>
            <a:endParaRPr b="0" lang="en-US" sz="5800" spc="-1" strike="noStrike">
              <a:solidFill>
                <a:srgbClr val="ff6699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cc66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66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cc66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66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cc66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8402D-D406-4815-99F6-006F4B327239}" type="slidenum">
              <a:rPr b="0" lang="en-US" sz="1000" spc="-1" strike="noStrike">
                <a:solidFill>
                  <a:srgbClr val="cc66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0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d3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c66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c66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ff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c66ff"/>
                </a:solidFill>
                <a:latin typeface="Arial"/>
              </a:endParaRPr>
            </a:p>
          </p:txBody>
        </p:sp>
      </p:grp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66ff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cc66ff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ff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cc66ff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666699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ff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cc66ff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6d369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66ff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cc66ff"/>
              </a:solidFill>
              <a:latin typeface="Verdana"/>
            </a:endParaRPr>
          </a:p>
          <a:p>
            <a:pPr lvl="4" marL="1828800" algn="ctr">
              <a:spcBef>
                <a:spcPts val="451"/>
              </a:spcBef>
              <a:buClr>
                <a:srgbClr val="ff6699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66ff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cc66ff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cc66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66ff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cc66ff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cc66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66ff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cc66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700360" y="685440"/>
            <a:ext cx="575784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ff6699"/>
                </a:solidFill>
                <a:latin typeface="Garamond"/>
              </a:rPr>
              <a:t>ПРОЕКТ </a:t>
            </a:r>
            <a:endParaRPr b="0" lang="en-US" sz="5800" spc="-1" strike="noStrike">
              <a:solidFill>
                <a:srgbClr val="ff6699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68360" y="3284640"/>
            <a:ext cx="453528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66ff"/>
                </a:solidFill>
                <a:latin typeface="Verdana"/>
              </a:rPr>
              <a:t>«Святыни</a:t>
            </a:r>
            <a:endParaRPr b="0" lang="en-US" sz="5400" spc="-1" strike="noStrike">
              <a:solidFill>
                <a:srgbClr val="cc66ff"/>
              </a:solidFill>
              <a:latin typeface="Verdana"/>
            </a:endParaRPr>
          </a:p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66ff"/>
                </a:solidFill>
                <a:latin typeface="Verdana"/>
              </a:rPr>
              <a:t> </a:t>
            </a:r>
            <a:r>
              <a:rPr b="1" lang="en-US" sz="5400" spc="-1" strike="noStrike">
                <a:solidFill>
                  <a:srgbClr val="cc66ff"/>
                </a:solidFill>
                <a:latin typeface="Verdana"/>
              </a:rPr>
              <a:t>России»</a:t>
            </a:r>
            <a:endParaRPr b="0" lang="en-US" sz="54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92" name=""/>
          <p:cNvSpPr/>
          <p:nvPr/>
        </p:nvSpPr>
        <p:spPr>
          <a:xfrm>
            <a:off x="0" y="5805360"/>
            <a:ext cx="6227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66ff"/>
                </a:solidFill>
                <a:latin typeface="Verdana"/>
              </a:rPr>
              <a:t>Над проектом работали</a:t>
            </a:r>
            <a:endParaRPr b="0" lang="en-US" sz="1800" spc="-1" strike="noStrike">
              <a:solidFill>
                <a:srgbClr val="cc66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66ff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cc66ff"/>
                </a:solidFill>
                <a:latin typeface="Verdana"/>
              </a:rPr>
              <a:t>учащиеся 5 класса А</a:t>
            </a:r>
            <a:endParaRPr b="0" lang="en-US" sz="1800" spc="-1" strike="noStrike">
              <a:solidFill>
                <a:srgbClr val="cc66ff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395280" y="260280"/>
            <a:ext cx="3456000" cy="25923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5867280" y="3068640"/>
            <a:ext cx="298944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3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0"/>
                            </p:stCondLst>
                            <p:childTnLst>
                              <p:par>
                                <p:cTn id="14" nodeType="afterEffect" fill="hold" presetClass="path" presetID="0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2.22222E-006 -1.48148E-006 L 0.0158 0.91991 E">
                                      <p:cBhvr>
                                        <p:cTn id="15" dur="9000" fill="hold"/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643280" cy="3484440"/>
          </a:xfrm>
          <a:prstGeom prst="rect">
            <a:avLst/>
          </a:prstGeom>
          <a:ln w="88920">
            <a:solidFill>
              <a:srgbClr val="800080"/>
            </a:solidFill>
            <a:miter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4716360" y="0"/>
            <a:ext cx="4427640" cy="3500280"/>
          </a:xfrm>
          <a:prstGeom prst="rect">
            <a:avLst/>
          </a:prstGeom>
          <a:ln w="88920">
            <a:solidFill>
              <a:srgbClr val="993366"/>
            </a:solidFill>
            <a:miter/>
          </a:ln>
        </p:spPr>
      </p:pic>
      <p:sp>
        <p:nvSpPr>
          <p:cNvPr id="97" name=""/>
          <p:cNvSpPr/>
          <p:nvPr/>
        </p:nvSpPr>
        <p:spPr>
          <a:xfrm>
            <a:off x="1187280" y="3716280"/>
            <a:ext cx="7317000" cy="26240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d3696"/>
                </a:solidFill>
                <a:latin typeface="Garamond"/>
              </a:rPr>
              <a:t>Любите Русь- святынь оплот, </a:t>
            </a:r>
            <a:br>
              <a:rPr sz="2800"/>
            </a:br>
            <a:r>
              <a:rPr b="1" lang="ru-RU" sz="2800" spc="-1" strike="noStrike">
                <a:solidFill>
                  <a:srgbClr val="6d3696"/>
                </a:solidFill>
                <a:latin typeface="Garamond"/>
              </a:rPr>
              <a:t>Мир кроткой кельи монастырской,</a:t>
            </a:r>
            <a:br>
              <a:rPr sz="2800"/>
            </a:br>
            <a:r>
              <a:rPr b="1" lang="ru-RU" sz="2800" spc="-1" strike="noStrike">
                <a:solidFill>
                  <a:srgbClr val="6d3696"/>
                </a:solidFill>
                <a:latin typeface="Garamond"/>
              </a:rPr>
              <a:t>Дух мощный рати богатырской, </a:t>
            </a:r>
            <a:br>
              <a:rPr sz="2800"/>
            </a:br>
            <a:r>
              <a:rPr b="1" lang="ru-RU" sz="2800" spc="-1" strike="noStrike">
                <a:solidFill>
                  <a:srgbClr val="6d3696"/>
                </a:solidFill>
                <a:latin typeface="Garamond"/>
              </a:rPr>
              <a:t>Нас всех хранящей от невзгод!..</a:t>
            </a:r>
            <a:br>
              <a:rPr sz="2800"/>
            </a:br>
            <a:r>
              <a:rPr b="1" lang="ru-RU" sz="2800" spc="-1" strike="noStrike">
                <a:solidFill>
                  <a:srgbClr val="6d3696"/>
                </a:solidFill>
                <a:latin typeface="Garamond"/>
              </a:rPr>
              <a:t>Любите дети свой народ!</a:t>
            </a:r>
            <a:br>
              <a:rPr sz="2800"/>
            </a:br>
            <a:r>
              <a:rPr b="1" lang="ru-RU" sz="2800" spc="-1" strike="noStrike">
                <a:solidFill>
                  <a:srgbClr val="6d3696"/>
                </a:solidFill>
                <a:latin typeface="Garamond"/>
              </a:rPr>
              <a:t>                                    С.С. Бехтеев</a:t>
            </a:r>
            <a:endParaRPr b="0" lang="en-US" sz="2800" spc="-1" strike="noStrike">
              <a:solidFill>
                <a:srgbClr val="cc66ff"/>
              </a:solidFill>
              <a:latin typeface="Arial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" dur="5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3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2340000" y="1628640"/>
            <a:ext cx="4270320" cy="475308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91440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99"/>
                </a:solidFill>
                <a:latin typeface="Garamond"/>
              </a:rPr>
              <a:t>ПСКОВО-ПЕЧЁРСКИЙ </a:t>
            </a:r>
            <a:br>
              <a:rPr sz="3600"/>
            </a:br>
            <a:r>
              <a:rPr b="1" lang="en-US" sz="3600" spc="-1" strike="noStrike">
                <a:solidFill>
                  <a:srgbClr val="ff6699"/>
                </a:solidFill>
                <a:latin typeface="Garamond"/>
              </a:rPr>
              <a:t>МОНАСТЫРЬ</a:t>
            </a:r>
            <a:endParaRPr b="0" lang="en-US" sz="3600" spc="-1" strike="noStrike">
              <a:solidFill>
                <a:srgbClr val="ff6699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003640" cy="37353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4356000" y="3213000"/>
            <a:ext cx="4788000" cy="357372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395280" y="4292640"/>
            <a:ext cx="3600360" cy="165564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cc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ff"/>
                </a:solidFill>
                <a:latin typeface="Garamond"/>
              </a:rPr>
              <a:t>ФЕРАПОНТОВ</a:t>
            </a:r>
            <a:endParaRPr b="0" lang="en-US" sz="2400" spc="-1" strike="noStrike">
              <a:solidFill>
                <a:srgbClr val="cc66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ff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cc66ff"/>
                </a:solidFill>
                <a:latin typeface="Garamond"/>
              </a:rPr>
              <a:t>МОНАСТЫРЬ</a:t>
            </a:r>
            <a:r>
              <a:rPr b="0" lang="en-US" sz="1800" spc="-1" strike="noStrike">
                <a:solidFill>
                  <a:srgbClr val="cc66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cc66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20364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3851280" y="2060640"/>
            <a:ext cx="475308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ff"/>
                </a:solidFill>
                <a:latin typeface="Garamond"/>
              </a:rPr>
              <a:t>В 1798 упразднен, восстановлен в 1903 как женский монастырь. Закрыт после 1917, с 1924 музей, ныне филиал Кирилло-Белозерского историко-архитектурного и художественного музея-заповедника. Часть зданий Ферапонтова монастыря передана Русской православной церкви. Архитектурный ансамбль 15-17 вв. В соборе Рождества богородицы (1490) — росписи Дионисия  и его сыновей (1502-03).</a:t>
            </a:r>
            <a:endParaRPr b="0" lang="en-US" sz="2000" spc="-1" strike="noStrike">
              <a:solidFill>
                <a:srgbClr val="cc66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64000" y="0"/>
            <a:ext cx="5580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66ff"/>
                </a:solidFill>
                <a:latin typeface="Verdana"/>
              </a:rPr>
              <a:t>ФЕРАПОНТОВ МОНАСТЫРЬ-мужской, основан ок. 1398 монахом московского Симонова монастыря Ферапонтом между Бородавским и Пасским озерами (ныне с. Ферапонтово Вологодской обл.).</a:t>
            </a:r>
            <a:endParaRPr b="0" lang="en-US" sz="1800" spc="-1" strike="noStrike">
              <a:solidFill>
                <a:srgbClr val="cc66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539640" y="1773360"/>
            <a:ext cx="3527640" cy="263340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99"/>
                </a:solidFill>
                <a:latin typeface="Garamond"/>
              </a:rPr>
              <a:t>Троице- Сергиева лавра</a:t>
            </a:r>
            <a:endParaRPr b="0" lang="en-US" sz="4400" spc="-1" strike="noStrike">
              <a:solidFill>
                <a:srgbClr val="ff6699"/>
              </a:solidFill>
              <a:latin typeface="Garamond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4356000" y="1844640"/>
            <a:ext cx="4268880" cy="47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250920" y="0"/>
            <a:ext cx="5292720" cy="395136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395280" y="4149720"/>
            <a:ext cx="8064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66ff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cc66ff"/>
                </a:solidFill>
                <a:latin typeface="Verdana"/>
              </a:rPr>
              <a:t>православный мужской монастырь, расположен в 71 км к северу от Москвы в городе Сергиевом Посаде Московской области; основан Сергием Радонежским в середине 14 века. Дату основания монастыря возводят к 1337 году, когда Сергий основал пустынь в честь Троицы на горе Маковец недалеко от Радонежа и Хотькова. </a:t>
            </a:r>
            <a:endParaRPr b="0" lang="en-US" sz="1800" spc="-1" strike="noStrike">
              <a:solidFill>
                <a:srgbClr val="cc66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796000" y="1413000"/>
            <a:ext cx="287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ff"/>
                </a:solidFill>
                <a:latin typeface="Garamond"/>
              </a:rPr>
              <a:t>ТРОИЦЕ-СЕРГИЕВА ЛАВРА,</a:t>
            </a:r>
            <a:endParaRPr b="0" lang="en-US" sz="2400" spc="-1" strike="noStrike">
              <a:solidFill>
                <a:srgbClr val="cc66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250920" y="0"/>
            <a:ext cx="5689440" cy="42480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250920" y="4294080"/>
            <a:ext cx="8280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66ff"/>
                </a:solidFill>
                <a:latin typeface="Verdana"/>
              </a:rPr>
              <a:t>Первый монастырский деревянный храм во имя Троицы был освящен в 1340-х годах. В это же время здесь был принят устав монашескогго общежития, и Сергий стал игуменом нового монастыря. Благодаря авторитету Сергия Троицкая обитель становится духовным центром Московской Руси; здесь Сергий благословил Дмитрия Донского на Куликовскую битву, влияние Сергия нередко помогало разрешать междуусобные споры князей. Ученики и последователи Сергия впоследствии основали 37 обителей в разных местах Руси. </a:t>
            </a:r>
            <a:endParaRPr b="0" lang="en-US" sz="1800" spc="-1" strike="noStrike">
              <a:solidFill>
                <a:srgbClr val="cc66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4" descr="2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468360" y="404640"/>
            <a:ext cx="3776760" cy="583272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5"/>
          <p:cNvSpPr/>
          <p:nvPr/>
        </p:nvSpPr>
        <p:spPr>
          <a:xfrm>
            <a:off x="4859280" y="1341360"/>
            <a:ext cx="381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66ff"/>
              </a:solidFill>
              <a:latin typeface="Arial"/>
            </a:endParaRPr>
          </a:p>
        </p:txBody>
      </p:sp>
      <p:sp>
        <p:nvSpPr>
          <p:cNvPr id="116" name="Text Box 6"/>
          <p:cNvSpPr/>
          <p:nvPr/>
        </p:nvSpPr>
        <p:spPr>
          <a:xfrm>
            <a:off x="4427640" y="1360440"/>
            <a:ext cx="47163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80"/>
                </a:solidFill>
                <a:latin typeface="Monotype Corsiva"/>
              </a:rPr>
              <a:t>«Монастырь честной воздвиг, который и доныне стоит благодатию Христовой»</a:t>
            </a:r>
            <a:endParaRPr b="0" lang="en-US" sz="3600" spc="-1" strike="noStrike">
              <a:solidFill>
                <a:srgbClr val="cc66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80"/>
                </a:solidFill>
                <a:latin typeface="Monotype Corsiva"/>
              </a:rPr>
              <a:t>     </a:t>
            </a:r>
            <a:r>
              <a:rPr b="1" lang="ru-RU" sz="3600" spc="-1" strike="noStrike">
                <a:solidFill>
                  <a:srgbClr val="800080"/>
                </a:solidFill>
                <a:latin typeface="Monotype Corsiva"/>
              </a:rPr>
              <a:t>Епифаний Премудрый</a:t>
            </a:r>
            <a:r>
              <a:rPr b="0" lang="ru-RU" sz="3600" spc="-1" strike="noStrike">
                <a:solidFill>
                  <a:srgbClr val="800080"/>
                </a:solidFill>
                <a:latin typeface="Monotype Corsiva"/>
              </a:rPr>
              <a:t>  </a:t>
            </a:r>
            <a:endParaRPr b="0" lang="en-US" sz="3600" spc="-1" strike="noStrike">
              <a:solidFill>
                <a:srgbClr val="cc66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4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2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3000"/>
                            </p:stCondLst>
                            <p:childTnLst>
                              <p:par>
                                <p:cTn id="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20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1T01:15:04Z</dcterms:created>
  <dc:creator>Ultra</dc:creator>
  <dc:description/>
  <dc:language>en-US</dc:language>
  <cp:lastModifiedBy>Ultra</cp:lastModifiedBy>
  <dcterms:modified xsi:type="dcterms:W3CDTF">2010-11-01T01:47:36Z</dcterms:modified>
  <cp:revision>2</cp:revision>
  <dc:subject/>
  <dc:title>ПРОЕКТ </dc:title>
</cp:coreProperties>
</file>