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2511-BAED-4C20-BA09-929E7415E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6B7F-02BC-4012-A3A8-D3A0E0348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0840-BD7F-44F6-8B2B-1D7677EA7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DC2D-7A96-4A13-AE51-AAB07D474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2F9A8-3FAE-4ADF-99AF-E82291B87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9A9D3-7E43-4158-9B35-C190E6990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7120A-8895-426F-AC9B-C50F40F2B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DF559-2DB8-4989-ACB6-5E937A9D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B324F-007E-420C-807A-695C1AC7D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B1D8E-688A-476D-B3F6-CE5AABBA1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04D3D-2A78-4181-8C35-81FA561B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CF86-A90E-46CC-AE3F-39AD9ABE8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2A011-58EC-4A18-BF5D-0BFCF6A5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863CF-6B2B-4534-9CFA-9B909E9C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1B68C-F21D-4D13-A9A0-1EA63DD90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8FC23-78DB-40B9-B53D-3ACFAA0A1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88895-832B-47E6-9336-FD67794F2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8D2C-E4C1-42DB-B097-475CE58F3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3D75-86B0-443C-9F71-0DBCEF9CB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77B3-AA51-49A1-BD61-5C0DBBBFC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4041-E24B-43A2-BC2D-E94FC28AC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083B-7855-4115-8967-5036C999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8299-F7E4-4914-8F7D-03A6262B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AFCE-C4D2-4988-84D9-A51F16DA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d3696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666699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d3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cc66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cc66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66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66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66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66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66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26466-7A00-4E74-A45E-D2F46A64F3A3}" type="slidenum">
              <a:rPr b="0" lang="en-US" sz="1000" spc="-1" strike="noStrike">
                <a:solidFill>
                  <a:srgbClr val="cc66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d3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ff6699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ff6699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66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66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66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66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66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5AFA-E799-4FDC-BEAE-513B55FD3663}" type="slidenum">
              <a:rPr b="0" lang="en-US" sz="1000" spc="-1" strike="noStrike">
                <a:solidFill>
                  <a:srgbClr val="cc66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d3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66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66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66ff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66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cc66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cc66ff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cc66ff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d369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cc66ff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ff6699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cc66ff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cc66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cc66ff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cc66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cc66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0360" y="685440"/>
            <a:ext cx="575784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ff6699"/>
                </a:solidFill>
                <a:latin typeface="Garamond"/>
              </a:rPr>
              <a:t>ПРОЕКТ </a:t>
            </a:r>
            <a:endParaRPr b="0" lang="en-US" sz="5800" spc="-1" strike="noStrike">
              <a:solidFill>
                <a:srgbClr val="ff6699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68360" y="3284640"/>
            <a:ext cx="45352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66ff"/>
                </a:solidFill>
                <a:latin typeface="Verdana"/>
              </a:rPr>
              <a:t>«Святыни</a:t>
            </a:r>
            <a:endParaRPr b="0" lang="en-US" sz="5400" spc="-1" strike="noStrike">
              <a:solidFill>
                <a:srgbClr val="cc66ff"/>
              </a:solidFill>
              <a:latin typeface="Verdana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66ff"/>
                </a:solidFill>
                <a:latin typeface="Verdana"/>
              </a:rPr>
              <a:t> </a:t>
            </a:r>
            <a:r>
              <a:rPr b="1" lang="en-US" sz="5400" spc="-1" strike="noStrike">
                <a:solidFill>
                  <a:srgbClr val="cc66ff"/>
                </a:solidFill>
                <a:latin typeface="Verdana"/>
              </a:rPr>
              <a:t>России»</a:t>
            </a:r>
            <a:endParaRPr b="0" lang="en-US" sz="54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805360"/>
            <a:ext cx="622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ff"/>
                </a:solidFill>
                <a:latin typeface="Verdana"/>
              </a:rPr>
              <a:t>Над проектом работали</a:t>
            </a: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cc66ff"/>
                </a:solidFill>
                <a:latin typeface="Verdana"/>
              </a:rPr>
              <a:t>учащиеся 5 класса А</a:t>
            </a: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867280" y="3068640"/>
            <a:ext cx="29894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4" nodeType="afterEffect" fill="hold" presetClass="path" presetID="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2.22222E-006 -1.48148E-006 L 0.0158 0.91991 E">
                                      <p:cBhvr>
                                        <p:cTn id="15" dur="9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43280" cy="3484440"/>
          </a:xfrm>
          <a:prstGeom prst="rect">
            <a:avLst/>
          </a:prstGeom>
          <a:ln w="88920">
            <a:solidFill>
              <a:srgbClr val="800080"/>
            </a:solidFill>
            <a:miter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716360" y="0"/>
            <a:ext cx="4427640" cy="3500280"/>
          </a:xfrm>
          <a:prstGeom prst="rect">
            <a:avLst/>
          </a:prstGeom>
          <a:ln w="88920">
            <a:solidFill>
              <a:srgbClr val="993366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1187280" y="3716280"/>
            <a:ext cx="7317000" cy="26240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d3696"/>
                </a:solidFill>
                <a:latin typeface="Garamond"/>
              </a:rPr>
              <a:t>Любите Русь- святынь оплот, </a:t>
            </a:r>
            <a:br>
              <a:rPr sz="2800"/>
            </a:br>
            <a:r>
              <a:rPr b="1" lang="ru-RU" sz="2800" spc="-1" strike="noStrike">
                <a:solidFill>
                  <a:srgbClr val="6d3696"/>
                </a:solidFill>
                <a:latin typeface="Garamond"/>
              </a:rPr>
              <a:t>Мир кроткой кельи монастырской,</a:t>
            </a:r>
            <a:br>
              <a:rPr sz="2800"/>
            </a:br>
            <a:r>
              <a:rPr b="1" lang="ru-RU" sz="2800" spc="-1" strike="noStrike">
                <a:solidFill>
                  <a:srgbClr val="6d3696"/>
                </a:solidFill>
                <a:latin typeface="Garamond"/>
              </a:rPr>
              <a:t>Дух мощный рати богатырской, </a:t>
            </a:r>
            <a:br>
              <a:rPr sz="2800"/>
            </a:br>
            <a:r>
              <a:rPr b="1" lang="ru-RU" sz="2800" spc="-1" strike="noStrike">
                <a:solidFill>
                  <a:srgbClr val="6d3696"/>
                </a:solidFill>
                <a:latin typeface="Garamond"/>
              </a:rPr>
              <a:t>Нас всех хранящей от невзгод!..</a:t>
            </a:r>
            <a:br>
              <a:rPr sz="2800"/>
            </a:br>
            <a:r>
              <a:rPr b="1" lang="ru-RU" sz="2800" spc="-1" strike="noStrike">
                <a:solidFill>
                  <a:srgbClr val="6d3696"/>
                </a:solidFill>
                <a:latin typeface="Garamond"/>
              </a:rPr>
              <a:t>Любите дети свой народ!</a:t>
            </a:r>
            <a:br>
              <a:rPr sz="2800"/>
            </a:br>
            <a:r>
              <a:rPr b="1" lang="ru-RU" sz="2800" spc="-1" strike="noStrike">
                <a:solidFill>
                  <a:srgbClr val="6d3696"/>
                </a:solidFill>
                <a:latin typeface="Garamond"/>
              </a:rPr>
              <a:t>                                    С.С. Бехтеев</a:t>
            </a:r>
            <a:endParaRPr b="0" lang="en-US" sz="2800" spc="-1" strike="noStrike">
              <a:solidFill>
                <a:srgbClr val="cc66ff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340000" y="1628640"/>
            <a:ext cx="4270320" cy="47530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99"/>
                </a:solidFill>
                <a:latin typeface="Garamond"/>
              </a:rPr>
              <a:t>ПСКОВО-ПЕЧЁРСКИЙ </a:t>
            </a:r>
            <a:br>
              <a:rPr sz="3600"/>
            </a:br>
            <a:r>
              <a:rPr b="1" lang="en-US" sz="3600" spc="-1" strike="noStrike">
                <a:solidFill>
                  <a:srgbClr val="ff6699"/>
                </a:solidFill>
                <a:latin typeface="Garamond"/>
              </a:rPr>
              <a:t>МОНАСТЫРЬ</a:t>
            </a:r>
            <a:endParaRPr b="0" lang="en-US" sz="3600" spc="-1" strike="noStrike">
              <a:solidFill>
                <a:srgbClr val="ff6699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003640" cy="3735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356000" y="3213000"/>
            <a:ext cx="4788000" cy="3573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95280" y="4292640"/>
            <a:ext cx="3600360" cy="165564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Garamond"/>
              </a:rPr>
              <a:t>ФЕРАПОНТОВ</a:t>
            </a:r>
            <a:endParaRPr b="0" lang="en-US" sz="2400" spc="-1" strike="noStrike">
              <a:solidFill>
                <a:srgbClr val="cc66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cc66ff"/>
                </a:solidFill>
                <a:latin typeface="Garamond"/>
              </a:rPr>
              <a:t>МОНАСТЫРЬ</a:t>
            </a:r>
            <a:r>
              <a:rPr b="0" lang="en-US" sz="1800" spc="-1" strike="noStrike">
                <a:solidFill>
                  <a:srgbClr val="cc66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20364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851280" y="2060640"/>
            <a:ext cx="4753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ff"/>
                </a:solidFill>
                <a:latin typeface="Garamond"/>
              </a:rPr>
              <a:t>В 1798 упразднен, восстановлен в 1903 как женский монастырь. Закрыт после 1917, с 1924 музей, ныне филиал Кирилло-Белозерского историко-архитектурного и художественного музея-заповедника. Часть зданий Ферапонтова монастыря передана Русской православной церкви. Архитектурный ансамбль 15-17 вв. В соборе Рождества богородицы (1490) — росписи Дионисия  и его сыновей (1502-03).</a:t>
            </a:r>
            <a:endParaRPr b="0" lang="en-US" sz="20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64000" y="0"/>
            <a:ext cx="558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66ff"/>
                </a:solidFill>
                <a:latin typeface="Verdana"/>
              </a:rPr>
              <a:t>ФЕРАПОНТОВ МОНАСТЫРЬ-мужской, основан ок. 1398 монахом московского Симонова монастыря Ферапонтом между Бородавским и Пасским озерами (ныне с. Ферапонтово Вологодской обл.).</a:t>
            </a: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39640" y="1773360"/>
            <a:ext cx="3527640" cy="26334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99"/>
                </a:solidFill>
                <a:latin typeface="Garamond"/>
              </a:rPr>
              <a:t>Троице- Сергиева лавра</a:t>
            </a:r>
            <a:endParaRPr b="0" lang="en-US" sz="4400" spc="-1" strike="noStrike">
              <a:solidFill>
                <a:srgbClr val="ff6699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356000" y="1844640"/>
            <a:ext cx="426888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5292720" cy="3951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95280" y="4149720"/>
            <a:ext cx="806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66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cc66ff"/>
                </a:solidFill>
                <a:latin typeface="Verdana"/>
              </a:rPr>
              <a:t>православный мужской монастырь, расположен в 71 км к северу от Москвы в городе Сергиевом Посаде Московской области; основан Сергием Радонежским в середине 14 века. Дату основания монастыря возводят к 1337 году, когда Сергий основал пустынь в честь Троицы на горе Маковец недалеко от Радонежа и Хотькова. </a:t>
            </a: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796000" y="1413000"/>
            <a:ext cx="28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Garamond"/>
              </a:rPr>
              <a:t>ТРОИЦЕ-СЕРГИЕВА ЛАВРА,</a:t>
            </a:r>
            <a:endParaRPr b="0" lang="en-US" sz="2400" spc="-1" strike="noStrike">
              <a:solidFill>
                <a:srgbClr val="cc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5689440" cy="424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50920" y="429408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66ff"/>
                </a:solidFill>
                <a:latin typeface="Verdana"/>
              </a:rPr>
              <a:t>Первый монастырский деревянный храм во имя Троицы был освящен в 1340-х годах. В это же время здесь был принят устав монашескогго общежития, и Сергий стал игуменом нового монастыря. Благодаря авторитету Сергия Троицкая обитель становится духовным центром Московской Руси; здесь Сергий благословил Дмитрия Донского на Куликовскую битву, влияние Сергия нередко помогало разрешать междуусобные споры князей. Ученики и последователи Сергия впоследствии основали 37 обителей в разных местах Руси. </a:t>
            </a: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2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468360" y="404640"/>
            <a:ext cx="3776760" cy="58327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4859280" y="134136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4427640" y="1360440"/>
            <a:ext cx="4716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Monotype Corsiva"/>
              </a:rPr>
              <a:t>«Монастырь честной воздвиг, который и доныне стоит благодатию Христовой»</a:t>
            </a:r>
            <a:endParaRPr b="0" lang="en-US" sz="3600" spc="-1" strike="noStrike">
              <a:solidFill>
                <a:srgbClr val="cc66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Monotype Corsiva"/>
              </a:rPr>
              <a:t>     </a:t>
            </a:r>
            <a:r>
              <a:rPr b="1" lang="ru-RU" sz="3600" spc="-1" strike="noStrike">
                <a:solidFill>
                  <a:srgbClr val="800080"/>
                </a:solidFill>
                <a:latin typeface="Monotype Corsiva"/>
              </a:rPr>
              <a:t>Епифаний Премудрый</a:t>
            </a:r>
            <a:r>
              <a:rPr b="0" lang="ru-RU" sz="3600" spc="-1" strike="noStrike">
                <a:solidFill>
                  <a:srgbClr val="800080"/>
                </a:solidFill>
                <a:latin typeface="Monotype Corsiva"/>
              </a:rPr>
              <a:t>  </a:t>
            </a:r>
            <a:endParaRPr b="0" lang="en-US" sz="3600" spc="-1" strike="noStrike">
              <a:solidFill>
                <a:srgbClr val="cc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01:15:04Z</dcterms:created>
  <dc:creator>Ultra</dc:creator>
  <dc:description/>
  <dc:language>en-US</dc:language>
  <cp:lastModifiedBy>Ultra</cp:lastModifiedBy>
  <dcterms:modified xsi:type="dcterms:W3CDTF">2010-11-01T01:47:36Z</dcterms:modified>
  <cp:revision>2</cp:revision>
  <dc:subject/>
  <dc:title>ПРОЕКТ </dc:title>
</cp:coreProperties>
</file>