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297-BFC7-4A1B-8F31-487A2D25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C14-9069-40DF-B279-9902F80A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F00-AF24-4102-A0ED-9777708F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651-6F81-46C0-8191-B1396D86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EDD5-620D-4D56-B57F-FAAE72EC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F3E9-B33A-4FF3-9157-86DA26FE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1E65-FA4C-48DC-B0DA-1D1F2B46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B713-FF7F-4F7B-82C6-D478AF82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C1CB-BB38-4ED5-8742-FCDD6629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85DA-D947-41A2-97FE-4742D0BF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17B7-3A39-4E56-B90F-D5DE746A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1C2-B9C9-4CE1-8CC0-70853F1A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6AFB-9120-4974-A730-24F0FA9D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54EA-01C8-4D14-94D8-1925B0B0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AFDF-F39A-441C-A8A3-EF07F3BA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5B5F-F472-4AEF-944B-797378C3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64C9-C659-495F-B866-30351759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D68-DB9E-47D1-92F1-1F202626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D4D-C4D6-414D-9CF6-1161DFFD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BDBE-8060-4A73-BFC7-8EDB9531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051-53CF-4E1F-8E05-77477BE0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1A6-C197-433B-99B7-36986119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FF4-4529-49FF-935B-C865395E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A5AC-4E22-4BC4-B95F-40A09DB8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8473-B43E-4760-A2A1-D5721A864DB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BB8D-38CA-43F2-99B4-55592C3A1B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3311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Исследовательская работа: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«к</a:t>
            </a: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оличественное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определение витамина С в продуктах питания йодометрическим методом»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Выполнили: ученицы 10 класс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Пономарёва Ан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Гвозденко Татья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Comic Sans MS"/>
              </a:rPr>
              <a:t>МОУ «СОШ №172» п. Архар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Comic Sans MS"/>
              </a:rPr>
              <a:t>Амурская об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60093"/>
                </a:solidFill>
                <a:uFillTx/>
                <a:latin typeface="Comic Sans MS"/>
              </a:rPr>
              <a:t>Тема: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 «Количественное определение содержания витамина С в продуктах питания йодометрическим методом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60093"/>
                </a:solidFill>
                <a:uFillTx/>
                <a:latin typeface="Comic Sans MS"/>
              </a:rPr>
              <a:t>Оборудование и реактивы: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 фарфоровые ступки с пестиками, пипетки градуированные, весы; спиртовый раствор йода (5%), раствор крахмала (1%), раствор 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HCl 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(1%), картофель с кожурой, морковь, ель, мандарин, квашенная капуста, яблоко (двух сортов), апельсин, сосна, лимонник в сахаре, лук, кожура лимона, мякоть лимона, картофель (варёный), морковь (варёная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696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60093"/>
                </a:solidFill>
                <a:uFillTx/>
                <a:latin typeface="Comic Sans MS"/>
              </a:rPr>
              <a:t>Ход работ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Мы взвесили 1 г исследуемого продукта и растёрли его в ступке, добавили 5 мл воды, несколько капель крахмала и немного соляной кислоты для инактивации фермента аскорбиноксидазы. В качестве окислителя мы использовали йод. Для удобства 5%-ный раствор йода мы разбавили водой в 40 раз, при этом получили 0,125%-ный раствор, 1 мл которого соответствует 0,875 мг аскорбиновой кислоты. Затем провели титрование этим раствором йода исследуемой жидкости в ступке до появления устойчивого синего окрашивания крахмала, которое говорит о том, что вся аскорбиновая кислота окислилась. Записали количество раствора йода, пошедшего на титрование, и произвели расчёт. Для этого мы составили пропорцию, зная что 1 мл 0,125%-ного раствора йода окисляет 0,875 мг аскорбиновой кислоты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7696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60093"/>
                </a:solidFill>
                <a:uFillTx/>
                <a:latin typeface="Comic Sans MS"/>
              </a:rPr>
              <a:t>Обработка полученных результатов (на примере яблока)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На титрование 1 г яблока ушло 0,03 мл раствора йода. Составили пропорцию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1 мл йодного раствора – 0,875 мг аскорбиновой кислот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0,03 мл- 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X= 0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, 03* 0,875</a:t>
            </a:r>
            <a:r>
              <a:rPr b="0" lang="en-US" sz="1800" spc="-1" strike="noStrike">
                <a:solidFill>
                  <a:srgbClr val="d60093"/>
                </a:solidFill>
                <a:latin typeface="Comic Sans MS"/>
              </a:rPr>
              <a:t>/1=0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,026 (мг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Итак, в 1 г яблока содержится 0,026 мг аскорбиновой кислоты. Тогда в 100 г яблока содержится 0,026*100=2,6(мг) аскорбиновой кислот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Считая, что суточная норма потребления витамина С 70 мг, мы рассчитали суточную норму потребления продукт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100 г – 2,6 м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Х- 70 мг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Х=100*70/2,6=2692г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Comic Sans MS"/>
              </a:rPr>
              <a:t>Подобным образом мы рассчитали содержание витамина С в остальных продуктах. Полученные данные занесли в таблиц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68360" y="260280"/>
          <a:ext cx="7696080" cy="5453280"/>
        </p:xfrm>
        <a:graphic>
          <a:graphicData uri="http://schemas.openxmlformats.org/drawingml/2006/table">
            <a:tbl>
              <a:tblPr/>
              <a:tblGrid>
                <a:gridCol w="1539720"/>
                <a:gridCol w="1538280"/>
                <a:gridCol w="1540080"/>
                <a:gridCol w="1538280"/>
                <a:gridCol w="153972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US" sz="1800" spc="-1" strike="noStrike" baseline="-25000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(м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итамина С(мг)/1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итамина С(мг)/100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Суточная потребность в продукте (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6,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орк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6,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3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анда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6,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вашеная капу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0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Яблоко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Яблоко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ожура ябл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826920" y="189000"/>
          <a:ext cx="7696440" cy="5819760"/>
        </p:xfrm>
        <a:graphic>
          <a:graphicData uri="http://schemas.openxmlformats.org/drawingml/2006/table">
            <a:tbl>
              <a:tblPr/>
              <a:tblGrid>
                <a:gridCol w="1540080"/>
                <a:gridCol w="1538280"/>
                <a:gridCol w="1539720"/>
                <a:gridCol w="1538280"/>
                <a:gridCol w="1540080"/>
              </a:tblGrid>
              <a:tr h="10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I</a:t>
                      </a:r>
                      <a:r>
                        <a:rPr b="0" lang="ru-RU" sz="2400" spc="-1" strike="noStrike" baseline="-25000">
                          <a:solidFill>
                            <a:srgbClr val="660066"/>
                          </a:solidFill>
                          <a:latin typeface="Comic Sans MS"/>
                        </a:rPr>
                        <a:t>2 </a:t>
                      </a:r>
                      <a:r>
                        <a:rPr b="0" lang="ru-RU" sz="24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(м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итамин С(мг)/1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Витамин С(мг)/ 100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Суточная потребность в продукте (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Апельс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6,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ос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3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,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Лимонник в сах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20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орковь (варё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артофель (варён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69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Л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6,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ожура лим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6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якоть лим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4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6,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7696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Comic Sans MS"/>
              </a:rPr>
              <a:t>Таким образом, в ходе выполнения работы, мы пришли к выводу, что употребление витамина С необходимо для укрепления своей иммунной системы. Наиболее богатые им продукты – лимон, апельсин, мандарин, а для полоскания полости рта полезны настои хвои сосны и 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184720" cy="6120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d60093"/>
                </a:solidFill>
                <a:latin typeface="Engravers MT"/>
              </a:rPr>
              <a:t> </a:t>
            </a:r>
            <a:r>
              <a:rPr b="1" i="1" lang="en-US" sz="9600" spc="-1" strike="noStrike">
                <a:solidFill>
                  <a:srgbClr val="d60093"/>
                </a:solidFill>
                <a:latin typeface="Engravers MT"/>
              </a:rPr>
              <a:t>КОНЕЦ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Berlin Sans FB Demi"/>
              </a:rPr>
              <a:t>О </a:t>
            </a:r>
            <a:r>
              <a:rPr b="1" lang="en-US" sz="4400" spc="-1" strike="noStrike">
                <a:solidFill>
                  <a:srgbClr val="703dff"/>
                </a:solidFill>
                <a:latin typeface="Bookman Old Style"/>
              </a:rPr>
              <a:t>витаминах</a:t>
            </a:r>
            <a:r>
              <a:rPr b="1" lang="en-US" sz="4400" spc="-1" strike="noStrike">
                <a:solidFill>
                  <a:srgbClr val="703dff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итамины- биологически активные органические соединения, которые поступают в небольших количествах с пищей в организм животных и человека, где играют большую роль в обмене веществ путём участия в процессах биокатализ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Отсутствие или недостаток витаминов в пище вызывает глубокие нарушения в организме, что сопровождается тяжёлыми заболеваниями (цинга, рахит, пеллагра, куриная слепота, полиневрит и др.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з истории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38149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Приоритет открытия витаминов принадлежит русскому врачу Н.И.Лунин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В 1880г. Он впервые создал искусственную экспериментальную диету для животных и первый в мире показал, что для нормальной деятельности организма необходима пища, в которую входят не только белки, жиры, углеводы и минеральные соли, но и другие, неизвестные вещества, позднее названые витамин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43360" y="1628640"/>
            <a:ext cx="3552840" cy="4896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15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Comic Sans MS"/>
              </a:rPr>
              <a:t>Кислота аскорбиновая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(витамин С)</a:t>
            </a: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Acidum askorbinic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928 г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енгерский учёный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Сент-Дьордьи выделил из коры надпочечников и из апельсинов вещество кислого характера, имеющего эмпирическую формул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C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H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ff0066"/>
                </a:solidFill>
                <a:latin typeface="Comic Sans MS"/>
              </a:rPr>
              <a:t>6</a:t>
            </a:r>
            <a:r>
              <a:rPr b="0" lang="ru-RU" sz="1400" spc="-1" strike="noStrike">
                <a:solidFill>
                  <a:srgbClr val="ff0066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Аскорбиновая кислота представляет собой белый кристаллический порошок кислого вкуса. Она легко растворима в воде, растворима в спирте, нерастворима в эфире, бензоле и хлороформе. Температура плавления её 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190-193</a:t>
            </a:r>
            <a:r>
              <a:rPr b="0" lang="ru-RU" sz="2000" spc="-1" strike="noStrike" baseline="30000">
                <a:solidFill>
                  <a:srgbClr val="ff0066"/>
                </a:solidFill>
                <a:latin typeface="Comic Sans MS"/>
              </a:rPr>
              <a:t>0</a:t>
            </a:r>
            <a:r>
              <a:rPr b="0" lang="ru-RU" sz="2000" spc="-1" strike="noStrike">
                <a:solidFill>
                  <a:srgbClr val="ff0066"/>
                </a:solidFill>
                <a:latin typeface="Comic Sans MS"/>
              </a:rPr>
              <a:t> С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(С разложением)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Витамин С чувствителен к окислению, особенно при повышенной температуре и наличии следов тяжёлых металлов (особенно меди). При варке овощей разрушается примерно треть витамина С; при хранении готовых блюд потери увеличиваются. Аскорбиновая кислота сохраняется при кваше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25020" r="0" b="0"/>
          <a:stretch/>
        </p:blipFill>
        <p:spPr>
          <a:xfrm>
            <a:off x="5651640" y="189000"/>
            <a:ext cx="2447640" cy="154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948360" y="5202360"/>
            <a:ext cx="1514520" cy="1655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Comic Sans MS"/>
              </a:rPr>
              <a:t>Это надо знать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332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Недостаток витамина С приводит к тяжёлому заболеванию, которое называется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ЦИНГ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имптомы: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дёсны становятся слабыми и кровоточат, не заживают раны, не образуются волокна соединительной ткани, анемия, сердечная недостаточность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1755720"/>
            <a:ext cx="3600360" cy="3489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оль витамина С в жизнедеятельности живых организм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Витамин С обладает сильной восстанавливающей способность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Участвует в обменных процессах клеток соединительной тка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Участвует в образовании здоровой кож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Необходим для синтеза коллагеновых волокон т.е. межклеточного склеивающего веществ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omic Sans MS"/>
              </a:rPr>
              <a:t>Аскорбиновая кислота в природ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Аскорбиновая кислота широко распространена в природе. Особенно ею богат растительный мир. Так, богаты витамином С свежие овощи – салат, капуста, свекла, картофель, помидоры, красная морковь, красный перец, зелёный лук, щавель, шпинат. Из фруктов – лимоны, апельсины, яблоки, особенно антоновские, из ягод – чёрная смородина, шиповник, барбарис, рябина. Много витамина С содержится в хвое и крапиве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157176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356000" y="3500280"/>
            <a:ext cx="1562040" cy="152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084720" y="3500280"/>
            <a:ext cx="1600200" cy="152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084720" y="170028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7620120" y="198900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924360" y="5084640"/>
            <a:ext cx="1485720" cy="1524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7581960" y="3573360"/>
            <a:ext cx="1562040" cy="1600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1908000" y="5334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5724360" y="5410080"/>
            <a:ext cx="1486080" cy="1447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7620120" y="5229360"/>
            <a:ext cx="1523880" cy="148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циологический опро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Чтобы провести социологический опрос, нам потребовалось составить анкету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Знаете ли вы о роли витамина С в организме человека? Да ; Н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Известны ли вам заболевания, вызываемые нехваткой витамина С? Да ; Н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Принимаете ли вы витаминные препараты, содержащие витамин С? Да ; Н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Известны ли вам продукты питания, богатые витамином С? Да ; Нет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d6009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60093"/>
                </a:solidFill>
                <a:latin typeface="Comic Sans MS"/>
              </a:rPr>
              <a:t>Какие из этих продуктов вы регулярно употребляете: салат, капуста, картофель, лимоны, апельсины, яблоки, чёрная смородина, шиповник, барбарис, хвоя, крапива, зелёный лук, рябина, красный перец, шпинат, щавель, красная морковь, помидо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Мы опросили более 100 человек (учащихся, их родителей, технический персонал и педагогов нашей школы) и результаты занесли в таблиц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24000" y="115920"/>
          <a:ext cx="8569080" cy="6359400"/>
        </p:xfrm>
        <a:graphic>
          <a:graphicData uri="http://schemas.openxmlformats.org/drawingml/2006/table">
            <a:tbl>
              <a:tblPr/>
              <a:tblGrid>
                <a:gridCol w="399960"/>
                <a:gridCol w="482400"/>
                <a:gridCol w="560520"/>
                <a:gridCol w="2013120"/>
                <a:gridCol w="504720"/>
                <a:gridCol w="1800000"/>
                <a:gridCol w="432000"/>
                <a:gridCol w="1942920"/>
                <a:gridCol w="4334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а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Нет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овышает иммуни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т просту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бщеукрепляю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т цин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т рах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т диат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овышает тону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Для кож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Улучшает интелл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Авитамин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Цин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Рах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Болезни печени и желуд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Боляч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Упадок с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Р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Гри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ростудные заболе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Лим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Апель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Цитрус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Сморо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Морков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апу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Фру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Шипов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Ябл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артоф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Ов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ер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Варен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Щав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Ху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Мандар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Чёрная сморо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омид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артоф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Помид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Апельс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Сал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Барбар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Щав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Ябл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апу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расный пер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Чёрная сморо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рапи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Хво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Лим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Красная морков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Зелёный лу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Шипов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Ряб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Шпин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0066"/>
                          </a:solidFill>
                          <a:latin typeface="Comic Sans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1:34:39Z</dcterms:created>
  <dc:creator>user</dc:creator>
  <dc:description/>
  <dc:language>en-US</dc:language>
  <cp:lastModifiedBy>user</cp:lastModifiedBy>
  <dcterms:modified xsi:type="dcterms:W3CDTF">2007-01-05T13:44:23Z</dcterms:modified>
  <cp:revision>16</cp:revision>
  <dc:subject/>
  <dc:title>Исследовательская работа: «количественное определение витамина С в продуктах питания иодометрическим методом»</dc:title>
</cp:coreProperties>
</file>