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8FB-DCF4-4CE7-B1C9-27686F7F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346-AB3D-4944-8CE2-4E3A6B39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FFD-DDD3-4E59-A0CA-E7CD12E3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EBF-5E22-49E8-8E93-1F6AA8DE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708E-3B0F-45F3-8339-D963A455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5A32-2A41-4A8E-804E-5E599CB0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02B4-5984-45E0-9A64-91129462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C077-0008-4288-9A61-794F7934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EAF1-0A3D-4B71-BC32-DE9D873F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503D-64CB-4FD9-9F63-0BEEE8FE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B01C-7B1A-472A-A308-A92A40C9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F83-D95B-4087-8600-08939D12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8484-6E1E-4F96-9410-A39BD2B1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CD89-C78B-4A59-AA17-DC4502D2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E460-C328-4005-B7A6-172EAF80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0274-F76B-44D2-9DCB-4CF7498B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D87B-D096-49C3-8AAA-0A90BBF5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26D5-992A-42F6-8F6C-AD24B39B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CFC-C231-49FF-B7DE-2780BACE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7145-CE99-4346-B841-F287DFF3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027D-27DD-42E2-86C1-25C13990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4E69-5F0D-4EB5-9BCE-EC56F6AA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72B-2E9D-4C8D-B9E8-FDD8D3B5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2E8-AC1B-40A9-9F1F-725FD9D4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EBB4-871D-4710-A9DA-45F28C96456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3A64-C397-41B0-B100-DDD2B1B6D77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3311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Исследовательская работа: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«к</a:t>
            </a: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оличественное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определение витамина С в продуктах питания йодометрическим методом»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Comic Sans MS"/>
              </a:rPr>
              <a:t>Выполнили: ученицы 10 класс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Comic Sans MS"/>
              </a:rPr>
              <a:t>Пономарёва Ан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cc0066"/>
                </a:solidFill>
                <a:latin typeface="Comic Sans MS"/>
              </a:rPr>
              <a:t>Гвозденко Татья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Comic Sans MS"/>
              </a:rPr>
              <a:t>МОУ «СОШ №172» п. Архар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Comic Sans MS"/>
              </a:rPr>
              <a:t>Амурская об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60093"/>
                </a:solidFill>
                <a:uFillTx/>
                <a:latin typeface="Comic Sans MS"/>
              </a:rPr>
              <a:t>Тема: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 «Количественное определение содержания витамина С в продуктах питания йодометрическим методом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60093"/>
                </a:solidFill>
                <a:uFillTx/>
                <a:latin typeface="Comic Sans MS"/>
              </a:rPr>
              <a:t>Оборудование и реактивы: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 фарфоровые ступки с пестиками, пипетки градуированные, весы; спиртовый раствор йода (5%), раствор крахмала (1%), раствор 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HCl 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(1%), картофель с кожурой, морковь, ель, мандарин, квашенная капуста, яблоко (двух сортов), апельсин, сосна, лимонник в сахаре, лук, кожура лимона, мякоть лимона, картофель (варёный), морковь (варёная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76960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60093"/>
                </a:solidFill>
                <a:uFillTx/>
                <a:latin typeface="Comic Sans MS"/>
              </a:rPr>
              <a:t>Ход работы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Мы взвесили 1 г исследуемого продукта и растёрли его в ступке, добавили 5 мл воды, несколько капель крахмала и немного соляной кислоты для инактивации фермента аскорбиноксидазы. В качестве окислителя мы использовали йод. Для удобства 5%-ный раствор йода мы разбавили водой в 40 раз, при этом получили 0,125%-ный раствор, 1 мл которого соответствует 0,875 мг аскорбиновой кислоты. Затем провели титрование этим раствором йода исследуемой жидкости в ступке до появления устойчивого синего окрашивания крахмала, которое говорит о том, что вся аскорбиновая кислота окислилась. Записали количество раствора йода, пошедшего на титрование, и произвели расчёт. Для этого мы составили пропорцию, зная что 1 мл 0,125%-ного раствора йода окисляет 0,875 мг аскорбиновой кислоты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76960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60093"/>
                </a:solidFill>
                <a:uFillTx/>
                <a:latin typeface="Comic Sans MS"/>
              </a:rPr>
              <a:t>Обработка полученных результатов (на примере яблока)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На титрование 1 г яблока ушло 0,03 мл раствора йода. Составили пропорцию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1 мл йодного раствора – 0,875 мг аскорбиновой кислот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                         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0,03 мл- 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X= 0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, 03* 0,875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/1=0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,026 (мг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Итак, в 1 г яблока содержится 0,026 мг аскорбиновой кислоты. Тогда в 100 г яблока содержится 0,026*100=2,6(мг) аскорбиновой кислот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Считая, что суточная норма потребления витамина С 70 мг, мы рассчитали суточную норму потребления продукта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100 г – 2,6 м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Х- 70 мг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Х=100*70/2,6=2692г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Подобным образом мы рассчитали содержание витамина С в остальных продуктах. Полученные данные занесли в таблиц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68360" y="260280"/>
          <a:ext cx="7696080" cy="5453280"/>
        </p:xfrm>
        <a:graphic>
          <a:graphicData uri="http://schemas.openxmlformats.org/drawingml/2006/table">
            <a:tbl>
              <a:tblPr/>
              <a:tblGrid>
                <a:gridCol w="1539720"/>
                <a:gridCol w="1538280"/>
                <a:gridCol w="1540080"/>
                <a:gridCol w="1538280"/>
                <a:gridCol w="153972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I</a:t>
                      </a:r>
                      <a:r>
                        <a:rPr b="0" lang="en-US" sz="1800" spc="-1" strike="noStrike" baseline="-25000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(м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Витамина С(мг)/1 г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Витамина С(мг)/100 г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Суточная потребность в продукте (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6,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Морк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6,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5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3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Манда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6,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вашеная капу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20,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Яблоко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9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Яблоко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9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ожура ябл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9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826920" y="189000"/>
          <a:ext cx="7696440" cy="5819760"/>
        </p:xfrm>
        <a:graphic>
          <a:graphicData uri="http://schemas.openxmlformats.org/drawingml/2006/table">
            <a:tbl>
              <a:tblPr/>
              <a:tblGrid>
                <a:gridCol w="1540080"/>
                <a:gridCol w="1538280"/>
                <a:gridCol w="1539720"/>
                <a:gridCol w="1538280"/>
                <a:gridCol w="1540080"/>
              </a:tblGrid>
              <a:tr h="104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I</a:t>
                      </a:r>
                      <a:r>
                        <a:rPr b="0" lang="ru-RU" sz="2400" spc="-1" strike="noStrike" baseline="-25000">
                          <a:solidFill>
                            <a:srgbClr val="660066"/>
                          </a:solidFill>
                          <a:latin typeface="Comic Sans MS"/>
                        </a:rPr>
                        <a:t>2 </a:t>
                      </a: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(мл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Витамин С(мг)/1 г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Витамин С(мг)/ 100 г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Суточная потребность в продукте (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Апель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6,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ос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3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,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Лимонник в саха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20,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Морковь (варё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9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артофель (варёны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9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Лу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6,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ожура лим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6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6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Мякоть лим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4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6,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7696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Comic Sans MS"/>
              </a:rPr>
              <a:t>Таким образом, в ходе выполнения работы, мы пришли к выводу, что употребление витамина С необходимо для укрепления своей иммунной системы. Наиболее богатые им продукты – лимон, апельсин, мандарин, а для полоскания полости рта полезны настои хвои сосны и е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5184720" cy="6120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d60093"/>
                </a:solidFill>
                <a:latin typeface="Engravers MT"/>
              </a:rPr>
              <a:t> </a:t>
            </a:r>
            <a:r>
              <a:rPr b="1" i="1" lang="en-US" sz="9600" spc="-1" strike="noStrike">
                <a:solidFill>
                  <a:srgbClr val="d60093"/>
                </a:solidFill>
                <a:latin typeface="Engravers MT"/>
              </a:rPr>
              <a:t>КОНЕЦ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Berlin Sans FB Demi"/>
              </a:rPr>
              <a:t>О </a:t>
            </a:r>
            <a:r>
              <a:rPr b="1" lang="en-US" sz="4400" spc="-1" strike="noStrike">
                <a:solidFill>
                  <a:srgbClr val="703dff"/>
                </a:solidFill>
                <a:latin typeface="Bookman Old Style"/>
              </a:rPr>
              <a:t>витаминах</a:t>
            </a:r>
            <a:r>
              <a:rPr b="1" lang="en-US" sz="4400" spc="-1" strike="noStrike">
                <a:solidFill>
                  <a:srgbClr val="703dff"/>
                </a:solidFill>
                <a:latin typeface="Berlin Sans FB Dem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Витамины- биологически активные органические соединения, которые поступают в небольших количествах с пищей в организм животных и человека, где играют большую роль в обмене веществ путём участия в процессах биокатализ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Отсутствие или недостаток витаминов в пище вызывает глубокие нарушения в организме, что сопровождается тяжёлыми заболеваниями (цинга, рахит, пеллагра, куриная слепота, полиневрит и др.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з истории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38149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Приоритет открытия витаминов принадлежит русскому врачу Н.И.Лунин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В 1880г. Он впервые создал искусственную экспериментальную диету для животных и первый в мире показал, что для нормальной деятельности организма необходима пища, в которую входят не только белки, жиры, углеводы и минеральные соли, но и другие, неизвестные вещества, позднее названые витамин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743360" y="1628640"/>
            <a:ext cx="3552840" cy="489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150"/>
                            </p:stCondLst>
                            <p:childTnLst>
                              <p:par>
                                <p:cTn id="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Comic Sans MS"/>
              </a:rPr>
              <a:t>Кислота аскорбиновая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(витамин С)</a:t>
            </a:r>
            <a:br>
              <a:rPr sz="3600"/>
            </a:b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Acidum askorbinic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928 г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Венгерский учёный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Сент-Дьордьи выделил из коры надпочечников и из апельсинов вещество кислого характера, имеющего эмпирическую формул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O</a:t>
            </a: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6</a:t>
            </a:r>
            <a:r>
              <a:rPr b="0" lang="ru-RU" sz="1400" spc="-1" strike="noStrike">
                <a:solidFill>
                  <a:srgbClr val="ff0066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Аскорбиновая кислота представляет собой белый кристаллический порошок кислого вкуса. Она легко растворима в воде, растворима в спирте, нерастворима в эфире, бензоле и хлороформе. Температура плавления её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90-193</a:t>
            </a:r>
            <a:r>
              <a:rPr b="0" lang="ru-RU" sz="2000" spc="-1" strike="noStrike" baseline="30000">
                <a:solidFill>
                  <a:srgbClr val="ff0066"/>
                </a:solidFill>
                <a:latin typeface="Comic Sans MS"/>
              </a:rPr>
              <a:t>0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 С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(С разложением)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Витамин С чувствителен к окислению, особенно при повышенной температуре и наличии следов тяжёлых металлов (особенно меди). При варке овощей разрушается примерно треть витамина С; при хранении готовых блюд потери увеличиваются. Аскорбиновая кислота сохраняется при кваше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25020" r="0" b="0"/>
          <a:stretch/>
        </p:blipFill>
        <p:spPr>
          <a:xfrm>
            <a:off x="5651640" y="189000"/>
            <a:ext cx="2447640" cy="1542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948360" y="5202360"/>
            <a:ext cx="1514520" cy="1655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Comic Sans MS"/>
              </a:rPr>
              <a:t>Это надо знать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332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Недостаток витамина С приводит к тяжёлому заболеванию, которое называется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ЦИНГ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имптомы: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дёсны становятся слабыми и кровоточат, не заживают раны, не образуются волокна соединительной ткани, анемия, сердечная недостаточность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1755720"/>
            <a:ext cx="3600360" cy="3489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оль витамина С в жизнедеятельности живых организм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Витамин С обладает сильной восстанавливающей способность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Участвует в обменных процессах клеток соединительной тка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Участвует в образовании здоровой кож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Необходим для синтеза коллагеновых волокон т.е. межклеточного склеивающего веществ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omic Sans MS"/>
              </a:rPr>
              <a:t>Аскорбиновая кислота в природ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Аскорбиновая кислота широко распространена в природе. Особенно ею богат растительный мир. Так, богаты витамином С свежие овощи – салат, капуста, свекла, картофель, помидоры, красная морковь, красный перец, зелёный лук, щавель, шпинат. Из фруктов – лимоны, апельсины, яблоки, особенно антоновские, из ягод – чёрная смородина, шиповник, барбарис, рябина. Много витамина С содержится в хвое и крапиве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157176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356000" y="3500280"/>
            <a:ext cx="1562040" cy="1524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084720" y="3500280"/>
            <a:ext cx="1600200" cy="1524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084720" y="1700280"/>
            <a:ext cx="1524240" cy="1447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7620120" y="198900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3924360" y="5084640"/>
            <a:ext cx="1485720" cy="1524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7581960" y="3573360"/>
            <a:ext cx="1562040" cy="1600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1908000" y="53341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5724360" y="5410080"/>
            <a:ext cx="1486080" cy="1447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7620120" y="5229360"/>
            <a:ext cx="1523880" cy="148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оциологический опро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Чтобы провести социологический опрос, нам потребовалось составить анкету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d6009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0093"/>
                </a:solidFill>
                <a:latin typeface="Comic Sans MS"/>
              </a:rPr>
              <a:t>Знаете ли вы о роли витамина С в организме человека? Да ; Не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d6009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0093"/>
                </a:solidFill>
                <a:latin typeface="Comic Sans MS"/>
              </a:rPr>
              <a:t>Известны ли вам заболевания, вызываемые нехваткой витамина С? Да ; Не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d6009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0093"/>
                </a:solidFill>
                <a:latin typeface="Comic Sans MS"/>
              </a:rPr>
              <a:t>Принимаете ли вы витаминные препараты, содержащие витамин С? Да ; Не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d6009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0093"/>
                </a:solidFill>
                <a:latin typeface="Comic Sans MS"/>
              </a:rPr>
              <a:t>Известны ли вам продукты питания, богатые витамином С? Да ; Нет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d6009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0093"/>
                </a:solidFill>
                <a:latin typeface="Comic Sans MS"/>
              </a:rPr>
              <a:t>Какие из этих продуктов вы регулярно употребляете: салат, капуста, картофель, лимоны, апельсины, яблоки, чёрная смородина, шиповник, барбарис, хвоя, крапива, зелёный лук, рябина, красный перец, шпинат, щавель, красная морковь, помидор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Мы опросили более 100 человек (учащихся, их родителей, технический персонал и педагогов нашей школы) и результаты занесли в таблиц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24000" y="115920"/>
          <a:ext cx="8569080" cy="6359400"/>
        </p:xfrm>
        <a:graphic>
          <a:graphicData uri="http://schemas.openxmlformats.org/drawingml/2006/table">
            <a:tbl>
              <a:tblPr/>
              <a:tblGrid>
                <a:gridCol w="399960"/>
                <a:gridCol w="482400"/>
                <a:gridCol w="560520"/>
                <a:gridCol w="2013120"/>
                <a:gridCol w="504720"/>
                <a:gridCol w="1800000"/>
                <a:gridCol w="432000"/>
                <a:gridCol w="1942920"/>
                <a:gridCol w="4334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Да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Нет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Повышает иммуни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т просту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бщеукрепляю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т цин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т рах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т диат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Повышает тону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Для кож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Улучшает интелл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Авитамин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Цин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Рах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Болезни печени и желуд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Боля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Упадок си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Р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Гри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Простудные заболе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Лим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Апельс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Цитрус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Сморо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Морков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апу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Фру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Шипов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Ябл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артоф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в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Пер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Варен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Щав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Ху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Мандар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Чёрная сморо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Помид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артоф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Помид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Апельс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Сал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Барбар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Щав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Ябл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апу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расный пер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Чёрная сморо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рапи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Хво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Лим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расная морков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Зелёный лу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Шипов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Ряб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Шпин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1:34:39Z</dcterms:created>
  <dc:creator>user</dc:creator>
  <dc:description/>
  <dc:language>en-US</dc:language>
  <cp:lastModifiedBy>user</cp:lastModifiedBy>
  <dcterms:modified xsi:type="dcterms:W3CDTF">2007-01-05T13:44:23Z</dcterms:modified>
  <cp:revision>16</cp:revision>
  <dc:subject/>
  <dc:title>Исследовательская работа: «количественное определение витамина С в продуктах питания иодометрическим методом»</dc:title>
</cp:coreProperties>
</file>