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A6F-5803-4039-A3E1-012BAEBE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37D-399D-4408-88A9-F0D13D2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182-5BE7-4405-BF3C-27AF6F5A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EF8-A39D-4434-89D4-36A10474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9EA-6DC5-4AF5-9E9E-21D7DECB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B3C6-24AA-4ECE-AE70-2447422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34A-384F-4E2E-AC2A-2F631C5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52E-5841-49C1-9FD7-E602496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DD6B-C176-4BE4-9F9E-7118F4D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170-ACA7-4DDF-A60C-2DA5FF3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C9F8-515B-470F-B384-C3953AC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F03-8D1C-4CCA-84F3-E67956F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23B6-C1C9-4BA7-AA6C-BA4274D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2DAF-8849-495C-9690-F6FAB4F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A41F-4D40-4BB1-A404-12196C1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8A2D-2790-43C5-A82D-C6942ABA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07CD-B40D-4971-9FF6-E91DC8FC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9FD-DC0E-4A0A-A7C8-CECD0A0E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6B9-3A6D-4F42-AC25-C93460C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705-470F-4F54-8F4D-CF49E232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684-3588-45DE-9E8D-709B53D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E32-2CEC-4DE0-8D07-868072A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5E7-FD69-4F3E-923E-82B3726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691-3D45-4618-BFF5-84EE3C8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95C-10E7-4D02-992F-D369175A668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0689-44BF-493C-B63E-04F7A94DF9A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713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e25"/>
                </a:solidFill>
                <a:latin typeface="Arial"/>
              </a:rPr>
              <a:t>Тема урока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e25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Размножение и           развитие  животных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663480" y="59612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23736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жающий мир  3 кл.     Учитель: Григоришина Н.В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Рисунок 12" descr="http://ekolog.na.by/oni/jivnosty/kenguru.jpg"/>
          <p:cNvPicPr/>
          <p:nvPr/>
        </p:nvPicPr>
        <p:blipFill>
          <a:blip r:embed="rId1"/>
          <a:srcRect l="0" t="6697" r="2741" b="0"/>
          <a:stretch/>
        </p:blipFill>
        <p:spPr>
          <a:xfrm>
            <a:off x="6659640" y="3645000"/>
            <a:ext cx="223020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42 из 179585"/>
          <p:cNvPicPr/>
          <p:nvPr/>
        </p:nvPicPr>
        <p:blipFill>
          <a:blip r:embed="rId2"/>
          <a:stretch/>
        </p:blipFill>
        <p:spPr>
          <a:xfrm>
            <a:off x="468360" y="4076640"/>
            <a:ext cx="25542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132000" y="5493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905040" y="1798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ак размножаются разные животные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29080" y="24210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то три раза родитс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903240" y="306864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Кто два раза родитс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3600" spc="-1" strike="noStrike">
                <a:solidFill>
                  <a:srgbClr val="006600"/>
                </a:solidFill>
                <a:latin typeface="Arial Narrow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ебник, стр.105-111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дание 1, стр.1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1544760" cy="93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64000" y="2060640"/>
            <a:ext cx="118620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64360" y="2133720"/>
            <a:ext cx="1390680" cy="1047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5640" y="476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 Narrow"/>
              </a:rPr>
              <a:t>Развитие бабочк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972000" y="350028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яйц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3060360" y="350028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личин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357336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кукол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350028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бабоч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124000" y="3573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471636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680400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47628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Развитие кузнечи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rcRect l="0" t="58262" r="0" b="0"/>
          <a:stretch/>
        </p:blipFill>
        <p:spPr>
          <a:xfrm>
            <a:off x="1116000" y="1557360"/>
            <a:ext cx="6629400" cy="159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0000" y="350028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яйц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47640" y="3645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350028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личин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4140360" y="3573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5507280" y="3500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Взрослое насекомо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Arial Unicode MS"/>
              </a:rPr>
              <a:t>Размножение и развитие рыб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4149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икринк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901960" y="41497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малё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6826680" y="414972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1908000" y="4292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5292720" y="4292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1638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122400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2492280"/>
            <a:ext cx="18590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 Unicode MS"/>
              </a:rPr>
              <a:t>Земноводны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050920" y="5013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435640" y="5013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558480" y="494172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л я г у ш к 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611280" y="4869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ик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978280" y="486900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головасти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Picture 22" descr="Картинка 24 из 192"/>
          <p:cNvPicPr/>
          <p:nvPr/>
        </p:nvPicPr>
        <p:blipFill>
          <a:blip r:embed="rId1"/>
          <a:stretch/>
        </p:blipFill>
        <p:spPr>
          <a:xfrm>
            <a:off x="395280" y="2421000"/>
            <a:ext cx="201600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76720" y="2565360"/>
            <a:ext cx="208728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164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663300"/>
                </a:solidFill>
                <a:latin typeface="Arial Unicode MS"/>
              </a:rPr>
              <a:t>Пресмыкающиеся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Picture 4" descr="Картинка 17 из 652"/>
          <p:cNvPicPr/>
          <p:nvPr/>
        </p:nvPicPr>
        <p:blipFill>
          <a:blip r:embed="rId1"/>
          <a:stretch/>
        </p:blipFill>
        <p:spPr>
          <a:xfrm>
            <a:off x="900000" y="2852640"/>
            <a:ext cx="124164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Картинка 1 из 180"/>
          <p:cNvPicPr/>
          <p:nvPr/>
        </p:nvPicPr>
        <p:blipFill>
          <a:blip r:embed="rId2"/>
          <a:stretch/>
        </p:blipFill>
        <p:spPr>
          <a:xfrm>
            <a:off x="3203640" y="3213000"/>
            <a:ext cx="170496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47898"/>
          <p:cNvPicPr/>
          <p:nvPr/>
        </p:nvPicPr>
        <p:blipFill>
          <a:blip r:embed="rId3"/>
          <a:stretch/>
        </p:blipFill>
        <p:spPr>
          <a:xfrm>
            <a:off x="5867280" y="2781360"/>
            <a:ext cx="2987640" cy="187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666720" y="53481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946960" y="539100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детёны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299560" y="5445000"/>
            <a:ext cx="38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зрослое животно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050920" y="5516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493236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 Unicode MS"/>
              </a:rPr>
              <a:t>Птиц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00080" y="501336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яйц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886120" y="494172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птенец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564520" y="4886280"/>
            <a:ext cx="35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зрослая пти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AutoShape 12"/>
          <p:cNvSpPr/>
          <p:nvPr/>
        </p:nvSpPr>
        <p:spPr>
          <a:xfrm rot="21336000">
            <a:off x="5148360" y="53006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1403280" y="5157720"/>
            <a:ext cx="433440" cy="358920"/>
          </a:xfrm>
          <a:prstGeom prst="rightArrow">
            <a:avLst>
              <a:gd name="adj1" fmla="val 50000"/>
              <a:gd name="adj2" fmla="val 301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Picture 14" descr="Картинка 29 из 994"/>
          <p:cNvPicPr/>
          <p:nvPr/>
        </p:nvPicPr>
        <p:blipFill>
          <a:blip r:embed="rId1"/>
          <a:stretch/>
        </p:blipFill>
        <p:spPr>
          <a:xfrm>
            <a:off x="250920" y="2565360"/>
            <a:ext cx="1800000" cy="1420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2000" y="256536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          </a:t>
            </a:r>
            <a:r>
              <a:rPr b="0" lang="en-US" sz="4400" spc="-1" strike="noStrike">
                <a:solidFill>
                  <a:srgbClr val="009900"/>
                </a:solidFill>
                <a:latin typeface="Arial Unicode MS"/>
              </a:rPr>
              <a:t>Млекопитающ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05840" y="544500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детёны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788000" y="5084640"/>
            <a:ext cx="34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Взрослое животно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987640" y="5516640"/>
            <a:ext cx="433440" cy="358560"/>
          </a:xfrm>
          <a:prstGeom prst="rightArrow">
            <a:avLst>
              <a:gd name="adj1" fmla="val 50000"/>
              <a:gd name="adj2" fmla="val 3022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2519280" cy="187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065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340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92360" y="126828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Подумайте, какие слова пропущен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71640" y="220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йцо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492360" y="220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тенец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443640" y="2349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рослая птиц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306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ринка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оловасти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804000" y="306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191240" y="38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икри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63528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ё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6446520" y="39337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рослая рыб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1189800" y="47973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йцо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195640" y="47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инка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500720" y="47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колка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7020000" y="479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6:55:50Z</dcterms:created>
  <dc:creator>Admin</dc:creator>
  <dc:description/>
  <dc:language>en-US</dc:language>
  <cp:lastModifiedBy>Admin</cp:lastModifiedBy>
  <dcterms:modified xsi:type="dcterms:W3CDTF">2011-12-24T15:28:03Z</dcterms:modified>
  <cp:revision>30</cp:revision>
  <dc:subject/>
  <dc:title>Слайд 1</dc:title>
</cp:coreProperties>
</file>