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19.gif" ContentType="image/gif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D81-DB0C-4AAF-A32A-76634FE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20A-6AB6-4537-9FDC-3F691041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41F-9B26-4E11-B167-FACF3982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50-2D7D-4C1A-928E-2C594289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E99-7D46-4864-96E5-307DC51A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538-2281-4B33-9DD8-AA5DABE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31A0-23F1-4497-B8E3-7C088DD0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7C01-CB94-40A6-B4A7-DC9242F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35A4-D641-4EFA-8969-1988EAA4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54A-4FC4-4ECD-81B2-18FFD01B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807F-E7F3-4C70-8441-F897420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432-C56C-4292-A87B-1AA37F8E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96F-0F40-4229-975B-17E1ABA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B796-1CFB-4044-995C-EDA2CC7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3BA1-BC46-4504-9DDB-3DC20389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6A82-0A77-4696-B3C0-17F9D055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C548-9DB3-4231-A802-F8EFC4A3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82E-CC04-44FA-94D8-315862E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2F5-95D8-4D0E-A820-76DC4A5F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18-1677-4CD5-AA3A-8EECC3E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715-7DBC-4030-883C-72091938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D7F-C52E-4DFC-BC7E-44FAB062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F6A-BF47-446C-8A72-16214EB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7B2-BCA6-43DE-A040-B1A1C5C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14F5-7A63-46A5-9ADC-0D361C5780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09D0-EA21-4F08-B30F-5DA57EAF9B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clubmai.ru/heading/papers/428/c220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6400800" cy="1625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2707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11123" t="6658" r="4570" b="2846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62600" y="333360"/>
            <a:ext cx="6701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апаргали  Бегалин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(1896 – 1983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2133720"/>
            <a:ext cx="30243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212f"/>
                </a:solidFill>
                <a:latin typeface="Comic Sans MS"/>
              </a:rPr>
              <a:t>«Сеи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унду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кошма покрывающая верхний слой юрты, служащая одновременно для проникновения света и выхода ды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489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0256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ворец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тот, кто творчески созда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-нибуд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565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а дыб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1) на задние ноги (о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шадях); 2) противодейств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согласие, упрям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наруживаемое ке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0920" cy="36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06728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Юрта"/>
          <p:cNvPicPr/>
          <p:nvPr/>
        </p:nvPicPr>
        <p:blipFill>
          <a:blip r:embed="rId4"/>
          <a:stretch/>
        </p:blipFill>
        <p:spPr>
          <a:xfrm>
            <a:off x="0" y="3645000"/>
            <a:ext cx="4067280" cy="321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356000" y="0"/>
            <a:ext cx="4788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Большие смайлики"/>
          <p:cNvPicPr/>
          <p:nvPr/>
        </p:nvPicPr>
        <p:blipFill>
          <a:blip r:embed="rId2"/>
          <a:stretch/>
        </p:blipFill>
        <p:spPr>
          <a:xfrm>
            <a:off x="4500720" y="1844640"/>
            <a:ext cx="1295280" cy="77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403280" y="1916280"/>
            <a:ext cx="23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радост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32000" y="2997360"/>
            <a:ext cx="1933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руст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32000" y="4076640"/>
            <a:ext cx="1743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нев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Большие смайлики"/>
          <p:cNvPicPr/>
          <p:nvPr/>
        </p:nvPicPr>
        <p:blipFill>
          <a:blip r:embed="rId3"/>
          <a:stretch/>
        </p:blipFill>
        <p:spPr>
          <a:xfrm>
            <a:off x="4500720" y="4005360"/>
            <a:ext cx="1106280" cy="79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Большие смайлики"/>
          <p:cNvPicPr/>
          <p:nvPr/>
        </p:nvPicPr>
        <p:blipFill>
          <a:blip r:embed="rId4"/>
          <a:stretch/>
        </p:blipFill>
        <p:spPr>
          <a:xfrm>
            <a:off x="4500720" y="2852640"/>
            <a:ext cx="1223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рб Республики Казахст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3456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Мир – огромная юрта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светла, как дворец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Юрта мастеров. В огромной юрте проводились многочисленные мастер-классы. Наталья Сербина рассказала об украинском пении"/>
          <p:cNvPicPr/>
          <p:nvPr/>
        </p:nvPicPr>
        <p:blipFill>
          <a:blip r:embed="rId2"/>
          <a:stretch/>
        </p:blipFill>
        <p:spPr>
          <a:xfrm>
            <a:off x="611280" y="1844640"/>
            <a:ext cx="756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. 235, учить наизу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ить пятистишие «Юрт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63640" y="2565360"/>
            <a:ext cx="568800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8280360" cy="583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ты характ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3095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ст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есток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ви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мел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с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нави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1557360"/>
            <a:ext cx="44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бросерд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тра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ерд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прям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афар Алимбае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р. 1923 г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27280" y="1828800"/>
            <a:ext cx="453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Нашел я однажды свое богатство с той поры никогда не расстаюсь с ним, стараюсь умножить это великое богатство – слово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.Алимба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М.Алимбаев"/>
          <p:cNvPicPr/>
          <p:nvPr/>
        </p:nvPicPr>
        <p:blipFill>
          <a:blip r:embed="rId2"/>
          <a:stretch/>
        </p:blipFill>
        <p:spPr>
          <a:xfrm>
            <a:off x="971640" y="1916280"/>
            <a:ext cx="324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Казахская юрта"/>
          <p:cNvPicPr/>
          <p:nvPr/>
        </p:nvPicPr>
        <p:blipFill>
          <a:blip r:embed="rId2"/>
          <a:stretch/>
        </p:blipFill>
        <p:spPr>
          <a:xfrm>
            <a:off x="1403280" y="692280"/>
            <a:ext cx="6477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04.10 г.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96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узафар Алимба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Юрт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[Наурыз]"/>
          <p:cNvPicPr/>
          <p:nvPr/>
        </p:nvPicPr>
        <p:blipFill>
          <a:blip r:embed="rId2"/>
          <a:stretch/>
        </p:blipFill>
        <p:spPr>
          <a:xfrm>
            <a:off x="3132000" y="3213000"/>
            <a:ext cx="561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Внутренности юрты"/>
          <p:cNvPicPr/>
          <p:nvPr/>
        </p:nvPicPr>
        <p:blipFill>
          <a:blip r:embed="rId2"/>
          <a:stretch/>
        </p:blipFill>
        <p:spPr>
          <a:xfrm>
            <a:off x="1042920" y="476280"/>
            <a:ext cx="6408720" cy="4392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4942080"/>
            <a:ext cx="85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Юрта состоит из красиво изогнутых и складывающихся решетчатых стен - кереге, сводчатых жердей - уыков, верхнего обруча - шаныра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 это обвязывается веревками и ковровыми дорожками, покрывается по бокам четырьмя туырлыками, поверх их - двумя узуками и тундуком (войлочные покрытия), которые служат стенами и кровлей жилища, надежно защищающими от непогоды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 (700x463, 548Kb)"/>
          <p:cNvPicPr/>
          <p:nvPr/>
        </p:nvPicPr>
        <p:blipFill>
          <a:blip r:embed="rId2"/>
          <a:stretch/>
        </p:blipFill>
        <p:spPr>
          <a:xfrm>
            <a:off x="1116000" y="189000"/>
            <a:ext cx="6667560" cy="441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4797360"/>
            <a:ext cx="84247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та с восходом солнца имела символический смысл. Символизировала космос и единство вселенной, освоенное простран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нырак (навершие юрты) был семейной реликвией, символом продолжения 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40:32Z</dcterms:created>
  <dc:creator>1</dc:creator>
  <dc:description/>
  <dc:language>en-US</dc:language>
  <cp:lastModifiedBy>1</cp:lastModifiedBy>
  <dcterms:modified xsi:type="dcterms:W3CDTF">2010-04-08T02:38:50Z</dcterms:modified>
  <cp:revision>4</cp:revision>
  <dc:subject/>
  <dc:title>Слайд 1</dc:title>
</cp:coreProperties>
</file>