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1.png" ContentType="image/png"/>
  <Override PartName="/ppt/media/image19.gif" ContentType="image/gif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020-714F-45EE-9990-63D1032B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157-AEF5-4AE3-8CD6-2AEC11BD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2C7-9231-400E-9640-1EC56D6A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173-1660-40F3-A28F-0B6EE87D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7CAB-6B8F-4A9E-A006-A6BD0DFC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CF38-A4D8-40DE-B0AC-2A426A7E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D4F7-DC59-49BB-A6AF-D068EB99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7412-9AC4-421D-8F03-7BAB27CC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13B8-CB88-44CD-8BCD-3118D879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3E3C-529D-4331-AE2F-62E4926E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3DDD-F783-4DB2-83F7-F3BA9448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2E8-BFC3-4B73-AB6E-A32F19B9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F850-10E3-4CDC-B656-8DC0DD9C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B068-A199-4262-9FAC-056DF93A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523C-39AC-41CC-9C29-7B8DCB36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0816-842D-4BAD-A99A-FE25063D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B1C3-4606-40E9-A5F7-A5C79165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C4CF-4C22-43D9-B88E-AB67092B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4250-7904-4F4D-B8FA-0D6A0458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0F5-558E-455E-BE7B-1F34DFBB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365-8F74-4FA0-A6BA-38185B95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2DE9-DFA9-4D95-B853-F147728C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5015-FDCB-4FAD-B2C6-E76E1D13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3A3-42F6-4793-8FE8-5435B118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49F5-5F57-4D33-975D-BFC58103BD9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F0FE-0E2C-4559-8CC8-6EA587EFE30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urclubmai.ru/heading/papers/428/c220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6400800" cy="1625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27079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dff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11123" t="6658" r="4570" b="2846"/>
          <a:stretch/>
        </p:blipFill>
        <p:spPr>
          <a:xfrm>
            <a:off x="-14436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362600" y="333360"/>
            <a:ext cx="6701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Сапаргали  Бегалин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(1896 – 1983)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87640" y="2133720"/>
            <a:ext cx="302436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212f"/>
                </a:solidFill>
                <a:latin typeface="Comic Sans MS"/>
              </a:rPr>
              <a:t>«Сеид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6960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Тунду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кошма покрывающая верхний слой юрты, служащая одновременно для проникновения света и выхода ды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692360" y="3357720"/>
            <a:ext cx="4895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770256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Творец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тот, кто творчески создае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-нибуд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256536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На дыбы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– 1) на задние ноги (о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ошадях); 2) противодейств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согласие, упрям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наруживаемое кем-ни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90920" cy="3672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067280" y="3429000"/>
            <a:ext cx="5076720" cy="3429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Юрта"/>
          <p:cNvPicPr/>
          <p:nvPr/>
        </p:nvPicPr>
        <p:blipFill>
          <a:blip r:embed="rId4"/>
          <a:stretch/>
        </p:blipFill>
        <p:spPr>
          <a:xfrm>
            <a:off x="0" y="3645000"/>
            <a:ext cx="4067280" cy="321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4356000" y="0"/>
            <a:ext cx="47880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6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Большие смайлики"/>
          <p:cNvPicPr/>
          <p:nvPr/>
        </p:nvPicPr>
        <p:blipFill>
          <a:blip r:embed="rId2"/>
          <a:stretch/>
        </p:blipFill>
        <p:spPr>
          <a:xfrm>
            <a:off x="4500720" y="1844640"/>
            <a:ext cx="1295280" cy="7714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1403280" y="1916280"/>
            <a:ext cx="2314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радостью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332000" y="2997360"/>
            <a:ext cx="1933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грустью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332000" y="4076640"/>
            <a:ext cx="1743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гнев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7" name="" descr="Большие смайлики"/>
          <p:cNvPicPr/>
          <p:nvPr/>
        </p:nvPicPr>
        <p:blipFill>
          <a:blip r:embed="rId3"/>
          <a:stretch/>
        </p:blipFill>
        <p:spPr>
          <a:xfrm>
            <a:off x="4500720" y="4005360"/>
            <a:ext cx="1106280" cy="795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Большие смайлики"/>
          <p:cNvPicPr/>
          <p:nvPr/>
        </p:nvPicPr>
        <p:blipFill>
          <a:blip r:embed="rId4"/>
          <a:stretch/>
        </p:blipFill>
        <p:spPr>
          <a:xfrm>
            <a:off x="4500720" y="2852640"/>
            <a:ext cx="1223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56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Герб Республики Казахста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700360" y="1557360"/>
            <a:ext cx="3456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«Мир – огромная юрта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Что светла, как дворец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Юрта мастеров. В огромной юрте проводились многочисленные мастер-классы. Наталья Сербина рассказала об украинском пении"/>
          <p:cNvPicPr/>
          <p:nvPr/>
        </p:nvPicPr>
        <p:blipFill>
          <a:blip r:embed="rId2"/>
          <a:stretch/>
        </p:blipFill>
        <p:spPr>
          <a:xfrm>
            <a:off x="611280" y="1844640"/>
            <a:ext cx="7561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6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тр. 235, учить наизу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ставить пятистишие «Юрт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763640" y="2565360"/>
            <a:ext cx="568800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04640"/>
            <a:ext cx="8280360" cy="5832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68360" y="404640"/>
            <a:ext cx="82803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6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6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ерты характе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3095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ест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Жесток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ви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бро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мел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ус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нави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3995640" y="1557360"/>
            <a:ext cx="44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бросерде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луп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есстраш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р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ессердеч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прям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Музафар Алимбаев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(р. 1923 г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427280" y="1828800"/>
            <a:ext cx="453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Нашел я однажды свое богатство с той поры никогда не расстаюсь с ним, стараюсь умножить это великое богатство – слово.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.Алимбае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М.Алимбаев"/>
          <p:cNvPicPr/>
          <p:nvPr/>
        </p:nvPicPr>
        <p:blipFill>
          <a:blip r:embed="rId2"/>
          <a:stretch/>
        </p:blipFill>
        <p:spPr>
          <a:xfrm>
            <a:off x="971640" y="1916280"/>
            <a:ext cx="324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Казахская юрта"/>
          <p:cNvPicPr/>
          <p:nvPr/>
        </p:nvPicPr>
        <p:blipFill>
          <a:blip r:embed="rId2"/>
          <a:stretch/>
        </p:blipFill>
        <p:spPr>
          <a:xfrm>
            <a:off x="1403280" y="692280"/>
            <a:ext cx="64771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04.10 г.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6960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узафар Алимбае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Юрт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[Наурыз]"/>
          <p:cNvPicPr/>
          <p:nvPr/>
        </p:nvPicPr>
        <p:blipFill>
          <a:blip r:embed="rId2"/>
          <a:stretch/>
        </p:blipFill>
        <p:spPr>
          <a:xfrm>
            <a:off x="3132000" y="3213000"/>
            <a:ext cx="5616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Внутренности юрты"/>
          <p:cNvPicPr/>
          <p:nvPr/>
        </p:nvPicPr>
        <p:blipFill>
          <a:blip r:embed="rId2"/>
          <a:stretch/>
        </p:blipFill>
        <p:spPr>
          <a:xfrm>
            <a:off x="1042920" y="476280"/>
            <a:ext cx="6408720" cy="4392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0920" y="4942080"/>
            <a:ext cx="854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Юрта состоит из красиво изогнутых и складывающихся решетчатых стен - кереге, сводчатых жердей - уыков, верхнего обруча - шанырак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е это обвязывается веревками и ковровыми дорожками, покрывается по бокам четырьмя туырлыками, поверх их - двумя узуками и тундуком (войлочные покрытия), которые служат стенами и кровлей жилища, надежно защищающими от непогоды.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 (700x463, 548Kb)"/>
          <p:cNvPicPr/>
          <p:nvPr/>
        </p:nvPicPr>
        <p:blipFill>
          <a:blip r:embed="rId2"/>
          <a:stretch/>
        </p:blipFill>
        <p:spPr>
          <a:xfrm>
            <a:off x="1116000" y="189000"/>
            <a:ext cx="6667560" cy="4410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68360" y="4797360"/>
            <a:ext cx="842472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Юрта с восходом солнца имела символический смысл. Символизировала космос и единство вселенной, освоенное простран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анырак (навершие юрты) был семейной реликвией, символом продолжения р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7:40:32Z</dcterms:created>
  <dc:creator>1</dc:creator>
  <dc:description/>
  <dc:language>en-US</dc:language>
  <cp:lastModifiedBy>1</cp:lastModifiedBy>
  <dcterms:modified xsi:type="dcterms:W3CDTF">2010-04-08T02:38:50Z</dcterms:modified>
  <cp:revision>4</cp:revision>
  <dc:subject/>
  <dc:title>Слайд 1</dc:title>
</cp:coreProperties>
</file>