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19.gif" ContentType="image/gif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239-22EC-4EE3-A373-8FD8FF55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569-DFC7-44C9-851E-2110DB6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BD0-7C5B-4BC2-BB43-A8EBB074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103-2EAA-4FD3-BE24-A55FF15F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992B-E811-493E-BC1E-1F78004F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E62-D8D8-46C5-8AEA-43AF502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2DA4-8697-4F47-838D-B38DAB5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2E90-230A-430E-831B-944F6B9F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2574-398D-4806-9E4A-9FC8A42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B2D-A9B7-45D5-B923-9B29B28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3CB-CB89-44BC-AE01-17F7EB2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1D0-83D3-4E2C-924D-4388FC95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AE10-6F25-46BC-A7DE-3000F7A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16C4-7579-4F2F-85CB-00039B2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FDD6-37E2-416A-AADF-58D24FA2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1778-8606-4831-9A79-D679FAF0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FDE3-1B04-4936-8013-D6594B99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D20-33E4-473C-9DF7-8A4D2C37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626-B436-4D7D-804C-075CA61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CBE-D930-4AF1-9835-B027B514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846-E192-47C1-A901-EA6489D3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760-D1AD-4E02-8AD7-48E6EF5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20C-833F-40E8-A053-405CB7B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BC4-F3B0-46B6-A0BC-E13503D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4EB-E015-43D0-BD2F-050768590E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B1C4-0E92-4AB0-AC43-1883B0AAD0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clubmai.ru/heading/papers/428/c220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6400800" cy="1625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2707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11123" t="6658" r="4570" b="2846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62600" y="333360"/>
            <a:ext cx="6701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апаргали  Бегалин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(1896 – 1983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2133720"/>
            <a:ext cx="30243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212f"/>
                </a:solidFill>
                <a:latin typeface="Comic Sans MS"/>
              </a:rPr>
              <a:t>«Сеи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унду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кошма покрывающая верхний слой юрты, служащая одновременно для проникновения света и выхода ды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489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0256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ворец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тот, кто творчески созда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-нибуд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565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а дыб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1) на задние ноги (о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шадях); 2) противодейств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согласие, упрям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наруживаемое ке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0920" cy="36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06728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Юрта"/>
          <p:cNvPicPr/>
          <p:nvPr/>
        </p:nvPicPr>
        <p:blipFill>
          <a:blip r:embed="rId4"/>
          <a:stretch/>
        </p:blipFill>
        <p:spPr>
          <a:xfrm>
            <a:off x="0" y="3645000"/>
            <a:ext cx="4067280" cy="321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356000" y="0"/>
            <a:ext cx="4788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Большие смайлики"/>
          <p:cNvPicPr/>
          <p:nvPr/>
        </p:nvPicPr>
        <p:blipFill>
          <a:blip r:embed="rId2"/>
          <a:stretch/>
        </p:blipFill>
        <p:spPr>
          <a:xfrm>
            <a:off x="4500720" y="1844640"/>
            <a:ext cx="1295280" cy="77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403280" y="1916280"/>
            <a:ext cx="23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радост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32000" y="2997360"/>
            <a:ext cx="1933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руст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32000" y="4076640"/>
            <a:ext cx="1743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нев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Большие смайлики"/>
          <p:cNvPicPr/>
          <p:nvPr/>
        </p:nvPicPr>
        <p:blipFill>
          <a:blip r:embed="rId3"/>
          <a:stretch/>
        </p:blipFill>
        <p:spPr>
          <a:xfrm>
            <a:off x="4500720" y="4005360"/>
            <a:ext cx="1106280" cy="79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Большие смайлики"/>
          <p:cNvPicPr/>
          <p:nvPr/>
        </p:nvPicPr>
        <p:blipFill>
          <a:blip r:embed="rId4"/>
          <a:stretch/>
        </p:blipFill>
        <p:spPr>
          <a:xfrm>
            <a:off x="4500720" y="2852640"/>
            <a:ext cx="1223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рб Республики Казахст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3456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Мир – огромная юрта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светла, как дворец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Юрта мастеров. В огромной юрте проводились многочисленные мастер-классы. Наталья Сербина рассказала об украинском пении"/>
          <p:cNvPicPr/>
          <p:nvPr/>
        </p:nvPicPr>
        <p:blipFill>
          <a:blip r:embed="rId2"/>
          <a:stretch/>
        </p:blipFill>
        <p:spPr>
          <a:xfrm>
            <a:off x="611280" y="1844640"/>
            <a:ext cx="756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. 235, учить наизу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ить пятистишие «Юрт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63640" y="2565360"/>
            <a:ext cx="568800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8280360" cy="583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ты характ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3095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ст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есток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ви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мел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с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нави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1557360"/>
            <a:ext cx="44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бросерд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тра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ерд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прям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афар Алимбае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р. 1923 г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27280" y="1828800"/>
            <a:ext cx="453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Нашел я однажды свое богатство с той поры никогда не расстаюсь с ним, стараюсь умножить это великое богатство – слово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.Алимба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М.Алимбаев"/>
          <p:cNvPicPr/>
          <p:nvPr/>
        </p:nvPicPr>
        <p:blipFill>
          <a:blip r:embed="rId2"/>
          <a:stretch/>
        </p:blipFill>
        <p:spPr>
          <a:xfrm>
            <a:off x="971640" y="1916280"/>
            <a:ext cx="324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Казахская юрта"/>
          <p:cNvPicPr/>
          <p:nvPr/>
        </p:nvPicPr>
        <p:blipFill>
          <a:blip r:embed="rId2"/>
          <a:stretch/>
        </p:blipFill>
        <p:spPr>
          <a:xfrm>
            <a:off x="1403280" y="692280"/>
            <a:ext cx="6477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04.10 г.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96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узафар Алимба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Юрт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[Наурыз]"/>
          <p:cNvPicPr/>
          <p:nvPr/>
        </p:nvPicPr>
        <p:blipFill>
          <a:blip r:embed="rId2"/>
          <a:stretch/>
        </p:blipFill>
        <p:spPr>
          <a:xfrm>
            <a:off x="3132000" y="3213000"/>
            <a:ext cx="561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Внутренности юрты"/>
          <p:cNvPicPr/>
          <p:nvPr/>
        </p:nvPicPr>
        <p:blipFill>
          <a:blip r:embed="rId2"/>
          <a:stretch/>
        </p:blipFill>
        <p:spPr>
          <a:xfrm>
            <a:off x="1042920" y="476280"/>
            <a:ext cx="6408720" cy="4392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4942080"/>
            <a:ext cx="85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Юрта состоит из красиво изогнутых и складывающихся решетчатых стен - кереге, сводчатых жердей - уыков, верхнего обруча - шаныра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 это обвязывается веревками и ковровыми дорожками, покрывается по бокам четырьмя туырлыками, поверх их - двумя узуками и тундуком (войлочные покрытия), которые служат стенами и кровлей жилища, надежно защищающими от непогоды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 (700x463, 548Kb)"/>
          <p:cNvPicPr/>
          <p:nvPr/>
        </p:nvPicPr>
        <p:blipFill>
          <a:blip r:embed="rId2"/>
          <a:stretch/>
        </p:blipFill>
        <p:spPr>
          <a:xfrm>
            <a:off x="1116000" y="189000"/>
            <a:ext cx="6667560" cy="441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4797360"/>
            <a:ext cx="84247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та с восходом солнца имела символический смысл. Символизировала космос и единство вселенной, освоенное простран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нырак (навершие юрты) был семейной реликвией, символом продолжения 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40:32Z</dcterms:created>
  <dc:creator>1</dc:creator>
  <dc:description/>
  <dc:language>en-US</dc:language>
  <cp:lastModifiedBy>1</cp:lastModifiedBy>
  <dcterms:modified xsi:type="dcterms:W3CDTF">2010-04-08T02:38:50Z</dcterms:modified>
  <cp:revision>4</cp:revision>
  <dc:subject/>
  <dc:title>Слайд 1</dc:title>
</cp:coreProperties>
</file>