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623A-5586-4BD8-9380-64E1D6DA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2044-3050-46F5-AD35-5FCB4A26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9F4-91C9-4D5A-A4A7-ACD6FC94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E29B-58BA-4ECA-B037-0DB78F6A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270EF-0636-43DE-8E97-18915219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34E83-F89B-4CD1-BABF-6BAA0ACF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44702-255D-49A8-AD5D-CF777536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295A8-0896-412A-B103-1F670469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C9505-01EC-4FBD-A1E8-F65790DE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5A776-D37F-45E0-9D86-DE9F78D9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F9E34-CB4D-47E4-ABE7-2F77CB69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C487-DC93-404D-BA9B-D66E9959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F949F-D3F6-468F-B39C-4A806D67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34CFA-2CDB-4B4C-B76F-1994D5F7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5D998-3AE1-45C5-A7E8-BD9E5E4F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CA77F-0A48-4390-B648-5E73F889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D0C31-A069-477B-910C-792D338D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116E-1A95-4E5E-8D98-6BDEC2E5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2C9F-84F9-4F75-88FD-56AA5CFC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8646-22D2-4763-9785-D58DEEAA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AC5F-5CCC-41E6-A6D4-D214C0E8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8BDA-06F1-4935-B045-F62D6ED5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E413-BF1F-4B08-B386-21D905F0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06D0-EE47-4639-A40C-9BD3712F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BCC2-DEB4-4630-8FD2-39DE0E4FF4A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3012-E1B3-4DC5-A5F4-6FD6BDD68D4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site/index.html" TargetMode="External"/><Relationship Id="rId2" Type="http://schemas.openxmlformats.org/officeDocument/2006/relationships/hyperlink" Target="file:///site/index.html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Происхождение животных  и их дикие предки и сородичи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рлина Тамара Никола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реподаватель Спец.дисциплин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ГОУ НПО Профессиональное училище № 7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машние куры произошли от диких банкивских кури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уси – первая прирученная и одомашненная птица. Предком считается дикий гус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7" descr="Банкивские куры"/>
          <p:cNvPicPr/>
          <p:nvPr/>
        </p:nvPicPr>
        <p:blipFill>
          <a:blip r:embed="rId1"/>
          <a:stretch/>
        </p:blipFill>
        <p:spPr>
          <a:xfrm>
            <a:off x="5148360" y="1125360"/>
            <a:ext cx="3019320" cy="1775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Дикий гусь"/>
          <p:cNvPicPr/>
          <p:nvPr/>
        </p:nvPicPr>
        <p:blipFill>
          <a:blip r:embed="rId2"/>
          <a:stretch/>
        </p:blipFill>
        <p:spPr>
          <a:xfrm>
            <a:off x="5219640" y="3429000"/>
            <a:ext cx="2881440" cy="2128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Изменения у животных в процессе одомашнивания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же происходит с дикими животными в процессе одомашнива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же по внешнему виду легко отличить домашнее животное от дик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кие животные боятся людей, агрессивны, не берут корм из ру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одомашненных животных выражен признак, полезный для человека: изменена окраска, хорошее развитие молочных желез, меняется размер и строение тела, тип нервной деятельности. Повышена плодовитость и скороспелость животных   и самое главное - меняется продуктив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4"/>
          <p:cNvSpPr txBox="1"/>
          <p:nvPr/>
        </p:nvSpPr>
        <p:spPr>
          <a:xfrm>
            <a:off x="1332000" y="2276640"/>
            <a:ext cx="7000920" cy="115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нот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 для проведения занятия по спец. дисциплинам в НП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зучить происхождение животных, познакомить учащихся с их предками и сородич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ип урока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Урок формирования новых зна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орудование урока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Учебный плакат, проект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Arial"/>
              </a:rPr>
              <a:t>Содержание рабо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Arial"/>
              </a:rPr>
              <a:t>Презентац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программ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power po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C</a:t>
            </a: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айт</a:t>
            </a:r>
            <a:r>
              <a:rPr b="0" lang="ru-RU" sz="3200" spc="-1" strike="noStrike">
                <a:solidFill>
                  <a:srgbClr val="33cccc"/>
                </a:solidFill>
                <a:latin typeface="Arial"/>
              </a:rPr>
              <a:t> (ссылка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ГОУ НПО Профессиональное училище № 7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выполнен с помощью программы Конструктор Школьных сайт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роисхождение и эволюция животных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изошло привыкание отдельных особей животных к местам обитания человека, так как приманкой служили неиспользованные или выбрасываемые продукты пит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ремя и место одомашнивания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цесс одомашнивания начался 10-15тыс. лет наза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евний человек выбирал наиболее полезные  податливые признаки   животных для одомашни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первые одомашнивание произошло в Европ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одомашненным животным была собака(12-15 тыс. лет до нашей эры). Затем были одомашнены коза, овца, потом – свинья, а позднее уже  крупно- рогатый скот и лошад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Дикие предки и сородичи животных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 существующие  современные виды с/х животных произошли от диких пред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становлено, что родоначальником КРС является дикий Тур. Последняя турица пала в 1627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6" descr="Тур"/>
          <p:cNvPicPr/>
          <p:nvPr/>
        </p:nvPicPr>
        <p:blipFill>
          <a:blip r:embed="rId1"/>
          <a:stretch/>
        </p:blipFill>
        <p:spPr>
          <a:xfrm>
            <a:off x="4643280" y="2565360"/>
            <a:ext cx="3996000" cy="2014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иньи одомашнены были 6-7 тыс. лет назад. Предком считается дикий европейский каб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6" descr="Дикий кабан"/>
          <p:cNvPicPr/>
          <p:nvPr/>
        </p:nvPicPr>
        <p:blipFill>
          <a:blip r:embed="rId1"/>
          <a:stretch/>
        </p:blipFill>
        <p:spPr>
          <a:xfrm>
            <a:off x="4716360" y="1773360"/>
            <a:ext cx="3672000" cy="3141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ким предком современных лошадей является лошадь Пржевальско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7" descr="Лошадь"/>
          <p:cNvPicPr/>
          <p:nvPr/>
        </p:nvPicPr>
        <p:blipFill>
          <a:blip r:embed="rId1"/>
          <a:stretch/>
        </p:blipFill>
        <p:spPr>
          <a:xfrm>
            <a:off x="5076720" y="1700280"/>
            <a:ext cx="2592360" cy="2493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машние овцы произошли от диких сородичей – муфлона, архара, и гривистого бара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7" descr="Муфлон"/>
          <p:cNvPicPr/>
          <p:nvPr/>
        </p:nvPicPr>
        <p:blipFill>
          <a:blip r:embed="rId1"/>
          <a:stretch/>
        </p:blipFill>
        <p:spPr>
          <a:xfrm>
            <a:off x="5148360" y="1700280"/>
            <a:ext cx="2971800" cy="2314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07:52:57Z</dcterms:created>
  <dc:creator>web</dc:creator>
  <dc:description/>
  <dc:language>en-US</dc:language>
  <cp:lastModifiedBy>Коля</cp:lastModifiedBy>
  <dcterms:modified xsi:type="dcterms:W3CDTF">2013-05-23T17:57:05Z</dcterms:modified>
  <cp:revision>14</cp:revision>
  <dc:subject/>
  <dc:title>Происхождение животных  и их дикие предки и сородичи.</dc:title>
</cp:coreProperties>
</file>