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8B28-717D-48C2-A14F-E60CCE41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D1C-DF67-43A7-A64F-9F33B5AB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DCA-1991-4E48-9969-909BC79D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7A5-31D7-40A7-9735-F419B005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9F0F6-5EFB-4704-A6AC-23E22864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648AB-0122-42FD-996E-311983DE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BE9E4-405A-442E-B3F9-B1FEC194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106A7-E846-49BF-8850-797133CF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DCF81-291A-4149-BFFF-53578E68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AB020-C879-477C-9AE2-306D08E6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4A138-B001-49F5-B049-18C3D25F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D756-EE9C-4FD9-BF91-24F498DE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4C0F7-7A57-4B96-A396-3EBF2179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61664-968E-4713-A31C-A2E6C265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2496A-A082-4171-AE73-CC0634D1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89E3C-0374-4553-AC07-23F5B5DB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2BDD1-61E9-450A-9599-9487235C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F13-6896-444B-B1C8-2513B461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C45-B7A2-4D89-8042-F0CBD4AA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75C-A715-4F55-87FC-04A8D886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CE7-4317-4F13-986D-A29ACC5F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364-B7DB-48FB-98CB-617830A2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0FA-1EAC-4C06-90B4-25DE9848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6B7-704E-4665-B8B6-9FED0DA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EF45-6293-4015-A594-B6AB7FD128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EAAC-A027-49DD-B04E-F21176ED62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ite/index.html" TargetMode="External"/><Relationship Id="rId2" Type="http://schemas.openxmlformats.org/officeDocument/2006/relationships/hyperlink" Target="file:///site/index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Происхождение животных  и их дикие предки и сородич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рлина Тамара Никола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еподаватель Спец.дисциплин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ОУ НПО Профессиональное училище № 7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ашние куры произошли от диких банкивских кур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уси – первая прирученная и одомашненная птица. Предком считается дикий гу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7" descr="Банкивские куры"/>
          <p:cNvPicPr/>
          <p:nvPr/>
        </p:nvPicPr>
        <p:blipFill>
          <a:blip r:embed="rId1"/>
          <a:stretch/>
        </p:blipFill>
        <p:spPr>
          <a:xfrm>
            <a:off x="5148360" y="1125360"/>
            <a:ext cx="3019320" cy="1775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Дикий гусь"/>
          <p:cNvPicPr/>
          <p:nvPr/>
        </p:nvPicPr>
        <p:blipFill>
          <a:blip r:embed="rId2"/>
          <a:stretch/>
        </p:blipFill>
        <p:spPr>
          <a:xfrm>
            <a:off x="5219640" y="3429000"/>
            <a:ext cx="2881440" cy="2128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Изменения у животных в процессе одомашнив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же происходит с дикими животными в процессе одомашнив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по внешнему виду легко отличить домашнее животное от дик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кие животные боятся людей, агрессивны, не берут корм из ру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одомашненных животных выражен признак, полезный для человека: изменена окраска, хорошее развитие молочных желез, меняется размер и строение тела, тип нервной деятельности. Повышена плодовитость и скороспелость животных   и самое главное - меняется продуктив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1332000" y="2276640"/>
            <a:ext cx="700092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нот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 для проведения занятия по спец. дисциплинам в НП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зучить происхождение животных, познакомить учащихся с их предками и сородич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ип урок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рок формирования новых зн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 урока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Учебный плакат, про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Arial"/>
              </a:rPr>
              <a:t>Содержание 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Презента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рограм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power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C</a:t>
            </a:r>
            <a:r>
              <a:rPr b="0" lang="ru-RU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йт</a:t>
            </a:r>
            <a:r>
              <a:rPr b="0" lang="ru-RU" sz="3200" spc="-1" strike="noStrike">
                <a:solidFill>
                  <a:srgbClr val="33cccc"/>
                </a:solidFill>
                <a:latin typeface="Arial"/>
              </a:rPr>
              <a:t> (ссылка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ОУ НПО Профессиональное училище № 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выполнен с помощью программы Конструктор Школьных сай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Происхождение и эволюция животных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ошло привыкание отдельных особей животных к местам обитания человека, так как приманкой служили неиспользованные или выбрасываемые продукты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ремя и место одомашнива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цесс одомашнивания начался 10-15тыс. лет наз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ревний человек выбирал наиболее полезные  податливые признаки   животных для одомашн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ервые одомашнивание произошло в Евро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одомашненным животным была собака(12-15 тыс. лет до нашей эры). Затем были одомашнены коза, овца, потом – свинья, а позднее уже  крупно- рогатый скот и лоша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Дикие предки и сородичи животн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существующие  современные виды с/х животных произошли от диких пред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тановлено, что родоначальником КРС является дикий Тур. Последняя турица пала в 1627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Тур"/>
          <p:cNvPicPr/>
          <p:nvPr/>
        </p:nvPicPr>
        <p:blipFill>
          <a:blip r:embed="rId1"/>
          <a:stretch/>
        </p:blipFill>
        <p:spPr>
          <a:xfrm>
            <a:off x="4643280" y="2565360"/>
            <a:ext cx="3996000" cy="201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ньи одомашнены были 6-7 тыс. лет назад. Предком считается дикий европейский каб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Дикий кабан"/>
          <p:cNvPicPr/>
          <p:nvPr/>
        </p:nvPicPr>
        <p:blipFill>
          <a:blip r:embed="rId1"/>
          <a:stretch/>
        </p:blipFill>
        <p:spPr>
          <a:xfrm>
            <a:off x="4716360" y="1773360"/>
            <a:ext cx="3672000" cy="314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ким предком современных лошадей является лошадь Пржевальск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Лошадь"/>
          <p:cNvPicPr/>
          <p:nvPr/>
        </p:nvPicPr>
        <p:blipFill>
          <a:blip r:embed="rId1"/>
          <a:stretch/>
        </p:blipFill>
        <p:spPr>
          <a:xfrm>
            <a:off x="5076720" y="1700280"/>
            <a:ext cx="2592360" cy="2493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машние овцы произошли от диких сородичей – муфлона, архара, и гривистого бар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7" descr="Муфлон"/>
          <p:cNvPicPr/>
          <p:nvPr/>
        </p:nvPicPr>
        <p:blipFill>
          <a:blip r:embed="rId1"/>
          <a:stretch/>
        </p:blipFill>
        <p:spPr>
          <a:xfrm>
            <a:off x="5148360" y="1700280"/>
            <a:ext cx="2971800" cy="2314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7:52:57Z</dcterms:created>
  <dc:creator>web</dc:creator>
  <dc:description/>
  <dc:language>en-US</dc:language>
  <cp:lastModifiedBy>Коля</cp:lastModifiedBy>
  <dcterms:modified xsi:type="dcterms:W3CDTF">2013-05-23T17:57:05Z</dcterms:modified>
  <cp:revision>14</cp:revision>
  <dc:subject/>
  <dc:title>Происхождение животных  и их дикие предки и сородичи.</dc:title>
</cp:coreProperties>
</file>