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487-7ABA-4432-9907-5C9D2C8E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95E-D3D0-46C4-94EA-864E7411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572-CFF3-43D6-8882-D0BE8249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91D-44BB-41BC-B56F-31DD49C3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97C9A-1914-423D-9F5E-B28CF7C7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4A4EE-B204-4CBA-AF1E-AD2847A5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CBE81-5D45-4382-9FB5-8DB183E1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53310-51E6-4CFF-9662-E68EEC07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5E361-750E-49DD-B787-14F44D46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FC55D-2D63-4672-96F4-E9421F7F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0D0B7-BA9D-4374-8FD1-D81E9B9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043-94C1-4DE7-B822-88F1728E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74921-B512-4FA2-8633-2A3E9165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EE65C-A963-485D-A6E8-05305C0C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F2B85-D5CE-4760-8368-F1D8BEEF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3AE0A-8EA1-4C0C-9447-77FFEDC9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AB412-CFA7-45A9-9239-5AC8BB4E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1B3-CFCA-487D-B29C-53713A57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A8A-6A1C-4D4E-A0FD-F9F6B542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ADE-0888-46A3-A257-D6AC1593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763-8D7C-4B41-BA0E-2DF5554C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EBC-51D1-4017-9DFF-473D9001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AF8-6C15-4E30-8C9D-F44BA69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262-833C-482B-BE79-AFB57873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ACED-2084-4C90-BA23-47ABA75FB7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4BB8-6DA5-4854-9A20-7B8521CD32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ite/index.html" TargetMode="External"/><Relationship Id="rId2" Type="http://schemas.openxmlformats.org/officeDocument/2006/relationships/hyperlink" Target="file:///site/index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Происхождение животных  и их дикие предки и сородич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рлина Тамар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еподаватель Спец.дисциплин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ОУ НПО Профессиональное училище № 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ашние куры произошли от диких банкивских кур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уси – первая прирученная и одомашненная птица. Предком считается дикий гу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7" descr="Банкивские куры"/>
          <p:cNvPicPr/>
          <p:nvPr/>
        </p:nvPicPr>
        <p:blipFill>
          <a:blip r:embed="rId1"/>
          <a:stretch/>
        </p:blipFill>
        <p:spPr>
          <a:xfrm>
            <a:off x="5148360" y="1125360"/>
            <a:ext cx="3019320" cy="177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Дикий гусь"/>
          <p:cNvPicPr/>
          <p:nvPr/>
        </p:nvPicPr>
        <p:blipFill>
          <a:blip r:embed="rId2"/>
          <a:stretch/>
        </p:blipFill>
        <p:spPr>
          <a:xfrm>
            <a:off x="5219640" y="3429000"/>
            <a:ext cx="2881440" cy="2128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зменения у животных в процессе одомашнив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же происходит с дикими животными в процессе одомашнив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по внешнему виду легко отличить домашнее животное от дик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кие животные боятся людей, агрессивны, не берут корм из ру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одомашненных животных выражен признак, полезный для человека: изменена окраска, хорошее развитие молочных желез, меняется размер и строение тела, тип нервной деятельности. Повышена плодовитость и скороспелость животных   и самое главное - меняется продуктив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332000" y="2276640"/>
            <a:ext cx="700092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о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 для проведения занятия по спец. дисциплинам в Н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зучить происхождение животных, познакомить учащихся с их предками и сородич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урок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рок формирования новых зн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 урок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чебный плакат, про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Содержание 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Презента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рограм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power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C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йт</a:t>
            </a: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 (ссылка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ОУ НПО Профессиональное училище № 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ыполнен с помощью программы Конструктор Школьных сай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оисхождение и эволюция животных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ошло привыкание отдельных особей животных к местам обитания человека, так как приманкой служили неиспользованные или выбрасываемые продукты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ремя и место одомашнив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одомашнивания начался 10-15тыс. лет наз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й человек выбирал наиболее полезные  податливые признаки   животных для одомашн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ервые одомашнивание произошло в Евро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одомашненным животным была собака(12-15 тыс. лет до нашей эры). Затем были одомашнены коза, овца, потом – свинья, а позднее уже  крупно- рогатый скот и лоша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икие предки и сородичи животн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существующие  современные виды с/х животных произошли от диких пред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новлено, что родоначальником КРС является дикий Тур. Последняя турица пала в 1627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Тур"/>
          <p:cNvPicPr/>
          <p:nvPr/>
        </p:nvPicPr>
        <p:blipFill>
          <a:blip r:embed="rId1"/>
          <a:stretch/>
        </p:blipFill>
        <p:spPr>
          <a:xfrm>
            <a:off x="4643280" y="2565360"/>
            <a:ext cx="3996000" cy="201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ньи одомашнены были 6-7 тыс. лет назад. Предком считается дикий европейский каб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Дикий кабан"/>
          <p:cNvPicPr/>
          <p:nvPr/>
        </p:nvPicPr>
        <p:blipFill>
          <a:blip r:embed="rId1"/>
          <a:stretch/>
        </p:blipFill>
        <p:spPr>
          <a:xfrm>
            <a:off x="4716360" y="1773360"/>
            <a:ext cx="3672000" cy="314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ким предком современных лошадей является лошадь Пржевальск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Лошадь"/>
          <p:cNvPicPr/>
          <p:nvPr/>
        </p:nvPicPr>
        <p:blipFill>
          <a:blip r:embed="rId1"/>
          <a:stretch/>
        </p:blipFill>
        <p:spPr>
          <a:xfrm>
            <a:off x="5076720" y="1700280"/>
            <a:ext cx="2592360" cy="2493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ашние овцы произошли от диких сородичей – муфлона, архара, и гривистого бар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Муфлон"/>
          <p:cNvPicPr/>
          <p:nvPr/>
        </p:nvPicPr>
        <p:blipFill>
          <a:blip r:embed="rId1"/>
          <a:stretch/>
        </p:blipFill>
        <p:spPr>
          <a:xfrm>
            <a:off x="5148360" y="1700280"/>
            <a:ext cx="2971800" cy="2314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7:52:57Z</dcterms:created>
  <dc:creator>web</dc:creator>
  <dc:description/>
  <dc:language>en-US</dc:language>
  <cp:lastModifiedBy>Коля</cp:lastModifiedBy>
  <dcterms:modified xsi:type="dcterms:W3CDTF">2013-05-23T17:57:05Z</dcterms:modified>
  <cp:revision>14</cp:revision>
  <dc:subject/>
  <dc:title>Происхождение животных  и их дикие предки и сородичи.</dc:title>
</cp:coreProperties>
</file>