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B2D-6895-48A9-B4AD-E7A83348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B68-2FFA-4018-A383-0033B3BD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A68-E153-433B-A80A-0DBEFD27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371-B82E-480A-A158-629859A0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789-C42F-4729-973C-CD8E6EE4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E42-FA12-410E-87D6-07C2A078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535-E3F3-4A41-A480-98227591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C9A-14A7-4004-BA60-204A44D0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D19-0743-4CB6-9AF5-7FBA1F23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131-5ACD-4A85-A8E5-1F6BA0A9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3F4-1AED-4C8C-A82D-8F1F806A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43C-8918-4DDC-B15F-B144F6BD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0399-49C4-43B1-A476-EC7C85CE0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§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0. ДУХОВНЫЙ МИР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8 Дорожка 8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063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Вся личностная проблема ответственности заключается в том, что она дает гарантию достижения результата при любых непредвиденных трудност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cc00"/>
                </a:solidFill>
                <a:latin typeface="Arial"/>
              </a:rPr>
              <a:t>Познание – фундамент духовной жизни л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1258920" y="2421000"/>
            <a:ext cx="1081080" cy="431640"/>
          </a:xfrm>
          <a:prstGeom prst="rightArrow">
            <a:avLst>
              <a:gd name="adj1" fmla="val 50000"/>
              <a:gd name="adj2" fmla="val 62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334880" y="2924280"/>
            <a:ext cx="800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ормируется интеллек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нтеллект – это позн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нимание, рассуд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моции – субъективные пережи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 поводу ситуаций и явл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ействи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Как вы понимаете положение о том, что духовность – это целостность мышления, деятельности и чувст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Охарактеризуйте влияние духовности и интеллигентности на деятельность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ПОЛЕЗНО ПОВТОРИТЬ ВОПРОС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хов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овление нравственности в чело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овозз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б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ыслители прошлого о духовном мир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Духовный мир мыслители прошлого отождествляли с душой. Представления о душе характеризовалось как вера , что наши мысли обуславливаются чем-то отличным от те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Т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АВНИВАЛ ТЕЛО С КОРАБЛЕМ, А ДУШУ – С КОРМЧИМ КОРАБ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ЗДЕЛИМОСТЬ  ТЕЛА И Д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УША ЧЕЛОВЕКА – ПЕРВЫЙ ДВИГАТЕЛЬ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, У КОТОРОГО ДУХОВНАЯ ЖИЗНЬ МАЛО РАЗВИТА, БЕЗДУХОВ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 ДУХОВНОЙ ЖИЗНИ- СОЗН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НАНИЕ – ВЫСШАЯ СПОСОБНОСТЬ Л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НАНИЕ РЕГУЛИРУ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692360" y="2637000"/>
            <a:ext cx="576000" cy="1223640"/>
          </a:xfrm>
          <a:prstGeom prst="downArrow">
            <a:avLst>
              <a:gd name="adj1" fmla="val 50000"/>
              <a:gd name="adj2" fmla="val 531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4356000" y="2565360"/>
            <a:ext cx="360360" cy="2232000"/>
          </a:xfrm>
          <a:prstGeom prst="downArrow">
            <a:avLst>
              <a:gd name="adj1" fmla="val 50000"/>
              <a:gd name="adj2" fmla="val 1548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6732720" y="2637000"/>
            <a:ext cx="503280" cy="1152360"/>
          </a:xfrm>
          <a:prstGeom prst="downArrow">
            <a:avLst>
              <a:gd name="adj1" fmla="val 50000"/>
              <a:gd name="adj2" fmla="val 572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18560" y="3933720"/>
            <a:ext cx="23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307120" y="3789360"/>
            <a:ext cx="33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932200" y="4869000"/>
            <a:ext cx="28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АМУ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 СООТНОШ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ТЯЗАНИЙ И ДОСТИЖЕНИЙ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А ПРИМЕРЕ СТАРШЕКЛАССНИ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rganization Chart 5"/>
          <p:cNvGrpSpPr/>
          <p:nvPr/>
        </p:nvGrpSpPr>
        <p:grpSpPr>
          <a:xfrm>
            <a:off x="1147680" y="2333520"/>
            <a:ext cx="5152680" cy="3493080"/>
            <a:chOff x="1147680" y="2333520"/>
            <a:chExt cx="5152680" cy="3493080"/>
          </a:xfrm>
        </p:grpSpPr>
        <p:cxnSp>
          <p:nvCxnSpPr>
            <p:cNvPr id="62" name="_s1028"/>
            <p:cNvCxnSpPr>
              <a:stCxn id="63" idx="0"/>
              <a:endCxn id="64" idx="2"/>
            </p:cNvCxnSpPr>
            <p:nvPr/>
          </p:nvCxnSpPr>
          <p:spPr>
            <a:xfrm flipV="1" rot="16200000">
              <a:off x="3708360" y="3745800"/>
              <a:ext cx="699120" cy="667440"/>
            </a:xfrm>
            <a:prstGeom prst="bentConnector3">
              <a:avLst>
                <a:gd name="adj1" fmla="val 327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29"/>
            <p:cNvCxnSpPr>
              <a:stCxn id="66" idx="0"/>
              <a:endCxn id="64" idx="2"/>
            </p:cNvCxnSpPr>
            <p:nvPr/>
          </p:nvCxnSpPr>
          <p:spPr>
            <a:xfrm flipV="1" rot="16200000">
              <a:off x="4376880" y="3078000"/>
              <a:ext cx="699120" cy="2003400"/>
            </a:xfrm>
            <a:prstGeom prst="bentConnector3">
              <a:avLst>
                <a:gd name="adj1" fmla="val 327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0"/>
            <p:cNvCxnSpPr>
              <a:stCxn id="68" idx="0"/>
              <a:endCxn id="64" idx="2"/>
            </p:cNvCxnSpPr>
            <p:nvPr/>
          </p:nvCxnSpPr>
          <p:spPr>
            <a:xfrm flipH="1" flipV="1" rot="5400000">
              <a:off x="3040560" y="3745800"/>
              <a:ext cx="699120" cy="668160"/>
            </a:xfrm>
            <a:prstGeom prst="bentConnector3">
              <a:avLst>
                <a:gd name="adj1" fmla="val 327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1"/>
            <p:cNvCxnSpPr>
              <a:stCxn id="70" idx="0"/>
              <a:endCxn id="64" idx="2"/>
            </p:cNvCxnSpPr>
            <p:nvPr/>
          </p:nvCxnSpPr>
          <p:spPr>
            <a:xfrm flipH="1" flipV="1" rot="5400000">
              <a:off x="2372400" y="3077280"/>
              <a:ext cx="699120" cy="2004840"/>
            </a:xfrm>
            <a:prstGeom prst="bentConnector3">
              <a:avLst>
                <a:gd name="adj1" fmla="val 327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1032"/>
            <p:cNvSpPr/>
            <p:nvPr/>
          </p:nvSpPr>
          <p:spPr>
            <a:xfrm>
              <a:off x="3150720" y="2333520"/>
              <a:ext cx="1145160" cy="1397160"/>
            </a:xfrm>
            <a:custGeom>
              <a:avLst/>
              <a:gdLst>
                <a:gd name="textAreaLeft" fmla="*/ 55800 w 1145160"/>
                <a:gd name="textAreaRight" fmla="*/ 1089360 w 1145160"/>
                <a:gd name="textAreaTop" fmla="*/ 55800 h 1397160"/>
                <a:gd name="textAreaBottom" fmla="*/ 1341360 h 1397160"/>
              </a:gdLst>
              <a:ahLst/>
              <a:rect l="textAreaLeft" t="textAreaTop" r="textAreaRight" b="textAreaBottom"/>
              <a:pathLst>
                <a:path w="21600" h="26352">
                  <a:moveTo>
                    <a:pt x="3600" y="0"/>
                  </a:moveTo>
                  <a:arcTo wR="3600" hR="3600" stAng="16200000" swAng="-5400000"/>
                  <a:lnTo>
                    <a:pt x="0" y="22752"/>
                  </a:lnTo>
                  <a:arcTo wR="3600" hR="3600" stAng="10800000" swAng="-5400000"/>
                  <a:lnTo>
                    <a:pt x="18000" y="263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ХАРАКТЕ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БУДУЩЕ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ПРОФЕСС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3"/>
            <p:cNvSpPr/>
            <p:nvPr/>
          </p:nvSpPr>
          <p:spPr>
            <a:xfrm>
              <a:off x="1147680" y="4429440"/>
              <a:ext cx="1145160" cy="1397160"/>
            </a:xfrm>
            <a:custGeom>
              <a:avLst/>
              <a:gdLst>
                <a:gd name="textAreaLeft" fmla="*/ 55800 w 1145160"/>
                <a:gd name="textAreaRight" fmla="*/ 1089360 w 1145160"/>
                <a:gd name="textAreaTop" fmla="*/ 55800 h 1397160"/>
                <a:gd name="textAreaBottom" fmla="*/ 1341360 h 1397160"/>
              </a:gdLst>
              <a:ahLst/>
              <a:rect l="textAreaLeft" t="textAreaTop" r="textAreaRight" b="textAreaBottom"/>
              <a:pathLst>
                <a:path w="21600" h="26352">
                  <a:moveTo>
                    <a:pt x="3600" y="0"/>
                  </a:moveTo>
                  <a:arcTo wR="3600" hR="3600" stAng="16200000" swAng="-5400000"/>
                  <a:lnTo>
                    <a:pt x="0" y="22752"/>
                  </a:lnTo>
                  <a:arcTo wR="3600" hR="3600" stAng="10800000" swAng="-5400000"/>
                  <a:lnTo>
                    <a:pt x="18000" y="263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ВОЗМОЖНОС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ПОМОГА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ЛЮДЯ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4"/>
            <p:cNvSpPr/>
            <p:nvPr/>
          </p:nvSpPr>
          <p:spPr>
            <a:xfrm>
              <a:off x="2484000" y="4429440"/>
              <a:ext cx="1145160" cy="1397160"/>
            </a:xfrm>
            <a:custGeom>
              <a:avLst/>
              <a:gdLst>
                <a:gd name="textAreaLeft" fmla="*/ 55800 w 1145160"/>
                <a:gd name="textAreaRight" fmla="*/ 1089360 w 1145160"/>
                <a:gd name="textAreaTop" fmla="*/ 55800 h 1397160"/>
                <a:gd name="textAreaBottom" fmla="*/ 1341360 h 1397160"/>
              </a:gdLst>
              <a:ahLst/>
              <a:rect l="textAreaLeft" t="textAreaTop" r="textAreaRight" b="textAreaBottom"/>
              <a:pathLst>
                <a:path w="21600" h="26352">
                  <a:moveTo>
                    <a:pt x="3600" y="0"/>
                  </a:moveTo>
                  <a:arcTo wR="3600" hR="3600" stAng="16200000" swAng="-5400000"/>
                  <a:lnTo>
                    <a:pt x="0" y="22752"/>
                  </a:lnTo>
                  <a:arcTo wR="3600" hR="3600" stAng="10800000" swAng="-5400000"/>
                  <a:lnTo>
                    <a:pt x="18000" y="263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ПРЕСТИЖ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5"/>
            <p:cNvSpPr/>
            <p:nvPr/>
          </p:nvSpPr>
          <p:spPr>
            <a:xfrm>
              <a:off x="5155200" y="4429440"/>
              <a:ext cx="1145160" cy="1397160"/>
            </a:xfrm>
            <a:custGeom>
              <a:avLst/>
              <a:gdLst>
                <a:gd name="textAreaLeft" fmla="*/ 55800 w 1145160"/>
                <a:gd name="textAreaRight" fmla="*/ 1089360 w 1145160"/>
                <a:gd name="textAreaTop" fmla="*/ 55800 h 1397160"/>
                <a:gd name="textAreaBottom" fmla="*/ 1341360 h 1397160"/>
              </a:gdLst>
              <a:ahLst/>
              <a:rect l="textAreaLeft" t="textAreaTop" r="textAreaRight" b="textAreaBottom"/>
              <a:pathLst>
                <a:path w="21600" h="26352">
                  <a:moveTo>
                    <a:pt x="3600" y="0"/>
                  </a:moveTo>
                  <a:arcTo wR="3600" hR="3600" stAng="16200000" swAng="-5400000"/>
                  <a:lnTo>
                    <a:pt x="0" y="22752"/>
                  </a:lnTo>
                  <a:arcTo wR="3600" hR="3600" stAng="10800000" swAng="-5400000"/>
                  <a:lnTo>
                    <a:pt x="18000" y="263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ТРУДНОС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ПРОФЕСС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6"/>
            <p:cNvSpPr/>
            <p:nvPr/>
          </p:nvSpPr>
          <p:spPr>
            <a:xfrm>
              <a:off x="3820320" y="4429440"/>
              <a:ext cx="1143720" cy="1397160"/>
            </a:xfrm>
            <a:custGeom>
              <a:avLst/>
              <a:gdLst>
                <a:gd name="textAreaLeft" fmla="*/ 55800 w 1143720"/>
                <a:gd name="textAreaRight" fmla="*/ 1087920 w 1143720"/>
                <a:gd name="textAreaTop" fmla="*/ 55800 h 1397160"/>
                <a:gd name="textAreaBottom" fmla="*/ 1341360 h 1397160"/>
              </a:gdLst>
              <a:ahLst/>
              <a:rect l="textAreaLeft" t="textAreaTop" r="textAreaRight" b="textAreaBottom"/>
              <a:pathLst>
                <a:path w="21600" h="26385">
                  <a:moveTo>
                    <a:pt x="3600" y="0"/>
                  </a:moveTo>
                  <a:arcTo wR="3600" hR="3600" stAng="16200000" swAng="-5400000"/>
                  <a:lnTo>
                    <a:pt x="0" y="22785"/>
                  </a:lnTo>
                  <a:arcTo wR="3600" hR="3600" stAng="10800000" swAng="-5400000"/>
                  <a:lnTo>
                    <a:pt x="18000" y="263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САМО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 txBox="1"/>
          <p:nvPr/>
        </p:nvSpPr>
        <p:spPr>
          <a:xfrm>
            <a:off x="4652640" y="3957480"/>
            <a:ext cx="40338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ЫШЕННАЯ         ЗАНИЖ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ОЦЕНКА ЛИЧНЫХ             ЗАВИСИМЫЙ,  НЕУДА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СТЕЙ               ЛИ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2340000" y="2276640"/>
            <a:ext cx="0" cy="50472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6084720" y="2205000"/>
            <a:ext cx="0" cy="57456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ВЕ ФОРМЫ АКТИВНОСТИ Л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ИНИЦИАТИВА(САМОСТОЯТЕЛЬНАЯ ЛИЧ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ОТВЕТСТВЕННОСТЬ (ЗАВИСИТ ОТ ТИПА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4:01:48Z</dcterms:created>
  <dc:creator>Марина</dc:creator>
  <dc:description/>
  <dc:language>en-US</dc:language>
  <cp:lastModifiedBy>Коля</cp:lastModifiedBy>
  <dcterms:modified xsi:type="dcterms:W3CDTF">2013-03-24T10:43:53Z</dcterms:modified>
  <cp:revision>7</cp:revision>
  <dc:subject/>
  <dc:title>§30. ДУХОВНЫЙ МИР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