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FF3-494D-4DA9-9D8F-8A7F3FD9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6DA-11A1-4DFB-BAC9-D3666FFD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2DA-3618-4FED-819F-F399F918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E1F-A1B6-4984-8B75-25B81316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DF2-0173-4BF4-9677-6736FFB1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F1D-27BB-4256-BA30-FF33C05E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AB9-0698-4EB4-9D2B-2DC54368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60D-6562-4AF8-92BC-E474B492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8C5-962C-4F39-9814-D40CBAAD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5E7-ACF8-423B-B9DA-E881E538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3A2-E9CE-4D8C-9A86-64309C26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9D5-4EE4-40A5-A64D-C4299531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5C01-5A89-42F4-9FA4-E7A1850C7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6993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Harlow Solid Italic"/>
              </a:rPr>
              <a:t>Формирование и обеспечение функционирования дополнительной (региональной) сети государственного мониторинга окружающей среды на территории Ханты-Мансийского автономного округа - Юг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4581360"/>
            <a:ext cx="77040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ладчик: начальник ГУ «Ханты  -  Мансийский  ЦГМС»  Надежда Викторовна Точё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ил:начальник отдела мониторинга-Волковская Ольга Михай-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15720" y="645156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окальный экологический монитор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условлен наличием большого количества  лицензионных участ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зован  с целью отслеживания динамики  состояния компонентов природной среды под  влиянием нефтегазодобывающего комплекса  на локальном уро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еспечивает основной объем систематических       наблюдений за качеством компонентов природной 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16360" y="2205000"/>
            <a:ext cx="40388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ункционирование региональной системы экологического мониторинг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341360"/>
            <a:ext cx="1655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Росгидромет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Госфон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2708280"/>
            <a:ext cx="15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ь-Иртыш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УГМС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860640"/>
            <a:ext cx="15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ГУ «Ханты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нсийский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ГМС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157720"/>
            <a:ext cx="1584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азо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Государственн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1341360"/>
            <a:ext cx="547200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Правительство Ханты - Мансийского автономного округа - Югры</a:t>
            </a:r>
            <a:br>
              <a:rPr sz="14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Закон «о комплексной целевой программе Ханты – Мансийского автономного округа – Югры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«Оздоровление экологической обстановки в Ханты – Мансийском автономном округе Югре в 2005-2010»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Постанолвление №302-п «Об утверждении требований к определению исходной загрязнённости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компонентов природнеой среды, проектированию и ведению локального экологического мониторинга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в границах лицензионных участков недр на территории Ханты – Мансийского авытономного округа-Югры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48000" y="2708280"/>
            <a:ext cx="547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</a:rPr>
              <a:t>Департамент охраны окружающей среды и экологической безопасности</a:t>
            </a:r>
            <a:br>
              <a:rPr sz="1300"/>
            </a:br>
            <a:r>
              <a:rPr b="1" lang="en-US" sz="1300" spc="-1" strike="noStrike">
                <a:solidFill>
                  <a:srgbClr val="ff0000"/>
                </a:solidFill>
                <a:latin typeface="Times New Roman"/>
              </a:rPr>
              <a:t>Ханты – Мансийского автономного округа - Югр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3860640"/>
            <a:ext cx="244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3300"/>
                </a:solidFill>
                <a:latin typeface="Times New Roman"/>
              </a:rPr>
              <a:t>Лицензиаты Росгидромета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У «Ханты-Мансийский ЦГМ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АО «НПЦ Мониторинг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ГУ «ЦЛАТИ по УрФО» по ХМА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7640" y="3860640"/>
            <a:ext cx="252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мпании - недропользов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157720"/>
            <a:ext cx="5400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ополни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6093000"/>
            <a:ext cx="244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егиона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вне лицензионных участк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6093000"/>
            <a:ext cx="2521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Лок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на лицензионных участка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33200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58920" y="47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79640" y="42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79280" y="4437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084720" y="227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71636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42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795640" y="44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72000" y="47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451640" y="47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572000" y="566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451640" y="566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332000" y="227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Достижения отдела мониторинга окружающей среды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  ГУ «Ханты - Мансийский ЦГМС»</a:t>
            </a:r>
            <a:br>
              <a:rPr sz="2600"/>
            </a:br>
            <a:br>
              <a:rPr sz="26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ширена лаборатория мониторинга загрязнения атмосферного воздуха в плане отбора и анализа проб снежного покрова на 16 компонентов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открыта лаборатория почв и донных отложений с анализом проб на 17 и 14 компонентов соответственно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оябре 2007 года лаборатории ОМОС аккредитованы с учётом расширенной области деяте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3961080" cy="2880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03640" y="3573360"/>
            <a:ext cx="38894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Достижения отдела мониторинга окружающей среды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  ГУ «Ханты - Мансийский ЦГМС»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полнительный объём  выполненных работ за период 1-3 кварталы 2008 года возрос на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113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 сравнению с аналогичным периодом прошлого года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да – 347 проб 6540 определений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нные отложения – 101 проба 1345 определений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здух – 651 проба 651 определение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нег – 27 проб 350 определений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чвы – 29 проб 493 опред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465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итика Правительства Ханты-Мансийского автономного округа - Югры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области ведения экологического монитор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правлена на взаимодействие различных структур всех уровней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ьшая заслуга принадлежит куратору нашей службы – заместителю председателя Правительства Ханты – Мансийского автономного округа – Югры по вопросам недропользования и ТЭК Владимиру Ивановичу Карасё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2764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27640" y="1700280"/>
            <a:ext cx="4346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астие в крупных проектах сотрудников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ГУ «Ханты – Мансийский ЦГМС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своение Приполярного Урала, строительство газопровода «Алтай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ЕС ТАСИС «Система мониторинга и оповещения для радиационного контроля в бассейне рек Обь и Иртыш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 проведении международной экологической акции «Спасти и сохранить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 проведении съездов экологов нефтяных регионов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 подготовке проекта комплексной целевой программы Ханты – Мансийского автономного округа – Югры «Оздоровление экологической обстановки в Ханты – Мансийском автономном округе – Югре в 2011 – 2015 гг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роза закрытия региональной сети – пунктов наблюдений за загрязнением атмосферы (ПН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наступлением мирового финансового кризиса существует реальная угроза закрытия региональных ПНЗ.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екращено окружное финансирование функционирования ПН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федеральное финансирование невозможно по причине   значительного сокращения объемов бюджетных   ассигнований, выделенных Росгидромету на 2010 и   последующие 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В настояще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ГУ «Ханты – Мансийский ЦГМС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не имеет средств на содержание ПНЗ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916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рос на информацию о состоянии загрязнения атмо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новые характеристики для томов ПД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вязи с разработкой программы социально – гигиенического монитор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нозирование Н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Изображение 105"/>
          <p:cNvPicPr/>
          <p:nvPr/>
        </p:nvPicPr>
        <p:blipFill>
          <a:blip r:embed="rId2"/>
          <a:stretch/>
        </p:blipFill>
        <p:spPr>
          <a:xfrm>
            <a:off x="4716360" y="3500280"/>
            <a:ext cx="4248360" cy="3214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41799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ормационная обеспеченность о загрязнении атмосферного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егодняшний день обеспеченность 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9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в случае закрытия 5 ПНЗ составит 1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ласно ГОСТ 17.2.3.01-86 «Охрана природы. Атмосфера. Правила контроля качества воздуха населённых пунктов» и РД 52.04.186-89 «Руководство по контролю загрязнения атмосферы» посты контроля загрязнения атмосферы необходимо расположить дополнительно ещё как минимум в 11 город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ормационная обеспеченность о загрязнении атмосферного воздух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\\Uoos-fs01\COMMON-FOLDERS-UOOS\All\Мокроусов\Облет Приобское Приразломное\Изображение 079.jp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706320" y="428760"/>
            <a:ext cx="756288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Ханты – Мансийский автономный округ – Юг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= 534,8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ыс. км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из которых 152,3 тыс. км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или 28,5%) заня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цензионными участками недр и активно подвергается промышл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сплуат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идрографическая сеть относится к бассейну Карского мо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чную сеть территории автономного округ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уют Обь и Иртыш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протяженность которых 1165 и 244 км соответственно) и 12 их приток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также множество мелких речек.  Общее число рек в автономном окру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оло 30 тыся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дминистративно – территориальное дел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6 городов, наиболее крупные – Сургут и Нижневартовск (более 200 ты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ловек), Нефтеюганск (более 100 тыс. человек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дминистративный центр – г. Ханты – Мансийск с населением более 50 ты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лов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8341-C192-48DE-942A-B46AE3F5B969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ыт построения системы мониторинга окружающей среды в Кана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рамках семинара «Изучение Канадского опыта недропользования использования и охраны водных объектов» программы Канадско-Российского сотрудничества по развитию Севера (НОРДЕП), проводимый Департаментом по нефти, газу и минеральным ресурсам Ханты – Мансийского автономного округа – Югры совместно с Правительством провинции Канады Ньюфаундленд и Лабрад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инанс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родоохранных меро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834920" y="450864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013360"/>
            <a:ext cx="1944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винци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5013360"/>
            <a:ext cx="1944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едер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27640" y="5013360"/>
            <a:ext cx="1800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уницип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4508640"/>
            <a:ext cx="1297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равнительная характеристика сетей экологического  мониторинг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нты – Мансийский автономный округ – Ю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=534,8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ыс. к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Государственная с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49гидрологическихпостов,  в том чис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6 гидрохимиче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инция Канады Ньюфаундленд и Лабра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0,0 тыс. к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коло 300 гидрохимических постов, из 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150 автоматических по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Содержание 1 автоматического по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составляет 30 тыс.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 в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4500720" cy="278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43704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дложение для дальнейшей работы по основным направлениям развития системы государственного монитор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ширение сети государственного экологического мониторинга стратегически значимых регионов РФ в соответствии с планами экономического развития этих регионов и её содерж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ширение сети государственного экологического мониторинга, в том числе за счёт дополнительных (региональных) постов наблю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сударственная наблюдательная се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ПНЗ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26 ГХП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2 М-2 атмосферные осадки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12 М-2 снежный покров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11 пунктов контроля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радиоактивного загрязнения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8930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кономические показатели </a:t>
            </a:r>
            <a:br>
              <a:rPr sz="2800"/>
            </a:br>
            <a:br>
              <a:rPr sz="26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08524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о добыче нефти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мес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о производству электроэнергии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мес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о поступлению налогов в бюджетную систему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то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добыче г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то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объёму инвестиций в основной капи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4105080" cy="299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932360" y="3860640"/>
            <a:ext cx="40305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цепция экологической 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тверждена распоряжением Правительства Ханты-Мансий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втономного округа - Югры от 10 апреля 2007 г. n 110-рп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витие хозяйственной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в основе которой находятс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оресурсосберегающие и экологически более чистые технолог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дение деятельности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особствующей сохранению или увеличению биологического разнообразия в экосистема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ое воспитание и образование насел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создание региональной сети мониторинг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ак оперативной информационно-аналитической системы наблюдений за динамикой показателей, характеризующих состояние и развитие природной сред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еспечение рационального и безопасного природопользования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редусматривающее рациональное использование невозобновляемых природных ресурсов и их глубокую переработку, а также неистощительное использование возобновляемых природных ресурсов и меры по их воспроизводств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ышение качества и увеличение продолжительности жизни насел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а счет обеспечения безопасного состояния окружающей среды как неотъемлемого условия жизни, здоровья и благополучия нынешнего и будущих поколений жителей, а также улучшения демографической ситуации в автономном округ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нижение уровня опасного воздействия факторов природного и техногенного характер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на население и территорию автономного округа, а также на соседние территор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храна и восстановление естественных экологических систе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на территории автономного округа в целях поддержания их жизнеобеспечивающих функций для населения, обеспечение их целостности, способности к саморегуляции и сохранение биологического разнообраз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Цели деятельности по обеспечению экологической безопас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2"/>
          <p:cNvGrpSpPr/>
          <p:nvPr/>
        </p:nvGrpSpPr>
        <p:grpSpPr>
          <a:xfrm>
            <a:off x="324000" y="1484280"/>
            <a:ext cx="8568720" cy="5373360"/>
            <a:chOff x="324000" y="1484280"/>
            <a:chExt cx="8568720" cy="5373360"/>
          </a:xfrm>
        </p:grpSpPr>
        <p:sp>
          <p:nvSpPr>
            <p:cNvPr id="57" name="AutoShape 10"/>
            <p:cNvSpPr/>
            <p:nvPr/>
          </p:nvSpPr>
          <p:spPr>
            <a:xfrm>
              <a:off x="2617200" y="3151440"/>
              <a:ext cx="4113360" cy="2106360"/>
            </a:xfrm>
            <a:prstGeom prst="pie">
              <a:avLst/>
            </a:prstGeom>
            <a:solidFill>
              <a:srgbClr val="9bbb59"/>
            </a:solidFill>
            <a:ln w="4788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1"/>
            <p:cNvSpPr/>
            <p:nvPr/>
          </p:nvSpPr>
          <p:spPr>
            <a:xfrm>
              <a:off x="2934360" y="1484280"/>
              <a:ext cx="3559320" cy="166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cap="rnd" w="6480">
              <a:solidFill>
                <a:srgbClr val="98b954"/>
              </a:solidFill>
              <a:miter/>
            </a:ln>
            <a:effectLst>
              <a:outerShdw dist="2484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2"/>
            <p:cNvSpPr/>
            <p:nvPr/>
          </p:nvSpPr>
          <p:spPr>
            <a:xfrm>
              <a:off x="6758640" y="3151440"/>
              <a:ext cx="2134080" cy="193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cap="rnd" w="6480">
              <a:solidFill>
                <a:srgbClr val="98b954"/>
              </a:solidFill>
              <a:miter/>
            </a:ln>
            <a:effectLst>
              <a:outerShdw dist="2484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3"/>
            <p:cNvSpPr/>
            <p:nvPr/>
          </p:nvSpPr>
          <p:spPr>
            <a:xfrm>
              <a:off x="324000" y="3240360"/>
              <a:ext cx="2293200" cy="1843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cap="rnd" w="6480">
              <a:solidFill>
                <a:srgbClr val="98b954"/>
              </a:solidFill>
              <a:miter/>
            </a:ln>
            <a:effectLst>
              <a:outerShdw dist="2484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>
              <a:off x="2854440" y="5277240"/>
              <a:ext cx="3560400" cy="1580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cap="rnd" w="6480">
              <a:solidFill>
                <a:srgbClr val="98b954"/>
              </a:solidFill>
              <a:miter/>
            </a:ln>
            <a:effectLst>
              <a:outerShdw dist="2484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3567240" y="3677400"/>
              <a:ext cx="22932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32523"/>
                  </a:solidFill>
                  <a:latin typeface="Palatino Linotype"/>
                </a:rPr>
                <a:t>ОБЕСПЕЧЕНИЕ</a:t>
              </a:r>
              <a:r>
                <a:rPr b="1" lang="en-US" sz="1400" spc="-1" strike="noStrike">
                  <a:solidFill>
                    <a:srgbClr val="666699"/>
                  </a:solidFill>
                  <a:latin typeface="Palatino Linotype"/>
                </a:rPr>
                <a:t> </a:t>
              </a:r>
              <a:r>
                <a:rPr b="1" lang="en-US" sz="1400" spc="-1" strike="noStrike">
                  <a:solidFill>
                    <a:srgbClr val="632523"/>
                  </a:solidFill>
                  <a:latin typeface="Palatino Linotype"/>
                </a:rPr>
                <a:t>ЭКОЛОГИЧЕСКОЙ БЕЗОПАСНОСТИ</a:t>
              </a:r>
              <a:r>
                <a:rPr b="1" lang="en-US" sz="1600" spc="-1" strike="noStrike">
                  <a:solidFill>
                    <a:srgbClr val="632523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3012840" y="1484280"/>
              <a:ext cx="3321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0253f"/>
                  </a:solidFill>
                  <a:latin typeface="Times New Roman"/>
                </a:rPr>
                <a:t>Снижение уровня опасного воздействия факторов природного и техногенного характера на население и территорию автономного окру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2934360" y="5317920"/>
              <a:ext cx="34002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0253f"/>
                  </a:solidFill>
                  <a:latin typeface="Times New Roman"/>
                </a:rPr>
                <a:t>Создание и развитие региональной оперативной информационно-аналитической системы наблюдений за состоянием окружающей сре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402120" y="3327480"/>
              <a:ext cx="21308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0253f"/>
                  </a:solidFill>
                  <a:latin typeface="Times New Roman"/>
                </a:rPr>
                <a:t>Охрана и восстановление естественных экологических сист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0"/>
            <p:cNvSpPr/>
            <p:nvPr/>
          </p:nvSpPr>
          <p:spPr>
            <a:xfrm>
              <a:off x="6904800" y="3503880"/>
              <a:ext cx="1899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0253f"/>
                  </a:solidFill>
                  <a:latin typeface="Times New Roman"/>
                </a:rPr>
                <a:t>Экологическое  образование  и просвещение насе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гиональная сеть наблюдений за состоянием окружающей  природно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692360" y="1268280"/>
            <a:ext cx="25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1268280"/>
            <a:ext cx="216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916280"/>
            <a:ext cx="889308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азовая                                                        Дополнительная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осударственная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Региональна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Лок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ГУ «Ханты – Мансийский        (вне лицензионных                 (на лицензио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ГМС»)                                           участков)                                 участк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да – 26 постов                             Вода – 111 точек                    Вода – 1929 т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здух – 1 постов                           Воздух – 7 постов                   Воздух – 1027 т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нные – 111 точек               Донные – 1878 т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нег – 18 точек                       Снег  – 1027 т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чвы – 1654 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2448000" cy="2085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492360" y="4365720"/>
            <a:ext cx="2232000" cy="2158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012000" y="443700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гиональная сеть наблюдения за состоянием окружающей природно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6" descr="terr_monitoring.png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полнение баз данных Госфо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Диаграмма 9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4248000" cy="27147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Периодичность отбора проб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поверхностная вода 4 раза в год (основные гидрологические фаз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донные отложения 1 раз в год (летне-осенняя межен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почва 1 раз в год (сентябрь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снег 1 раз в год (март-апр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атмосферный воздух 2 раза в год (июнь, сентябр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Общее количество измерений качества природных сред, поступивших  в единую базу данных за 2005-2008 годы более 59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В первом квартале 2009 года в единую базу данных поступило 15723 измерений загрязняющих веществ поверхностных вод и снежного пок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Диаграмма 10" descr=""/>
          <p:cNvPicPr/>
          <p:nvPr/>
        </p:nvPicPr>
        <p:blipFill>
          <a:blip r:embed="rId3"/>
          <a:stretch/>
        </p:blipFill>
        <p:spPr>
          <a:xfrm>
            <a:off x="182520" y="3789360"/>
            <a:ext cx="460872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8:30:40Z</dcterms:created>
  <dc:creator>user</dc:creator>
  <dc:description>ugrameteo.ru</dc:description>
  <dc:language>en-US</dc:language>
  <cp:lastModifiedBy>Name</cp:lastModifiedBy>
  <dcterms:modified xsi:type="dcterms:W3CDTF">2010-07-12T16:28:59Z</dcterms:modified>
  <cp:revision>16</cp:revision>
  <dc:subject/>
  <dc:title>Экологический мониторин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14000000000001024140</vt:lpwstr>
  </property>
</Properties>
</file>