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B66-F1F0-4616-8700-EA796756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D65-5D74-482E-9A80-C3D0DBAD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882-B8E3-4920-AF1F-017EB692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0E1-0C36-4155-AB13-28A45635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77B1-7E6F-4AB6-9D77-50B8C8CD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F1CA-A799-4A57-A169-B8DB4C02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CD64-4A23-4EE2-ABBD-616609E8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C472-83FC-4DA6-A291-2F1F6E6D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1333-4933-4655-BC20-8C7F8E62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8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D97A-6C13-4FBB-9DC2-E9D6EB35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495D-0C06-4714-A507-DCC63CDC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F42-21F6-4414-B998-F7AE6EE8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D7F1-7C50-4B71-9D4B-F8E7F3C9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739F-B6E1-44C8-B6D7-30038914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32C0-3E75-4839-BE14-E0E70450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06BE-65C0-407F-AA01-CBEE0B47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70FE-E22E-4D09-B7C3-EFBF39E5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30C-996F-4617-8149-CFB29399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CB1-53C2-4DF5-8D5A-983910B5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A16-50DC-4D78-8616-AECC5368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8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26B-08DE-46B0-81E8-4C83D546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6B0-FE68-4913-9A36-126459A3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1F5-034C-4D16-B2C0-7C3A59EC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F8A8-E99F-4E2D-8BE2-C55B748E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209520"/>
            <a:ext cx="1525680" cy="1525680"/>
            <a:chOff x="399960" y="209520"/>
            <a:chExt cx="1525680" cy="1525680"/>
          </a:xfrm>
        </p:grpSpPr>
        <p:sp>
          <p:nvSpPr>
            <p:cNvPr id="1" name=""/>
            <p:cNvSpPr/>
            <p:nvPr/>
          </p:nvSpPr>
          <p:spPr>
            <a:xfrm>
              <a:off x="399960" y="209520"/>
              <a:ext cx="1525680" cy="1525680"/>
            </a:xfrm>
            <a:custGeom>
              <a:avLst/>
              <a:gdLst/>
              <a:ahLst/>
              <a:rect l="l" t="t" r="r" b="b"/>
              <a:pathLst>
                <a:path w="961" h="961">
                  <a:moveTo>
                    <a:pt x="480" y="0"/>
                  </a:moveTo>
                  <a:lnTo>
                    <a:pt x="0" y="480"/>
                  </a:lnTo>
                  <a:lnTo>
                    <a:pt x="480" y="960"/>
                  </a:lnTo>
                  <a:lnTo>
                    <a:pt x="960" y="480"/>
                  </a:lnTo>
                  <a:lnTo>
                    <a:pt x="480" y="0"/>
                  </a:lnTo>
                </a:path>
              </a:pathLst>
            </a:custGeom>
            <a:solidFill>
              <a:srgbClr val="ffd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16208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0" y="96"/>
                  </a:moveTo>
                  <a:lnTo>
                    <a:pt x="0" y="0"/>
                  </a:lnTo>
                  <a:lnTo>
                    <a:pt x="480" y="480"/>
                  </a:lnTo>
                  <a:lnTo>
                    <a:pt x="384" y="480"/>
                  </a:lnTo>
                  <a:lnTo>
                    <a:pt x="0" y="96"/>
                  </a:lnTo>
                </a:path>
              </a:pathLst>
            </a:custGeom>
            <a:solidFill>
              <a:srgbClr val="ff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996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480" y="0"/>
                  </a:moveTo>
                  <a:lnTo>
                    <a:pt x="480" y="96"/>
                  </a:lnTo>
                  <a:lnTo>
                    <a:pt x="96" y="480"/>
                  </a:lnTo>
                  <a:lnTo>
                    <a:pt x="0" y="480"/>
                  </a:lnTo>
                  <a:lnTo>
                    <a:pt x="480" y="0"/>
                  </a:lnTo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6208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384" y="0"/>
                  </a:moveTo>
                  <a:lnTo>
                    <a:pt x="480" y="0"/>
                  </a:lnTo>
                  <a:lnTo>
                    <a:pt x="0" y="480"/>
                  </a:lnTo>
                  <a:lnTo>
                    <a:pt x="0" y="384"/>
                  </a:lnTo>
                  <a:lnTo>
                    <a:pt x="384" y="0"/>
                  </a:lnTo>
                </a:path>
              </a:pathLst>
            </a:custGeom>
            <a:solidFill>
              <a:srgbClr val="ffff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9996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96" y="0"/>
                  </a:moveTo>
                  <a:lnTo>
                    <a:pt x="480" y="384"/>
                  </a:lnTo>
                  <a:lnTo>
                    <a:pt x="480" y="480"/>
                  </a:ln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solidFill>
              <a:srgbClr val="fff0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A60C-B3DF-4A8C-8C9D-32D4446AB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1866960"/>
            <a:ext cx="2021040" cy="2020680"/>
            <a:chOff x="0" y="1866960"/>
            <a:chExt cx="2021040" cy="2020680"/>
          </a:xfrm>
        </p:grpSpPr>
        <p:sp>
          <p:nvSpPr>
            <p:cNvPr id="48" name=""/>
            <p:cNvSpPr/>
            <p:nvPr/>
          </p:nvSpPr>
          <p:spPr>
            <a:xfrm>
              <a:off x="0" y="1866960"/>
              <a:ext cx="2021040" cy="2020680"/>
            </a:xfrm>
            <a:custGeom>
              <a:avLst/>
              <a:gdLst/>
              <a:ahLst/>
              <a:rect l="l" t="t" r="r" b="b"/>
              <a:pathLst>
                <a:path w="1273" h="1273">
                  <a:moveTo>
                    <a:pt x="636" y="0"/>
                  </a:moveTo>
                  <a:lnTo>
                    <a:pt x="0" y="636"/>
                  </a:lnTo>
                  <a:lnTo>
                    <a:pt x="636" y="1272"/>
                  </a:lnTo>
                  <a:lnTo>
                    <a:pt x="1272" y="636"/>
                  </a:lnTo>
                  <a:lnTo>
                    <a:pt x="636" y="0"/>
                  </a:lnTo>
                </a:path>
              </a:pathLst>
            </a:custGeom>
            <a:solidFill>
              <a:srgbClr val="ffd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09800" y="186696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0" y="127"/>
                  </a:moveTo>
                  <a:lnTo>
                    <a:pt x="0" y="0"/>
                  </a:lnTo>
                  <a:lnTo>
                    <a:pt x="636" y="636"/>
                  </a:lnTo>
                  <a:lnTo>
                    <a:pt x="508" y="636"/>
                  </a:lnTo>
                  <a:lnTo>
                    <a:pt x="0" y="127"/>
                  </a:lnTo>
                </a:path>
              </a:pathLst>
            </a:custGeom>
            <a:solidFill>
              <a:srgbClr val="ff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86696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636" y="0"/>
                  </a:moveTo>
                  <a:lnTo>
                    <a:pt x="636" y="127"/>
                  </a:lnTo>
                  <a:lnTo>
                    <a:pt x="127" y="636"/>
                  </a:lnTo>
                  <a:lnTo>
                    <a:pt x="0" y="636"/>
                  </a:lnTo>
                  <a:lnTo>
                    <a:pt x="636" y="0"/>
                  </a:lnTo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09800" y="287640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508" y="0"/>
                  </a:moveTo>
                  <a:lnTo>
                    <a:pt x="636" y="0"/>
                  </a:lnTo>
                  <a:lnTo>
                    <a:pt x="0" y="636"/>
                  </a:lnTo>
                  <a:lnTo>
                    <a:pt x="0" y="508"/>
                  </a:lnTo>
                  <a:lnTo>
                    <a:pt x="508" y="0"/>
                  </a:lnTo>
                </a:path>
              </a:pathLst>
            </a:custGeom>
            <a:solidFill>
              <a:srgbClr val="ffff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7640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127" y="0"/>
                  </a:moveTo>
                  <a:lnTo>
                    <a:pt x="636" y="508"/>
                  </a:lnTo>
                  <a:lnTo>
                    <a:pt x="636" y="636"/>
                  </a:lnTo>
                  <a:lnTo>
                    <a:pt x="0" y="0"/>
                  </a:lnTo>
                  <a:lnTo>
                    <a:pt x="127" y="0"/>
                  </a:lnTo>
                </a:path>
              </a:pathLst>
            </a:custGeom>
            <a:solidFill>
              <a:srgbClr val="fff0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F71E-F40B-47BB-842F-A0F4925F2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95640" y="2276640"/>
            <a:ext cx="5976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оец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4360" y="189000"/>
            <a:ext cx="8820360" cy="6480000"/>
            <a:chOff x="144360" y="189000"/>
            <a:chExt cx="8820360" cy="6480000"/>
          </a:xfrm>
        </p:grpSpPr>
        <p:sp>
          <p:nvSpPr>
            <p:cNvPr id="96" name=""/>
            <p:cNvSpPr/>
            <p:nvPr/>
          </p:nvSpPr>
          <p:spPr>
            <a:xfrm>
              <a:off x="8748720" y="189000"/>
              <a:ext cx="0" cy="64087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24000" y="333360"/>
              <a:ext cx="8640720" cy="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4000" y="3933720"/>
              <a:ext cx="0" cy="27352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360" y="6524640"/>
              <a:ext cx="7740720" cy="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780000" y="4724280"/>
            <a:ext cx="482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рчение 8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: Баранова Ирин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БОУ «Лицей №1» г. Лысьв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0920" y="189000"/>
            <a:ext cx="6840720" cy="18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рямоугольное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</a:rPr>
              <a:t> – проецирующие лучи проходят под прямым углом к плоскости проекций</a:t>
            </a:r>
            <a:endParaRPr b="0" i="1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ображение равно предме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21093" t="12243" r="27430" b="33203"/>
          <a:stretch/>
        </p:blipFill>
        <p:spPr>
          <a:xfrm>
            <a:off x="1908000" y="2133720"/>
            <a:ext cx="5545440" cy="394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6" name=""/>
          <p:cNvSpPr/>
          <p:nvPr/>
        </p:nvSpPr>
        <p:spPr>
          <a:xfrm rot="10800000">
            <a:off x="3635280" y="2924280"/>
            <a:ext cx="1441440" cy="720720"/>
          </a:xfrm>
          <a:prstGeom prst="triangle">
            <a:avLst>
              <a:gd name="adj" fmla="val 50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2565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29080" y="3284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2492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843280" y="4005360"/>
            <a:ext cx="3622680" cy="1439640"/>
            <a:chOff x="2843280" y="4005360"/>
            <a:chExt cx="3622680" cy="1439640"/>
          </a:xfrm>
        </p:grpSpPr>
        <p:sp>
          <p:nvSpPr>
            <p:cNvPr id="191" name=""/>
            <p:cNvSpPr/>
            <p:nvPr/>
          </p:nvSpPr>
          <p:spPr>
            <a:xfrm>
              <a:off x="3130560" y="4005360"/>
              <a:ext cx="32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43280" y="5445000"/>
              <a:ext cx="338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43280" y="4005360"/>
              <a:ext cx="287280" cy="1439640"/>
            </a:xfrm>
            <a:custGeom>
              <a:avLst/>
              <a:gdLst/>
              <a:ahLst/>
              <a:rect l="l" t="t" r="r" b="b"/>
              <a:pathLst>
                <a:path w="181" h="907">
                  <a:moveTo>
                    <a:pt x="181" y="0"/>
                  </a:moveTo>
                  <a:cubicBezTo>
                    <a:pt x="170" y="105"/>
                    <a:pt x="159" y="211"/>
                    <a:pt x="136" y="317"/>
                  </a:cubicBezTo>
                  <a:cubicBezTo>
                    <a:pt x="113" y="423"/>
                    <a:pt x="68" y="537"/>
                    <a:pt x="45" y="635"/>
                  </a:cubicBezTo>
                  <a:cubicBezTo>
                    <a:pt x="22" y="733"/>
                    <a:pt x="11" y="820"/>
                    <a:pt x="0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89840" y="4005360"/>
              <a:ext cx="276120" cy="1439640"/>
            </a:xfrm>
            <a:custGeom>
              <a:avLst/>
              <a:gdLst/>
              <a:ahLst/>
              <a:rect l="l" t="t" r="r" b="b"/>
              <a:pathLst>
                <a:path w="174" h="907">
                  <a:moveTo>
                    <a:pt x="114" y="0"/>
                  </a:moveTo>
                  <a:cubicBezTo>
                    <a:pt x="144" y="64"/>
                    <a:pt x="174" y="128"/>
                    <a:pt x="159" y="226"/>
                  </a:cubicBezTo>
                  <a:cubicBezTo>
                    <a:pt x="144" y="324"/>
                    <a:pt x="46" y="476"/>
                    <a:pt x="23" y="589"/>
                  </a:cubicBezTo>
                  <a:cubicBezTo>
                    <a:pt x="0" y="702"/>
                    <a:pt x="11" y="804"/>
                    <a:pt x="23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201840" y="45799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35280" y="2924280"/>
            <a:ext cx="0" cy="14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56000" y="3645000"/>
            <a:ext cx="0" cy="143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76720" y="2924280"/>
            <a:ext cx="0" cy="14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27640" y="4797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6720" y="393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40053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43657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436572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356000" y="4365720"/>
            <a:ext cx="71928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4929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Применение прямоугольного проецирования в жизни</a:t>
            </a:r>
            <a:endParaRPr b="0" i="1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511164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вес для проверки вертикальности линии, сте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роят черте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3305160" cy="33051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916360" y="3573360"/>
            <a:ext cx="2624040" cy="30974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24000" y="3716280"/>
            <a:ext cx="2481120" cy="255600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71640" y="404640"/>
            <a:ext cx="48276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Проверка понимания </a:t>
            </a:r>
            <a:r>
              <a:rPr b="0" i="1" lang="en-US" sz="3200" spc="-1" strike="noStrike">
                <a:solidFill>
                  <a:srgbClr val="990000"/>
                </a:solidFill>
                <a:latin typeface="Times New Roman"/>
              </a:rPr>
              <a:t>(да или нет).</a:t>
            </a:r>
            <a:endParaRPr b="0" i="1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560" y="1630080"/>
            <a:ext cx="878508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ямоугольное проецирование – частный случай параллельного проецир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 прямоугольном проецировании отрезки всегда изображаются в натуральную величин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 проецировании проекции точек обозначают заглавными буквам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трезок прямой параллельной плоскости проекций изображается на ней точко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и прямоугольном проецировании сохраняется параллельн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Можно ли при проецировании прямоугольника получить треугольни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550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трезок прямой перпендикулярный плоскости проекций изображается на ней точко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87640" y="19162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270828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0920" y="3429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360" y="4149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59640" y="458136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11280" y="5300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6093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Times New Roman"/>
              </a:rPr>
              <a:t>Домашнее задание</a:t>
            </a:r>
            <a:endParaRPr b="0" i="1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511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формате выполнить проецирование четырёхугольника всеми способ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651640" y="1484280"/>
            <a:ext cx="2829960" cy="2162160"/>
            <a:chOff x="5651640" y="1484280"/>
            <a:chExt cx="2829960" cy="2162160"/>
          </a:xfrm>
        </p:grpSpPr>
        <p:grpSp>
          <p:nvGrpSpPr>
            <p:cNvPr id="222" name=""/>
            <p:cNvGrpSpPr/>
            <p:nvPr/>
          </p:nvGrpSpPr>
          <p:grpSpPr>
            <a:xfrm>
              <a:off x="6516720" y="2205000"/>
              <a:ext cx="647640" cy="216000"/>
              <a:chOff x="6516720" y="2205000"/>
              <a:chExt cx="647640" cy="216000"/>
            </a:xfrm>
          </p:grpSpPr>
          <p:sp>
            <p:nvSpPr>
              <p:cNvPr id="223" name=""/>
              <p:cNvSpPr/>
              <p:nvPr/>
            </p:nvSpPr>
            <p:spPr>
              <a:xfrm>
                <a:off x="6516720" y="220500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732720" y="242100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516720" y="2205000"/>
                <a:ext cx="21600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948360" y="2205000"/>
                <a:ext cx="21600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651640" y="1484280"/>
              <a:ext cx="2829960" cy="2162160"/>
              <a:chOff x="5651640" y="1484280"/>
              <a:chExt cx="2829960" cy="216216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5651640" y="2565360"/>
                <a:ext cx="2829960" cy="1081080"/>
                <a:chOff x="5651640" y="2565360"/>
                <a:chExt cx="2829960" cy="10810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875920" y="2565360"/>
                  <a:ext cx="2531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651640" y="3646440"/>
                  <a:ext cx="2642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651640" y="2565360"/>
                  <a:ext cx="224280" cy="1081080"/>
                </a:xfrm>
                <a:custGeom>
                  <a:avLst/>
                  <a:gdLst/>
                  <a:ahLst/>
                  <a:rect l="l" t="t" r="r" b="b"/>
                  <a:pathLst>
                    <a:path w="181" h="907">
                      <a:moveTo>
                        <a:pt x="181" y="0"/>
                      </a:moveTo>
                      <a:cubicBezTo>
                        <a:pt x="170" y="105"/>
                        <a:pt x="159" y="211"/>
                        <a:pt x="136" y="317"/>
                      </a:cubicBezTo>
                      <a:cubicBezTo>
                        <a:pt x="113" y="423"/>
                        <a:pt x="68" y="537"/>
                        <a:pt x="45" y="635"/>
                      </a:cubicBezTo>
                      <a:cubicBezTo>
                        <a:pt x="22" y="733"/>
                        <a:pt x="11" y="820"/>
                        <a:pt x="0" y="90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265960" y="2565360"/>
                  <a:ext cx="215640" cy="1081080"/>
                </a:xfrm>
                <a:custGeom>
                  <a:avLst/>
                  <a:gdLst/>
                  <a:ahLst/>
                  <a:rect l="l" t="t" r="r" b="b"/>
                  <a:pathLst>
                    <a:path w="174" h="907">
                      <a:moveTo>
                        <a:pt x="114" y="0"/>
                      </a:moveTo>
                      <a:cubicBezTo>
                        <a:pt x="144" y="64"/>
                        <a:pt x="174" y="128"/>
                        <a:pt x="159" y="226"/>
                      </a:cubicBezTo>
                      <a:cubicBezTo>
                        <a:pt x="144" y="324"/>
                        <a:pt x="46" y="476"/>
                        <a:pt x="23" y="589"/>
                      </a:cubicBezTo>
                      <a:cubicBezTo>
                        <a:pt x="0" y="702"/>
                        <a:pt x="11" y="804"/>
                        <a:pt x="23" y="90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 flipH="1">
                <a:off x="6227280" y="1773360"/>
                <a:ext cx="50508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32720" y="1773360"/>
                <a:ext cx="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32720" y="1773360"/>
                <a:ext cx="50328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32720" y="1773360"/>
                <a:ext cx="1008000" cy="15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6227640" y="2781360"/>
                <a:ext cx="1513080" cy="503280"/>
                <a:chOff x="6227640" y="2781360"/>
                <a:chExt cx="1513080" cy="5032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227640" y="2781360"/>
                  <a:ext cx="1008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227640" y="2781360"/>
                  <a:ext cx="505080" cy="503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236000" y="2781360"/>
                  <a:ext cx="504720" cy="503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732720" y="3284640"/>
                  <a:ext cx="1008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6516720" y="1484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012000" y="26370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43640" y="31417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308720" y="24922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67640" y="3068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156360" y="19890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20000" y="19162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64360" y="21337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43640" y="227016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24360" y="32846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2627280" y="4076640"/>
            <a:ext cx="2902680" cy="2090880"/>
            <a:chOff x="2627280" y="4076640"/>
            <a:chExt cx="2902680" cy="2090880"/>
          </a:xfrm>
        </p:grpSpPr>
        <p:grpSp>
          <p:nvGrpSpPr>
            <p:cNvPr id="253" name=""/>
            <p:cNvGrpSpPr/>
            <p:nvPr/>
          </p:nvGrpSpPr>
          <p:grpSpPr>
            <a:xfrm>
              <a:off x="2700000" y="5086440"/>
              <a:ext cx="2829960" cy="1081080"/>
              <a:chOff x="2700000" y="5086440"/>
              <a:chExt cx="2829960" cy="1081080"/>
            </a:xfrm>
          </p:grpSpPr>
          <p:sp>
            <p:nvSpPr>
              <p:cNvPr id="254" name=""/>
              <p:cNvSpPr/>
              <p:nvPr/>
            </p:nvSpPr>
            <p:spPr>
              <a:xfrm>
                <a:off x="2924280" y="5086440"/>
                <a:ext cx="2531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700000" y="6167520"/>
                <a:ext cx="2642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700000" y="5086440"/>
                <a:ext cx="224280" cy="1081080"/>
              </a:xfrm>
              <a:custGeom>
                <a:avLst/>
                <a:gdLst/>
                <a:ahLst/>
                <a:rect l="l" t="t" r="r" b="b"/>
                <a:pathLst>
                  <a:path w="181" h="907">
                    <a:moveTo>
                      <a:pt x="181" y="0"/>
                    </a:moveTo>
                    <a:cubicBezTo>
                      <a:pt x="170" y="105"/>
                      <a:pt x="159" y="211"/>
                      <a:pt x="136" y="317"/>
                    </a:cubicBezTo>
                    <a:cubicBezTo>
                      <a:pt x="113" y="423"/>
                      <a:pt x="68" y="537"/>
                      <a:pt x="45" y="635"/>
                    </a:cubicBezTo>
                    <a:cubicBezTo>
                      <a:pt x="22" y="733"/>
                      <a:pt x="11" y="820"/>
                      <a:pt x="0" y="90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14320" y="5086440"/>
                <a:ext cx="215640" cy="1081080"/>
              </a:xfrm>
              <a:custGeom>
                <a:avLst/>
                <a:gdLst/>
                <a:ahLst/>
                <a:rect l="l" t="t" r="r" b="b"/>
                <a:pathLst>
                  <a:path w="174" h="907">
                    <a:moveTo>
                      <a:pt x="114" y="0"/>
                    </a:moveTo>
                    <a:cubicBezTo>
                      <a:pt x="144" y="64"/>
                      <a:pt x="174" y="128"/>
                      <a:pt x="159" y="226"/>
                    </a:cubicBezTo>
                    <a:cubicBezTo>
                      <a:pt x="144" y="324"/>
                      <a:pt x="46" y="476"/>
                      <a:pt x="23" y="589"/>
                    </a:cubicBezTo>
                    <a:cubicBezTo>
                      <a:pt x="0" y="702"/>
                      <a:pt x="11" y="804"/>
                      <a:pt x="23" y="90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276360" y="5302440"/>
              <a:ext cx="1512000" cy="503280"/>
              <a:chOff x="3276360" y="5302440"/>
              <a:chExt cx="1512000" cy="503280"/>
            </a:xfrm>
          </p:grpSpPr>
          <p:sp>
            <p:nvSpPr>
              <p:cNvPr id="259" name=""/>
              <p:cNvSpPr/>
              <p:nvPr/>
            </p:nvSpPr>
            <p:spPr>
              <a:xfrm>
                <a:off x="3276360" y="5302440"/>
                <a:ext cx="100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76360" y="5302440"/>
                <a:ext cx="50472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84000" y="5302440"/>
                <a:ext cx="50436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81080" y="5805720"/>
                <a:ext cx="100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3060360" y="51577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92360" y="566280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57440" y="501336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16360" y="55897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27280" y="414828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24000" y="40766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56000" y="450864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76360" y="443700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73080" y="5805720"/>
              <a:ext cx="36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916000" y="4292640"/>
              <a:ext cx="1512000" cy="503280"/>
              <a:chOff x="2916000" y="4292640"/>
              <a:chExt cx="1512000" cy="503280"/>
            </a:xfrm>
          </p:grpSpPr>
          <p:sp>
            <p:nvSpPr>
              <p:cNvPr id="273" name=""/>
              <p:cNvSpPr/>
              <p:nvPr/>
            </p:nvSpPr>
            <p:spPr>
              <a:xfrm>
                <a:off x="2916000" y="4292640"/>
                <a:ext cx="100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916000" y="4292640"/>
                <a:ext cx="50472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23640" y="4292640"/>
                <a:ext cx="50436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20720" y="4795920"/>
                <a:ext cx="100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2916000" y="4292640"/>
              <a:ext cx="360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19280" y="4797360"/>
              <a:ext cx="36000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24000" y="4292640"/>
              <a:ext cx="360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27280" y="4797360"/>
              <a:ext cx="36000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867280" y="4076640"/>
            <a:ext cx="2829960" cy="2089080"/>
            <a:chOff x="5867280" y="4076640"/>
            <a:chExt cx="2829960" cy="2089080"/>
          </a:xfrm>
        </p:grpSpPr>
        <p:grpSp>
          <p:nvGrpSpPr>
            <p:cNvPr id="282" name=""/>
            <p:cNvGrpSpPr/>
            <p:nvPr/>
          </p:nvGrpSpPr>
          <p:grpSpPr>
            <a:xfrm>
              <a:off x="5867280" y="5084640"/>
              <a:ext cx="2829960" cy="1081080"/>
              <a:chOff x="5867280" y="5084640"/>
              <a:chExt cx="2829960" cy="1081080"/>
            </a:xfrm>
          </p:grpSpPr>
          <p:sp>
            <p:nvSpPr>
              <p:cNvPr id="283" name=""/>
              <p:cNvSpPr/>
              <p:nvPr/>
            </p:nvSpPr>
            <p:spPr>
              <a:xfrm>
                <a:off x="6091560" y="5084640"/>
                <a:ext cx="2531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67280" y="6165720"/>
                <a:ext cx="2642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67280" y="5084640"/>
                <a:ext cx="224280" cy="1081080"/>
              </a:xfrm>
              <a:custGeom>
                <a:avLst/>
                <a:gdLst/>
                <a:ahLst/>
                <a:rect l="l" t="t" r="r" b="b"/>
                <a:pathLst>
                  <a:path w="181" h="907">
                    <a:moveTo>
                      <a:pt x="181" y="0"/>
                    </a:moveTo>
                    <a:cubicBezTo>
                      <a:pt x="170" y="105"/>
                      <a:pt x="159" y="211"/>
                      <a:pt x="136" y="317"/>
                    </a:cubicBezTo>
                    <a:cubicBezTo>
                      <a:pt x="113" y="423"/>
                      <a:pt x="68" y="537"/>
                      <a:pt x="45" y="635"/>
                    </a:cubicBezTo>
                    <a:cubicBezTo>
                      <a:pt x="22" y="733"/>
                      <a:pt x="11" y="820"/>
                      <a:pt x="0" y="90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481600" y="5084640"/>
                <a:ext cx="215640" cy="1081080"/>
              </a:xfrm>
              <a:custGeom>
                <a:avLst/>
                <a:gdLst/>
                <a:ahLst/>
                <a:rect l="l" t="t" r="r" b="b"/>
                <a:pathLst>
                  <a:path w="174" h="907">
                    <a:moveTo>
                      <a:pt x="114" y="0"/>
                    </a:moveTo>
                    <a:cubicBezTo>
                      <a:pt x="144" y="64"/>
                      <a:pt x="174" y="128"/>
                      <a:pt x="159" y="226"/>
                    </a:cubicBezTo>
                    <a:cubicBezTo>
                      <a:pt x="144" y="324"/>
                      <a:pt x="46" y="476"/>
                      <a:pt x="23" y="589"/>
                    </a:cubicBezTo>
                    <a:cubicBezTo>
                      <a:pt x="0" y="702"/>
                      <a:pt x="11" y="804"/>
                      <a:pt x="23" y="90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443640" y="5300640"/>
              <a:ext cx="1512360" cy="503280"/>
              <a:chOff x="6443640" y="5300640"/>
              <a:chExt cx="1512360" cy="503280"/>
            </a:xfrm>
          </p:grpSpPr>
          <p:sp>
            <p:nvSpPr>
              <p:cNvPr id="288" name=""/>
              <p:cNvSpPr/>
              <p:nvPr/>
            </p:nvSpPr>
            <p:spPr>
              <a:xfrm>
                <a:off x="6443640" y="5300640"/>
                <a:ext cx="100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43640" y="5300640"/>
                <a:ext cx="50472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451640" y="5300640"/>
                <a:ext cx="504360" cy="50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48360" y="5803920"/>
                <a:ext cx="100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227640" y="51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75280" y="57340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51640" y="50846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83280" y="5661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56000" y="4147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530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85080" y="45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05440" y="4437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40360" y="58053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445080" y="4292640"/>
              <a:ext cx="1512360" cy="502920"/>
              <a:chOff x="6445080" y="4292640"/>
              <a:chExt cx="1512360" cy="502920"/>
            </a:xfrm>
          </p:grpSpPr>
          <p:sp>
            <p:nvSpPr>
              <p:cNvPr id="302" name=""/>
              <p:cNvSpPr/>
              <p:nvPr/>
            </p:nvSpPr>
            <p:spPr>
              <a:xfrm>
                <a:off x="6445080" y="4292640"/>
                <a:ext cx="100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45080" y="4292640"/>
                <a:ext cx="504720" cy="50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453080" y="4292640"/>
                <a:ext cx="504360" cy="50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949800" y="4795560"/>
                <a:ext cx="100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 flipH="1">
              <a:off x="6443640" y="4292640"/>
              <a:ext cx="14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8360" y="47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451640" y="4292640"/>
              <a:ext cx="14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56360" y="47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692360" y="2276640"/>
            <a:ext cx="5832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 удачи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роецирование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</a:rPr>
              <a:t> – процесс получения изображений предмета на плоскости с помощью проецирующих лучей.</a:t>
            </a:r>
            <a:endParaRPr b="0" i="1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40000" y="2708280"/>
            <a:ext cx="4824360" cy="338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. А – точка в пространст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лоскость Н – плоскость проек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уч А а – проецирующий лу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. а – проекция т. А на плоскость 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213000"/>
            <a:ext cx="71280" cy="716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2492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68360" y="4149720"/>
            <a:ext cx="3622680" cy="1440000"/>
            <a:chOff x="468360" y="4149720"/>
            <a:chExt cx="3622680" cy="1440000"/>
          </a:xfrm>
        </p:grpSpPr>
        <p:sp>
          <p:nvSpPr>
            <p:cNvPr id="106" name=""/>
            <p:cNvSpPr/>
            <p:nvPr/>
          </p:nvSpPr>
          <p:spPr>
            <a:xfrm>
              <a:off x="755640" y="4149720"/>
              <a:ext cx="32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8360" y="5589720"/>
              <a:ext cx="338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8360" y="4149720"/>
              <a:ext cx="287280" cy="1440000"/>
            </a:xfrm>
            <a:custGeom>
              <a:avLst/>
              <a:gdLst/>
              <a:ahLst/>
              <a:rect l="l" t="t" r="r" b="b"/>
              <a:pathLst>
                <a:path w="181" h="907">
                  <a:moveTo>
                    <a:pt x="181" y="0"/>
                  </a:moveTo>
                  <a:cubicBezTo>
                    <a:pt x="170" y="105"/>
                    <a:pt x="159" y="211"/>
                    <a:pt x="136" y="317"/>
                  </a:cubicBezTo>
                  <a:cubicBezTo>
                    <a:pt x="113" y="423"/>
                    <a:pt x="68" y="537"/>
                    <a:pt x="45" y="635"/>
                  </a:cubicBezTo>
                  <a:cubicBezTo>
                    <a:pt x="22" y="733"/>
                    <a:pt x="11" y="820"/>
                    <a:pt x="0" y="9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14920" y="4149720"/>
              <a:ext cx="276120" cy="1440000"/>
            </a:xfrm>
            <a:custGeom>
              <a:avLst/>
              <a:gdLst/>
              <a:ahLst/>
              <a:rect l="l" t="t" r="r" b="b"/>
              <a:pathLst>
                <a:path w="174" h="907">
                  <a:moveTo>
                    <a:pt x="114" y="0"/>
                  </a:moveTo>
                  <a:cubicBezTo>
                    <a:pt x="144" y="64"/>
                    <a:pt x="174" y="128"/>
                    <a:pt x="159" y="226"/>
                  </a:cubicBezTo>
                  <a:cubicBezTo>
                    <a:pt x="144" y="324"/>
                    <a:pt x="46" y="476"/>
                    <a:pt x="23" y="589"/>
                  </a:cubicBezTo>
                  <a:cubicBezTo>
                    <a:pt x="0" y="702"/>
                    <a:pt x="11" y="804"/>
                    <a:pt x="23" y="9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547640" y="328464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4870440"/>
            <a:ext cx="71640" cy="71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0560" y="42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724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7164360" cy="17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Проекция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</a:rPr>
              <a:t> – изображение предмета на плоскости, полученное с помощью проецирующих лучей.</a:t>
            </a:r>
            <a:endParaRPr b="0" i="1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640" y="558972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Проекц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- своеобразная тень предм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2614680"/>
            <a:ext cx="3240360" cy="28591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27640" y="2593800"/>
            <a:ext cx="3960720" cy="292608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195640" y="2276640"/>
            <a:ext cx="5976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и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роецир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4360" y="189000"/>
            <a:ext cx="8820360" cy="6480000"/>
            <a:chOff x="144360" y="189000"/>
            <a:chExt cx="8820360" cy="6480000"/>
          </a:xfrm>
        </p:grpSpPr>
        <p:sp>
          <p:nvSpPr>
            <p:cNvPr id="120" name=""/>
            <p:cNvSpPr/>
            <p:nvPr/>
          </p:nvSpPr>
          <p:spPr>
            <a:xfrm>
              <a:off x="8748720" y="189000"/>
              <a:ext cx="0" cy="64087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24000" y="333360"/>
              <a:ext cx="8640720" cy="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000" y="3933720"/>
              <a:ext cx="0" cy="27352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360" y="6524640"/>
              <a:ext cx="7740720" cy="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656604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1. Центральное</a:t>
            </a: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 – проецирующие лучи выходят из одного центра</a:t>
            </a:r>
            <a:endParaRPr b="0" i="1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6237000"/>
            <a:ext cx="7772400" cy="29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ображение больше проецируемого предм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21093" t="12243" r="27430" b="33203"/>
          <a:stretch/>
        </p:blipFill>
        <p:spPr>
          <a:xfrm>
            <a:off x="1908000" y="2133720"/>
            <a:ext cx="5545440" cy="394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 rot="10800000">
            <a:off x="3995640" y="3284280"/>
            <a:ext cx="720720" cy="360360"/>
          </a:xfrm>
          <a:prstGeom prst="triangle">
            <a:avLst>
              <a:gd name="adj" fmla="val 50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2708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29080" y="3284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852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492280"/>
            <a:ext cx="142920" cy="14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2205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627280" y="3789360"/>
            <a:ext cx="3622680" cy="1440000"/>
            <a:chOff x="2627280" y="3789360"/>
            <a:chExt cx="3622680" cy="1440000"/>
          </a:xfrm>
        </p:grpSpPr>
        <p:sp>
          <p:nvSpPr>
            <p:cNvPr id="134" name=""/>
            <p:cNvSpPr/>
            <p:nvPr/>
          </p:nvSpPr>
          <p:spPr>
            <a:xfrm>
              <a:off x="2914560" y="3789360"/>
              <a:ext cx="32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27280" y="5229360"/>
              <a:ext cx="338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27280" y="3789360"/>
              <a:ext cx="287280" cy="1440000"/>
            </a:xfrm>
            <a:custGeom>
              <a:avLst/>
              <a:gdLst/>
              <a:ahLst/>
              <a:rect l="l" t="t" r="r" b="b"/>
              <a:pathLst>
                <a:path w="181" h="907">
                  <a:moveTo>
                    <a:pt x="181" y="0"/>
                  </a:moveTo>
                  <a:cubicBezTo>
                    <a:pt x="170" y="105"/>
                    <a:pt x="159" y="211"/>
                    <a:pt x="136" y="317"/>
                  </a:cubicBezTo>
                  <a:cubicBezTo>
                    <a:pt x="113" y="423"/>
                    <a:pt x="68" y="537"/>
                    <a:pt x="45" y="635"/>
                  </a:cubicBezTo>
                  <a:cubicBezTo>
                    <a:pt x="22" y="733"/>
                    <a:pt x="11" y="820"/>
                    <a:pt x="0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73840" y="3789360"/>
              <a:ext cx="276120" cy="1440000"/>
            </a:xfrm>
            <a:custGeom>
              <a:avLst/>
              <a:gdLst/>
              <a:ahLst/>
              <a:rect l="l" t="t" r="r" b="b"/>
              <a:pathLst>
                <a:path w="174" h="907">
                  <a:moveTo>
                    <a:pt x="114" y="0"/>
                  </a:moveTo>
                  <a:cubicBezTo>
                    <a:pt x="144" y="64"/>
                    <a:pt x="174" y="128"/>
                    <a:pt x="159" y="226"/>
                  </a:cubicBezTo>
                  <a:cubicBezTo>
                    <a:pt x="144" y="324"/>
                    <a:pt x="46" y="476"/>
                    <a:pt x="23" y="589"/>
                  </a:cubicBezTo>
                  <a:cubicBezTo>
                    <a:pt x="0" y="702"/>
                    <a:pt x="11" y="804"/>
                    <a:pt x="23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986200" y="43639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35280" y="2565360"/>
            <a:ext cx="720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256536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56000" y="2565360"/>
            <a:ext cx="720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400536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4005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356000" y="400536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789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4720" y="450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6720" y="37893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4929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Применение центрального проецирования в жизни</a:t>
            </a:r>
            <a:endParaRPr b="0" i="1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381636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бота проектор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инотеатр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тограф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2376720" cy="2197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2665440" cy="257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284720" y="1484280"/>
            <a:ext cx="4097160" cy="2305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435640" y="4005360"/>
            <a:ext cx="3263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627732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2.</a:t>
            </a: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Параллельное </a:t>
            </a: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– проецирующие лучи проходят параллельно друг другу.</a:t>
            </a:r>
            <a:endParaRPr b="0" i="1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3213000"/>
            <a:ext cx="7772400" cy="28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соугольно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ямоугольно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6492960" cy="200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Косоугольное</a:t>
            </a:r>
            <a:r>
              <a:rPr b="0" i="1" lang="en-US" sz="3600" spc="-1" strike="noStrike">
                <a:solidFill>
                  <a:srgbClr val="990000"/>
                </a:solidFill>
                <a:latin typeface="Times New Roman"/>
              </a:rPr>
              <a:t> – проецирующие лучи проходят под острым углом к плоскости проекций</a:t>
            </a:r>
            <a:endParaRPr b="0" i="1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ображение смещается может быть меньше, больше или равным предме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21093" t="12243" r="27430" b="33203"/>
          <a:stretch/>
        </p:blipFill>
        <p:spPr>
          <a:xfrm>
            <a:off x="1908000" y="2133720"/>
            <a:ext cx="5545440" cy="3943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 rot="10800000">
            <a:off x="3635280" y="2924280"/>
            <a:ext cx="1441440" cy="720720"/>
          </a:xfrm>
          <a:prstGeom prst="triangle">
            <a:avLst>
              <a:gd name="adj" fmla="val 50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2565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9080" y="3284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48360" y="2492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843280" y="4005360"/>
            <a:ext cx="3622680" cy="1439640"/>
            <a:chOff x="2843280" y="4005360"/>
            <a:chExt cx="3622680" cy="1439640"/>
          </a:xfrm>
        </p:grpSpPr>
        <p:sp>
          <p:nvSpPr>
            <p:cNvPr id="164" name=""/>
            <p:cNvSpPr/>
            <p:nvPr/>
          </p:nvSpPr>
          <p:spPr>
            <a:xfrm>
              <a:off x="3130560" y="4005360"/>
              <a:ext cx="32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43280" y="5445000"/>
              <a:ext cx="338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43280" y="4005360"/>
              <a:ext cx="287280" cy="1439640"/>
            </a:xfrm>
            <a:custGeom>
              <a:avLst/>
              <a:gdLst/>
              <a:ahLst/>
              <a:rect l="l" t="t" r="r" b="b"/>
              <a:pathLst>
                <a:path w="181" h="907">
                  <a:moveTo>
                    <a:pt x="181" y="0"/>
                  </a:moveTo>
                  <a:cubicBezTo>
                    <a:pt x="170" y="105"/>
                    <a:pt x="159" y="211"/>
                    <a:pt x="136" y="317"/>
                  </a:cubicBezTo>
                  <a:cubicBezTo>
                    <a:pt x="113" y="423"/>
                    <a:pt x="68" y="537"/>
                    <a:pt x="45" y="635"/>
                  </a:cubicBezTo>
                  <a:cubicBezTo>
                    <a:pt x="22" y="733"/>
                    <a:pt x="11" y="820"/>
                    <a:pt x="0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89840" y="4005360"/>
              <a:ext cx="276120" cy="1439640"/>
            </a:xfrm>
            <a:custGeom>
              <a:avLst/>
              <a:gdLst/>
              <a:ahLst/>
              <a:rect l="l" t="t" r="r" b="b"/>
              <a:pathLst>
                <a:path w="174" h="907">
                  <a:moveTo>
                    <a:pt x="114" y="0"/>
                  </a:moveTo>
                  <a:cubicBezTo>
                    <a:pt x="144" y="64"/>
                    <a:pt x="174" y="128"/>
                    <a:pt x="159" y="226"/>
                  </a:cubicBezTo>
                  <a:cubicBezTo>
                    <a:pt x="144" y="324"/>
                    <a:pt x="46" y="476"/>
                    <a:pt x="23" y="589"/>
                  </a:cubicBezTo>
                  <a:cubicBezTo>
                    <a:pt x="0" y="702"/>
                    <a:pt x="11" y="804"/>
                    <a:pt x="23" y="90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201840" y="45799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35280" y="2924280"/>
            <a:ext cx="360360" cy="14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56000" y="3645000"/>
            <a:ext cx="360360" cy="14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6720" y="2924280"/>
            <a:ext cx="358920" cy="144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4720" y="4797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393372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933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436572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436572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16360" y="4365720"/>
            <a:ext cx="71928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e1"/>
            </a:gs>
            <a:gs pos="100000">
              <a:srgbClr val="ffff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4929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Times New Roman"/>
              </a:rPr>
              <a:t>Применение косоугольного проецирования в жизни</a:t>
            </a:r>
            <a:endParaRPr b="0" i="1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381636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ень от предмет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ва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987640" y="3933720"/>
            <a:ext cx="2657520" cy="2333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969160" y="1484280"/>
            <a:ext cx="3174840" cy="5168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3933720"/>
            <a:ext cx="27720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2:55:16Z</dcterms:created>
  <dc:creator>Notebook</dc:creator>
  <dc:description/>
  <dc:language>en-US</dc:language>
  <cp:lastModifiedBy>Мама</cp:lastModifiedBy>
  <dcterms:modified xsi:type="dcterms:W3CDTF">2012-11-01T07:59:24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