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4BB-2FA4-4B6E-8A27-9A14EC2B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5F1-70F3-4282-9FE3-DDB2C960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8BA-8C80-4F68-BE04-0964C6C9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A52-04F4-4A00-99DD-A8839CC1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6BFF-414E-469A-8926-71A27755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893C-560E-4146-B51F-C26D190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6DB-C3E7-4100-8BC8-A6D26FE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30AD-7B58-4143-86C7-11DA0ACF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7F59-5BA1-4377-B181-E6FF9F7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BDE8-8C60-4775-8F01-8A109BE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A20A-BE4E-45A2-84C8-7C232244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A94-EA8F-4AF0-8198-CEC145B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137-A1D2-4687-BE44-5CAAA3D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E76-AEE4-4798-9C36-2F93FF0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6D07-00F0-47C4-8474-DC2A7D6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22FA-3CB2-4BC7-A08D-E245B45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3C7-0B83-44BC-88C4-E8A06FE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F22E-00BB-4A90-813E-4D9A43E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F472E-2BBD-4AD2-B7AC-D1C641F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DEEC-FBFB-4304-8A69-DDC23D17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7324-9ED5-4B22-98D7-8BBF7F7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B2A2-4501-4703-B4D9-D7CD43B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7FB-8ADA-4B74-B8A9-EF48366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9B40-B4C2-40B6-B13F-BA2D365F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22B1-80DA-445B-A339-42C5F54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99FD-CF9C-4AC2-A9B3-BFBFDA9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0C3D-122A-42F6-B844-8D64E9AB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BA8D-247D-4A18-9AC3-C91EA8B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9209-CB60-4628-9EB9-F5E47F23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C094-9255-4AF7-A0FB-38CA93E3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DC60-5214-47EA-BA29-B0CB4CF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969B-4718-433C-A237-9BAE5D2C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7865-5C84-4049-9DDC-3A30F9DF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C4F-ED27-434A-9EC3-8212DC8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98CA-3682-487A-B8E8-F587A51E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CCBE-66BB-4D75-97C5-3E5B7E7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628D-30B6-4EC7-B8D1-46DAC416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A143-95B0-47C0-AB69-C0A0925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4B0C-049A-4C5F-906F-4D0E2E0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D845-B4D0-4A10-8987-2A3E2AE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5A87-2B34-404F-BD20-D145F332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5111-CEAB-4E1A-9959-0A6C8C39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D186-0BDC-4C5B-928A-41F4185F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EED83-1724-4421-9CAE-6AB20CC2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E38-DB02-4774-9DE5-7ADCBF9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5D5E-A193-4763-BCFC-217EB42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C397-D4C7-4AF7-B9F2-61569CE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2B0A-2F4B-488D-8149-3E136CAC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2681-81F1-4098-BC6B-E6C3DB1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3923-8E1D-44A1-BC4F-B917246D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8FAD-F830-417B-B7F1-EB1F996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53FE4-CC16-458D-92B3-E266D13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DE03B-9CDC-4E33-B52F-CFCCA205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105C-21DC-430F-BBBB-1382BDED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45E5-DC3C-41BE-818E-98B161F3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CCA-3AFD-4E41-919E-F41A7C13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B542-7DC4-4E91-9613-1C7B9904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A2321-FF03-46BA-B4E2-B8C04FB6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B3E38-548D-4B15-9200-EBA9C64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6C9C-DCD2-404A-9B02-F89A212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B563-3EBE-4838-B593-EEB3A71E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2356-8EB8-4D1E-A287-1BC5D6E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C379-01DF-4887-A0FC-6813BBF9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23A9-114B-4AE7-AE4B-4615F3A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A997-C9C7-41B5-A5C4-802C1BE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3DED-AE87-4312-B0D5-599A516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C04-3140-4C3C-B74F-36A648A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50BC-1EAD-4304-8B27-60A957F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0BC82-E508-4691-ADEA-F153335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8C00-BF02-44F0-9963-6B0F69C7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9F7A-CC3B-4297-B0E2-A6AC45E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DA45-A9FB-4720-97CF-82529C95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ED28-981A-40B1-8119-2F3FE73A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EEF6-D614-4547-8FEC-953B142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C40CD-B636-492D-A14A-DD6185E4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7C03-E1AD-49DE-ABE2-5FDC328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EEF2-DFDA-4CB9-A006-D941E37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2DA-7D48-45CF-9D58-0EA4C0C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7621-470E-40E7-9600-D0F5830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B79A-2304-4B2E-9674-00DCD1F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BAFF-E74E-4A20-871C-23C6953F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AE6C-64ED-49DD-80B1-582F22DA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03CD-8281-44FF-82F3-97F98D88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F1B-89C9-406C-9C7E-0BCC567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7E8-6737-44E0-BB90-56EDA69D00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634-FE99-4AC8-A749-67B5C3BA90C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32F-A629-4400-BB5F-D7169E2E3DC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2DA2-3D23-4A29-9085-A04CC4E56C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0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1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1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1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2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09F-76F3-4800-BF51-DD9BCDB147B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5FDC-1BD0-4270-9D42-6C58C75FED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D2FE-BA19-46DA-A079-1372EDA9A6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strogalaxy.ru/fotorass/kontac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0" y="1125360"/>
            <a:ext cx="9144000" cy="29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земные цивилизации - проблема поис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908000" y="4313160"/>
            <a:ext cx="81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Мальцев Дмитрий Михайлович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10, Лицей № 82, г. Челябинс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Попова Алевтина Петро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астроном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НЕ ОПАСНЫ ЛИ КОНТАКТЫ?</a:t>
            </a: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ликое Молч ани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Вселенной. Прчины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граниченная мощность передатч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не электромагнитных каналов связ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не можем распознать сигн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Ц не посылают сигналы ввиду нашей недостаточной зрел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Их наблюдаем, но не осознаем этого, так как: а) не владеем сами астроинженерной технологией; б) мы не знаем толком, что надо искать, ибо космический разум ведет себя не так, как мы ожидаем; в) мы давно включили проявления деятельности ВЦ в свою естественнонаучную картину мира и т.д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НИ МОГУТ БЫТЬ ТАКИ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Picture 4" descr="09030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ИД      ТРАНСПОРТА, который могут использовать внеземные цивилизации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Потом возникла идея использовать лазерные сигналы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сть ли жизнь во Вселен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3" descr="p_f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еизвестные пробл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ведь могут быть и другие, неизвестные нам способы связи, основанные на пока еще не познанных нами законах природы, на еще не открытых формах мате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внеземные цивилизации уже знают о них и успешно используют для своих целей. А мы пока не имеем о них никакого пон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тому используем традиционные способы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ИСКИ ВНЕЗЕМНЫХ ЦИВИЛИЗ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3280" y="1915920"/>
            <a:ext cx="45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сё-таки однозначного нет ответа из космо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!Словечка хотя бы невзрачного, не пишет космический св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шарим, шарим радар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круг – тишина, пустот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Альфа молчит Эриданова, и Бета, и Тау Кита.                 (Лев Куклин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4" descr="seti-cook"/>
          <p:cNvPicPr/>
          <p:nvPr/>
        </p:nvPicPr>
        <p:blipFill>
          <a:blip r:embed="rId1"/>
          <a:stretch/>
        </p:blipFill>
        <p:spPr>
          <a:xfrm>
            <a:off x="0" y="1844640"/>
            <a:ext cx="4500720" cy="501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грамме SERENDIP IV было обнаружено около 5 миллиардов "подозрительных" сигналов явно внеземного происхождения, то есть с нужным "барицентрическим" дрейфом по част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яющее большинство их было отождествлено с объектами земного происхождения - искусственными спутниками и космическими аппара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7 неотождествленных сигналов были отобраны для контрольного наблю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оска по внеземному разуму – результат космического одиночества?</a:t>
            </a: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Тоска по внеземному разуму – результат космического одиночества и земного неустр"/>
          <p:cNvPicPr/>
          <p:nvPr/>
        </p:nvPicPr>
        <p:blipFill>
          <a:blip r:embed="rId1"/>
          <a:stretch/>
        </p:blipFill>
        <p:spPr>
          <a:xfrm>
            <a:off x="0" y="1617840"/>
            <a:ext cx="9174240" cy="5240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работы заключалась в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изучении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овременного состояния проблемы и создания научно-дидактического материала и задач, позволяющих прояснить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научную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уть проблемы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ы явилис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научных фактов решения данного вопро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дидактического материала, позволяющего наметить пути научного подхода к решению изучаемой пробл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и решение задач, объясняющих научный подход к пробл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социологического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през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Быть может, пришельцам рано на Землю являться со звёз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3" descr="kontact-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495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ровавы земные раны и до межзвёздного братства надобно на Зем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следует разобраться людя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обре и з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лександр Куницы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клад окончен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ddc94d05"/>
          <p:cNvPicPr/>
          <p:nvPr/>
        </p:nvPicPr>
        <p:blipFill>
          <a:blip r:embed="rId1"/>
          <a:stretch/>
        </p:blipFill>
        <p:spPr>
          <a:xfrm>
            <a:off x="108000" y="-892080"/>
            <a:ext cx="6159600" cy="4622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ddc94d05"/>
          <p:cNvPicPr/>
          <p:nvPr/>
        </p:nvPicPr>
        <p:blipFill>
          <a:blip r:embed="rId2"/>
          <a:stretch/>
        </p:blipFill>
        <p:spPr>
          <a:xfrm>
            <a:off x="2771640" y="3500280"/>
            <a:ext cx="6159600" cy="462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СЛАНИЕ ИЗ АРЕСИБ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5" name="Picture 3" descr="09030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ШАРОВОЕ СКОПЛЕНИЕ М 13 В ГЕРКУЛЕС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8b274"/>
                </a:solidFill>
                <a:latin typeface="Tahoma"/>
              </a:rPr>
              <a:t>Сообщение на  «Пионере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9" name="Picture 3" descr="090306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СВЕДЕНИЯ О ЦИВИЛИЗАЦИИ НА ЗЕМ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record_v"/>
          <p:cNvPicPr/>
          <p:nvPr/>
        </p:nvPicPr>
        <p:blipFill>
          <a:blip r:embed="rId1"/>
          <a:stretch/>
        </p:blipFill>
        <p:spPr>
          <a:xfrm>
            <a:off x="395280" y="1197000"/>
            <a:ext cx="831708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Миссия «Вояджера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3" name="Picture 3" descr="09030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ПОИСКИ ВНЕЗЕМНОГО РАЗУ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5" name="Object 4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ФОРМУЛА Фрэнсиса Дрейка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4" descr="63103756911281-1"/>
          <p:cNvPicPr/>
          <p:nvPr/>
        </p:nvPicPr>
        <p:blipFill>
          <a:blip r:embed="rId1"/>
          <a:stretch/>
        </p:blipFill>
        <p:spPr>
          <a:xfrm>
            <a:off x="539640" y="2532240"/>
            <a:ext cx="7993080" cy="276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6-23T07:43:51Z</dcterms:modified>
  <cp:revision>10</cp:revision>
  <dc:subject/>
  <dc:title>PowerPoint Presentation</dc:title>
</cp:coreProperties>
</file>