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DC1-4AFD-48D0-A735-89C02451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58F-6271-4220-AB23-2CB22F75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6D4-A16D-4894-859A-89482A34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A29-1A74-41B5-BF8D-17F753A6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DA38-A648-4061-B34F-A9393CC5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4357-090F-48C7-8E19-674009FD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351F-0C99-4A7A-85B9-A67665B3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9E14-CFD6-4C7E-A8C5-7C4FAC2A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3836-E9A6-4B4F-BB3B-C927CD4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EF1E-E850-4614-B7CD-03D8FFF5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BD80-4C02-4127-B399-54E7F521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751-2319-401B-A2F6-C90AEC7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7832-E785-4716-982C-DA043810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F5A-963B-4595-92DC-1FD9F09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5242-B081-4FF6-A40B-3F4BFBF0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1F7D-54F0-46C0-8131-305196BC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E11A-5733-44B7-993A-C5D45595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E2CAD-1FBF-4C3E-AADD-C580BAE6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CBFC-A162-4575-B3E0-1A9F7C3D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A4DB-CD9A-4E02-9CD8-41DA1D4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8623-E184-4BE0-86AE-647138D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39F7-DBBD-4FB8-BE60-045FC36F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20F-DF1A-499D-B8C6-D5A279E1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22B7-16D8-468F-82ED-1C7A8603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F335-A38A-47B9-B511-5F679B9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ADBE-B810-4374-8E8F-5D62649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6480-F1D1-4406-8298-D9067A5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9FA9-3D8E-40BB-99AF-C7D12C65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1A30-7619-4D16-BFAF-9A35AD5E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A03E-56A8-4C92-906F-24B6DB71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8D8E-5BBB-4978-B58D-E3536312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C431-41E4-42D8-A700-F411EAE6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097B-D219-40CA-ABFA-139D03C7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231-736B-4EE1-91EB-F2F3F8E0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2532-3891-49B5-A352-875AF9FA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F3F6-2FEF-4484-8831-309B19FC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079F-BEB8-49D6-8974-8B35F09E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DF1B-A250-4376-B4D9-5E48C9B6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A51D-9D94-4164-874A-882A97C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AB1D-0D67-4FEC-B6DE-7256328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7E64-E543-49B3-A548-2C47A05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2F92-0F52-4E23-A6F6-9C02ED6E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B74F-4F09-47BA-9FFC-95D74795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04427-A95F-40EF-8CBB-1B5D73B7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B32-4C2F-4044-B2FF-528980E8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231F5-2254-4BB1-8F7B-41E39A99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6A775-28B4-4794-A3AF-11DF5EBC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F540E-B43B-4961-9007-586FB514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34C6-EB3D-4F04-80CE-394DDA9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61DE-A58A-46B7-83D6-F1E78098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09A2-E670-4E2A-9413-01F8F020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51DFB-C7C8-4163-AD4E-D390B62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928D4-0B09-491F-B0A3-7B13642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C5ACB-B511-4739-A1B1-02E22BA8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8BF5A-3DDD-4C4E-AB2C-717E5C72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E5C-861E-45DE-B83B-B9173CD2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544C-F7D5-49CC-B904-D355746A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883F7-FFA1-4CB7-9422-4DD81924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683E-F012-4DD7-9956-F84418D9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C6E0-3F0F-4A85-975B-7A303D91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F8F5F-B876-4B46-85A4-11797298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60BC-0F8F-4533-9E2C-54EFE8D3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1BDE9-F335-40AB-B5DA-8387855F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1BA98-AB9E-4C83-8F31-B00B7F0F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BB73-1BF9-432A-A4F4-0CD9F9F1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DDF41-5711-49B2-B9E5-1688B76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93A-A09B-4C00-9673-DFCB244B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AC460-9C0A-43BD-A8FA-CF763785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2537F-C358-490B-9636-5D02E517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CB502-38B8-4A3F-8BDB-DDD12381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79D67-C0F2-4FE3-9B5B-C71C64F7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E34CA-E656-4326-A270-9EC36A71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514C2-0E46-4FAC-81DE-81716BE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FD863-83B5-4B5E-BCBA-CE932F37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11EF1-D228-42C8-A863-E6CBC820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99012-65CC-4AA7-88DC-5FC939FE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5B64-FA6B-4B1F-87F9-6A67E0E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C14-1F36-485A-B48C-5F0264D8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8C67-B0A6-47DE-B97B-B65D55FC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0F095-3803-4311-BE88-BE9E096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710D-EE0B-497D-BFC8-62816814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C4140-4552-4B6F-9EF7-CA18C80D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7AD37-61DD-4471-B754-5A6BF1D1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65C-ED80-4C54-81C0-3AE9B0F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AA1E-67D6-4373-88DD-DD166E8186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40FD-5CD4-4045-8241-B30395600A5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D2E4-1359-4FB8-B66E-A515620B298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4CD7-39BF-417A-A2C1-CC46EACDF87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0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1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1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1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2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EE6E-90AC-4AA3-A6D5-E92B95C5FC4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1FAC-5F49-4FC8-952A-B3FC7F756D4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2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6E22-9763-4D4D-88CF-838F1BDFCA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strogalaxy.ru/fotorass/kontac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70" name="WordArt 5"/>
          <p:cNvSpPr txBox="1"/>
          <p:nvPr/>
        </p:nvSpPr>
        <p:spPr>
          <a:xfrm>
            <a:off x="0" y="1125360"/>
            <a:ext cx="9144000" cy="294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земные цивилизации - проблема поис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908000" y="4313160"/>
            <a:ext cx="81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Мальцев Дмитрий Михайлович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10, Лицей № 82, г. Челябинс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Попова Алевтина Петро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 астроном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d1df"/>
                </a:solidFill>
                <a:latin typeface="Tahoma"/>
              </a:rPr>
              <a:t>НЕ ОПАСНЫ ЛИ КОНТАКТЫ?</a:t>
            </a: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еликое Молч ани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Вселенной. Прчины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граниченная мощность передатч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не электромагнитных каналов связ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не можем распознать сигна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Ц не посылают сигналы ввиду нашей недостаточной зрел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Их наблюдаем, но не осознаем этого, так как: а) не владеем сами астроинженерной технологией; б) мы не знаем толком, что надо искать, ибо космический разум ведет себя не так, как мы ожидаем; в) мы давно включили проявления деятельности ВЦ в свою естественнонаучную картину мира и т.д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НИ МОГУТ БЫТЬ ТАКИ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4" name="Picture 4" descr="090303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40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ИД      ТРАНСПОРТА, который могут использовать внеземные цивилизации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d4ce"/>
                </a:solidFill>
                <a:latin typeface="Tahoma"/>
              </a:rPr>
              <a:t>Потом возникла идея использовать лазерные сигналы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Есть ли жизнь во Вселенн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3" descr="p_f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еизвестные пробл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ведь могут быть и другие, неизвестные нам способы связи, основанные на пока еще не познанных нами законах природы, на еще не открытых формах матер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, внеземные цивилизации уже знают о них и успешно используют для своих целей. А мы пока не имеем о них никакого понят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этому используем традиционные способы связ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ИСКИ ВНЕЗЕМНЫХ ЦИВИЛИЗ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43280" y="1915920"/>
            <a:ext cx="4500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сё-таки однозначного нет ответа из космо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!Словечка хотя бы невзрачного, не пишет космический све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шарим, шарим радар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круг – тишина, пустот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Альфа молчит Эриданова, и Бета, и Тау Кита.                 (Лев Куклин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4" descr="seti-cook"/>
          <p:cNvPicPr/>
          <p:nvPr/>
        </p:nvPicPr>
        <p:blipFill>
          <a:blip r:embed="rId1"/>
          <a:stretch/>
        </p:blipFill>
        <p:spPr>
          <a:xfrm>
            <a:off x="0" y="1844640"/>
            <a:ext cx="4500720" cy="501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грамме SERENDIP IV было обнаружено около 5 миллиардов "подозрительных" сигналов явно внеземного происхождения, то есть с нужным "барицентрическим" дрейфом по част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яющее большинство их было отождествлено с объектами земного происхождения - искусственными спутниками и космическими аппара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27 неотождествленных сигналов были отобраны для контрольного наблю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оска по внеземному разуму – результат космического одиночества?</a:t>
            </a: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Тоска по внеземному разуму – результат космического одиночества и земного неустр"/>
          <p:cNvPicPr/>
          <p:nvPr/>
        </p:nvPicPr>
        <p:blipFill>
          <a:blip r:embed="rId1"/>
          <a:stretch/>
        </p:blipFill>
        <p:spPr>
          <a:xfrm>
            <a:off x="0" y="1617840"/>
            <a:ext cx="9174240" cy="5240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работы заключалась в </a:t>
            </a:r>
            <a:r>
              <a:rPr b="0" i="1" lang="ru-RU" sz="2800" spc="-1" strike="noStrike">
                <a:solidFill>
                  <a:srgbClr val="ccffff"/>
                </a:solidFill>
                <a:latin typeface="Tahoma"/>
              </a:rPr>
              <a:t>изучении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современного состояния проблемы и создания научно-дидактического материала и задач, позволяющих прояснить </a:t>
            </a:r>
            <a:r>
              <a:rPr b="0" i="1" lang="ru-RU" sz="2800" spc="-1" strike="noStrike">
                <a:solidFill>
                  <a:srgbClr val="ccffff"/>
                </a:solidFill>
                <a:latin typeface="Tahoma"/>
              </a:rPr>
              <a:t>научную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суть проблемы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Ч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ы явилис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научных фактов решения данного вопро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дидактического материала, позволяющего наметить пути научного подхода к решению изучаемой пробл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и решение задач, объясняющих научный подход к пробл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социологического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презен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Быть может, пришельцам рано на Землю являться со звёзд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3" descr="kontact-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89000"/>
            <a:ext cx="4500720" cy="4869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495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ровавы земные раны и до межзвёздного братства надобно на Зем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следует разобраться людям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добре и зл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лександр Куницын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Доклад окончен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ddc94d05"/>
          <p:cNvPicPr/>
          <p:nvPr/>
        </p:nvPicPr>
        <p:blipFill>
          <a:blip r:embed="rId1"/>
          <a:stretch/>
        </p:blipFill>
        <p:spPr>
          <a:xfrm>
            <a:off x="108000" y="-892080"/>
            <a:ext cx="6159600" cy="4622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ddc94d05"/>
          <p:cNvPicPr/>
          <p:nvPr/>
        </p:nvPicPr>
        <p:blipFill>
          <a:blip r:embed="rId2"/>
          <a:stretch/>
        </p:blipFill>
        <p:spPr>
          <a:xfrm>
            <a:off x="2771640" y="3500280"/>
            <a:ext cx="6159600" cy="462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СЛАНИЕ ИЗ АРЕСИБ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5" name="Picture 3" descr="090305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d4ce"/>
                </a:solidFill>
                <a:latin typeface="Tahoma"/>
              </a:rPr>
              <a:t>ШАРОВОЕ СКОПЛЕНИЕ М 13 В ГЕРКУЛЕС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550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8b274"/>
                </a:solidFill>
                <a:latin typeface="Tahoma"/>
              </a:rPr>
              <a:t>Сообщение на  «Пионере»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9" name="Picture 3" descr="090306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СВЕДЕНИЯ О ЦИВИЛИЗАЦИИ НА ЗЕМ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4" descr="record_v"/>
          <p:cNvPicPr/>
          <p:nvPr/>
        </p:nvPicPr>
        <p:blipFill>
          <a:blip r:embed="rId1"/>
          <a:stretch/>
        </p:blipFill>
        <p:spPr>
          <a:xfrm>
            <a:off x="395280" y="1197000"/>
            <a:ext cx="8317080" cy="566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ce"/>
                </a:solidFill>
                <a:latin typeface="Tahoma"/>
              </a:rPr>
              <a:t>Миссия «Вояджера»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3" name="Picture 3" descr="090307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ce"/>
                </a:solidFill>
                <a:latin typeface="Tahoma"/>
              </a:rPr>
              <a:t>ПОИСКИ ВНЕЗЕМНОГО РАЗУ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5" name="Object 4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ФОРМУЛА Фрэнсиса Дрейка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Picture 4" descr="63103756911281-1"/>
          <p:cNvPicPr/>
          <p:nvPr/>
        </p:nvPicPr>
        <p:blipFill>
          <a:blip r:embed="rId1"/>
          <a:stretch/>
        </p:blipFill>
        <p:spPr>
          <a:xfrm>
            <a:off x="539640" y="2532240"/>
            <a:ext cx="7993080" cy="276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6-23T07:43:51Z</dcterms:modified>
  <cp:revision>10</cp:revision>
  <dc:subject/>
  <dc:title>PowerPoint Presentation</dc:title>
</cp:coreProperties>
</file>