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A3D1-D927-4A5C-AD15-2D56E83E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BE0-517C-471B-AC1E-09D447BC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190D-DA73-4613-BE9F-2AB90511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8DF-FC04-4528-A712-4CC372F4F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EEAE-8492-4E3D-8E6C-2D04EBF0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0D83-4721-4AE2-AA79-2610D6B8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D774-81C7-491B-8670-BE579B10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03C7-BCA6-4EA6-862D-D415FB58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E5AC-DACE-4EE9-B6ED-733F0BD2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E082-3F7D-4467-9313-00C4B3A9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53C0-2380-4544-8309-19E84957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F6F-4B7C-479B-BF66-D5351002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4F23-3BBF-44B6-B59F-91EC1E77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3DBC-EACE-4B20-B326-C684C543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1708-2453-4B71-BF17-9188D78E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2F68-8E60-4BBD-9999-83D9AE4A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DA9A-2E6F-42ED-BADD-73954B68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2D7AA-B2E4-4ADC-BC4B-1C7BE7B8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61CA4-0A18-4FA9-8B33-C8B8DB84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F6BBF-C102-486C-8E2A-E9F316B8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1537B-B3EC-4D3E-85D4-2AB614F6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DA8B0-341E-4562-A5F4-744B91A9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75E-45EC-4901-A27F-69FF931E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81B23-513A-4277-B8FA-FDF817F8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8689B-3FAE-4ACB-A507-B18E6BA9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1BFC9-027C-4693-A2C6-EB85A8BD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93316-F9B8-42B1-B9D1-CBEDAEF1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52E6D-69F6-454A-B19C-AB82AC5A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F602C-8C07-4FA0-8AC6-ED4D3558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58EE7-68C8-4D4A-BC73-06E90694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D5941-D042-4536-865B-44CD9032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23198-04D7-416A-8723-B5B6C6CA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4B4A8-A79E-4025-A75A-2A8660BC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50B8-B5BB-4C74-BBAB-2B2D8B56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6161E-D02C-419B-9761-D160D74B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BAE7D-8D28-432D-AEB6-9A09A0D7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10F43-E2FC-430E-A123-A4FC5514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29BCD-9E99-4A2C-91FB-AB6CF1B8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8D14C-A4DF-4698-8533-45B865C1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09C61-7A10-48B2-BFC9-70F00033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1DADA-5345-48CF-803C-9C6281B3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58197-F8B4-4A1B-88D1-8F80E090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64DAD-2065-4C49-8AD5-6590CDA4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E0C9D-3927-4EF3-A4E6-A543FC2A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D846-07AE-488E-A04E-6705BCE1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A248B-F7AF-4EB9-9695-BFE608BB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B7292-88D4-49AE-9E0D-AA246CD1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F5558-7412-4127-B4C0-7A8645E6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1CAC7-4071-4DD2-AC8E-D15E30D0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3F0BB-E2D2-4C80-8884-27F4C451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2B9D0-F9EE-477A-90A1-849BC090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9D87F-AAE2-4512-9392-A9556B48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41660-4C14-4A07-A529-96074F7F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61453-21BB-4DF9-93B1-2D32CFF8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1431D-9601-4BEA-904F-DE0F6210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947C-156F-41A7-92ED-790C1D4D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3F930-E963-4F2C-B420-AD4ED849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4159D-6588-4817-9741-DE261743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DB7A3-57D2-46B6-92B3-74EA8DFA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3434B-4A39-4840-A461-DA38138B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4E446-B034-43AC-B8E5-77B2C6DF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517BF-5AA2-4955-9AAD-DAFF5D00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D5026-6201-43D3-AE88-EE9B7CFA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50AAF-6FDA-44E2-AB30-85FAF043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7873A-A6B7-410F-801A-F191FA28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2418C-BE1C-453F-9727-E792BC60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A509-7292-4839-BB09-EF271650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25715-EA9B-4518-BB57-20EEE066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2771E-8EC4-4443-A5C1-798E1280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8D463-10D6-467D-BA76-1CADDC61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AAA8B-23D1-4A69-A9D1-F758421C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44577-19CD-46A9-A9E4-B3BDA90C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C1C24-4B77-467F-A753-C81D63B9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AD293-3777-4B5F-A6C9-970B0CA6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12422-8149-486B-A0D8-F556ABEB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C72A8-6F6F-4712-B1E9-A3C122ED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B648A-4137-429E-BA60-0C5C9C21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59E8-551E-45D7-AA0E-DDF416FC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56B7B-1144-4889-8E1A-209B1687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2E4AC-B7DC-467C-9DBE-886F3DF9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5D141-D9AC-4AEC-8ED5-EB8F09AF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ABBDF-A5C8-49D9-BE19-4FD71411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52318-6CBE-4BB6-B550-D89C643F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646-67D5-4753-820C-9331FFBC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2A8C-B929-44A8-86C7-44C28E9C8C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10FF-278A-45AB-A4DB-0D4FFF460A0F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1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6720-1847-463F-B197-17D79EF4E65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6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81C2-788A-4C60-868E-42941778BD6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06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7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310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11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12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5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6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8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9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1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22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4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5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7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8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0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31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3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4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6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37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9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40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2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43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5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6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8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9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1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52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4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5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7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8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0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61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3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4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6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67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9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70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2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73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4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5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6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78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0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81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3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4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6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87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90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93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6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9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02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5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8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11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13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14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15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2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3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24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CE94-33CA-4D11-ABDE-6972505BB14C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7114-9DA9-4201-BBA8-7FB686FD5FE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24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6C61-F8D0-46F8-9D34-5C9DBA4D33D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strogalaxy.ru/fotorass/kontact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4" descr="10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570" name="WordArt 5"/>
          <p:cNvSpPr txBox="1"/>
          <p:nvPr/>
        </p:nvSpPr>
        <p:spPr>
          <a:xfrm>
            <a:off x="0" y="1125360"/>
            <a:ext cx="9144000" cy="294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неземные цивилизации - проблема поиска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1908000" y="4313160"/>
            <a:ext cx="812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: Мальцев Дмитрий Михайлович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 10, Лицей № 82, г. Челябинс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ководитель: Попова Алевтина Петровн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подаватель астроном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1d1df"/>
                </a:solidFill>
                <a:latin typeface="Tahoma"/>
              </a:rPr>
              <a:t>НЕ ОПАСНЫ ЛИ КОНТАКТЫ?</a:t>
            </a:r>
            <a:r>
              <a:rPr b="0" lang="ru-RU" sz="4400" spc="-1" strike="noStrike">
                <a:solidFill>
                  <a:srgbClr val="d1d1d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еликое Молч ание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"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Вселенной. Прчины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граниченная мощность передатчи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ование не электромагнитных каналов связ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ы не можем распознать сигна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Ц не посылают сигналы ввиду нашей недостаточной зрел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ы Их наблюдаем, но не осознаем этого, так как: а) не владеем сами астроинженерной технологией; б) мы не знаем толком, что надо искать, ибо космический разум ведет себя не так, как мы ожидаем; в) мы давно включили проявления деятельности ВЦ в свою естественнонаучную картину мира и т.д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НИ МОГУТ БЫТЬ ТАКИМ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94" name="Picture 4" descr="090303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83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4072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ВИД      ТРАНСПОРТА, который могут использовать внеземные цивилизации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4d4ce"/>
                </a:solidFill>
                <a:latin typeface="Tahoma"/>
              </a:rPr>
              <a:t>Потом возникла идея использовать лазерные сигналы.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98" name="Picture 3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Есть ли жизнь во Вселенно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Picture 3" descr="p_f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еизвестные пробле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 ведь могут быть и другие, неизвестные нам способы связи, основанные на пока еще не познанных нами законах природы, на еще не открытых формах матер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можно, внеземные цивилизации уже знают о них и успешно используют для своих целей. А мы пока не имеем о них никакого понят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этому используем традиционные способы связ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ОИСКИ ВНЕЗЕМНЫХ ЦИВИЛИЗА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43280" y="1915920"/>
            <a:ext cx="4500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всё-таки однозначного нет ответа из космос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т!Словечка хотя бы невзрачного, не пишет космический све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ы шарим, шарим радара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круг – тишина, пустота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Альфа молчит Эриданова, и Бета, и Тау Кита.                 (Лев Куклин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4" descr="seti-cook"/>
          <p:cNvPicPr/>
          <p:nvPr/>
        </p:nvPicPr>
        <p:blipFill>
          <a:blip r:embed="rId1"/>
          <a:stretch/>
        </p:blipFill>
        <p:spPr>
          <a:xfrm>
            <a:off x="0" y="1844640"/>
            <a:ext cx="4500720" cy="5013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ИТО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программе SERENDIP IV было обнаружено около 5 миллиардов "подозрительных" сигналов явно внеземного происхождения, то есть с нужным "барицентрическим" дрейфом по частот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авляющее большинство их было отождествлено с объектами земного происхождения - искусственными спутниками и космическими аппарат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27 неотождествленных сигналов были отобраны для контрольного наблюд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808000"/>
                </a:solidFill>
                <a:latin typeface="Times New Roman"/>
              </a:rPr>
              <a:t>Тоска по внеземному разуму – результат космического одиночества?</a:t>
            </a:r>
            <a:r>
              <a:rPr b="0" lang="ru-RU" sz="40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3" descr="Тоска по внеземному разуму – результат космического одиночества и земного неустр"/>
          <p:cNvPicPr/>
          <p:nvPr/>
        </p:nvPicPr>
        <p:blipFill>
          <a:blip r:embed="rId1"/>
          <a:stretch/>
        </p:blipFill>
        <p:spPr>
          <a:xfrm>
            <a:off x="0" y="1617840"/>
            <a:ext cx="9174240" cy="5240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9144000" cy="2713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Tahoma"/>
              </a:rPr>
              <a:t>ЦЕЛЬ</a:t>
            </a:r>
            <a:r>
              <a:rPr b="0" lang="ru-RU" sz="2800" spc="-1" strike="noStrike">
                <a:solidFill>
                  <a:srgbClr val="ccffff"/>
                </a:solidFill>
                <a:latin typeface="Tahoma"/>
              </a:rPr>
              <a:t> работы заключалась в </a:t>
            </a:r>
            <a:r>
              <a:rPr b="0" i="1" lang="ru-RU" sz="2800" spc="-1" strike="noStrike">
                <a:solidFill>
                  <a:srgbClr val="ccffff"/>
                </a:solidFill>
                <a:latin typeface="Tahoma"/>
              </a:rPr>
              <a:t>изучении</a:t>
            </a:r>
            <a:r>
              <a:rPr b="0" lang="ru-RU" sz="2800" spc="-1" strike="noStrike">
                <a:solidFill>
                  <a:srgbClr val="ccffff"/>
                </a:solidFill>
                <a:latin typeface="Tahoma"/>
              </a:rPr>
              <a:t> современного состояния проблемы и создания научно-дидактического материала и задач, позволяющих прояснить </a:t>
            </a:r>
            <a:r>
              <a:rPr b="0" i="1" lang="ru-RU" sz="2800" spc="-1" strike="noStrike">
                <a:solidFill>
                  <a:srgbClr val="ccffff"/>
                </a:solidFill>
                <a:latin typeface="Tahoma"/>
              </a:rPr>
              <a:t>научную</a:t>
            </a:r>
            <a:r>
              <a:rPr b="0" lang="ru-RU" sz="2800" spc="-1" strike="noStrike">
                <a:solidFill>
                  <a:srgbClr val="ccffff"/>
                </a:solidFill>
                <a:latin typeface="Tahoma"/>
              </a:rPr>
              <a:t> суть проблемы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ДАЧАМ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ы явилис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научных фактов решения данного вопро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ние дидактического материала, позволяющего наметить пути научного подхода к решению изучаемой проблем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и решение задач, объясняющих научный подход к проблем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ализ социологического исслед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ние презент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Times New Roman"/>
              </a:rPr>
              <a:t>Быть может, пришельцам рано на Землю являться со звёзд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3" descr="kontact-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989000"/>
            <a:ext cx="4500720" cy="486900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648320" y="1412640"/>
            <a:ext cx="44956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Кровавы земные раны и до межзвёздного братства надобно на Земл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следует разобраться людям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добре и зл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(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лександр Куницын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пасибо за внимание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Доклад окончен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3" descr="ddc94d05"/>
          <p:cNvPicPr/>
          <p:nvPr/>
        </p:nvPicPr>
        <p:blipFill>
          <a:blip r:embed="rId1"/>
          <a:stretch/>
        </p:blipFill>
        <p:spPr>
          <a:xfrm>
            <a:off x="108000" y="-892080"/>
            <a:ext cx="6159600" cy="46227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ddc94d05"/>
          <p:cNvPicPr/>
          <p:nvPr/>
        </p:nvPicPr>
        <p:blipFill>
          <a:blip r:embed="rId2"/>
          <a:stretch/>
        </p:blipFill>
        <p:spPr>
          <a:xfrm>
            <a:off x="2771640" y="3500280"/>
            <a:ext cx="6159600" cy="4623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СЛАНИЕ ИЗ АРЕСИБ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75" name="Picture 3" descr="090305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4d4ce"/>
                </a:solidFill>
                <a:latin typeface="Tahoma"/>
              </a:rPr>
              <a:t>ШАРОВОЕ СКОПЛЕНИЕ М 13 В ГЕРКУЛЕС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77" name="Picture 4" descr=""/>
          <p:cNvPicPr/>
          <p:nvPr/>
        </p:nvPicPr>
        <p:blipFill>
          <a:blip r:embed="rId1"/>
          <a:stretch/>
        </p:blipFill>
        <p:spPr>
          <a:xfrm>
            <a:off x="0" y="1351080"/>
            <a:ext cx="9144000" cy="550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8b274"/>
                </a:solidFill>
                <a:latin typeface="Tahoma"/>
              </a:rPr>
              <a:t>Сообщение на  «Пионере»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79" name="Picture 3" descr="090306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Times New Roman"/>
              </a:rPr>
              <a:t>СВЕДЕНИЯ О ЦИВИЛИЗАЦИИ НА ЗЕМЛ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4" descr="record_v"/>
          <p:cNvPicPr/>
          <p:nvPr/>
        </p:nvPicPr>
        <p:blipFill>
          <a:blip r:embed="rId1"/>
          <a:stretch/>
        </p:blipFill>
        <p:spPr>
          <a:xfrm>
            <a:off x="395280" y="1197000"/>
            <a:ext cx="8317080" cy="5661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4d4ce"/>
                </a:solidFill>
                <a:latin typeface="Tahoma"/>
              </a:rPr>
              <a:t>Миссия «Вояджера»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83" name="Picture 3" descr="090307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4d4ce"/>
                </a:solidFill>
                <a:latin typeface="Tahoma"/>
              </a:rPr>
              <a:t>ПОИСКИ ВНЕЗЕМНОГО РАЗУМ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85" name="Object 4"/>
          <p:cNvGraphicFramePr/>
          <p:nvPr/>
        </p:nvGraphicFramePr>
        <p:xfrm>
          <a:off x="0" y="1268280"/>
          <a:ext cx="91440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ФОРМУЛА Фрэнсиса Дрейка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88" name="Picture 4" descr="63103756911281-1"/>
          <p:cNvPicPr/>
          <p:nvPr/>
        </p:nvPicPr>
        <p:blipFill>
          <a:blip r:embed="rId1"/>
          <a:stretch/>
        </p:blipFill>
        <p:spPr>
          <a:xfrm>
            <a:off x="539640" y="2532240"/>
            <a:ext cx="7993080" cy="2768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6-23T07:43:51Z</dcterms:modified>
  <cp:revision>10</cp:revision>
  <dc:subject/>
  <dc:title>PowerPoint Presentation</dc:title>
</cp:coreProperties>
</file>