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256-AF74-4673-8EE0-5346852F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E27-6C6C-47EC-8DF6-229E52E8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32D-A9FE-42EC-8C3E-FA32A143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FC2-8919-4EF9-A43B-17B178F9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0E3C-2B52-4CB8-A0B9-30D2355B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EC0A-2AD8-4F30-A5A4-D848B48B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125D-994B-4A09-8F3C-98EA685F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DBDB-212B-4FE6-8B04-0FCCB968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DEB3-877C-4F42-8271-5D5D90A5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588A-B683-4A1B-ABE1-F2511BD2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C3FA-1958-4DC3-B2C6-9C5C3CD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394-3226-4A21-BE29-2C6C06BB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F4C3-47A4-4981-8E04-26053071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F745-F29D-47FE-A0A8-8B51CC8C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EF7E-1167-4021-84ED-6F6CBBED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587E-81EC-4613-9B20-37229F93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133F-84C2-4E55-81B6-ED4C9301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FDABE-B9E8-4160-A252-93198C93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F6458-D81B-4F85-ABB2-6043C1DE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5345-955F-469C-9779-CB042CBA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6BDEC-1AD1-463A-B8AC-D7D164EF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FA41C-E78A-4F9D-957E-701E0BB1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AD0-A253-4E8D-996C-67165680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93742-9CA3-4B53-B216-D22C91C5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2B3F-4E9C-4403-B022-8C4BC5FF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3586-4F56-4BE5-93D9-D4BBC680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E32B-44CF-40B2-9E66-C2D84D0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49C6-9544-4C4F-AE1E-9AE2321A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0BAD-10CD-4552-99D0-010F9383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D42F-8624-4946-A435-FE6B92CA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1EFF-8D32-42F5-9C18-AF59EE20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8102-D35A-4C45-BB43-5EA3F2A0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1E67A-E984-4A45-87E5-59012B6B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E38-5A6B-4FBB-A778-4F72155F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EB43-6F24-458C-80F9-9CF58365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1C726-CDF2-4E0B-A65B-F6CCD71D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E95ED-EBA5-4163-9C7A-529674B6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3E06F-21BF-4260-8B46-3013984B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9E2F5-D0AC-43AA-8F19-AFC87744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BF85F-D34A-4AC0-83B9-7A1925EA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E055-77B5-4CC3-97DC-458A23E7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5986-3441-4232-8598-383EFCF2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53C7-79E7-496D-B969-1F943A09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BC39E-F51B-46DB-AEFD-DB51FD4B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9E9-BA2E-42F3-A149-30D631A6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AB70D-298E-48EB-9716-002CB0A1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14386-721E-45CB-B882-A158E0AB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BE3FD-E3DD-4D36-8D47-2020BD2C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C51CD-B9D8-4FFF-849E-8111B58D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51EAC-7B0E-400A-9230-C5DED083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0C820-3B15-4CE2-B74B-23A067EC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97D81-8DE7-418B-8E4A-B6738F1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AA986-7044-46A8-B5A0-8ED57748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E21D8-A7F7-4AA9-9A85-C64133C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6AF4-BE49-42EB-A190-2CA946E2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138-E6C8-4E23-8964-5708CAC7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439CD-C48D-4BD1-9D4B-6F4A8A87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1DDA-37F1-4A22-9475-C3CA70A4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6E518-3834-4778-BFB6-1C733AD7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C9788-9F36-4B07-86D5-3A23770C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0B805-45BA-4E01-AA23-33CFD95B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C5FBC-0262-49B3-A241-E7ADB2E7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364D7-1793-44F3-8044-7E223267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B04B6-B0E4-43B4-AB5E-4F5BD729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70A00-9D72-4229-A2E2-FFC97EB7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1E9D-5BC8-4589-AB6D-0D8C1504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13C-5DD0-4606-8EE8-79EDDC55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EAE89-4AE5-4302-9776-4A6B96EE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50D6-1529-4797-9DC4-64FB977F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6FC5-9841-4025-85BB-4F1FD167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1BF4-427F-47F5-8E4B-90DF66DA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51FCD-BBB1-4D5C-9686-50AF456A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1DC5-67C0-490C-B77E-956FC0B6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BB298-08EA-41D6-865F-60E57B20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E7340-0DDE-49F3-9362-12CFFA57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A697D-B34D-491E-8975-AC87B03A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49401-2529-4696-9609-79EC738D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0E4-4FD2-4D9B-A9AC-EEC8A67E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7B1A2-2297-4C22-9175-EC271C78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2681E-1117-42EC-964A-552EB2F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C863C-6065-4258-B43F-37F9A022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FF6D0-134E-4799-AF04-C14239E1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3FC7-0A99-4AD8-8283-7AE55482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E37-AB82-424A-AC43-63E911CC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C984-105D-415A-9E6C-9C361F521B9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8A9C-01CE-4A92-B57C-FD0203D71D3C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14F3-4A53-419E-978B-0599E428247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C065-D2F9-4B65-B438-FD3702CB0EA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C933-D14B-425E-ACF6-321DAA70634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21F5-DB16-4B1F-9201-3495F12032D8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EFA3-1028-46C7-98C3-0BFB10C859BF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030320"/>
            <a:ext cx="9223560" cy="288936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3" descr=""/>
          <p:cNvPicPr/>
          <p:nvPr/>
        </p:nvPicPr>
        <p:blipFill>
          <a:blip r:embed="rId2"/>
          <a:stretch/>
        </p:blipFill>
        <p:spPr>
          <a:xfrm>
            <a:off x="1994040" y="4578480"/>
            <a:ext cx="6632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F:\ОБЖ\стрелковое оружие Российской армии\Снайперские винтовки\СВУ Россия.jpg"/>
          <p:cNvPicPr/>
          <p:nvPr/>
        </p:nvPicPr>
        <p:blipFill>
          <a:blip r:embed="rId1"/>
          <a:stretch/>
        </p:blipFill>
        <p:spPr>
          <a:xfrm>
            <a:off x="642960" y="1928880"/>
            <a:ext cx="7583400" cy="3357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2"/>
          <p:cNvSpPr/>
          <p:nvPr/>
        </p:nvSpPr>
        <p:spPr>
          <a:xfrm>
            <a:off x="1000080" y="50004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СВД Росс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F:\ОБЖ\стрелковое оружие Российской армии\Снайперские винтовки\Снайперская винтовка Драгунова.jpg"/>
          <p:cNvPicPr/>
          <p:nvPr/>
        </p:nvPicPr>
        <p:blipFill>
          <a:blip r:embed="rId1"/>
          <a:stretch/>
        </p:blipFill>
        <p:spPr>
          <a:xfrm>
            <a:off x="571680" y="2643120"/>
            <a:ext cx="8192880" cy="24289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785880" y="428760"/>
            <a:ext cx="742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СНАЙПЕРСКАЯ ВИНТ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ДРАГУН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ОБЖ\стрелковое оружие Российской армии\Снайперские винтовки\Бесшумная снайперская винтовка ВСК -94.jpg"/>
          <p:cNvPicPr/>
          <p:nvPr/>
        </p:nvPicPr>
        <p:blipFill>
          <a:blip r:embed="rId1"/>
          <a:stretch/>
        </p:blipFill>
        <p:spPr>
          <a:xfrm>
            <a:off x="428760" y="2286000"/>
            <a:ext cx="8286480" cy="2835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4"/>
          <p:cNvSpPr/>
          <p:nvPr/>
        </p:nvSpPr>
        <p:spPr>
          <a:xfrm>
            <a:off x="571680" y="42876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БЕЗШУМНАЯ СНАЙПЕР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ВИНТОВКА  ВСК-9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F:\ОБЖ\стрелковое оружие Российской армии\Снайперские винтовки\ВСК-94-r.jpg"/>
          <p:cNvPicPr/>
          <p:nvPr/>
        </p:nvPicPr>
        <p:blipFill>
          <a:blip r:embed="rId1"/>
          <a:stretch/>
        </p:blipFill>
        <p:spPr>
          <a:xfrm>
            <a:off x="357120" y="2857680"/>
            <a:ext cx="8420040" cy="25002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1143000" y="500040"/>
            <a:ext cx="621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ВСК-94-г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F:\ОБЖ\стрелковое оружие Российской армии\Снайперские винтовки\ВСС Винторез.jpg"/>
          <p:cNvPicPr/>
          <p:nvPr/>
        </p:nvPicPr>
        <p:blipFill>
          <a:blip r:embed="rId1"/>
          <a:stretch/>
        </p:blipFill>
        <p:spPr>
          <a:xfrm>
            <a:off x="369720" y="2857680"/>
            <a:ext cx="8345520" cy="22860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1357200" y="285840"/>
            <a:ext cx="592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ВВС Винторез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:\ОБЖ\стрелковое оружие Российской армии\Снайперские винтовки\ВСС Винторез 2.jpg"/>
          <p:cNvPicPr/>
          <p:nvPr/>
        </p:nvPicPr>
        <p:blipFill>
          <a:blip r:embed="rId1"/>
          <a:stretch/>
        </p:blipFill>
        <p:spPr>
          <a:xfrm>
            <a:off x="571680" y="2500200"/>
            <a:ext cx="7956360" cy="22431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2"/>
          <p:cNvSpPr/>
          <p:nvPr/>
        </p:nvSpPr>
        <p:spPr>
          <a:xfrm>
            <a:off x="928800" y="500040"/>
            <a:ext cx="678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ВВС Винторез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:\ОБЖ\стрелковое оружие Российской армии\Снайперские винтовки\СВ-99.jpg"/>
          <p:cNvPicPr/>
          <p:nvPr/>
        </p:nvPicPr>
        <p:blipFill>
          <a:blip r:embed="rId1"/>
          <a:stretch/>
        </p:blipFill>
        <p:spPr>
          <a:xfrm>
            <a:off x="428760" y="2143080"/>
            <a:ext cx="8218440" cy="28576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928800" y="42876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СВ-9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F:\ОБЖ\стрелковое оружие Российской армии\Снайперские винтовки\СВ 98.jpg"/>
          <p:cNvPicPr/>
          <p:nvPr/>
        </p:nvPicPr>
        <p:blipFill>
          <a:blip r:embed="rId1"/>
          <a:stretch/>
        </p:blipFill>
        <p:spPr>
          <a:xfrm>
            <a:off x="250920" y="2500200"/>
            <a:ext cx="8501040" cy="27990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2"/>
          <p:cNvSpPr/>
          <p:nvPr/>
        </p:nvSpPr>
        <p:spPr>
          <a:xfrm>
            <a:off x="1071720" y="428760"/>
            <a:ext cx="721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СВ 9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F:\ОБЖ\стрелковое оружие Российской армии\Снайперские винтовки\СВД новая.jpg"/>
          <p:cNvPicPr/>
          <p:nvPr/>
        </p:nvPicPr>
        <p:blipFill>
          <a:blip r:embed="rId1"/>
          <a:stretch/>
        </p:blipFill>
        <p:spPr>
          <a:xfrm>
            <a:off x="380880" y="2857680"/>
            <a:ext cx="8334360" cy="25002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2"/>
          <p:cNvSpPr/>
          <p:nvPr/>
        </p:nvSpPr>
        <p:spPr>
          <a:xfrm>
            <a:off x="1000080" y="428760"/>
            <a:ext cx="735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СВД нова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F:\ОБЖ\стрелковое оружие Российской армии\Снайперские винтовки\СВД Укороченная со складным прикладом.jpg"/>
          <p:cNvPicPr/>
          <p:nvPr/>
        </p:nvPicPr>
        <p:blipFill>
          <a:blip r:embed="rId1"/>
          <a:stretch/>
        </p:blipFill>
        <p:spPr>
          <a:xfrm>
            <a:off x="480960" y="2714760"/>
            <a:ext cx="8258400" cy="28573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2"/>
          <p:cNvSpPr/>
          <p:nvPr/>
        </p:nvSpPr>
        <p:spPr>
          <a:xfrm>
            <a:off x="785880" y="35712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СВД  Укороченная с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Складным приклад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2:52:27Z</dcterms:created>
  <dc:creator>FS</dc:creator>
  <dc:description/>
  <dc:language>en-US</dc:language>
  <cp:lastModifiedBy>КарМаН</cp:lastModifiedBy>
  <dcterms:modified xsi:type="dcterms:W3CDTF">2011-04-24T05:01:52Z</dcterms:modified>
  <cp:revision>6</cp:revision>
  <dc:subject/>
  <dc:title>Слайд 1</dc:title>
</cp:coreProperties>
</file>