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253-4F08-4B5D-A626-2BC88F27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E25-3399-458D-842A-916EB9BA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E35-B3C5-41E5-8F36-4A188FB9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6E1-D54F-4818-AB6A-DC96FED0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48A8-226A-4C84-A179-22BAEB32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B412-332B-4FE8-A2AC-BBF05855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9AC4-0A9E-4CDF-B1B4-FC845D03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4ADD-DE7A-4F42-A3D1-43BDFD8C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F70B-659A-4CD5-AC16-DC888818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5C14-9AD6-4587-8BCD-11A1E10B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505B-4F17-4CC9-A6BF-2245AFE2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12B-BB3A-4E16-B306-269C22FA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EC6A-15CD-4295-AF03-64B7D68A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7C8D-60E6-41FE-9CDA-8B354678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C2D1-205F-4B8A-9EAB-6B237565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A8F2-A73B-4942-8487-D6183A4D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28FD-A6F5-46DF-A453-4A5D6587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16C7C-73EB-4EB1-A521-564EBF0F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F778-D211-4703-A08A-3A61F04B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02E4C-DAB4-4734-8AAD-7C9CE5A5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C301D-AE24-4075-AFA3-AFF8D339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D57BE-25A9-4E8C-9D1A-79B03230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193-594C-4489-AA92-1ADB9422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DF6E2-A663-454B-A885-0C057752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25D90-1F23-4572-8D94-69FA2297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259D-D14B-4610-A78A-500A8B0B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F76C-3463-40EA-9F4A-92B8A166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687DE-B930-4D9D-853F-66BC8DC2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A585F-FE75-48A5-A645-8791B2BC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0E7DC-BE51-4EBB-83E1-986FFF6F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B3F8E-CF32-4D86-8878-09CC59EA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029E4-AE0E-4D8B-B49D-CEC70012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AE0FD-06B6-45EF-8369-834FE94B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19A-62EB-4D22-B143-477210B0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60E2B-42D1-4F31-894E-80AD50C8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3C3B2-3B2B-4124-AC03-6A889A9F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89224-9278-40A2-AF3D-557D85CA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340DE-3BD9-46EC-8BD5-D1FF5AEE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57997-9697-412C-BF83-9D3459E2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6D57B-EAB2-428B-A35A-3E5B0CCC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4FE1B-1E97-4ED2-A7BE-EB2D5DC0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40AB0-7CEF-423B-B67F-C9331ACE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3C1E0-73C6-4ED6-B62D-D2CF7858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48B6F-80ED-41F8-83EF-34CF1CC7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D2D-176C-4CE5-B0CB-1719B51C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3AE72-1222-4B56-BC69-7EDCE35A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4E7B4-AD1E-4EEA-BACF-DF87C833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A3925-8ED1-47D3-BD6E-48D7CF82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FD53A-2BD6-4A3D-98A6-DFFE86C5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51A92-693D-416B-81F3-6779A33C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254F1-5DD7-4725-952E-889DFE68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A9AF1-F726-403B-B306-17C2AA57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4AB30-F1EE-4261-B6C2-29AE8CA9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3BEF6-217A-45AB-9147-DE6D6C42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2C575-379B-4B31-BDAE-3BEC27EF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9E3-C36E-4FD3-8ACF-CE5484AC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ABA28-BEB4-4C17-971E-277307D1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F251F-2944-4DC2-A669-72D0A884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38991-AA9B-46B9-83AD-1453E460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4A9B0-2127-4350-9597-1D82D78B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7FAD1-7074-4B63-9345-4F8367AE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161B1-CD96-410B-B663-A2AB852E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6F1FD-EFE1-45C5-8460-C470F368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FBAAC-5809-43D3-99FC-37384E70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D7E7D-3A21-4905-A8C7-5519044E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BDA92-E122-40AF-84AC-CE16706D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416-4568-4416-8C7C-37ABC3F9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6FFB2-A578-42F0-B356-9B6D506A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CF353-74D6-4BF7-8D83-7BB316E6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7F102-A9FF-4526-A47A-685BF518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E4663-274C-481A-B8C2-EF3A6A2A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70963-5E63-4F11-82D7-37D6667B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04D03-AD5A-4688-8E34-787CC422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2FB69-0BA9-4755-A0F1-F34534D9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9F1BC-8CF3-4FB6-8435-2094C104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D419D-7D86-4DF5-9AB9-F1B2D8B2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82158-F2E7-4391-843F-E790E937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D0D-D0FB-48B2-86E9-E0DF0286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67789-DC82-4A35-9587-092933EC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28D6D-F83E-480B-A263-0C33762D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72FF2-8208-41BA-8671-383EC3C8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BEDC8-8964-4D2C-9D4A-3703C8AD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C28E2-C5D2-4AEF-96D4-C2A514F6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6E4-DC2B-41CB-B8A6-F33B6CB3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B717-3A37-4B2A-A37C-911F9483590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CBE8-C515-45E4-94B7-83B81AB93978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CEA2-B21D-406A-852C-2CF2D2FE9EB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F51B-21D0-4576-A4D7-2589CB4A274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D71C-1067-4BC4-9F27-86B357A3B01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DC62-5EB9-4270-BE72-E71F12D1CA18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908A-9690-4470-B101-0BFE849ABF8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030320"/>
            <a:ext cx="9223560" cy="2889360"/>
          </a:xfrm>
          <a:prstGeom prst="rect">
            <a:avLst/>
          </a:prstGeom>
          <a:ln w="0">
            <a:noFill/>
          </a:ln>
        </p:spPr>
      </p:pic>
      <p:pic>
        <p:nvPicPr>
          <p:cNvPr id="302" name="TextBox 3" descr=""/>
          <p:cNvPicPr/>
          <p:nvPr/>
        </p:nvPicPr>
        <p:blipFill>
          <a:blip r:embed="rId2"/>
          <a:stretch/>
        </p:blipFill>
        <p:spPr>
          <a:xfrm>
            <a:off x="1994040" y="4578480"/>
            <a:ext cx="6632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F:\ОБЖ\стрелковое оружие Российской армии\Снайперские винтовки\СВУ Россия.jpg"/>
          <p:cNvPicPr/>
          <p:nvPr/>
        </p:nvPicPr>
        <p:blipFill>
          <a:blip r:embed="rId1"/>
          <a:stretch/>
        </p:blipFill>
        <p:spPr>
          <a:xfrm>
            <a:off x="642960" y="1928880"/>
            <a:ext cx="7583400" cy="33573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2"/>
          <p:cNvSpPr/>
          <p:nvPr/>
        </p:nvSpPr>
        <p:spPr>
          <a:xfrm>
            <a:off x="1000080" y="50004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СВД Росс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F:\ОБЖ\стрелковое оружие Российской армии\Снайперские винтовки\Снайперская винтовка Драгунова.jpg"/>
          <p:cNvPicPr/>
          <p:nvPr/>
        </p:nvPicPr>
        <p:blipFill>
          <a:blip r:embed="rId1"/>
          <a:stretch/>
        </p:blipFill>
        <p:spPr>
          <a:xfrm>
            <a:off x="571680" y="2643120"/>
            <a:ext cx="8192880" cy="24289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"/>
          <p:cNvSpPr/>
          <p:nvPr/>
        </p:nvSpPr>
        <p:spPr>
          <a:xfrm>
            <a:off x="785880" y="428760"/>
            <a:ext cx="742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СНАЙПЕРСКАЯ ВИНТ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ДРАГУН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F:\ОБЖ\стрелковое оружие Российской армии\Снайперские винтовки\Бесшумная снайперская винтовка ВСК -94.jpg"/>
          <p:cNvPicPr/>
          <p:nvPr/>
        </p:nvPicPr>
        <p:blipFill>
          <a:blip r:embed="rId1"/>
          <a:stretch/>
        </p:blipFill>
        <p:spPr>
          <a:xfrm>
            <a:off x="428760" y="2286000"/>
            <a:ext cx="8286480" cy="28353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4"/>
          <p:cNvSpPr/>
          <p:nvPr/>
        </p:nvSpPr>
        <p:spPr>
          <a:xfrm>
            <a:off x="571680" y="42876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БЕЗШУМНАЯ СНАЙПЕР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ВИНТОВКА  ВСК-9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F:\ОБЖ\стрелковое оружие Российской армии\Снайперские винтовки\ВСК-94-r.jpg"/>
          <p:cNvPicPr/>
          <p:nvPr/>
        </p:nvPicPr>
        <p:blipFill>
          <a:blip r:embed="rId1"/>
          <a:stretch/>
        </p:blipFill>
        <p:spPr>
          <a:xfrm>
            <a:off x="357120" y="2857680"/>
            <a:ext cx="8420040" cy="25002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1143000" y="500040"/>
            <a:ext cx="621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ВСК-94-г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F:\ОБЖ\стрелковое оружие Российской армии\Снайперские винтовки\ВСС Винторез.jpg"/>
          <p:cNvPicPr/>
          <p:nvPr/>
        </p:nvPicPr>
        <p:blipFill>
          <a:blip r:embed="rId1"/>
          <a:stretch/>
        </p:blipFill>
        <p:spPr>
          <a:xfrm>
            <a:off x="369720" y="2857680"/>
            <a:ext cx="8345520" cy="2286000"/>
          </a:xfrm>
          <a:prstGeom prst="rect">
            <a:avLst/>
          </a:prstGeom>
          <a:ln w="0">
            <a:noFill/>
          </a:ln>
        </p:spPr>
      </p:pic>
      <p:sp>
        <p:nvSpPr>
          <p:cNvPr id="308" name="TextBox 2"/>
          <p:cNvSpPr/>
          <p:nvPr/>
        </p:nvSpPr>
        <p:spPr>
          <a:xfrm>
            <a:off x="1357200" y="285840"/>
            <a:ext cx="5929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ВВС Винторез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:\ОБЖ\стрелковое оружие Российской армии\Снайперские винтовки\ВСС Винторез 2.jpg"/>
          <p:cNvPicPr/>
          <p:nvPr/>
        </p:nvPicPr>
        <p:blipFill>
          <a:blip r:embed="rId1"/>
          <a:stretch/>
        </p:blipFill>
        <p:spPr>
          <a:xfrm>
            <a:off x="571680" y="2500200"/>
            <a:ext cx="7956360" cy="2243160"/>
          </a:xfrm>
          <a:prstGeom prst="rect">
            <a:avLst/>
          </a:prstGeom>
          <a:ln w="0">
            <a:noFill/>
          </a:ln>
        </p:spPr>
      </p:pic>
      <p:sp>
        <p:nvSpPr>
          <p:cNvPr id="310" name="TextBox 2"/>
          <p:cNvSpPr/>
          <p:nvPr/>
        </p:nvSpPr>
        <p:spPr>
          <a:xfrm>
            <a:off x="928800" y="500040"/>
            <a:ext cx="678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ВВС Винторез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:\ОБЖ\стрелковое оружие Российской армии\Снайперские винтовки\СВ-99.jpg"/>
          <p:cNvPicPr/>
          <p:nvPr/>
        </p:nvPicPr>
        <p:blipFill>
          <a:blip r:embed="rId1"/>
          <a:stretch/>
        </p:blipFill>
        <p:spPr>
          <a:xfrm>
            <a:off x="428760" y="2143080"/>
            <a:ext cx="8218440" cy="28576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928800" y="428760"/>
            <a:ext cx="671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СВ-9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F:\ОБЖ\стрелковое оружие Российской армии\Снайперские винтовки\СВ 98.jpg"/>
          <p:cNvPicPr/>
          <p:nvPr/>
        </p:nvPicPr>
        <p:blipFill>
          <a:blip r:embed="rId1"/>
          <a:stretch/>
        </p:blipFill>
        <p:spPr>
          <a:xfrm>
            <a:off x="250920" y="2500200"/>
            <a:ext cx="8501040" cy="27990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2"/>
          <p:cNvSpPr/>
          <p:nvPr/>
        </p:nvSpPr>
        <p:spPr>
          <a:xfrm>
            <a:off x="1071720" y="428760"/>
            <a:ext cx="721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СВ 9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F:\ОБЖ\стрелковое оружие Российской армии\Снайперские винтовки\СВД новая.jpg"/>
          <p:cNvPicPr/>
          <p:nvPr/>
        </p:nvPicPr>
        <p:blipFill>
          <a:blip r:embed="rId1"/>
          <a:stretch/>
        </p:blipFill>
        <p:spPr>
          <a:xfrm>
            <a:off x="380880" y="2857680"/>
            <a:ext cx="8334360" cy="25002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2"/>
          <p:cNvSpPr/>
          <p:nvPr/>
        </p:nvSpPr>
        <p:spPr>
          <a:xfrm>
            <a:off x="1000080" y="428760"/>
            <a:ext cx="735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СВД нова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F:\ОБЖ\стрелковое оружие Российской армии\Снайперские винтовки\СВД Укороченная со складным прикладом.jpg"/>
          <p:cNvPicPr/>
          <p:nvPr/>
        </p:nvPicPr>
        <p:blipFill>
          <a:blip r:embed="rId1"/>
          <a:stretch/>
        </p:blipFill>
        <p:spPr>
          <a:xfrm>
            <a:off x="480960" y="2714760"/>
            <a:ext cx="8258400" cy="28573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2"/>
          <p:cNvSpPr/>
          <p:nvPr/>
        </p:nvSpPr>
        <p:spPr>
          <a:xfrm>
            <a:off x="785880" y="35712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СВД  Укороченная с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Складным прикладо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2:52:27Z</dcterms:created>
  <dc:creator>FS</dc:creator>
  <dc:description/>
  <dc:language>en-US</dc:language>
  <cp:lastModifiedBy>КарМаН</cp:lastModifiedBy>
  <dcterms:modified xsi:type="dcterms:W3CDTF">2011-04-24T05:01:52Z</dcterms:modified>
  <cp:revision>6</cp:revision>
  <dc:subject/>
  <dc:title>Слайд 1</dc:title>
</cp:coreProperties>
</file>