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355-AFA2-40BC-839B-C73DEA2C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DED-A054-461C-9AE8-BC9086FD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E9A-D083-4CB7-A717-F93E9F9D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864-1A23-4A36-9DE1-8414FF81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9A5-6E5C-4E82-AB36-2E45B0D6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DEF-1A42-434A-90B3-9A16096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B4A-EA9F-4938-89E6-FF1FEB41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5C6-AA0D-4098-888B-A3154238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C90-D07C-46D5-9806-58A32A30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E90-90BA-4B1E-BBDF-BF111A1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53D-A90E-477F-95AC-F21C2DD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5AA-4458-4D42-999F-C8474E2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tcvet1661.png"/>
          <p:cNvPicPr/>
          <p:nvPr/>
        </p:nvPicPr>
        <p:blipFill>
          <a:blip r:embed="rId2"/>
          <a:stretch/>
        </p:blipFill>
        <p:spPr>
          <a:xfrm>
            <a:off x="7516800" y="5297400"/>
            <a:ext cx="1889280" cy="179244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6" descr="bv100412.jpg"/>
          <p:cNvPicPr/>
          <p:nvPr/>
        </p:nvPicPr>
        <p:blipFill>
          <a:blip r:embed="rId3"/>
          <a:stretch/>
        </p:blipFill>
        <p:spPr>
          <a:xfrm>
            <a:off x="19080" y="19080"/>
            <a:ext cx="1042920" cy="6811920"/>
          </a:xfrm>
          <a:prstGeom prst="rect">
            <a:avLst/>
          </a:prstGeom>
          <a:ln w="38160">
            <a:solidFill>
              <a:srgbClr val="956205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3ED9-05F6-4DF4-A82A-C9AE3A88DC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7" descr="tcvet166.png"/>
          <p:cNvPicPr/>
          <p:nvPr/>
        </p:nvPicPr>
        <p:blipFill>
          <a:blip r:embed="rId4"/>
          <a:stretch/>
        </p:blipFill>
        <p:spPr>
          <a:xfrm>
            <a:off x="96840" y="109440"/>
            <a:ext cx="844560" cy="75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9" descr="tcvet1661.png"/>
          <p:cNvPicPr/>
          <p:nvPr/>
        </p:nvPicPr>
        <p:blipFill>
          <a:blip r:embed="rId3"/>
          <a:stretch/>
        </p:blipFill>
        <p:spPr>
          <a:xfrm>
            <a:off x="214200" y="5286240"/>
            <a:ext cx="1371600" cy="12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Рисунок 10" descr="tcvet166.png"/>
          <p:cNvPicPr/>
          <p:nvPr/>
        </p:nvPicPr>
        <p:blipFill>
          <a:blip r:embed="rId4"/>
          <a:stretch/>
        </p:blipFill>
        <p:spPr>
          <a:xfrm>
            <a:off x="214200" y="4214880"/>
            <a:ext cx="973080" cy="8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Рисунок 11" descr="tcvet166.png"/>
          <p:cNvPicPr/>
          <p:nvPr/>
        </p:nvPicPr>
        <p:blipFill>
          <a:blip r:embed="rId5"/>
          <a:stretch/>
        </p:blipFill>
        <p:spPr>
          <a:xfrm>
            <a:off x="1785960" y="5857920"/>
            <a:ext cx="973080" cy="8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9" descr="tcvet166.png"/>
          <p:cNvPicPr/>
          <p:nvPr/>
        </p:nvPicPr>
        <p:blipFill>
          <a:blip r:embed="rId3"/>
          <a:stretch/>
        </p:blipFill>
        <p:spPr>
          <a:xfrm>
            <a:off x="7500960" y="285840"/>
            <a:ext cx="137160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Рисунок 10" descr="tcvet1661.png"/>
          <p:cNvPicPr/>
          <p:nvPr/>
        </p:nvPicPr>
        <p:blipFill>
          <a:blip r:embed="rId4"/>
          <a:stretch/>
        </p:blipFill>
        <p:spPr>
          <a:xfrm>
            <a:off x="6500880" y="285840"/>
            <a:ext cx="785880" cy="7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11" descr="tcvet1661.png"/>
          <p:cNvPicPr/>
          <p:nvPr/>
        </p:nvPicPr>
        <p:blipFill>
          <a:blip r:embed="rId5"/>
          <a:stretch/>
        </p:blipFill>
        <p:spPr>
          <a:xfrm>
            <a:off x="8072280" y="1857240"/>
            <a:ext cx="785880" cy="7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-103320" y="-6480"/>
            <a:ext cx="896616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5353200" y="2114640"/>
            <a:ext cx="3369960" cy="448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1066680" y="-298440"/>
            <a:ext cx="8083800" cy="164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142640" y="1214280"/>
            <a:ext cx="80010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c64"/>
                </a:solidFill>
                <a:latin typeface="Constantia"/>
              </a:rPr>
              <a:t>1864-1866 гг. - Э. Геккель и Ф. Мюллер</a:t>
            </a: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2c64"/>
                </a:solidFill>
                <a:latin typeface="Constantia"/>
              </a:rPr>
              <a:t>"Организм в ходе развития зародыша повторяет общее развитие вида в процессе эволюции"</a:t>
            </a: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</p:txBody>
      </p:sp>
      <p:grpSp>
        <p:nvGrpSpPr>
          <p:cNvPr id="130" name="Скругленный прямоугольник 3"/>
          <p:cNvGrpSpPr/>
          <p:nvPr/>
        </p:nvGrpSpPr>
        <p:grpSpPr>
          <a:xfrm>
            <a:off x="1152360" y="2610000"/>
            <a:ext cx="7905960" cy="534960"/>
            <a:chOff x="1152360" y="2610000"/>
            <a:chExt cx="7905960" cy="534960"/>
          </a:xfrm>
        </p:grpSpPr>
        <p:pic>
          <p:nvPicPr>
            <p:cNvPr id="13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52360" y="2610000"/>
              <a:ext cx="790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35160" y="2664000"/>
              <a:ext cx="77454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Общие закономерности развития зародышей организм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Скругленный прямоугольник 10"/>
          <p:cNvSpPr/>
          <p:nvPr/>
        </p:nvSpPr>
        <p:spPr>
          <a:xfrm>
            <a:off x="1143000" y="4214880"/>
            <a:ext cx="2571840" cy="25002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личительные признаки организма создаются в ходе развития зародыша постепенно и в строгой последов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1"/>
          <p:cNvSpPr/>
          <p:nvPr/>
        </p:nvSpPr>
        <p:spPr>
          <a:xfrm>
            <a:off x="6572160" y="4071960"/>
            <a:ext cx="2428920" cy="264312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643120"/>
              <a:gd name="textAreaBottom" fmla="*/ 2524680 h 2643120"/>
            </a:gdLst>
            <a:ahLst/>
            <a:rect l="textAreaLeft" t="textAreaTop" r="textAreaRight" b="textAreaBottom"/>
            <a:pathLst>
              <a:path w="21600" h="23505">
                <a:moveTo>
                  <a:pt x="3600" y="0"/>
                </a:moveTo>
                <a:arcTo wR="3600" hR="3600" stAng="16200000" swAng="-5400000"/>
                <a:lnTo>
                  <a:pt x="0" y="19905"/>
                </a:lnTo>
                <a:arcTo wR="3600" hR="3600" stAng="10800000" swAng="-5400000"/>
                <a:lnTo>
                  <a:pt x="18000" y="235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идовые различия проявляются на поздних стадиях развития зарод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3"/>
          <p:cNvSpPr/>
          <p:nvPr/>
        </p:nvSpPr>
        <p:spPr>
          <a:xfrm>
            <a:off x="3929040" y="414324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щность строения проявляется на ранних стадиях развития их зарод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16"/>
          <p:cNvCxnSpPr>
            <a:endCxn id="133" idx="0"/>
          </p:cNvCxnSpPr>
          <p:nvPr/>
        </p:nvCxnSpPr>
        <p:spPr>
          <a:xfrm flipH="1">
            <a:off x="2428200" y="3071520"/>
            <a:ext cx="2678760" cy="114372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37" name="Прямая со стрелкой 18"/>
          <p:cNvCxnSpPr>
            <a:endCxn id="135" idx="0"/>
          </p:cNvCxnSpPr>
          <p:nvPr/>
        </p:nvCxnSpPr>
        <p:spPr>
          <a:xfrm>
            <a:off x="5106960" y="3071880"/>
            <a:ext cx="37440" cy="107208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38" name="Прямая со стрелкой 20"/>
          <p:cNvCxnSpPr>
            <a:endCxn id="134" idx="0"/>
          </p:cNvCxnSpPr>
          <p:nvPr/>
        </p:nvCxnSpPr>
        <p:spPr>
          <a:xfrm>
            <a:off x="5106960" y="3071880"/>
            <a:ext cx="2680560" cy="10008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927000" y="103320"/>
            <a:ext cx="8083800" cy="204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14280" y="2285640"/>
            <a:ext cx="7515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onstantia"/>
              </a:rPr>
              <a:t>Больше всего детей имела русская крестьянка Васильева (родилась в 1707 г. в Шуе) с 1725 по 1765 гг. рожала 27 раз и имела 69 детей: 16 двоен, 7 троен, 4 четверни.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Прямая со стрелкой 38"/>
          <p:cNvCxnSpPr>
            <a:endCxn id="142" idx="0"/>
          </p:cNvCxnSpPr>
          <p:nvPr/>
        </p:nvCxnSpPr>
        <p:spPr>
          <a:xfrm>
            <a:off x="5142600" y="2285640"/>
            <a:ext cx="37080" cy="278676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143" name="Прямоугольник 3"/>
          <p:cNvGrpSpPr/>
          <p:nvPr/>
        </p:nvGrpSpPr>
        <p:grpSpPr>
          <a:xfrm>
            <a:off x="3041640" y="79200"/>
            <a:ext cx="4187880" cy="841680"/>
            <a:chOff x="3041640" y="79200"/>
            <a:chExt cx="4187880" cy="841680"/>
          </a:xfrm>
        </p:grpSpPr>
        <p:pic>
          <p:nvPicPr>
            <p:cNvPr id="14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041640" y="79200"/>
              <a:ext cx="4187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100320" y="204840"/>
              <a:ext cx="4071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onstantia"/>
                </a:rPr>
                <a:t>Беременнос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1725480" y="1225440"/>
            <a:ext cx="6832800" cy="1133640"/>
            <a:chOff x="1725480" y="1225440"/>
            <a:chExt cx="6832800" cy="113364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725480" y="1225440"/>
              <a:ext cx="683280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835280" y="1335240"/>
              <a:ext cx="66164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Усиление выделения гормонов яичников и затем плац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Скругленный прямоугольник 6"/>
          <p:cNvSpPr/>
          <p:nvPr/>
        </p:nvSpPr>
        <p:spPr>
          <a:xfrm>
            <a:off x="3786120" y="3857760"/>
            <a:ext cx="2571840" cy="928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екра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енстру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7"/>
          <p:cNvSpPr/>
          <p:nvPr/>
        </p:nvSpPr>
        <p:spPr>
          <a:xfrm>
            <a:off x="1143000" y="2857680"/>
            <a:ext cx="2357280" cy="12855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величение размеров и массы ма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8"/>
          <p:cNvSpPr/>
          <p:nvPr/>
        </p:nvSpPr>
        <p:spPr>
          <a:xfrm>
            <a:off x="6429240" y="2571840"/>
            <a:ext cx="2571840" cy="12859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величение грудных желез в объ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9"/>
          <p:cNvSpPr/>
          <p:nvPr/>
        </p:nvSpPr>
        <p:spPr>
          <a:xfrm>
            <a:off x="6541920" y="5710320"/>
            <a:ext cx="2500560" cy="928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зме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става кр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0"/>
          <p:cNvSpPr/>
          <p:nvPr/>
        </p:nvSpPr>
        <p:spPr>
          <a:xfrm>
            <a:off x="3929040" y="5072040"/>
            <a:ext cx="2500200" cy="16430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силение обмена минеральных ве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1"/>
          <p:cNvSpPr/>
          <p:nvPr/>
        </p:nvSpPr>
        <p:spPr>
          <a:xfrm>
            <a:off x="1143000" y="5143680"/>
            <a:ext cx="2643120" cy="15714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вышение артериаль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3"/>
          <p:cNvCxnSpPr/>
          <p:nvPr/>
        </p:nvCxnSpPr>
        <p:spPr>
          <a:xfrm>
            <a:off x="5134320" y="847440"/>
            <a:ext cx="9000" cy="43884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5" name="Прямая со стрелкой 19"/>
          <p:cNvCxnSpPr>
            <a:endCxn id="149" idx="0"/>
          </p:cNvCxnSpPr>
          <p:nvPr/>
        </p:nvCxnSpPr>
        <p:spPr>
          <a:xfrm flipH="1">
            <a:off x="5071320" y="2286000"/>
            <a:ext cx="72360" cy="157248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6" name="Прямая со стрелкой 21"/>
          <p:cNvCxnSpPr>
            <a:endCxn id="150" idx="0"/>
          </p:cNvCxnSpPr>
          <p:nvPr/>
        </p:nvCxnSpPr>
        <p:spPr>
          <a:xfrm flipH="1">
            <a:off x="2320200" y="2286000"/>
            <a:ext cx="2823480" cy="5724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7" name="Прямая со стрелкой 23"/>
          <p:cNvCxnSpPr>
            <a:endCxn id="151" idx="0"/>
          </p:cNvCxnSpPr>
          <p:nvPr/>
        </p:nvCxnSpPr>
        <p:spPr>
          <a:xfrm>
            <a:off x="5142600" y="2286000"/>
            <a:ext cx="2572200" cy="28656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>
            <a:endCxn id="152" idx="0"/>
          </p:cNvCxnSpPr>
          <p:nvPr/>
        </p:nvCxnSpPr>
        <p:spPr>
          <a:xfrm>
            <a:off x="5142600" y="2286000"/>
            <a:ext cx="2648520" cy="342504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9" name="Прямая со стрелкой 35"/>
          <p:cNvCxnSpPr>
            <a:endCxn id="153" idx="0"/>
          </p:cNvCxnSpPr>
          <p:nvPr/>
        </p:nvCxnSpPr>
        <p:spPr>
          <a:xfrm flipH="1">
            <a:off x="2463480" y="2286000"/>
            <a:ext cx="2680560" cy="28584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10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214200" y="1000080"/>
          <a:ext cx="8786880" cy="5643720"/>
        </p:xfrm>
        <a:graphic>
          <a:graphicData uri="http://schemas.openxmlformats.org/drawingml/2006/table">
            <a:tbl>
              <a:tblPr/>
              <a:tblGrid>
                <a:gridCol w="1043280"/>
                <a:gridCol w="7743600"/>
              </a:tblGrid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образуются структуры будущего младенца: голова, хвостик, сердце (уже сокращается); лица и конечностей нет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яются руки, ноги. Хвост пропадает. Вырисовывается лицо. Развивается НС: головной мозг с извилинами. Развивается мочевыводящая система. ДС, сердце, желудок, кишечник. Появляются мышцы, окостенение скелета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3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11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ются половые органы, появляются голосовые связки. Лицо похоже на человеческое. Плод начинает двигаться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10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4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ются пропорции, сердце бьется в 2 раза быстрее, чем у взрослого. Начинают функционировать сальные и потовые железы, печень, желудок, желчный пузырь,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ь ощущает движения ребенка. Волосы на голове. Плод совершает дыхательные движения, учится глотать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25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ется активность ребенка, 20-60 движений за 30 минут. Видны брови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1 см. М=10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уждаются чувства: способен слышать, появляется вкус. Ребенок жизнеспособный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0 см. М=17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органы уже сформированы. ЧСС=120-140. Принимает окончательное положение перед родами, вниз головой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45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24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тела увеличивается по 20-30 гр/сутки. Череп окостенел, но есть роднички. Ребенок готов к рождению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50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3000-3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5648400" cy="648504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14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tantia"/>
              </a:rPr>
              <a:t>Роды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сложный физиологический процесс, завершающий беременность.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Начало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родовые схватки (под действием гормона гипофиза)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Окончание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роды последа (плацента, пуповина, плодные оболочки)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7:31:53Z</dcterms:created>
  <dc:creator>Елена</dc:creator>
  <dc:description/>
  <dc:language>en-US</dc:language>
  <cp:lastModifiedBy>Лена</cp:lastModifiedBy>
  <dcterms:modified xsi:type="dcterms:W3CDTF">2011-04-19T15:26:04Z</dcterms:modified>
  <cp:revision>6</cp:revision>
  <dc:subject/>
  <dc:title>Развитие зародыша и плода.  Беременность и роды</dc:title>
</cp:coreProperties>
</file>