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652-2F31-4E3B-9E5E-2CF40564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CF3-B979-4367-B2DF-F4C545CC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BB9-83EB-41B6-9D69-69B1AEEA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656-B0A0-42F3-982D-6D0F4344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F6A8-C1CC-4F05-BB56-419D8D2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1D93-E8B4-4AB6-A6AF-2A2B7C75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6CB2-66D5-4DA4-9FB5-4707448A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2D69-09AB-4F8F-8542-CF5A53BF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DF8D-6777-40B2-B6C5-918CC98D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B076-A7D5-4E43-8610-209EB62B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A8FF-5DFE-449D-AE83-6F66B49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0D9-02C2-4B52-BB30-623ED64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4E89-2BAC-4868-9A04-EB00C92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E95E-7E31-4D99-A364-8D4EAFD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D9D-7F66-4ABB-B532-A11732F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7B1-833B-4416-A526-1B5F8D36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DC0-CA05-47C3-92E5-E369E4AE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8B1-D28E-4956-8870-1C593022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ABB-C9EF-472B-B00A-03095A6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5F8-3CF4-4675-B8DD-7C9031A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5AF-4AB4-4607-9CD9-FACC86E3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DEC-76F1-4546-9C24-1B9F724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5FF5-DA56-4636-8893-41D4475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F96-0B9E-4C8D-9F14-6A263CC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6E3-BC2B-468E-AE16-42E2691E81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726-6130-4EC5-9AA3-31490E14F4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МОДЕЛИРОВАНИЕ И ФОРМАЛИЗАЦИ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ЕЛЬ: ЩЕРБИНИНА М.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B628-9C64-4A3B-A035-110A7D1FFA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ая модель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исание реального объекта (процесса, явления) на одном из языков (разговорном или формальном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9DA-99F5-410B-BDAD-B821F4D86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0920" y="907920"/>
            <a:ext cx="8353440" cy="5691240"/>
            <a:chOff x="250920" y="907920"/>
            <a:chExt cx="8353440" cy="5691240"/>
          </a:xfrm>
        </p:grpSpPr>
        <p:sp>
          <p:nvSpPr>
            <p:cNvPr id="221" name=""/>
            <p:cNvSpPr/>
            <p:nvPr/>
          </p:nvSpPr>
          <p:spPr>
            <a:xfrm>
              <a:off x="611280" y="907920"/>
              <a:ext cx="72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 ФОРМЕ ПРЕДСТАВЛ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484280"/>
              <a:ext cx="6769080" cy="57636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ФОРМАЦИОННЫЕ 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ЕОМЕТ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36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КОМПЬЮТЕ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88000" y="3860640"/>
              <a:ext cx="338436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ТРУКТУР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ПЕЦ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1928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360" y="2060640"/>
              <a:ext cx="0" cy="576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6720" y="2060640"/>
              <a:ext cx="0" cy="1800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ЛОВЕС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508464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56000" y="595008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27640" y="2060640"/>
              <a:ext cx="0" cy="38894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40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060640"/>
              <a:ext cx="0" cy="302400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377-5B0B-4C04-BF28-86841FF6A5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ИНФОРМАЦИОННЫЕ МОД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еометр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графические формы и объемные констру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ловесные модел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устные и письменные описания с использованием иллюстрац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Математ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атематические формулы, неравенства, систем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труктур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схемы, графики, таблиц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Логически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модели, в которых на основе анализа различных условий принимаются реш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Специальные модели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оты, химические формулы и т.п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459-FDCD-4EF4-8478-32CA7D1CE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2924280"/>
            <a:ext cx="7775640" cy="57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Любая информационная модель является систем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целое, состоящее из элементов взаимосвязанных между собо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Система = элементы + связи между ни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стемы бывают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атериальные (человек, самолет, дерево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ематериальные (человеческий язык, математика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мешанные (школьная систем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807-DD30-45DF-934F-6F545F8332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79218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вное свойство любой системы – возникновение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системного эффекта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или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«принцип эмерджентности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при объединении элементов в систему у системы появляются новые свойства, которыми не обладал ни один из элементов систем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00000" y="3213000"/>
            <a:ext cx="7839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имер – самол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Главное его свойство – способность  к полёту. Ни одна из составляющих его частей в отдельности этим свойством не обладает. Но если собрать их все вместе и соединить строго определенным образом, самолет полети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931-B05E-493D-9AFB-F5ABC296E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69608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3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едите пример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иологических систем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хнических систем 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стем в информатике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числите элементы системы «компьютер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C36-E6E2-4431-8E06-4095E920F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7305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истематизация (классификация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процесс превращения множества объектов в сист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Структура систем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определенный порядок объединения элементов сист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58920" y="3357720"/>
            <a:ext cx="7129440" cy="3022560"/>
            <a:chOff x="1258920" y="3357720"/>
            <a:chExt cx="7129440" cy="3022560"/>
          </a:xfrm>
        </p:grpSpPr>
        <p:sp>
          <p:nvSpPr>
            <p:cNvPr id="247" name=""/>
            <p:cNvSpPr/>
            <p:nvPr/>
          </p:nvSpPr>
          <p:spPr>
            <a:xfrm>
              <a:off x="1258920" y="3357720"/>
              <a:ext cx="7129440" cy="502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Структурные информацион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892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092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ТАБЛИЧ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48000" y="580536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ХЕМЫ (ГРАФ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494172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ЕРАРХ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6000" y="4221000"/>
              <a:ext cx="2448000" cy="574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СЕТЕ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1128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36000" y="3860640"/>
              <a:ext cx="0" cy="36036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564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16360" y="3860640"/>
              <a:ext cx="0" cy="194472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08720" y="3860640"/>
              <a:ext cx="0" cy="108108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0BD-4A76-4C4C-975F-DB22433E08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Задание №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сетевую модель. В первом ряду укажите имена друзей, во втором – их увлечения. Изобразите дугами связи: имя – увле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79280" y="3141720"/>
            <a:ext cx="8425080" cy="1798560"/>
            <a:chOff x="179280" y="3141720"/>
            <a:chExt cx="8425080" cy="1798560"/>
          </a:xfrm>
        </p:grpSpPr>
        <p:sp>
          <p:nvSpPr>
            <p:cNvPr id="261" name=""/>
            <p:cNvSpPr/>
            <p:nvPr/>
          </p:nvSpPr>
          <p:spPr>
            <a:xfrm>
              <a:off x="179280" y="3141720"/>
              <a:ext cx="15130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8000" y="3141720"/>
              <a:ext cx="1441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64000" y="3141720"/>
              <a:ext cx="151128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9272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20000" y="3141720"/>
              <a:ext cx="1584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6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64000" y="4292640"/>
              <a:ext cx="18000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24360" y="4292640"/>
              <a:ext cx="180036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CB7-28BA-45EA-9F3A-C54F9710C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0578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троение информационной модел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арактеристики (параметры) объ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язи между ни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модель равномерного прямолинейного движе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Параметры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скорос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время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путь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Связь между ними: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кажите параметры и связи для модели «Треугольник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раметры: 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вязи: ______________________________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CF2-C6DF-41CB-AE2D-D217314F05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адание №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делью химической реакции является уравнение этой реакци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КОН +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Является ли эта модель информа-ционной? 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очему? 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параметры этой мод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кажите связ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2E7-B35B-4272-BE8B-C2CC0FBE6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упрощенное представление о реальном объекте, процессе или явл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дель сохраняет </a:t>
            </a: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наиболее важные характеристики и свойства оригин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03dff"/>
                </a:solidFill>
                <a:latin typeface="Comic Sans MS"/>
              </a:rPr>
              <a:t>Модель</a:t>
            </a:r>
            <a:r>
              <a:rPr b="0" lang="en-US" sz="2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– любой аналог, образ (мысленный или условный: изображение, описание, схема, символ, формула, чертеж, план, таблица, карта и т.п.) какого-либо объекта исследования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BAE-94D7-4AB9-B15B-4C5BB5C379C6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ализация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 замена реального объекта его информационной модель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69608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 №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едложите параметры для информационной модели вашего клас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133-1C81-4952-8984-90420D4D36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омпьютерные модел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Компьютерные модел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это модели, реализованные на компьютере средствами программного обеспеч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79280" y="2781360"/>
            <a:ext cx="8568000" cy="2592360"/>
            <a:chOff x="179280" y="2781360"/>
            <a:chExt cx="8568000" cy="2592360"/>
          </a:xfrm>
        </p:grpSpPr>
        <p:sp>
          <p:nvSpPr>
            <p:cNvPr id="277" name=""/>
            <p:cNvSpPr/>
            <p:nvPr/>
          </p:nvSpPr>
          <p:spPr>
            <a:xfrm>
              <a:off x="611280" y="2781360"/>
              <a:ext cx="7993080" cy="71892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КОМПЬЮТЕРНЫЕ 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9280" y="371628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ЕК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4724280"/>
              <a:ext cx="19429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ТАБЛ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800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ГРАФ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3933720"/>
              <a:ext cx="1656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ЗВУ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88000" y="3716280"/>
              <a:ext cx="215928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96360" y="3500280"/>
              <a:ext cx="0" cy="216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1640" y="3500280"/>
              <a:ext cx="0" cy="122400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00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360" y="3500280"/>
              <a:ext cx="0" cy="43344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35280" y="544500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ПРОГРАММНОЕ ОБЕСПЕЧЕНИЕ – 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ИНСТРУМЕНТЫ КОМПЬЮТЕРНОГО МОДЕЛ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31D-01A1-4158-A567-7600684BDA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13096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9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программных средств для работы с компьютерными моделя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дание №1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 каким моделям, изученным вами, можно отнест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исунок, выполненный на компьютере ________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иноафишу _____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натомический муляж 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списание уроков _______________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45B-289F-4439-9B1A-D893921EC9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Основные этапы моделирования на компьютер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обычно описание информационной модел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Формализация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запись на каком – либо формальном языке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строение компьютерной моде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а языке программирования или с использованием прикладной программы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роведение компьютерного эксперимен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Анализ результатов моделир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51E5-7490-4A94-A678-4DA4A30088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Модель необходима для того, чтоб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понять, как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строен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реальный объект: какова его структура, основные свойства, законы развития и взаимодействия с окружающим мир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научиться 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управлять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объектом или процессом: определить наилучшие способы управления при заданных целях и критериях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оптимизация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Comic Sans MS"/>
              </a:rPr>
              <a:t>прогнозировать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прямые или косвенные  последствия реализации заданных способов и форм  воздействия на объек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67D-141C-44D6-A7CB-415DD58E7C5A}" type="slidenum">
              <a:t>3</a:t>
            </a:fld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Моделирование 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построение и изучение моделей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с целью получения новых знаний и дальнейшего совершенствования характеристик объектов исследования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703dff"/>
                </a:solidFill>
                <a:latin typeface="Comic Sans MS"/>
              </a:rPr>
              <a:t>метод научного познания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объективного мира с помощью моделей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E53-8729-4026-A9AD-EF1BCCD0F2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197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ис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1844640"/>
          <a:ext cx="7920000" cy="37479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763640"/>
              </a:tblGrid>
              <a:tr h="913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Б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ЫТ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УЧНО- ТЕХНИ-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РОВ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ИТАЦИ-О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ГЛЯД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РЕНАЖ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УЧАЮ-Щ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ДЕЛЬ КОРАБ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ЭРОДИНАМИЧЕСКАЯ ТРУ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НД ДЛЯ ПРОВЕРК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КОНОМ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Л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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ПЫТАНИЕ НОВЫХ ЛЕКАРСТВЕН-НЫХ СРЕДСТВ НА ЖИВО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flipH="1">
            <a:off x="1402920" y="2205000"/>
            <a:ext cx="208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916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2276640"/>
            <a:ext cx="1008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64000" y="2133720"/>
            <a:ext cx="230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104-EB2C-47A6-AB8A-4C05AE6490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125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УЧЕТОМ ФАКТОРА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9280" y="1844640"/>
            <a:ext cx="8064720" cy="4286880"/>
            <a:chOff x="179280" y="1844640"/>
            <a:chExt cx="8064720" cy="4286880"/>
          </a:xfrm>
        </p:grpSpPr>
        <p:sp>
          <p:nvSpPr>
            <p:cNvPr id="169" name=""/>
            <p:cNvSpPr/>
            <p:nvPr/>
          </p:nvSpPr>
          <p:spPr>
            <a:xfrm>
              <a:off x="1835280" y="1844640"/>
              <a:ext cx="396072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2852640"/>
              <a:ext cx="3743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НАМ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2852640"/>
              <a:ext cx="316836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СТ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4360" y="4005360"/>
              <a:ext cx="27370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ДИСКРЕ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4005360"/>
              <a:ext cx="2735280" cy="6476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НЕПРЕРЫВ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000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32360" y="2492280"/>
              <a:ext cx="0" cy="3603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3500280"/>
              <a:ext cx="0" cy="5050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9280" y="3645000"/>
              <a:ext cx="223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КЛАССА В ДЕНЬ ИССЛЕД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84360" y="4797360"/>
              <a:ext cx="27352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ОСТ УЧЕНИКОВ ДАННОГО КЛАССА ЗА 10 Л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АЛГОРИТ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08720" y="479736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ЗМЕНЕНИЕ АТМОСФЕРНОГО ДАВЛЕНИЯ В ТЕЧЕНИЕ Д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D86-E783-4AEB-AC55-DABD1706E9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ние №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73422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ведите примеры статистических и динамических мод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55640" y="2060640"/>
          <a:ext cx="7848720" cy="3519360"/>
        </p:xfrm>
        <a:graphic>
          <a:graphicData uri="http://schemas.openxmlformats.org/drawingml/2006/table">
            <a:tbl>
              <a:tblPr/>
              <a:tblGrid>
                <a:gridCol w="2158920"/>
                <a:gridCol w="2952720"/>
                <a:gridCol w="2737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тист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инамические мод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физ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хим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биолог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 инфор-мат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5D8-38D5-4336-BF25-9FBCFF456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ОБЛАСТИ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920" y="1484280"/>
            <a:ext cx="8353440" cy="2954520"/>
            <a:chOff x="250920" y="1484280"/>
            <a:chExt cx="8353440" cy="2954520"/>
          </a:xfrm>
        </p:grpSpPr>
        <p:sp>
          <p:nvSpPr>
            <p:cNvPr id="187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920" y="2637000"/>
              <a:ext cx="338436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Б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СОЦИОЛОГ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0" y="378936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ИСТОР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19640" y="2637000"/>
              <a:ext cx="3384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МАТЕМАТИЧЕСК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72360" y="2133720"/>
              <a:ext cx="0" cy="503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1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59280" y="2133720"/>
              <a:ext cx="0" cy="165564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050920" y="4797360"/>
            <a:ext cx="648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Задание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ведите примеры моделей из разных областей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9DD-A27E-4FB9-9D7E-F848ACE2C1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Классификация модел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83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СПОСОБУ ПРЕДСТ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000" y="1484280"/>
            <a:ext cx="8424720" cy="4033800"/>
            <a:chOff x="324000" y="1484280"/>
            <a:chExt cx="8424720" cy="4033800"/>
          </a:xfrm>
        </p:grpSpPr>
        <p:sp>
          <p:nvSpPr>
            <p:cNvPr id="200" name=""/>
            <p:cNvSpPr/>
            <p:nvPr/>
          </p:nvSpPr>
          <p:spPr>
            <a:xfrm>
              <a:off x="2268360" y="1484280"/>
              <a:ext cx="4608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МОД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00" y="2492280"/>
              <a:ext cx="3240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АТЕРИ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2492280"/>
              <a:ext cx="338472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ИНФОРМАЦИО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92360" y="3500280"/>
              <a:ext cx="251964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ЕРБА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6720" y="3500280"/>
              <a:ext cx="2232000" cy="64944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ЗНАК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7640" y="4869000"/>
              <a:ext cx="216072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МЫСЛЕН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80000" y="4869000"/>
              <a:ext cx="1656000" cy="649080"/>
            </a:xfrm>
            <a:prstGeom prst="roundRect">
              <a:avLst>
                <a:gd name="adj" fmla="val 16667"/>
              </a:avLst>
            </a:prstGeom>
            <a:solidFill>
              <a:srgbClr val="85a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УСТН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011640" y="3645000"/>
              <a:ext cx="43164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84720" y="3860640"/>
              <a:ext cx="358920" cy="0"/>
            </a:xfrm>
            <a:prstGeom prst="line">
              <a:avLst/>
            </a:prstGeom>
            <a:ln w="57240">
              <a:solidFill>
                <a:srgbClr val="85af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48360" y="4221000"/>
              <a:ext cx="16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НА ЛЮБОМ ЯЗЫ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800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7280" y="4149720"/>
              <a:ext cx="0" cy="71928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72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64360" y="3141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7164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0720" y="2133720"/>
              <a:ext cx="0" cy="358560"/>
            </a:xfrm>
            <a:prstGeom prst="line">
              <a:avLst/>
            </a:prstGeom>
            <a:ln w="38160">
              <a:solidFill>
                <a:srgbClr val="85a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000" y="3284640"/>
              <a:ext cx="2592360" cy="21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ГРУШ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ГЛОБ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УЧЕЛО 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ФИЗИЧЕСКИЕ ИЛИ ХИМИЧЕСКИЕ ОПЫ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5B1-FA1B-4393-BD46-677E3FDFD9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2:21:37Z</dcterms:created>
  <dc:creator>Admin</dc:creator>
  <dc:description/>
  <dc:language>en-US</dc:language>
  <cp:lastModifiedBy>Admin</cp:lastModifiedBy>
  <dcterms:modified xsi:type="dcterms:W3CDTF">2004-10-24T14:44:07Z</dcterms:modified>
  <cp:revision>5</cp:revision>
  <dc:subject/>
  <dc:title>МОДЕЛИРОВАНИЕ И ФОРМАЛИЗАЦИЯ</dc:title>
</cp:coreProperties>
</file>