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7AA-B5A2-4E91-9F35-8732F655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0C4-414A-4D31-BC6E-15CA0B0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575-B119-45EA-A0ED-5A8CE525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CF0-5BD6-4394-BB78-08ACEF3F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838-73B2-4A68-8092-1EF93337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1206-3388-443D-B9D7-F49CC2E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2B39-1DE7-4B29-8C8A-D85E64D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48F-7FD0-4162-828D-6C2FDC8F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68A5-01A3-40F5-90DD-DFA463E9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AE46-7B23-4CC2-AD2D-D4D9CCF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F4BD-44F4-4C1B-9D97-3DBA4CB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96F-9E15-4EE6-AC2A-D518595A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52DD-CCDF-43FC-9A98-9720736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26A-23A0-4E60-803A-E8547B1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5D8-5697-41BD-BF6A-195787B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5F74-5CF3-4F86-857C-6075958D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E0BA-E900-471D-8A07-7AA34531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B2F-0ADF-4733-A34E-9DF2F0F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16A-0C6B-41B7-9252-C5DFCC4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0FD-0D65-4EB4-81B9-E2248F2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103-C731-48B8-9461-7DEAAEE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6C9-6948-4C01-B443-B97EBC9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1EE-2EE4-4365-B810-CE1D40E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C3F-79AE-4B38-9F96-0730262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39A1-5763-4D30-97E9-0BC5728ED5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7B33-336C-44F4-8FC0-ED05392867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ЕЛЬ: ЩЕРБИНИНА М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6A3-ADA8-44D6-A60A-14C8B2AC0E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507-34A5-44D0-BD45-7020241C3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0920" y="907920"/>
            <a:ext cx="8353440" cy="5691240"/>
            <a:chOff x="250920" y="907920"/>
            <a:chExt cx="8353440" cy="5691240"/>
          </a:xfrm>
        </p:grpSpPr>
        <p:sp>
          <p:nvSpPr>
            <p:cNvPr id="221" name=""/>
            <p:cNvSpPr/>
            <p:nvPr/>
          </p:nvSpPr>
          <p:spPr>
            <a:xfrm>
              <a:off x="611280" y="907920"/>
              <a:ext cx="72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 ФОРМЕ ПРЕДСТАВЛ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2920" y="1484280"/>
              <a:ext cx="6769080" cy="57636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ФОРМАЦИОННЫЕ 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920" y="263700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ГЕОМЕТ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360" y="3860640"/>
              <a:ext cx="338436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КОМПЬЮТЕ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88000" y="3860640"/>
              <a:ext cx="338436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ТРУКТУ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637000"/>
              <a:ext cx="3384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ЕЦ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19280" y="2060640"/>
              <a:ext cx="0" cy="576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4360" y="2060640"/>
              <a:ext cx="0" cy="576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2060640"/>
              <a:ext cx="0" cy="1800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6720" y="2060640"/>
              <a:ext cx="0" cy="1800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508464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ЛОВЕ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508464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6000" y="595008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МАТЕ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27640" y="2060640"/>
              <a:ext cx="0" cy="38894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0360" y="2060640"/>
              <a:ext cx="0" cy="3024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060640"/>
              <a:ext cx="0" cy="3024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CC3-75B6-4E72-BD0E-C10A815F6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еометр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графические формы и объемные констру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ловесные моде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устные и письменные описания с использованием иллюстрац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Математ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атематические формулы, неравенства, систем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труктурны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схемы, графики, таблиц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ог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одели, в которых на основе анализа различных условий принимаются реш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пециальны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оты, химические формул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0D8-0F66-44D9-96C4-37E52575E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Любая информационная модель является систе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истем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это целое, состоящее из элементов взаимосвязанных между соб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CDA-1C79-4031-9FAA-60999A637D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79218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вное свойство любой системы – возникновение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«системного эффекта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или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«принцип эмерджентности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 объединении элементов в систему у системы появляются новые свойства, которыми не обладал ни один из элементов систем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3213000"/>
            <a:ext cx="7839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имер – самол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Главное его свойство – способность  к полёту. Ни одна из составляющих его частей в отдельности этим свойством не обладает. Но если собрать их все вместе и соединить строго определенным образом, самолет полет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FD5-1EC3-4685-B9E9-6F6EA3FEA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ние №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ведите пример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иологических систем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хнических систем 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стем в информатике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числите элементы системы «компьютер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6CE-E42D-41CE-82FC-04A0AC2FC5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истематизация (классификация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процесс превращения множества объектов в сист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труктура систем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определенный порядок объединения элементов сист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58920" y="3357720"/>
            <a:ext cx="7129440" cy="3022560"/>
            <a:chOff x="1258920" y="3357720"/>
            <a:chExt cx="7129440" cy="3022560"/>
          </a:xfrm>
        </p:grpSpPr>
        <p:sp>
          <p:nvSpPr>
            <p:cNvPr id="247" name=""/>
            <p:cNvSpPr/>
            <p:nvPr/>
          </p:nvSpPr>
          <p:spPr>
            <a:xfrm>
              <a:off x="1258920" y="3357720"/>
              <a:ext cx="7129440" cy="502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Структурные информационные 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8920" y="422100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0920" y="494172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ТАБЛИЧ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48000" y="580536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ХЕМЫ (ГРАФ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3640" y="494172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ИЕРАРХ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6000" y="422100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ЕТ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11280" y="3860640"/>
              <a:ext cx="0" cy="36036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36000" y="3860640"/>
              <a:ext cx="0" cy="36036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5640" y="3860640"/>
              <a:ext cx="0" cy="108108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16360" y="3860640"/>
              <a:ext cx="0" cy="194472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720" y="3860640"/>
              <a:ext cx="0" cy="108108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B80-A752-46CC-A422-E46361D07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Задание №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сетевую модель. В первом ряду укажите имена друзей, во втором – их увлечения. Изобразите дугами связи: имя – увлеч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79280" y="3141720"/>
            <a:ext cx="8425080" cy="1798560"/>
            <a:chOff x="179280" y="3141720"/>
            <a:chExt cx="8425080" cy="1798560"/>
          </a:xfrm>
        </p:grpSpPr>
        <p:sp>
          <p:nvSpPr>
            <p:cNvPr id="261" name=""/>
            <p:cNvSpPr/>
            <p:nvPr/>
          </p:nvSpPr>
          <p:spPr>
            <a:xfrm>
              <a:off x="179280" y="3141720"/>
              <a:ext cx="15130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8000" y="3141720"/>
              <a:ext cx="14418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64000" y="3141720"/>
              <a:ext cx="15112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92720" y="3141720"/>
              <a:ext cx="1584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20000" y="3141720"/>
              <a:ext cx="1584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6360" y="4292640"/>
              <a:ext cx="1800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4000" y="429264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24360" y="4292640"/>
              <a:ext cx="1800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1DF-6C44-4C91-A7E8-161CEF854E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0578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троение информационной моде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арактеристики (параметры) объ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язи между ни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модель равномерного прямолинейного движе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араметр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скорость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время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путь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Связь между ними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кажите параметры и связи для модели «Треугольник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раметры: _________________________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вязи: ______________________________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467-5AD8-416C-8248-2AB313464A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ние №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ю химической реакции является уравнение этой реакц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КОН +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Является ли эта модель информа-ционной? 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очему? 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кажите параметры этой мод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кажите связ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515-AFE6-46AC-8343-9436CFEE05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Мод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упрощенное представление о реальном объекте, процессе или явл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дель сохраняет </a:t>
            </a: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03dff"/>
                </a:solidFill>
                <a:latin typeface="Comic Sans MS"/>
              </a:rPr>
              <a:t>Модель</a:t>
            </a:r>
            <a:r>
              <a:rPr b="0" lang="en-US" sz="2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– любой аналог, образ (мысленный или условный: изображение, описание, схема, символ, формула, чертеж, план, таблица, карта и т.п.) какого-либо объекта исследовани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F7C-3137-457F-92BE-7909CC12D24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– замена реального объекта его информационной модель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6960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 №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едложите параметры для информационной модели вашего клас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6A5-15AA-44F8-9EC2-FB33624EF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мпьютерные моде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Компьютерные модел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это модели, реализованные на компьютере средствами программного обеспеч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9280" y="2781360"/>
            <a:ext cx="8568000" cy="2592360"/>
            <a:chOff x="179280" y="2781360"/>
            <a:chExt cx="8568000" cy="2592360"/>
          </a:xfrm>
        </p:grpSpPr>
        <p:sp>
          <p:nvSpPr>
            <p:cNvPr id="277" name=""/>
            <p:cNvSpPr/>
            <p:nvPr/>
          </p:nvSpPr>
          <p:spPr>
            <a:xfrm>
              <a:off x="611280" y="2781360"/>
              <a:ext cx="7993080" cy="718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КОМПЬЮТЕРНЫЕ 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280" y="371628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ТЕК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4724280"/>
              <a:ext cx="19429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ТАБЛ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8000" y="393372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ГРАФ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93372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ЗВУ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88000" y="3716280"/>
              <a:ext cx="215928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3500280"/>
              <a:ext cx="0" cy="216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96360" y="3500280"/>
              <a:ext cx="0" cy="216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1640" y="3500280"/>
              <a:ext cx="0" cy="1224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00360" y="3500280"/>
              <a:ext cx="0" cy="43344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4360" y="3500280"/>
              <a:ext cx="0" cy="43344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35280" y="544500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ПРОГРАММНОЕ ОБЕСПЕЧЕНИЕ –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ИНСТРУМЕНТЫ КОМПЬЮТЕРНОГО МОДЕЛ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631-B4E9-4618-B11B-9EFC25569B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130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№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дите примеры программных средств для работы с компьютерными модел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№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каким моделям, изученным вами, можно отнес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исунок, выполненный на компьютере _____________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ноафишу _____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томический муляж 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писание уроков 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94C-23E2-46D3-93FF-7771B36FC8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Анализ результатов моделир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47C-6338-4A79-BE47-C60260320E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Модель необходима для того, чтоб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понять, как 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устроен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реальный объект: какова его структура, основные свойства, законы развития и взаимодействия с окружающим мир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научиться 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управлять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объектом или процессом: определить наилучшие способы управления при заданных целях и критериях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оптимизация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прогнозировать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прямые или косвенные  последствия реализации заданных способов и форм  воздействия на объек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1CC-81B6-4CDE-B811-B9F3D5FADDD1}" type="slidenum">
              <a:t>3</a:t>
            </a:fld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Моделирование 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dff"/>
                </a:solidFill>
                <a:latin typeface="Comic Sans MS"/>
              </a:rPr>
              <a:t>построение и изучение моделей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с целью получения новых знаний и дальнейшего совершенствования характеристик объектов исследования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dff"/>
                </a:solidFill>
                <a:latin typeface="Comic Sans MS"/>
              </a:rPr>
              <a:t>метод научного познания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объективного мира с помощью моделей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F46-2F2E-4B64-B4A2-8ED8CA2C4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197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области ис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1844640"/>
          <a:ext cx="7920000" cy="3747960"/>
        </p:xfrm>
        <a:graphic>
          <a:graphicData uri="http://schemas.openxmlformats.org/drawingml/2006/table">
            <a:tbl>
              <a:tblPr/>
              <a:tblGrid>
                <a:gridCol w="1540080"/>
                <a:gridCol w="1538280"/>
                <a:gridCol w="1539720"/>
                <a:gridCol w="1538280"/>
                <a:gridCol w="1763640"/>
              </a:tblGrid>
              <a:tr h="913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Б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ЫТ-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УЧНО- ТЕХНИ-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Р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ИТАЦИ-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ГЛЯД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НАЖ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УЧАЮ-Щ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ЕЛЬ КОРА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ЭРОДИНАМИЧЕСКАЯ ТР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ЕНД ДЛЯ ПРОВЕРК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КОНО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ПЫТАНИЕ НОВЫХ ЛЕКАРСТВЕН-НЫХ СРЕДСТВ НА ЖИВО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1402920" y="2205000"/>
            <a:ext cx="20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916360" y="227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227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64000" y="2133720"/>
            <a:ext cx="230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1C9-D263-4470-AEE4-EF77009582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6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4F6-11E0-439A-928A-BA39A1F79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7342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дите примеры статистических и динамических мод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2060640"/>
          <a:ext cx="7848720" cy="3519360"/>
        </p:xfrm>
        <a:graphic>
          <a:graphicData uri="http://schemas.openxmlformats.org/drawingml/2006/table">
            <a:tbl>
              <a:tblPr/>
              <a:tblGrid>
                <a:gridCol w="2158920"/>
                <a:gridCol w="2952720"/>
                <a:gridCol w="2737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тистические 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намические 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физ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хим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би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инфор-ма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D6A-5866-4E26-B905-58AE6EC9B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76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ОБЛАСТИ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920" y="1484280"/>
            <a:ext cx="8353440" cy="2954520"/>
            <a:chOff x="250920" y="1484280"/>
            <a:chExt cx="8353440" cy="2954520"/>
          </a:xfrm>
        </p:grpSpPr>
        <p:sp>
          <p:nvSpPr>
            <p:cNvPr id="187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920" y="263700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000" y="378936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378936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9640" y="2637000"/>
              <a:ext cx="3384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МАТЕ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7280" y="2133720"/>
              <a:ext cx="0" cy="503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72360" y="2133720"/>
              <a:ext cx="0" cy="503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2133720"/>
              <a:ext cx="0" cy="16556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59280" y="2133720"/>
              <a:ext cx="0" cy="16556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050920" y="4797360"/>
            <a:ext cx="648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ведите примеры моделей из разных областей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59B-299F-4AED-B4BA-FAC88D26C6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4000" y="1484280"/>
            <a:ext cx="8424720" cy="4033800"/>
            <a:chOff x="324000" y="1484280"/>
            <a:chExt cx="8424720" cy="4033800"/>
          </a:xfrm>
        </p:grpSpPr>
        <p:sp>
          <p:nvSpPr>
            <p:cNvPr id="200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ЕРБ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7640" y="4869000"/>
              <a:ext cx="2160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МЫСЛЕ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0000" y="4869000"/>
              <a:ext cx="165600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УСТ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011640" y="3645000"/>
              <a:ext cx="431640" cy="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4720" y="3860640"/>
              <a:ext cx="358920" cy="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8000" y="4149720"/>
              <a:ext cx="0" cy="719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4149720"/>
              <a:ext cx="0" cy="719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000" y="3284640"/>
              <a:ext cx="259236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ГРУШ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ГЛОБ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УЧЕЛО 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ФИЗИЧЕСКИЕ ИЛИ ХИМИЧЕСКИЕ ОПЫ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787-F20A-4387-9787-5A35E8A33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Admin</cp:lastModifiedBy>
  <dcterms:modified xsi:type="dcterms:W3CDTF">2004-10-24T14:44:07Z</dcterms:modified>
  <cp:revision>5</cp:revision>
  <dc:subject/>
  <dc:title>МОДЕЛИРОВАНИЕ И ФОРМАЛИЗАЦИЯ</dc:title>
</cp:coreProperties>
</file>