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05D-C52F-412F-8D17-4EDED6CD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74E-7727-42C6-B09A-DBB8F71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D07-704C-4E1A-83D0-8BCC9D8B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1E8-B049-4140-B9BC-CC3C2C83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C9E-8A15-4AB2-BE4D-AE05B1B0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5897-83EF-466C-BA99-2D6AD74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462E-F0A5-4DE4-9B50-5822879D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DF18-635D-4525-A0BF-1873BD7D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5C3-D40C-4FC9-9A8E-511F856D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8EF-A88F-4C59-9053-52A6567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475F-C27F-4ACF-819A-5D236B7F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106-9290-48C9-858E-88131839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6CED-73C1-4870-80FB-3EC3614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673-560B-49CA-AE55-66513F27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C2DC-BCDD-4B53-B067-97C3988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E1A5-9F60-4BAA-B059-FC4CEC0D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31A-BD82-4A28-8A47-F0FCEB83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BD5-9712-4F7D-9AC4-C9CD15F8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406-26D6-466F-9C9B-53DC22A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C9A-E9E5-42C2-9595-6C39297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2FD-842B-416A-A527-6970755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1AC-42A5-4613-8243-CDCE3A8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1FE-2B3C-45B5-BECF-22E0F6FC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E9B-484A-451D-B6D3-C9A60BF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7D6-239E-4CE6-BDD7-C16C67D52E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3E5A-09C0-4759-A1FF-912A5ABCB9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ЕЛЬ: ЩЕРБИНИНА М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D00E-B18A-46B9-B30D-C9857C7DF8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F15-8470-4C24-9CB7-3280014D55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0920" y="907920"/>
            <a:ext cx="8353440" cy="5691240"/>
            <a:chOff x="250920" y="907920"/>
            <a:chExt cx="8353440" cy="5691240"/>
          </a:xfrm>
        </p:grpSpPr>
        <p:sp>
          <p:nvSpPr>
            <p:cNvPr id="221" name=""/>
            <p:cNvSpPr/>
            <p:nvPr/>
          </p:nvSpPr>
          <p:spPr>
            <a:xfrm>
              <a:off x="611280" y="907920"/>
              <a:ext cx="72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 ФОРМЕ ПРЕДСТАВЛ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2920" y="1484280"/>
              <a:ext cx="6769080" cy="57636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ФОРМАЦИОННЫЕ 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920" y="263700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ГЕОМЕТ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360" y="3860640"/>
              <a:ext cx="338436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КОМПЬЮТЕ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88000" y="3860640"/>
              <a:ext cx="338436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ТРУКТУ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637000"/>
              <a:ext cx="3384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ЕЦ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19280" y="2060640"/>
              <a:ext cx="0" cy="576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4360" y="2060640"/>
              <a:ext cx="0" cy="576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2060640"/>
              <a:ext cx="0" cy="1800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6720" y="2060640"/>
              <a:ext cx="0" cy="1800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508464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ЛОВЕ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508464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6000" y="595008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МАТЕ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27640" y="2060640"/>
              <a:ext cx="0" cy="38894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0360" y="2060640"/>
              <a:ext cx="0" cy="3024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060640"/>
              <a:ext cx="0" cy="3024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96F-EE7D-43A9-BAC9-2ABA07155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еометр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графические формы и объемные констру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ловесные моде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устные и письменные описания с использованием иллюстрац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Математ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атематические формулы, неравенства, систем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труктурны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схемы, графики, таблиц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ог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одели, в которых на основе анализа различных условий принимаются реш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пециальны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оты, химические формул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77A-D4D5-4434-8AA0-3F9DBE2272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Любая информационная модель является систе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истем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это целое, состоящее из элементов взаимосвязанных между соб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697-C9DB-4A5F-9C60-AF6D2F2D71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79218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вное свойство любой системы – возникновение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«системного эффекта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или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«принцип эмерджентности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 объединении элементов в систему у системы появляются новые свойства, которыми не обладал ни один из элементов систем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3213000"/>
            <a:ext cx="7839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имер – самол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Главное его свойство – способность  к полёту. Ни одна из составляющих его частей в отдельности этим свойством не обладает. Но если собрать их все вместе и соединить строго определенным образом, самолет полет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42E-686B-49DF-8E55-8D7B039D03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ние №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ведите пример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иологических систем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хнических систем 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стем в информатике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числите элементы системы «компьютер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9E3-B380-4FD7-BBEA-068B848CBC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истематизация (классификация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процесс превращения множества объектов в сист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труктура систем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определенный порядок объединения элементов сист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58920" y="3357720"/>
            <a:ext cx="7129440" cy="3022560"/>
            <a:chOff x="1258920" y="3357720"/>
            <a:chExt cx="7129440" cy="3022560"/>
          </a:xfrm>
        </p:grpSpPr>
        <p:sp>
          <p:nvSpPr>
            <p:cNvPr id="247" name=""/>
            <p:cNvSpPr/>
            <p:nvPr/>
          </p:nvSpPr>
          <p:spPr>
            <a:xfrm>
              <a:off x="1258920" y="3357720"/>
              <a:ext cx="7129440" cy="502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Структурные информационные 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8920" y="422100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0920" y="494172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ТАБЛИЧ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48000" y="580536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ХЕМЫ (ГРАФ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3640" y="494172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ИЕРАРХ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6000" y="422100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ЕТ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11280" y="3860640"/>
              <a:ext cx="0" cy="36036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36000" y="3860640"/>
              <a:ext cx="0" cy="36036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5640" y="3860640"/>
              <a:ext cx="0" cy="108108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16360" y="3860640"/>
              <a:ext cx="0" cy="194472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720" y="3860640"/>
              <a:ext cx="0" cy="108108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C32-FA6F-4CEC-B667-A8D67C05BE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Задание №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сетевую модель. В первом ряду укажите имена друзей, во втором – их увлечения. Изобразите дугами связи: имя – увлеч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79280" y="3141720"/>
            <a:ext cx="8425080" cy="1798560"/>
            <a:chOff x="179280" y="3141720"/>
            <a:chExt cx="8425080" cy="1798560"/>
          </a:xfrm>
        </p:grpSpPr>
        <p:sp>
          <p:nvSpPr>
            <p:cNvPr id="261" name=""/>
            <p:cNvSpPr/>
            <p:nvPr/>
          </p:nvSpPr>
          <p:spPr>
            <a:xfrm>
              <a:off x="179280" y="3141720"/>
              <a:ext cx="15130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8000" y="3141720"/>
              <a:ext cx="14418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64000" y="3141720"/>
              <a:ext cx="15112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92720" y="3141720"/>
              <a:ext cx="1584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20000" y="3141720"/>
              <a:ext cx="1584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6360" y="4292640"/>
              <a:ext cx="1800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4000" y="429264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24360" y="4292640"/>
              <a:ext cx="1800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371-B590-453F-A283-E25EED443D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0578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троение информационной моде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арактеристики (параметры) объ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язи между ни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модель равномерного прямолинейного движе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араметр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скорость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время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путь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Связь между ними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кажите параметры и связи для модели «Треугольник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раметры: _________________________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вязи: ______________________________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C52-D09E-4194-B05F-C15C6F54FB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ние №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ю химической реакции является уравнение этой реакц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КОН +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Является ли эта модель информа-ционной? 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очему? 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кажите параметры этой мод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кажите связ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905-AAF3-4B5F-AEEC-23FD93CD36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Мод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упрощенное представление о реальном объекте, процессе или явл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дель сохраняет </a:t>
            </a: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03dff"/>
                </a:solidFill>
                <a:latin typeface="Comic Sans MS"/>
              </a:rPr>
              <a:t>Модель</a:t>
            </a:r>
            <a:r>
              <a:rPr b="0" lang="en-US" sz="2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– любой аналог, образ (мысленный или условный: изображение, описание, схема, символ, формула, чертеж, план, таблица, карта и т.п.) какого-либо объекта исследовани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955-4B61-4BE7-8F8C-20AC85B037D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– замена реального объекта его информационной модель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6960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 №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едложите параметры для информационной модели вашего клас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F51-E5EF-4269-A2E6-2B12F66D00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мпьютерные моде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Компьютерные модел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это модели, реализованные на компьютере средствами программного обеспеч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9280" y="2781360"/>
            <a:ext cx="8568000" cy="2592360"/>
            <a:chOff x="179280" y="2781360"/>
            <a:chExt cx="8568000" cy="2592360"/>
          </a:xfrm>
        </p:grpSpPr>
        <p:sp>
          <p:nvSpPr>
            <p:cNvPr id="277" name=""/>
            <p:cNvSpPr/>
            <p:nvPr/>
          </p:nvSpPr>
          <p:spPr>
            <a:xfrm>
              <a:off x="611280" y="2781360"/>
              <a:ext cx="7993080" cy="718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КОМПЬЮТЕРНЫЕ 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280" y="371628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ТЕК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4724280"/>
              <a:ext cx="19429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ТАБЛ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8000" y="393372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ГРАФ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93372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ЗВУ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88000" y="3716280"/>
              <a:ext cx="215928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3500280"/>
              <a:ext cx="0" cy="216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96360" y="3500280"/>
              <a:ext cx="0" cy="216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1640" y="3500280"/>
              <a:ext cx="0" cy="1224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00360" y="3500280"/>
              <a:ext cx="0" cy="43344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4360" y="3500280"/>
              <a:ext cx="0" cy="43344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35280" y="544500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ПРОГРАММНОЕ ОБЕСПЕЧЕНИЕ –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ИНСТРУМЕНТЫ КОМПЬЮТЕРНОГО МОДЕЛ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15F-0ED2-4201-8DD9-74288E9024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130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№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дите примеры программных средств для работы с компьютерными модел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№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каким моделям, изученным вами, можно отнес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исунок, выполненный на компьютере _____________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ноафишу _____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томический муляж 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писание уроков 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336-DE5D-4160-A843-E9228D355C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Анализ результатов моделир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F2B-5050-4CFC-BA27-AC28CFAE7D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Модель необходима для того, чтоб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понять, как 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устроен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реальный объект: какова его структура, основные свойства, законы развития и взаимодействия с окружающим мир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научиться 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управлять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объектом или процессом: определить наилучшие способы управления при заданных целях и критериях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оптимизация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прогнозировать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прямые или косвенные  последствия реализации заданных способов и форм  воздействия на объек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1D8-A6CC-4A01-9D10-F68E419F20B8}" type="slidenum">
              <a:t>3</a:t>
            </a:fld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Моделирование 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dff"/>
                </a:solidFill>
                <a:latin typeface="Comic Sans MS"/>
              </a:rPr>
              <a:t>построение и изучение моделей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с целью получения новых знаний и дальнейшего совершенствования характеристик объектов исследования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dff"/>
                </a:solidFill>
                <a:latin typeface="Comic Sans MS"/>
              </a:rPr>
              <a:t>метод научного познания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объективного мира с помощью моделей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B42-A201-49F7-BD48-D2F7BFF9C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197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области ис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1844640"/>
          <a:ext cx="7920000" cy="3747960"/>
        </p:xfrm>
        <a:graphic>
          <a:graphicData uri="http://schemas.openxmlformats.org/drawingml/2006/table">
            <a:tbl>
              <a:tblPr/>
              <a:tblGrid>
                <a:gridCol w="1540080"/>
                <a:gridCol w="1538280"/>
                <a:gridCol w="1539720"/>
                <a:gridCol w="1538280"/>
                <a:gridCol w="1763640"/>
              </a:tblGrid>
              <a:tr h="913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Б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ЫТ-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УЧНО- ТЕХНИ-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Р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ИТАЦИ-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ГЛЯД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НАЖ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УЧАЮ-Щ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ЕЛЬ КОРА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ЭРОДИНАМИЧЕСКАЯ ТР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ЕНД ДЛЯ ПРОВЕРК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КОНО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ПЫТАНИЕ НОВЫХ ЛЕКАРСТВЕН-НЫХ СРЕДСТВ НА ЖИВО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1402920" y="2205000"/>
            <a:ext cx="20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916360" y="227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227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64000" y="2133720"/>
            <a:ext cx="230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214-0185-4DB3-BDC2-DA0DAE633B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6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1B0-E934-4B75-A609-45F84946F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7342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дите примеры статистических и динамических мод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2060640"/>
          <a:ext cx="7848720" cy="3519360"/>
        </p:xfrm>
        <a:graphic>
          <a:graphicData uri="http://schemas.openxmlformats.org/drawingml/2006/table">
            <a:tbl>
              <a:tblPr/>
              <a:tblGrid>
                <a:gridCol w="2158920"/>
                <a:gridCol w="2952720"/>
                <a:gridCol w="2737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тистические 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намические 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физ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хим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би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инфор-ма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D89-03EE-4C26-B543-8131557977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76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ОБЛАСТИ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920" y="1484280"/>
            <a:ext cx="8353440" cy="2954520"/>
            <a:chOff x="250920" y="1484280"/>
            <a:chExt cx="8353440" cy="2954520"/>
          </a:xfrm>
        </p:grpSpPr>
        <p:sp>
          <p:nvSpPr>
            <p:cNvPr id="187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920" y="263700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000" y="378936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378936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9640" y="2637000"/>
              <a:ext cx="3384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МАТЕ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7280" y="2133720"/>
              <a:ext cx="0" cy="503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72360" y="2133720"/>
              <a:ext cx="0" cy="503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2133720"/>
              <a:ext cx="0" cy="16556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59280" y="2133720"/>
              <a:ext cx="0" cy="16556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050920" y="4797360"/>
            <a:ext cx="648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ведите примеры моделей из разных областей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878-77A5-43E2-842D-985E3962CD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4000" y="1484280"/>
            <a:ext cx="8424720" cy="4033800"/>
            <a:chOff x="324000" y="1484280"/>
            <a:chExt cx="8424720" cy="4033800"/>
          </a:xfrm>
        </p:grpSpPr>
        <p:sp>
          <p:nvSpPr>
            <p:cNvPr id="200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ЕРБ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7640" y="4869000"/>
              <a:ext cx="2160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МЫСЛЕ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0000" y="4869000"/>
              <a:ext cx="165600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УСТ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011640" y="3645000"/>
              <a:ext cx="431640" cy="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4720" y="3860640"/>
              <a:ext cx="358920" cy="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8000" y="4149720"/>
              <a:ext cx="0" cy="719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4149720"/>
              <a:ext cx="0" cy="719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000" y="3284640"/>
              <a:ext cx="259236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ГРУШ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ГЛОБ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УЧЕЛО 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ФИЗИЧЕСКИЕ ИЛИ ХИМИЧЕСКИЕ ОПЫ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4EC-F5E8-49C5-A90C-58302CC0ED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Admin</cp:lastModifiedBy>
  <dcterms:modified xsi:type="dcterms:W3CDTF">2004-10-24T14:44:07Z</dcterms:modified>
  <cp:revision>5</cp:revision>
  <dc:subject/>
  <dc:title>МОДЕЛИРОВАНИЕ И ФОРМАЛИЗАЦИЯ</dc:title>
</cp:coreProperties>
</file>