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0.jpeg" ContentType="image/jpeg"/>
  <Override PartName="/ppt/media/image13.wmf" ContentType="image/x-wmf"/>
  <Override PartName="/ppt/media/image8.jpeg" ContentType="image/jpeg"/>
  <Override PartName="/ppt/media/image5.gif" ContentType="image/gif"/>
  <Override PartName="/ppt/media/image14.jpeg" ContentType="image/jpeg"/>
  <Override PartName="/ppt/media/image6.gif" ContentType="image/gi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92C-25FD-450C-A200-31EF453E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627-1CA4-477A-B47D-FD61B7D4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789-2727-4A07-8048-2E252C77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2EEB-92E7-4B24-954A-BF91FE9E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77851-5BF8-4EA7-AB24-BCD26BFA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93B72-6BFD-4E4D-853E-93C50825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27001-108E-4649-AA2E-51CCAE4C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EBF9E-045D-445C-999A-885FE6C1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4EFDD-8D05-49F5-B72D-4DD64963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921C0-BD4C-4C7C-B632-8124A564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EAA66-62DC-4D97-B8D8-4F14FC00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963-8C9E-4850-9CC8-5AA2B8D1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91493-0EDD-4CAD-BD67-3A0B62B4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39939-02A2-4753-A74F-D466AD43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05119-7C62-4F9D-B0D4-2BA8B09F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25381-3E8B-453C-8C5D-EFB128A3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935C1-D7DA-4304-A55B-D74410B6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E28-5B00-4176-8B56-8E3C5CAD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5F2-F3E7-4BF5-B1FA-57C55426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36D-854B-4935-854A-B76D3F6C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C9F-B383-421F-8C31-B1A41D08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F8DC-856D-4168-9870-8D0A9D24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D19-EE5B-4795-9FCD-78F465CB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0A9-EB08-4B3A-BAB7-4AF6FBBE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FFB7-D6EF-4248-AEB4-A22B9E9234A5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7A12-CA3A-4E29-A61E-DA836C79D150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71640" y="3500280"/>
            <a:ext cx="6121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Карское море</a:t>
            </a:r>
            <a:endParaRPr b="0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3132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Карское море – окраинное море, расположено между островами Новая Земля, Земля Франца-Иосифа и архипелагом Северная Земля.</a:t>
            </a:r>
            <a:endParaRPr b="0" lang="en-US" sz="2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132000" y="1557360"/>
            <a:ext cx="5689800" cy="4753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85760" cy="1484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076720" y="2349360"/>
            <a:ext cx="503280" cy="1079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54720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Площадь 883 тыс. км²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124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124000" y="2852640"/>
            <a:ext cx="4732560" cy="3065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Карское море - одно из самых холодных морей России.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84360" y="2997360"/>
            <a:ext cx="4535640" cy="3024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47640" cy="11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2040" y="1628280"/>
            <a:ext cx="49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Солёность 12—33 ‰</a:t>
            </a:r>
            <a:r>
              <a:rPr b="0" lang="en-US" sz="3600" spc="-1" strike="noStrike">
                <a:solidFill>
                  <a:srgbClr val="205ff6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124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56000" y="2924280"/>
            <a:ext cx="4392360" cy="2954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5760" cy="1484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595760" cy="3093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0" y="16279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Море сравнительно неглубокое: преобладающая глубина 30-100 м, максимальная - 600 м.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Впадают крупные реки Обь и Енисей.</a:t>
            </a: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124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124000" y="2852640"/>
            <a:ext cx="4826160" cy="3097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spd="med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В Карском море богата фауна беспозвоночных и полупроходных рыб, морских млекопитающих.</a:t>
            </a: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150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4360" y="2637000"/>
            <a:ext cx="3384360" cy="2286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828720" y="508464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Морской заяц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981080" y="2997360"/>
            <a:ext cx="3384720" cy="2232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989440" y="5373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5ff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Люрик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637080" y="3357720"/>
            <a:ext cx="3417840" cy="2174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4141800" y="566100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Белый медведь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364000" y="3716280"/>
            <a:ext cx="3384720" cy="2158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651816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Нерпа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20:03:19Z</dcterms:created>
  <dc:creator>Учитель</dc:creator>
  <dc:description/>
  <cp:keywords/>
  <dc:language>en-US</dc:language>
  <cp:lastModifiedBy>Анастасия</cp:lastModifiedBy>
  <dcterms:modified xsi:type="dcterms:W3CDTF">2009-02-21T19:03:39Z</dcterms:modified>
  <cp:revision>3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