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gif" ContentType="image/gif"/>
  <Override PartName="/ppt/media/image14.jpeg" ContentType="image/jpeg"/>
  <Override PartName="/ppt/media/image6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69F-44ED-4065-AD63-CBEEB47C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492-9B37-47E2-B96A-C3F9B64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BC4-A91D-41C3-A5DB-75BA98A4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DE3-BBA8-4F6A-B0AE-629A3630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F82A2-26BE-46B9-B9AB-175ED98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3AAB4-A268-4E9E-A367-E41F90A6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3D0D4-69D3-467A-B362-A079305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A5F97-568E-4B09-A880-821E4D4E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F5262-F8D8-4FDB-8DEA-93727CB8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D7AB6-FA88-4AF1-9A22-AD115569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D1FEE-8C1D-4FE3-8733-9F4D273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AC7-F902-471B-87AE-8A88C45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4B9B8-8E2F-45AA-9F3A-B710640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F3D39-C091-4663-8B3C-9621BF7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B21BE-870D-46EC-AA36-EA70EA0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C17C2-E4D9-4B1A-9C46-496C6DF9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CA64A-864E-434E-BF74-37A30FB6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01B-ABF5-402D-A15C-3EB2B010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E89-36CF-4613-9A71-4A04D3F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AAC-8D68-4612-A186-EEB79BD1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046-023F-47B1-9927-59B3A3C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A8C-E298-42AB-BF5E-BE7C4E5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A39-1D94-4A63-8D95-5ED64B8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B84-8AE2-4BA4-B673-AFC1FDF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6F0-5A43-43BC-88DE-6A8020F98974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7B2-9069-43A8-8B30-587FA74BFDD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350028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Карское море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3132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Карское море – окраинное море, расположено между островами Новая Земля, Земля Франца-Иосифа и архипелагом Северная Земля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568980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6720" y="2349360"/>
            <a:ext cx="503280" cy="1079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5472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Площадь 883 тыс. км²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732560" cy="306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арское море - одно из самых холодных морей России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4535640" cy="302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040" y="1628280"/>
            <a:ext cx="49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Солёность 12—33 ‰</a:t>
            </a:r>
            <a:r>
              <a:rPr b="0" lang="en-US" sz="3600" spc="-1" strike="noStrike">
                <a:solidFill>
                  <a:srgbClr val="205ff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4392360" cy="2954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595760" cy="309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16279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Море сравнительно неглубокое: преобладающая глубина 30-100 м, максимальная - 600 м.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Впадают крупные реки Обь и Енисей.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826160" cy="309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В Карском море богата фауна беспозвоночных и полупроходных рыб, морских млекопитающих.</a:t>
            </a: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5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38436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28720" y="5084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Морской заяц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981080" y="2997360"/>
            <a:ext cx="338472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989440" y="537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ff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Люрик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637080" y="3357720"/>
            <a:ext cx="3417840" cy="217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14180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Белый медвед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364000" y="3716280"/>
            <a:ext cx="338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51816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Нерп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0:03:19Z</dcterms:created>
  <dc:creator>Учитель</dc:creator>
  <dc:description/>
  <cp:keywords/>
  <dc:language>en-US</dc:language>
  <cp:lastModifiedBy>Анастасия</cp:lastModifiedBy>
  <dcterms:modified xsi:type="dcterms:W3CDTF">2009-02-21T19:03:39Z</dcterms:modified>
  <cp:revision>3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