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gif" ContentType="image/gif"/>
  <Override PartName="/ppt/media/image14.jpeg" ContentType="image/jpeg"/>
  <Override PartName="/ppt/media/image6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D34-D279-4380-B932-CC965801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7BC-66E1-4595-B1C0-C31E017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852-2D40-4C53-AFF9-98005E36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49F-50E9-47A6-8A6D-7034B498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6517C-7D74-485A-B8F1-5A5705CB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80832-E9B2-43FD-91EB-3455CD99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35CA-DAE0-4D08-8D9E-D9C735B4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3EE02-A253-4021-92AE-B7504901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4BF34-69D7-4C25-9095-C9B5890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C391C-5652-48B7-B2DA-B09485CA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979DF-C184-4180-9840-5356851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D16-E4D9-46FE-841D-311D2C2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17D8-FB48-4C83-A3CB-B57A3D1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28B44-AAF8-4C7A-9A06-0048D52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92C04-B853-4025-B1D3-76A198B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9E491-E382-469C-BEED-BF96E94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D1B62-446C-4E72-BEA8-B92F8FB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7A4-11DA-4065-B531-FEE8414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790-4DB1-419F-A7AB-95B4A01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33B-24B8-4B39-9272-6C86264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0EC-EE55-45E1-9B6C-F21FD58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BD1-8DB2-48A7-AB46-158DC92D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B1-00BF-43EC-836D-F85989C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7B5-5ED5-44B9-9B08-324EE80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5B9-8D34-416B-8E67-3820088F9A4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8067-396E-45AB-8C4B-419056D4ED6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350028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Карское море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3132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Карское море – окраинное море, расположено между островами Новая Земля, Земля Франца-Иосифа и архипелагом Северная Земля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568980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6720" y="2349360"/>
            <a:ext cx="503280" cy="1079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5472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Площадь 883 тыс. км²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732560" cy="306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арское море - одно из самых холодных морей России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4535640" cy="302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040" y="1628280"/>
            <a:ext cx="49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Солёность 12—33 ‰</a:t>
            </a:r>
            <a:r>
              <a:rPr b="0" lang="en-US" sz="3600" spc="-1" strike="noStrike">
                <a:solidFill>
                  <a:srgbClr val="205ff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4392360" cy="2954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595760" cy="309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16279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Море сравнительно неглубокое: преобладающая глубина 30-100 м, максимальная - 600 м.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Впадают крупные реки Обь и Енисей.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826160" cy="309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В Карском море богата фауна беспозвоночных и полупроходных рыб, морских млекопитающих.</a:t>
            </a: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5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38436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28720" y="5084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Морской заяц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981080" y="2997360"/>
            <a:ext cx="338472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989440" y="537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ff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Люрик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637080" y="3357720"/>
            <a:ext cx="3417840" cy="217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14180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Белый медвед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364000" y="3716280"/>
            <a:ext cx="338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51816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Нерп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0:03:19Z</dcterms:created>
  <dc:creator>Учитель</dc:creator>
  <dc:description/>
  <cp:keywords/>
  <dc:language>en-US</dc:language>
  <cp:lastModifiedBy>Анастасия</cp:lastModifiedBy>
  <dcterms:modified xsi:type="dcterms:W3CDTF">2009-02-21T19:03:39Z</dcterms:modified>
  <cp:revision>3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