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6ED5-FDE0-421E-8A1F-4066FE283F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61AC-5241-4CE4-B653-C14ECE63CB4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C75-E978-45D5-B18C-421C66A5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F81-195F-4BE7-8D05-BB3CCB08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66A0-C608-4C8B-8D28-D6DEE215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DA9-699C-47BC-BF06-E1AD50DE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F9D7-7AB8-4B27-8AD8-40E85190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71AE-0142-4935-8789-69571AA3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266A-FDC2-4351-99BE-9ED48A95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B7C7-EE99-40A1-957C-A90D3D58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DB0E-4CA5-404E-89A5-418A4C6C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6E17-1262-4AAF-A66F-FB92CD11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22E4-AA78-4275-81B1-B86FC5CB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1CD-6B11-4C32-8B6F-B8DF3756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7E85-35D0-4DE9-9DB2-23E1B70B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2C0B-2904-4DAA-99A8-396E322D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CF17-15D5-4EDE-8FC0-FE7675A9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6A46-C95D-430D-A321-D69875E1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85E1-3349-45E5-BCB2-785ECF71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11D-0B8F-455C-9898-3EE440A6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302-8598-4804-B2FF-A6538D44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00E-17A6-40A0-9163-36F33CC1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374-1AF5-4E66-8B88-47B616C9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71C-7914-4369-AF30-21E88180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B102-F60D-486C-B8C0-33A6839F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D20-40DA-4764-B20F-B72691FD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AE25-7DCD-4128-9DC3-5FB303F6A1B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58F9-C45D-4CDA-9550-71C7EA882A3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7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image" Target="../media/image20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3" descr=""/>
          <p:cNvPicPr/>
          <p:nvPr/>
        </p:nvPicPr>
        <p:blipFill>
          <a:blip r:embed="rId1"/>
          <a:stretch/>
        </p:blipFill>
        <p:spPr>
          <a:xfrm>
            <a:off x="-12600" y="1206360"/>
            <a:ext cx="9083520" cy="37990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4" descr=""/>
          <p:cNvPicPr/>
          <p:nvPr/>
        </p:nvPicPr>
        <p:blipFill>
          <a:blip r:embed="rId2"/>
          <a:stretch/>
        </p:blipFill>
        <p:spPr>
          <a:xfrm>
            <a:off x="1749600" y="480960"/>
            <a:ext cx="530352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C:\Documents and Settings\Пользователь\Мои документы\фото ковалева.jpeg"/>
          <p:cNvPicPr/>
          <p:nvPr/>
        </p:nvPicPr>
        <p:blipFill>
          <a:blip r:embed="rId1"/>
          <a:stretch/>
        </p:blipFill>
        <p:spPr>
          <a:xfrm>
            <a:off x="6500880" y="214200"/>
            <a:ext cx="2300400" cy="32720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3004560" y="285840"/>
            <a:ext cx="33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лександр Ковал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Рисунок 3" descr="C:\Documents and Settings\Пользователь\Мои документы\Ковалев.jpeg"/>
          <p:cNvPicPr/>
          <p:nvPr/>
        </p:nvPicPr>
        <p:blipFill>
          <a:blip r:embed="rId2"/>
          <a:stretch/>
        </p:blipFill>
        <p:spPr>
          <a:xfrm>
            <a:off x="357120" y="214200"/>
            <a:ext cx="2206800" cy="28101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C:\Documents and Settings\Пользователь\Мои документы\Саша Ковалев.jpeg"/>
          <p:cNvPicPr/>
          <p:nvPr/>
        </p:nvPicPr>
        <p:blipFill>
          <a:blip r:embed="rId3"/>
          <a:stretch/>
        </p:blipFill>
        <p:spPr>
          <a:xfrm>
            <a:off x="500040" y="3714840"/>
            <a:ext cx="1928880" cy="2786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C:\Documents and Settings\Пользователь\Мои документы\памятная доска.jpeg"/>
          <p:cNvPicPr/>
          <p:nvPr/>
        </p:nvPicPr>
        <p:blipFill>
          <a:blip r:embed="rId4"/>
          <a:stretch/>
        </p:blipFill>
        <p:spPr>
          <a:xfrm>
            <a:off x="6143760" y="4071960"/>
            <a:ext cx="2428920" cy="2214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Documents and Settings\Пользователь\Мои документы\Моя музыка\красная звезда.jpeg"/>
          <p:cNvPicPr/>
          <p:nvPr/>
        </p:nvPicPr>
        <p:blipFill>
          <a:blip r:embed="rId5"/>
          <a:stretch/>
        </p:blipFill>
        <p:spPr>
          <a:xfrm>
            <a:off x="3786120" y="8571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Пользователь\Мои документы\Моя музыка\медаль ушакова.jpeg"/>
          <p:cNvPicPr/>
          <p:nvPr/>
        </p:nvPicPr>
        <p:blipFill>
          <a:blip r:embed="rId6"/>
          <a:stretch/>
        </p:blipFill>
        <p:spPr>
          <a:xfrm>
            <a:off x="4000680" y="2643120"/>
            <a:ext cx="1019160" cy="2095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Documents and Settings\Пользователь\Мои документы\Моя музыка\орден.jpeg"/>
          <p:cNvPicPr/>
          <p:nvPr/>
        </p:nvPicPr>
        <p:blipFill>
          <a:blip r:embed="rId7"/>
          <a:stretch/>
        </p:blipFill>
        <p:spPr>
          <a:xfrm>
            <a:off x="3714840" y="485784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" descr="C:\Documents and Settings\Пользователь\Мои документы\Моя музыка\телефон(2)\яяяяяяяяя\Витя Черевичкин.jpg"/>
          <p:cNvPicPr/>
          <p:nvPr/>
        </p:nvPicPr>
        <p:blipFill>
          <a:blip r:embed="rId1"/>
          <a:stretch/>
        </p:blipFill>
        <p:spPr>
          <a:xfrm>
            <a:off x="142920" y="857160"/>
            <a:ext cx="5824440" cy="41436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"/>
          <p:cNvSpPr/>
          <p:nvPr/>
        </p:nvSpPr>
        <p:spPr>
          <a:xfrm>
            <a:off x="942840" y="35712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итя Черевичк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C:\Documents and Settings\Пользователь\Мои документы\Моя музыка\голуби.jpeg"/>
          <p:cNvPicPr/>
          <p:nvPr/>
        </p:nvPicPr>
        <p:blipFill>
          <a:blip r:embed="rId2"/>
          <a:stretch/>
        </p:blipFill>
        <p:spPr>
          <a:xfrm rot="1255800">
            <a:off x="5857560" y="357120"/>
            <a:ext cx="2857320" cy="35910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4"/>
          <p:cNvSpPr/>
          <p:nvPr/>
        </p:nvSpPr>
        <p:spPr>
          <a:xfrm>
            <a:off x="1857240" y="52862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льчик долго им сопротивлялс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 ругал фашистов, проклинал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внезапно голос оборвалс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убит был Витя напова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0"/>
          <p:cNvSpPr/>
          <p:nvPr/>
        </p:nvSpPr>
        <p:spPr>
          <a:xfrm>
            <a:off x="857160" y="3143160"/>
            <a:ext cx="61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Голуби, мои вы милые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летайте в облачную высь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Голуби, вы сизокрылые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небо голубое унеслис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10" descr="C:\Documents and Settings\Пользователь\Мои документы\Моя музыка\77.jpeg"/>
          <p:cNvPicPr/>
          <p:nvPr/>
        </p:nvPicPr>
        <p:blipFill>
          <a:blip r:embed="rId1"/>
          <a:stretch/>
        </p:blipFill>
        <p:spPr>
          <a:xfrm>
            <a:off x="4737240" y="285840"/>
            <a:ext cx="3922560" cy="29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C:\Documents and Settings\Пользователь\Мои документы\Моя музыка\голуби.jpeg"/>
          <p:cNvPicPr/>
          <p:nvPr/>
        </p:nvPicPr>
        <p:blipFill>
          <a:blip r:embed="rId2"/>
          <a:stretch/>
        </p:blipFill>
        <p:spPr>
          <a:xfrm>
            <a:off x="6143760" y="3324240"/>
            <a:ext cx="2584440" cy="3247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C:\Documents and Settings\Пользователь\Мои документы\Моя музыка\888.jpeg"/>
          <p:cNvPicPr/>
          <p:nvPr/>
        </p:nvPicPr>
        <p:blipFill>
          <a:blip r:embed="rId3"/>
          <a:stretch/>
        </p:blipFill>
        <p:spPr>
          <a:xfrm>
            <a:off x="285840" y="214200"/>
            <a:ext cx="22176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0" y="866880"/>
            <a:ext cx="88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«Звезда упала и прервалась чья-то жизн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 просто чья-то жизнь, а жизнь ребенка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Совсем недавно он смеялся звонко 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перь же в небесах лишь след его парит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C:\Documents and Settings\Пользователь\Мои документы\Моя музыка\999.jpeg"/>
          <p:cNvPicPr/>
          <p:nvPr/>
        </p:nvPicPr>
        <p:blipFill>
          <a:blip r:embed="rId2"/>
          <a:stretch/>
        </p:blipFill>
        <p:spPr>
          <a:xfrm>
            <a:off x="214200" y="3600360"/>
            <a:ext cx="1820880" cy="2900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Documents and Settings\Пользователь\Мои документы\Моя музыка\887.jpeg"/>
          <p:cNvPicPr/>
          <p:nvPr/>
        </p:nvPicPr>
        <p:blipFill>
          <a:blip r:embed="rId3"/>
          <a:stretch/>
        </p:blipFill>
        <p:spPr>
          <a:xfrm>
            <a:off x="6643800" y="3643200"/>
            <a:ext cx="2279520" cy="3000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Пользователь\Мои документы\Моя музыка\34566566.jpg"/>
          <p:cNvPicPr/>
          <p:nvPr/>
        </p:nvPicPr>
        <p:blipFill>
          <a:blip r:embed="rId4"/>
          <a:stretch/>
        </p:blipFill>
        <p:spPr>
          <a:xfrm>
            <a:off x="2714760" y="3649680"/>
            <a:ext cx="36558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Пользователь\Мои документы\Моя музыка\Валентин Котик.jpg"/>
          <p:cNvPicPr/>
          <p:nvPr/>
        </p:nvPicPr>
        <p:blipFill>
          <a:blip r:embed="rId1"/>
          <a:stretch/>
        </p:blipFill>
        <p:spPr>
          <a:xfrm>
            <a:off x="428760" y="357120"/>
            <a:ext cx="2143080" cy="28098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433440" y="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алентин Кот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3" descr="C:\Documents and Settings\Пользователь\Мои документы\Моя музыка\Василий Коробко.jpg"/>
          <p:cNvPicPr/>
          <p:nvPr/>
        </p:nvPicPr>
        <p:blipFill>
          <a:blip r:embed="rId2"/>
          <a:stretch/>
        </p:blipFill>
        <p:spPr>
          <a:xfrm>
            <a:off x="3286080" y="357120"/>
            <a:ext cx="2286000" cy="28098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3218760" y="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асилий Коробк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C:\Documents and Settings\Пользователь\Мои документы\Моя музыка\Галя Комлева.jpg"/>
          <p:cNvPicPr/>
          <p:nvPr/>
        </p:nvPicPr>
        <p:blipFill>
          <a:blip r:embed="rId3"/>
          <a:stretch/>
        </p:blipFill>
        <p:spPr>
          <a:xfrm>
            <a:off x="6286680" y="357120"/>
            <a:ext cx="2286000" cy="2809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6279480" y="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аля Комле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5" descr="C:\Documents and Settings\Пользователь\Мои документы\Моя музыка\Лара Михеенко.jpg"/>
          <p:cNvPicPr/>
          <p:nvPr/>
        </p:nvPicPr>
        <p:blipFill>
          <a:blip r:embed="rId4"/>
          <a:stretch/>
        </p:blipFill>
        <p:spPr>
          <a:xfrm>
            <a:off x="428760" y="3786120"/>
            <a:ext cx="2104920" cy="2809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8"/>
          <p:cNvSpPr/>
          <p:nvPr/>
        </p:nvSpPr>
        <p:spPr>
          <a:xfrm>
            <a:off x="434160" y="335772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ра Михеенк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6430320" y="3357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ина Куковеро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439080" y="33577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Юта Бондаровск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6" descr="C:\Documents and Settings\Пользователь\Мои документы\Моя музыка\Юта Бондаровская.jpg"/>
          <p:cNvPicPr/>
          <p:nvPr/>
        </p:nvPicPr>
        <p:blipFill>
          <a:blip r:embed="rId5"/>
          <a:stretch/>
        </p:blipFill>
        <p:spPr>
          <a:xfrm>
            <a:off x="3500280" y="3786120"/>
            <a:ext cx="1866960" cy="280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:\Documents and Settings\Пользователь\Мои документы\Моя музыка\Нипна Куковерова.jpg"/>
          <p:cNvPicPr/>
          <p:nvPr/>
        </p:nvPicPr>
        <p:blipFill>
          <a:blip r:embed="rId6"/>
          <a:stretch/>
        </p:blipFill>
        <p:spPr>
          <a:xfrm>
            <a:off x="6429240" y="3786120"/>
            <a:ext cx="21243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Documents and Settings\Пользователь\Мои документы\Моя музыка\Альберт Купша.jpg"/>
          <p:cNvPicPr/>
          <p:nvPr/>
        </p:nvPicPr>
        <p:blipFill>
          <a:blip r:embed="rId1"/>
          <a:stretch/>
        </p:blipFill>
        <p:spPr>
          <a:xfrm>
            <a:off x="285840" y="428760"/>
            <a:ext cx="2324160" cy="2809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289800" y="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льберт Купш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3" descr="C:\Documents and Settings\Пользователь\Мои документы\Моя музыка\Саша Бородулин.jpg"/>
          <p:cNvPicPr/>
          <p:nvPr/>
        </p:nvPicPr>
        <p:blipFill>
          <a:blip r:embed="rId2"/>
          <a:stretch/>
        </p:blipFill>
        <p:spPr>
          <a:xfrm>
            <a:off x="3214800" y="500040"/>
            <a:ext cx="2047680" cy="27147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3219840" y="14292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ша Бородул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C:\Documents and Settings\Пользователь\Мои документы\Моя музыка\Шура Кобер.jpg"/>
          <p:cNvPicPr/>
          <p:nvPr/>
        </p:nvPicPr>
        <p:blipFill>
          <a:blip r:embed="rId3"/>
          <a:stretch/>
        </p:blipFill>
        <p:spPr>
          <a:xfrm>
            <a:off x="6286680" y="500040"/>
            <a:ext cx="2162160" cy="28098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6286680" y="14292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ура Коб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5" descr="C:\Documents and Settings\Пользователь\Мои документы\Моя музыка\Саша Кондратьев.jpg"/>
          <p:cNvPicPr/>
          <p:nvPr/>
        </p:nvPicPr>
        <p:blipFill>
          <a:blip r:embed="rId4"/>
          <a:stretch/>
        </p:blipFill>
        <p:spPr>
          <a:xfrm>
            <a:off x="285840" y="3714840"/>
            <a:ext cx="2066760" cy="2809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288360" y="3357720"/>
            <a:ext cx="20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ша Кондратье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6" descr="C:\Documents and Settings\Пользователь\Мои документы\Моя музыка\Зина Портнова.jpg"/>
          <p:cNvPicPr/>
          <p:nvPr/>
        </p:nvPicPr>
        <p:blipFill>
          <a:blip r:embed="rId5"/>
          <a:stretch/>
        </p:blipFill>
        <p:spPr>
          <a:xfrm>
            <a:off x="3071880" y="3714840"/>
            <a:ext cx="2419200" cy="2809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0"/>
          <p:cNvSpPr/>
          <p:nvPr/>
        </p:nvSpPr>
        <p:spPr>
          <a:xfrm>
            <a:off x="3077640" y="335772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ина Портно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7" descr="C:\Documents and Settings\Пользователь\Мои документы\Моя музыка\Марит Казей.jpg"/>
          <p:cNvPicPr/>
          <p:nvPr/>
        </p:nvPicPr>
        <p:blipFill>
          <a:blip r:embed="rId6"/>
          <a:stretch/>
        </p:blipFill>
        <p:spPr>
          <a:xfrm>
            <a:off x="6357960" y="3786120"/>
            <a:ext cx="2162160" cy="28098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2"/>
          <p:cNvSpPr/>
          <p:nvPr/>
        </p:nvSpPr>
        <p:spPr>
          <a:xfrm>
            <a:off x="6290280" y="335772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рат Каз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2214720" y="663120"/>
            <a:ext cx="6572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Этому мальчику со столь выразительным именем были бесконечно благодарны наши летчики, которым приказали разбомбить вражеский аэродром. Аэродром находился в Ленинградской области, под Тосно, и тщательно охранялся гитлеровцами. Но Марксу Кротову удалось незаметно подобраться к аэродрому и подать нашим летчикам световой сигна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риентируясь на этот сигнал, бомбардировщики точно атаковали цели и уничтожили десятки вражеских самолетов. А до этого Маркс собирал для партизанского отряда продовольствие и передавал его лесным бойцам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Маркса Кротова схватил гитлеровский патруль, когда он в очередной раз вместе с другими школьниками наводил на цель наши бомбардировщики. Мальчик был казнен на берегу озера Белого в феврале 1942 год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2" descr="C:\Documents and Settings\Пользователь\Мои документы\Моя музыка\Маркс Кротов.jpg"/>
          <p:cNvPicPr/>
          <p:nvPr/>
        </p:nvPicPr>
        <p:blipFill>
          <a:blip r:embed="rId1"/>
          <a:stretch/>
        </p:blipFill>
        <p:spPr>
          <a:xfrm>
            <a:off x="142920" y="142920"/>
            <a:ext cx="2019240" cy="2809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285480" y="32148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ркс Кро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2786040" y="714240"/>
            <a:ext cx="6000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ра Михеенко стала партизанкой-разведчицей. Выведывала расположение вражеских батарей, считала машины, двигавшиеся по большаку в сторону фронта, запоминала, какие поезда, с каким грузом приходят на станцию Пустошка. Лару выдал предатель. Гестаповцы не делали скидок на возраст — после бесплодного допроса девочку расстреляли. Это случилось 4 ноября 1943 года. Лару Михеенко посмертно наградили орденом Отечественной войны I степе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2" descr="C:\Documents and Settings\Пользователь\Мои документы\Моя музыка\Лара Михеенко.jpg"/>
          <p:cNvPicPr/>
          <p:nvPr/>
        </p:nvPicPr>
        <p:blipFill>
          <a:blip r:embed="rId1"/>
          <a:stretch/>
        </p:blipFill>
        <p:spPr>
          <a:xfrm>
            <a:off x="142920" y="214200"/>
            <a:ext cx="2104920" cy="2810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62520" y="32860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ра Михеенк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3" descr="C:\Documents and Settings\Пользователь\Мои документы\Моя музыка\орден.jpeg"/>
          <p:cNvPicPr/>
          <p:nvPr/>
        </p:nvPicPr>
        <p:blipFill>
          <a:blip r:embed="rId2"/>
          <a:stretch/>
        </p:blipFill>
        <p:spPr>
          <a:xfrm>
            <a:off x="285840" y="4024440"/>
            <a:ext cx="21193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Пользователь\Мои документы\Моя музыка\зина портнова.jpeg"/>
          <p:cNvPicPr/>
          <p:nvPr/>
        </p:nvPicPr>
        <p:blipFill>
          <a:blip r:embed="rId1"/>
          <a:stretch/>
        </p:blipFill>
        <p:spPr>
          <a:xfrm>
            <a:off x="5643720" y="357120"/>
            <a:ext cx="2446200" cy="23194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2"/>
          <p:cNvSpPr/>
          <p:nvPr/>
        </p:nvSpPr>
        <p:spPr>
          <a:xfrm>
            <a:off x="214200" y="2786040"/>
            <a:ext cx="8501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енинградская школьница Зина Портнова летом 1941 года поехала на каникулы к бабушке в Белоруссию. Там ее и застала война. Спустя несколько месяцев Зина вступила в подпольную организацию «Юные патриоты». Потом стала разведчицей в партизанском отряде имени Ворошилова. Девочка отличалась бесстрашием, смекалкой и никогда не унывала. Однажды ее арестовали. Прямых улик, что она партизанка, у врагов не было. Возможно, все обошлось бы, если бы Портнову не опознал предатель. Ее долго и жестоко пытали. На одном из допросов Зина выхватила у следователя пистолет и застрелила его и еще двух охранников. Пыталась убежать, но у измученной пытками девочки не хватило сил. Ее схватили и вскоре казнили. Зинаиде Портновой посмертно присвоено звание Героя Советского Союз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3" descr="C:\Documents and Settings\Пользователь\Мои документы\Моя музыка\Зина Портнова.jpg"/>
          <p:cNvPicPr/>
          <p:nvPr/>
        </p:nvPicPr>
        <p:blipFill>
          <a:blip r:embed="rId2"/>
          <a:stretch/>
        </p:blipFill>
        <p:spPr>
          <a:xfrm>
            <a:off x="785880" y="285840"/>
            <a:ext cx="2152440" cy="25002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3434760" y="28584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ина Портно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C:\Documents and Settings\Пользователь\Мои документы\Моя музыка\i.jpeg"/>
          <p:cNvPicPr/>
          <p:nvPr/>
        </p:nvPicPr>
        <p:blipFill>
          <a:blip r:embed="rId3"/>
          <a:stretch/>
        </p:blipFill>
        <p:spPr>
          <a:xfrm>
            <a:off x="4000680" y="1000080"/>
            <a:ext cx="742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C:\Documents and Settings\Пользователь\Мои документы\Моя музыка\Марит Казей.jpg"/>
          <p:cNvPicPr/>
          <p:nvPr/>
        </p:nvPicPr>
        <p:blipFill>
          <a:blip r:embed="rId1"/>
          <a:stretch/>
        </p:blipFill>
        <p:spPr>
          <a:xfrm>
            <a:off x="142920" y="285840"/>
            <a:ext cx="2162160" cy="28098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432360" y="335772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рат Каз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2286000" y="750960"/>
            <a:ext cx="6500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лорусскому школьнику Марату Казею было чуть больше тринадцати лет, когда он ушел к партизанам вместе со своей сестрой. Марат стал разведчиком. Пробирался во вражеские гарнизоны, высматривал, где расположены немецкие посты, штабы, склады с боеприпасами. Сведения, которые он доставлял в отряд, помогали партизанам наносить врагу большие потери. Как и Голиков, Марат взрывал мосты, пускал под откос вражеские эшелоны. В мае 1944 года, когда Советская Армия была уже совсем близко и партизаны должны были вот-вот с ней соединиться, Марат попал в засаду. Подросток отстреливался до последнего патрона. Когда у Марата осталась одна граната, он подпустил врагов поближе и выдернул чеку… Марат Казей посмертно стал Героем Советского Союз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" descr="C:\Documents and Settings\Пользователь\Мои документы\Моя музыка\i.jpeg"/>
          <p:cNvPicPr/>
          <p:nvPr/>
        </p:nvPicPr>
        <p:blipFill>
          <a:blip r:embed="rId2"/>
          <a:stretch/>
        </p:blipFill>
        <p:spPr>
          <a:xfrm>
            <a:off x="500040" y="3929040"/>
            <a:ext cx="12859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643120" y="571680"/>
            <a:ext cx="6072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свои 12 лет Валя, тогда пятиклассник Шепетовской школы, стал разведчиком в партизанском отряде. Он бесстрашно пробирался в расположение вражеских войск, добывал для партизан ценные сведения о постах охраны железнодорожных станций, военных складах, дислокации вражеских подразделений. Не скрывал своей радости, когда взрослые брали его с собой на боевую операцию. На счету Вали Котика шесть взорванных эшелонов врага, множество успешных засад. Он погиб в 14 лет в неравном бою с фашистами. К тому времени Валя Котик уже носил на груди ордена Ленина и Отечественной войны I степени, медаль «Партизану Отечественной войны» II степени. Такие награды сделали бы честь даже командиру партизанского соединения. А тут пацан, подросток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2" descr="C:\Documents and Settings\Пользователь\Мои документы\Моя музыка\Валентин Котик.jpg"/>
          <p:cNvPicPr/>
          <p:nvPr/>
        </p:nvPicPr>
        <p:blipFill>
          <a:blip r:embed="rId1"/>
          <a:stretch/>
        </p:blipFill>
        <p:spPr>
          <a:xfrm>
            <a:off x="214200" y="428760"/>
            <a:ext cx="2143080" cy="2809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Пользователь\Мои документы\Моя музыка\орден Ленина.jpeg"/>
          <p:cNvPicPr/>
          <p:nvPr/>
        </p:nvPicPr>
        <p:blipFill>
          <a:blip r:embed="rId2"/>
          <a:stretch/>
        </p:blipFill>
        <p:spPr>
          <a:xfrm>
            <a:off x="2857680" y="492912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Пользователь\Мои документы\Моя музыка\орден.jpeg"/>
          <p:cNvPicPr/>
          <p:nvPr/>
        </p:nvPicPr>
        <p:blipFill>
          <a:blip r:embed="rId3"/>
          <a:stretch/>
        </p:blipFill>
        <p:spPr>
          <a:xfrm>
            <a:off x="5286240" y="48578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Documents and Settings\Пользователь\Мои документы\Моя музыка\0_650_Medal_partizanu_otechestvennoy_voyni_2_stepen_SSSR.jpg"/>
          <p:cNvPicPr/>
          <p:nvPr/>
        </p:nvPicPr>
        <p:blipFill>
          <a:blip r:embed="rId4"/>
          <a:srcRect l="0" t="0" r="51986" b="0"/>
          <a:stretch/>
        </p:blipFill>
        <p:spPr>
          <a:xfrm>
            <a:off x="7215120" y="4643280"/>
            <a:ext cx="1000080" cy="1951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Пользователь\Мои документы\Моя музыка\ссср.jpeg"/>
          <p:cNvPicPr/>
          <p:nvPr/>
        </p:nvPicPr>
        <p:blipFill>
          <a:blip r:embed="rId5"/>
          <a:stretch/>
        </p:blipFill>
        <p:spPr>
          <a:xfrm>
            <a:off x="428760" y="4071960"/>
            <a:ext cx="1357200" cy="2379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"/>
          <p:cNvSpPr/>
          <p:nvPr/>
        </p:nvSpPr>
        <p:spPr>
          <a:xfrm>
            <a:off x="218880" y="342900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алентин Кот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1-05-08T10:44:30Z</dcterms:modified>
  <cp:revision>23</cp:revision>
  <dc:subject/>
  <dc:title>Слайд 1</dc:title>
</cp:coreProperties>
</file>