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315-57FC-469E-814E-B57E7673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4A1-012B-4809-A06F-63BD19A6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857-A763-49AF-A580-98C1B68A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DB6-EDB3-45FA-A0BB-CAA74C9E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2AD-3F84-4B46-ADB2-53065A5E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C3C-6FD4-4B9B-B36E-6B55FC9B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7E5-BE97-47E4-A5BD-3C4D65F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F2C-3E3F-41B8-A0E9-AC344BF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30D-9065-405E-9781-87AFB79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3E8-E847-44F1-8554-C64288E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23E-EC03-4181-96C0-32B3599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75E-9B2E-425C-B3ED-92B3DAB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867-7E76-4C1B-A273-4D857A804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284msk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863640" y="-27000"/>
            <a:ext cx="8280360" cy="6858000"/>
          </a:xfrm>
          <a:custGeom>
            <a:avLst/>
            <a:gdLst>
              <a:gd name="textAreaLeft" fmla="*/ 0 w 8280360"/>
              <a:gd name="textAreaRight" fmla="*/ 8280720 w 82803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216" h="4320">
                <a:moveTo>
                  <a:pt x="5214" y="0"/>
                </a:moveTo>
                <a:lnTo>
                  <a:pt x="436" y="0"/>
                </a:lnTo>
                <a:lnTo>
                  <a:pt x="386" y="116"/>
                </a:lnTo>
                <a:lnTo>
                  <a:pt x="341" y="239"/>
                </a:lnTo>
                <a:lnTo>
                  <a:pt x="294" y="362"/>
                </a:lnTo>
                <a:lnTo>
                  <a:pt x="252" y="489"/>
                </a:lnTo>
                <a:lnTo>
                  <a:pt x="210" y="619"/>
                </a:lnTo>
                <a:lnTo>
                  <a:pt x="176" y="752"/>
                </a:lnTo>
                <a:lnTo>
                  <a:pt x="142" y="885"/>
                </a:lnTo>
                <a:lnTo>
                  <a:pt x="115" y="1018"/>
                </a:lnTo>
                <a:lnTo>
                  <a:pt x="87" y="1153"/>
                </a:lnTo>
                <a:lnTo>
                  <a:pt x="64" y="1293"/>
                </a:lnTo>
                <a:lnTo>
                  <a:pt x="42" y="1433"/>
                </a:lnTo>
                <a:lnTo>
                  <a:pt x="27" y="1576"/>
                </a:lnTo>
                <a:lnTo>
                  <a:pt x="15" y="1719"/>
                </a:lnTo>
                <a:lnTo>
                  <a:pt x="3" y="1865"/>
                </a:lnTo>
                <a:lnTo>
                  <a:pt x="0" y="2012"/>
                </a:lnTo>
                <a:lnTo>
                  <a:pt x="0" y="2162"/>
                </a:lnTo>
                <a:lnTo>
                  <a:pt x="0" y="2308"/>
                </a:lnTo>
                <a:lnTo>
                  <a:pt x="3" y="2455"/>
                </a:lnTo>
                <a:lnTo>
                  <a:pt x="15" y="2601"/>
                </a:lnTo>
                <a:lnTo>
                  <a:pt x="27" y="2744"/>
                </a:lnTo>
                <a:lnTo>
                  <a:pt x="42" y="2887"/>
                </a:lnTo>
                <a:lnTo>
                  <a:pt x="64" y="3027"/>
                </a:lnTo>
                <a:lnTo>
                  <a:pt x="87" y="3167"/>
                </a:lnTo>
                <a:lnTo>
                  <a:pt x="115" y="3302"/>
                </a:lnTo>
                <a:lnTo>
                  <a:pt x="142" y="3435"/>
                </a:lnTo>
                <a:lnTo>
                  <a:pt x="176" y="3572"/>
                </a:lnTo>
                <a:lnTo>
                  <a:pt x="210" y="3701"/>
                </a:lnTo>
                <a:lnTo>
                  <a:pt x="252" y="3831"/>
                </a:lnTo>
                <a:lnTo>
                  <a:pt x="294" y="3958"/>
                </a:lnTo>
                <a:lnTo>
                  <a:pt x="341" y="4081"/>
                </a:lnTo>
                <a:lnTo>
                  <a:pt x="386" y="4204"/>
                </a:lnTo>
                <a:lnTo>
                  <a:pt x="436" y="4320"/>
                </a:lnTo>
                <a:lnTo>
                  <a:pt x="5216" y="4320"/>
                </a:lnTo>
                <a:lnTo>
                  <a:pt x="5214" y="0"/>
                </a:lnTo>
                <a:close/>
              </a:path>
            </a:pathLst>
          </a:cu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391520" y="380880"/>
            <a:ext cx="17524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315200" y="380880"/>
            <a:ext cx="255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09680" y="2133720"/>
            <a:ext cx="5105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Н Т Е Р К Л У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школы № 12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м. Наташи Ковш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61360" y="6629400"/>
            <a:ext cx="25200" cy="152280"/>
          </a:xfrm>
          <a:prstGeom prst="rect">
            <a:avLst/>
          </a:prstGeom>
          <a:solidFill>
            <a:srgbClr val="65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391520" y="6629400"/>
            <a:ext cx="25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596360" y="661500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284msk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10242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08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456000" cy="2282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5292720" y="191628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251784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2571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256400" y="112536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наши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06028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3780000" y="177336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6"/>
          <a:stretch/>
        </p:blipFill>
        <p:spPr>
          <a:xfrm>
            <a:off x="6516720" y="4292640"/>
            <a:ext cx="1906560" cy="23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7"/>
          <a:stretch/>
        </p:blipFill>
        <p:spPr>
          <a:xfrm>
            <a:off x="6516720" y="1773360"/>
            <a:ext cx="19238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539640" y="15825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йдя на официальный сайт нашей школы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284msk.r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лавной строке разделов сайта в центре мы видим раздел «ИнтерКлуб», в котором находятся следующие подразде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Клуба – все самое новое и интересное, что происходит или ожи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Important Information)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я, которая может пригодится о времени собраний Актива клуба, официальные мероприятия клуба, отмечаемые даты и праздники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список членов клуба, сфера ответств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ВОЛИКА ИнтерКл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а и гим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ссия и сло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УЛЬТАТЫ РАБОТЫ 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фотогалере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684360" y="1216080"/>
            <a:ext cx="6767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ИВ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сиков Никита (6 В) –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дат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кова Вал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шин Алексей (5 А) - фотокорреспон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ень Вячес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кий Дмит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мишевская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ов П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востьянова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брова Елизавета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а Мария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шевский Влади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биск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ноградова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нов Алекса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чурин 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42160" y="1268280"/>
            <a:ext cx="80215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мволика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у нашего ИнтерКлуба разработали первые участники клуб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символ единения разных народов, стран и континентов на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ного ша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1120" y="1484280"/>
            <a:ext cx="781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мн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what a wonderful journey, travelling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we go, what did we s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ur journey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на свете лучше не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родить друзьям по белу све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кто дружен – не страшны трево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любые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и до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11280" y="1268280"/>
            <a:ext cx="7921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тябрь-Ноя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имволики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труктуры и концепции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проектных работ по те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мена» (выбор – заимствование влияния национальных традиц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циональный костюм» (истор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ка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творческих решений на тему: миссия, слоган и гимн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структуры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стенгазет на тему «Национальные праздники и обычаи разных народов» (Новый год – Рождество в разных стран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1916280"/>
            <a:ext cx="832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1763640" y="1125360"/>
            <a:ext cx="691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68360" y="748800"/>
            <a:ext cx="86756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1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нварь – февраль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миссии, слогана и гимна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азмещение в Интернете титульных статей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епетиции спектакля на англий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недел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тематических стенгазет, поэзии, песни и инсценировки на английском, немецком и французском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– «Рецепты национальной кухни. Праздник масленицы и его аналог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тематических бесед по теме «Особенности и традиции празднования Пасх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едения раздела ИнтерКлуба на сайте на постоян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рель – май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ые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кскурсия по Москве для иностранного гостя» (любимые достопримечательности города, досуг и развлеч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 России, о котором я хотел бы рассказ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ста, которые я хотел бы посети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и обновление сайта школы по разделу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194292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097440" cy="19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070440" cy="19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40984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313080" cy="1960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314172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5"/>
          <a:stretch/>
        </p:blipFill>
        <p:spPr>
          <a:xfrm>
            <a:off x="5148360" y="198900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1:29Z</dcterms:created>
  <dc:creator>User</dc:creator>
  <dc:description/>
  <dc:language>en-US</dc:language>
  <cp:lastModifiedBy>ZooM</cp:lastModifiedBy>
  <dcterms:modified xsi:type="dcterms:W3CDTF">2013-11-07T13:50:56Z</dcterms:modified>
  <cp:revision>62</cp:revision>
  <dc:subject/>
  <dc:title>Слайд 1</dc:title>
</cp:coreProperties>
</file>