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1A8-8DC7-4724-9C6E-2BB1C90E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ED2-8655-4F77-843C-E89064EF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D18-4371-42BB-8A43-2FB64D8F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13E-83DA-4625-A906-443C99ED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FCC-840B-40F3-916D-C0AC2BC4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93B8-EE72-4C5C-A80C-D9F6D198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F6A-5E5B-436E-A7D7-068E86CD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CF4-8205-4BB5-B633-55A5A566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C65-E09D-403C-9A32-BA13FB55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5C2-C2AB-4A9E-8D87-56009B76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C90-C271-48F6-96E4-85EDA85E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0BE-E6DB-47C2-9238-728811A0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ED69-D72C-4730-9142-1611AE8B6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284msk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863640" y="-27000"/>
            <a:ext cx="8280360" cy="6858000"/>
          </a:xfrm>
          <a:custGeom>
            <a:avLst/>
            <a:gdLst>
              <a:gd name="textAreaLeft" fmla="*/ 0 w 8280360"/>
              <a:gd name="textAreaRight" fmla="*/ 8280720 w 82803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216" h="4320">
                <a:moveTo>
                  <a:pt x="5214" y="0"/>
                </a:moveTo>
                <a:lnTo>
                  <a:pt x="436" y="0"/>
                </a:lnTo>
                <a:lnTo>
                  <a:pt x="386" y="116"/>
                </a:lnTo>
                <a:lnTo>
                  <a:pt x="341" y="239"/>
                </a:lnTo>
                <a:lnTo>
                  <a:pt x="294" y="362"/>
                </a:lnTo>
                <a:lnTo>
                  <a:pt x="252" y="489"/>
                </a:lnTo>
                <a:lnTo>
                  <a:pt x="210" y="619"/>
                </a:lnTo>
                <a:lnTo>
                  <a:pt x="176" y="752"/>
                </a:lnTo>
                <a:lnTo>
                  <a:pt x="142" y="885"/>
                </a:lnTo>
                <a:lnTo>
                  <a:pt x="115" y="1018"/>
                </a:lnTo>
                <a:lnTo>
                  <a:pt x="87" y="1153"/>
                </a:lnTo>
                <a:lnTo>
                  <a:pt x="64" y="1293"/>
                </a:lnTo>
                <a:lnTo>
                  <a:pt x="42" y="1433"/>
                </a:lnTo>
                <a:lnTo>
                  <a:pt x="27" y="1576"/>
                </a:lnTo>
                <a:lnTo>
                  <a:pt x="15" y="1719"/>
                </a:lnTo>
                <a:lnTo>
                  <a:pt x="3" y="1865"/>
                </a:lnTo>
                <a:lnTo>
                  <a:pt x="0" y="2012"/>
                </a:lnTo>
                <a:lnTo>
                  <a:pt x="0" y="2162"/>
                </a:lnTo>
                <a:lnTo>
                  <a:pt x="0" y="2308"/>
                </a:lnTo>
                <a:lnTo>
                  <a:pt x="3" y="2455"/>
                </a:lnTo>
                <a:lnTo>
                  <a:pt x="15" y="2601"/>
                </a:lnTo>
                <a:lnTo>
                  <a:pt x="27" y="2744"/>
                </a:lnTo>
                <a:lnTo>
                  <a:pt x="42" y="2887"/>
                </a:lnTo>
                <a:lnTo>
                  <a:pt x="64" y="3027"/>
                </a:lnTo>
                <a:lnTo>
                  <a:pt x="87" y="3167"/>
                </a:lnTo>
                <a:lnTo>
                  <a:pt x="115" y="3302"/>
                </a:lnTo>
                <a:lnTo>
                  <a:pt x="142" y="3435"/>
                </a:lnTo>
                <a:lnTo>
                  <a:pt x="176" y="3572"/>
                </a:lnTo>
                <a:lnTo>
                  <a:pt x="210" y="3701"/>
                </a:lnTo>
                <a:lnTo>
                  <a:pt x="252" y="3831"/>
                </a:lnTo>
                <a:lnTo>
                  <a:pt x="294" y="3958"/>
                </a:lnTo>
                <a:lnTo>
                  <a:pt x="341" y="4081"/>
                </a:lnTo>
                <a:lnTo>
                  <a:pt x="386" y="4204"/>
                </a:lnTo>
                <a:lnTo>
                  <a:pt x="436" y="4320"/>
                </a:lnTo>
                <a:lnTo>
                  <a:pt x="5216" y="4320"/>
                </a:lnTo>
                <a:lnTo>
                  <a:pt x="5214" y="0"/>
                </a:lnTo>
                <a:close/>
              </a:path>
            </a:pathLst>
          </a:custGeom>
          <a:solidFill>
            <a:srgbClr val="005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391520" y="380880"/>
            <a:ext cx="17524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315200" y="380880"/>
            <a:ext cx="255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09680" y="2133720"/>
            <a:ext cx="51055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Н Т Е Р К Л У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школы № 12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м. Наташи Ковш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461360" y="6629400"/>
            <a:ext cx="25200" cy="152280"/>
          </a:xfrm>
          <a:prstGeom prst="rect">
            <a:avLst/>
          </a:prstGeom>
          <a:solidFill>
            <a:srgbClr val="65a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391520" y="6629400"/>
            <a:ext cx="252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7596360" y="6615000"/>
            <a:ext cx="97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1284msk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1"/>
          <a:stretch/>
        </p:blipFill>
        <p:spPr>
          <a:xfrm>
            <a:off x="7812000" y="549360"/>
            <a:ext cx="10242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468360" y="47808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465120" y="112536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работы: Тематические стенгаз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087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3456000" cy="2282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5292720" y="191628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3"/>
          <p:cNvSpPr/>
          <p:nvPr/>
        </p:nvSpPr>
        <p:spPr>
          <a:xfrm>
            <a:off x="468360" y="47808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5120" y="112536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работы: Тематические стенгаз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2997360" cy="2247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539640" y="4365720"/>
            <a:ext cx="2997360" cy="2247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3995640" y="2205000"/>
            <a:ext cx="2517840" cy="3357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6227640" y="2205000"/>
            <a:ext cx="2571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256400" y="1125360"/>
            <a:ext cx="55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работы: наши про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2060280" cy="237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3"/>
          <a:stretch/>
        </p:blipFill>
        <p:spPr>
          <a:xfrm>
            <a:off x="684360" y="4292640"/>
            <a:ext cx="2087280" cy="237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4"/>
          <a:stretch/>
        </p:blipFill>
        <p:spPr>
          <a:xfrm>
            <a:off x="3780000" y="1773360"/>
            <a:ext cx="201600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5"/>
          <a:stretch/>
        </p:blipFill>
        <p:spPr>
          <a:xfrm>
            <a:off x="3780000" y="4292640"/>
            <a:ext cx="2016000" cy="237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6"/>
          <a:stretch/>
        </p:blipFill>
        <p:spPr>
          <a:xfrm>
            <a:off x="6516720" y="4292640"/>
            <a:ext cx="1906560" cy="234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7"/>
          <a:stretch/>
        </p:blipFill>
        <p:spPr>
          <a:xfrm>
            <a:off x="6516720" y="1773360"/>
            <a:ext cx="19238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539640" y="1582560"/>
            <a:ext cx="813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йдя на официальный сайт нашей школы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284msk.r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главной строке разделов сайта в центре мы видим раздел «ИнтерКлуб», в котором находятся следующие подразде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ВОСТ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терКлуба – все самое новое и интересное, что происходит или ожи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ry Important Information)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формация, которая может пригодится о времени собраний Актива клуба, официальные мероприятия клуба, отмечаемые даты и праздники и 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КТИВ ИнтерКлуб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список членов клуба, сфера ответств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МВОЛИКА ИнтерКл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мблема и гим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ссия и сло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Н РАБОТЫ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ЗУЛЬТАТЫ РАБОТЫ  ИнтерКлуб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фотогалере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684360" y="1216080"/>
            <a:ext cx="676728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КТИВ ИнтерКлуб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сиков Никита (6 В) – член редколле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датова По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дкова Вален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шин Алексей (5 А) - фотокорреспонд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изень Вячесла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кий Дмитр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мишевская Анаста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сов Пет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востьянова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брова Елизавета (6 Б) - член редколле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а Мария (6 Б) - член редколле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шевский Влади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бискова По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ноградова Екате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инов Алексан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чурин Ар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8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542160" y="1268280"/>
            <a:ext cx="80215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имволика ИнтерКлуб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мблему нашего ИнтерКлуба разработали первые участники клуб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 символ единения разных народов, стран и континентов наш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емного ша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059280" y="3068640"/>
            <a:ext cx="30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3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91120" y="1484280"/>
            <a:ext cx="78130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имн ИнтерКлуб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 what a wonderful journey, travelling round the wor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id we go, what did we s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ur journey round the wor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его на свете лучше не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родить друзьям по белу све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 кто дружен – не страшны тревог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 любые д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ги дор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611280" y="1268280"/>
            <a:ext cx="79214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Н РАБОТЫ ИнтерКлуба на 2010 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ктябрь-Ноябрь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символики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структуры и концепции раздела ИнтерКлуба на сайте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ы проектных работ по тем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мена» (выбор – заимствование влияния национальных традиц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циональный костюм» (истор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кабрь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творческих решений на тему: миссия, слоган и гимн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ие структуры раздела ИнтерКлуба на сайте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стенгазет на тему «Национальные праздники и обычаи разных народов» (Новый год – Рождество в разных стран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68360" y="1916280"/>
            <a:ext cx="8327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7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1763640" y="1125360"/>
            <a:ext cx="6913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468360" y="748800"/>
            <a:ext cx="867564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Н РАБОТЫ ИнтерКлуба на 2011 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нварь – февраль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ие миссии, слогана и гимна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и размещение в Интернете титульных статей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и репетиции спектакля на английском язы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недели иностранных язы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ы тематических стенгазет, поэзии, песни и инсценировки на английском, немецком и французском язы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т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– «Рецепты национальной кухни. Праздник масленицы и его аналоги в других стра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тематических бесед по теме «Особенности и традиции празднования Пасх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ведения раздела ИнтерКлуба на сайте на постоянной осн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прель – май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ные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кскурсия по Москве для иностранного гостя» (любимые достопримечательности города, досуг и развлеч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ород России, о котором я хотел бы рассказа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еста, которые я хотел бы посети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ние и обновление сайта школы по разделу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6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465120" y="112536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работы: Тематические стенгаз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1942920" cy="1731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097440" cy="197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3070440" cy="197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"/>
          <p:cNvPicPr/>
          <p:nvPr/>
        </p:nvPicPr>
        <p:blipFill>
          <a:blip r:embed="rId5"/>
          <a:stretch/>
        </p:blipFill>
        <p:spPr>
          <a:xfrm>
            <a:off x="6300720" y="2133720"/>
            <a:ext cx="2409840" cy="3527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3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465120" y="112536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работы: Тематические стенгаз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313080" cy="1960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3240000" cy="201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4"/>
          <a:stretch/>
        </p:blipFill>
        <p:spPr>
          <a:xfrm>
            <a:off x="5148360" y="4365720"/>
            <a:ext cx="3141720" cy="201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5"/>
          <a:stretch/>
        </p:blipFill>
        <p:spPr>
          <a:xfrm>
            <a:off x="5148360" y="1989000"/>
            <a:ext cx="3095640" cy="1944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13:21:29Z</dcterms:created>
  <dc:creator>User</dc:creator>
  <dc:description/>
  <dc:language>en-US</dc:language>
  <cp:lastModifiedBy>ZooM</cp:lastModifiedBy>
  <dcterms:modified xsi:type="dcterms:W3CDTF">2013-11-07T13:50:56Z</dcterms:modified>
  <cp:revision>62</cp:revision>
  <dc:subject/>
  <dc:title>Слайд 1</dc:title>
</cp:coreProperties>
</file>