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752-0D8E-42C8-A29E-9B6A3797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67B-2167-4CBF-8895-A97BBFC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B62-ABB7-4B07-B0BA-71D2CED0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D64-12BD-4A8B-92F6-4BDFFBF4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2A5-2250-4475-9DD4-056A1B02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48B-7214-4E53-877A-447CCE0B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41D-22B3-4528-98BF-365406B9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6658-6D75-459A-97C3-B2E32C46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8B5-E6C6-4A3B-9DC5-CB83601F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3F3-8E41-47ED-AE8A-8CDA9D5F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EBD-7003-4FE0-A3DA-668498C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FBF-9B02-4AE2-A918-D84B13DE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7C9-C1B2-4366-B5A8-F54BCC848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284msk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863640" y="-27000"/>
            <a:ext cx="8280360" cy="6858000"/>
          </a:xfrm>
          <a:custGeom>
            <a:avLst/>
            <a:gdLst>
              <a:gd name="textAreaLeft" fmla="*/ 0 w 8280360"/>
              <a:gd name="textAreaRight" fmla="*/ 8280720 w 82803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216" h="4320">
                <a:moveTo>
                  <a:pt x="5214" y="0"/>
                </a:moveTo>
                <a:lnTo>
                  <a:pt x="436" y="0"/>
                </a:lnTo>
                <a:lnTo>
                  <a:pt x="386" y="116"/>
                </a:lnTo>
                <a:lnTo>
                  <a:pt x="341" y="239"/>
                </a:lnTo>
                <a:lnTo>
                  <a:pt x="294" y="362"/>
                </a:lnTo>
                <a:lnTo>
                  <a:pt x="252" y="489"/>
                </a:lnTo>
                <a:lnTo>
                  <a:pt x="210" y="619"/>
                </a:lnTo>
                <a:lnTo>
                  <a:pt x="176" y="752"/>
                </a:lnTo>
                <a:lnTo>
                  <a:pt x="142" y="885"/>
                </a:lnTo>
                <a:lnTo>
                  <a:pt x="115" y="1018"/>
                </a:lnTo>
                <a:lnTo>
                  <a:pt x="87" y="1153"/>
                </a:lnTo>
                <a:lnTo>
                  <a:pt x="64" y="1293"/>
                </a:lnTo>
                <a:lnTo>
                  <a:pt x="42" y="1433"/>
                </a:lnTo>
                <a:lnTo>
                  <a:pt x="27" y="1576"/>
                </a:lnTo>
                <a:lnTo>
                  <a:pt x="15" y="1719"/>
                </a:lnTo>
                <a:lnTo>
                  <a:pt x="3" y="1865"/>
                </a:lnTo>
                <a:lnTo>
                  <a:pt x="0" y="2012"/>
                </a:lnTo>
                <a:lnTo>
                  <a:pt x="0" y="2162"/>
                </a:lnTo>
                <a:lnTo>
                  <a:pt x="0" y="2308"/>
                </a:lnTo>
                <a:lnTo>
                  <a:pt x="3" y="2455"/>
                </a:lnTo>
                <a:lnTo>
                  <a:pt x="15" y="2601"/>
                </a:lnTo>
                <a:lnTo>
                  <a:pt x="27" y="2744"/>
                </a:lnTo>
                <a:lnTo>
                  <a:pt x="42" y="2887"/>
                </a:lnTo>
                <a:lnTo>
                  <a:pt x="64" y="3027"/>
                </a:lnTo>
                <a:lnTo>
                  <a:pt x="87" y="3167"/>
                </a:lnTo>
                <a:lnTo>
                  <a:pt x="115" y="3302"/>
                </a:lnTo>
                <a:lnTo>
                  <a:pt x="142" y="3435"/>
                </a:lnTo>
                <a:lnTo>
                  <a:pt x="176" y="3572"/>
                </a:lnTo>
                <a:lnTo>
                  <a:pt x="210" y="3701"/>
                </a:lnTo>
                <a:lnTo>
                  <a:pt x="252" y="3831"/>
                </a:lnTo>
                <a:lnTo>
                  <a:pt x="294" y="3958"/>
                </a:lnTo>
                <a:lnTo>
                  <a:pt x="341" y="4081"/>
                </a:lnTo>
                <a:lnTo>
                  <a:pt x="386" y="4204"/>
                </a:lnTo>
                <a:lnTo>
                  <a:pt x="436" y="4320"/>
                </a:lnTo>
                <a:lnTo>
                  <a:pt x="5216" y="4320"/>
                </a:lnTo>
                <a:lnTo>
                  <a:pt x="5214" y="0"/>
                </a:lnTo>
                <a:close/>
              </a:path>
            </a:pathLst>
          </a:cu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391520" y="380880"/>
            <a:ext cx="17524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315200" y="380880"/>
            <a:ext cx="255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09680" y="2133720"/>
            <a:ext cx="51055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Н Т Е Р К Л У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школы № 12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м. Наташи Ковш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61360" y="6629400"/>
            <a:ext cx="25200" cy="152280"/>
          </a:xfrm>
          <a:prstGeom prst="rect">
            <a:avLst/>
          </a:prstGeom>
          <a:solidFill>
            <a:srgbClr val="65a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7391520" y="6629400"/>
            <a:ext cx="25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596360" y="661500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284msk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1"/>
          <a:stretch/>
        </p:blipFill>
        <p:spPr>
          <a:xfrm>
            <a:off x="7812000" y="549360"/>
            <a:ext cx="10242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456000" cy="2087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456000" cy="2282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5292720" y="191628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468360" y="47808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2517840" cy="3357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6227640" y="2205000"/>
            <a:ext cx="2571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256400" y="1125360"/>
            <a:ext cx="557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наши про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06028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20872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4"/>
          <a:stretch/>
        </p:blipFill>
        <p:spPr>
          <a:xfrm>
            <a:off x="3780000" y="177336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201600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6"/>
          <a:stretch/>
        </p:blipFill>
        <p:spPr>
          <a:xfrm>
            <a:off x="6516720" y="4292640"/>
            <a:ext cx="1906560" cy="234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7"/>
          <a:stretch/>
        </p:blipFill>
        <p:spPr>
          <a:xfrm>
            <a:off x="6516720" y="1773360"/>
            <a:ext cx="19238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539640" y="15825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йдя на официальный сайт нашей школы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284msk.r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главной строке разделов сайта в центре мы видим раздел «ИнтерКлуб», в котором находятся следующие подразде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В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терКлуба – все самое новое и интересное, что происходит или ожи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ry Important Information)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формация, которая может пригодится о времени собраний Актива клуба, официальные мероприятия клуба, отмечаемые даты и праздники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КТИВ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– список членов клуба, сфера ответств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ВОЛИКА ИнтерКл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а и гим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ссия и сло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УЛЬТАТЫ РАБОТЫ  ИнтерКлуб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фотогалере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684360" y="1216080"/>
            <a:ext cx="676728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КТИВ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сиков Никита (6 В) –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дат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дкова Вален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шин Алексей (5 А) - фотокорреспон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ень Вячес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кий Дмит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мишевская Анаста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сов Пе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востьянова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брова Елизавета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а Мария (6 Б) - член редколле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шевский Влади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бискова П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ноградова Екате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инов Алексан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чурин Ар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542160" y="1268280"/>
            <a:ext cx="80215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мволика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мблему нашего ИнтерКлуба разработали первые участники клуб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символ единения разных народов, стран и континентов наш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ного ша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059280" y="3068640"/>
            <a:ext cx="3097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1120" y="1484280"/>
            <a:ext cx="781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мн ИнтерКлуб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 what a wonderful journey, travelling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id we go, what did we s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ur journey round the wor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чего на свете лучше не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родить друзьям по белу све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 кто дружен – не страшны трево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м любые д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и до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611280" y="1268280"/>
            <a:ext cx="79214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тябрь-Ноя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имволики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структуры и концепции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проектных работ по тем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мена» (выбор – заимствование влияния национальных традиц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циональный костюм» (истор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екабрь 201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творческих решений на тему: миссия, слоган и гимн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структуры раздела ИнтерКлуба на сайт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стенгазет на тему «Национальные праздники и обычаи разных народов» (Новый год – Рождество в разных стран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68360" y="1916280"/>
            <a:ext cx="8327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1763640" y="1125360"/>
            <a:ext cx="6913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68360" y="748800"/>
            <a:ext cx="86756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АН РАБОТЫ ИнтерКлуба на 2011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нварь – февраль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миссии, слогана и гимна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азмещение в Интернете титульных статей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и репетиции спектакля на английском язы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недели иностранных яз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ы тематических стенгазет, поэзии, песни и инсценировки на английском, немецком и французском язы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т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– «Рецепты национальной кухни. Праздник масленицы и его аналоги в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ие тематических бесед по теме «Особенности и традиции празднования Пасх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едения раздела ИнтерКлуба на сайте на постоянной осн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рель – май 201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ые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кскурсия по Москве для иностранного гостя» (любимые достопримечательности города, досуг и развлеч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ород России, о котором я хотел бы рассказ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еста, которые я хотел бы посети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и обновление сайта школы по разделу ИнтерКл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194292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097440" cy="19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070440" cy="19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409840" cy="3527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23840" cy="936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465120" y="112536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работы: Тематические стенгаз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313080" cy="1960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324000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4"/>
          <a:stretch/>
        </p:blipFill>
        <p:spPr>
          <a:xfrm>
            <a:off x="5148360" y="4365720"/>
            <a:ext cx="314172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5"/>
          <a:stretch/>
        </p:blipFill>
        <p:spPr>
          <a:xfrm>
            <a:off x="5148360" y="198900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68360" y="476640"/>
            <a:ext cx="34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нтерКлуб школы  № 12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21:29Z</dcterms:created>
  <dc:creator>User</dc:creator>
  <dc:description/>
  <dc:language>en-US</dc:language>
  <cp:lastModifiedBy>ZooM</cp:lastModifiedBy>
  <dcterms:modified xsi:type="dcterms:W3CDTF">2013-11-07T13:50:56Z</dcterms:modified>
  <cp:revision>62</cp:revision>
  <dc:subject/>
  <dc:title>Слайд 1</dc:title>
</cp:coreProperties>
</file>