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CF2-2C8F-4411-93D9-814F7FA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7B6-D8F2-4B49-BE6D-46F34A1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8BC52-F488-490F-8E90-76751F9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B56A-6B3D-4AA0-8547-90D26A9E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24090-7E4C-46E1-8BC8-27AEA54F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39FC8-A09D-498B-A44A-362C337F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2AC07-6342-404A-B5DF-3AE7D21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0EEFB-176E-4179-9A4C-30DB12A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81C15-68B3-49FE-8F1A-FCA403E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0CB3F-4CE4-4355-9C8B-DF970421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35549-8348-45DD-B686-96A3A737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2C7-E363-445E-8E3E-9A33640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413-3D80-4FC5-8B51-A9DC1046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81A-C400-4F3D-AAB2-7D44B42F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BDB3-3E17-44AB-A458-C3090A9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920-4C9C-4268-BB6F-0DD4DC8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9FE-5788-4C11-B6E6-AC26F598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B8E-840C-4B29-8893-64C2F97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CF13-141F-4E76-8F73-9EE6ADE3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467E-E9E7-4915-8CAB-8FCB288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919-1BBB-47E1-BC14-42DA546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BDE-9A7B-4E15-A0D7-BDB9DC5B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EFC2-46E3-4317-8943-5F1026B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A09E-B281-48F8-99D1-441C5C7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8AD9-48C0-474D-9AD7-AFAAB29F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2071-7129-4FBA-8EDD-6B1F5BEB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0013-12BB-452A-8C3D-B1DD3C5F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49C2-3702-4479-A658-557F801A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8F63-268D-40E8-B779-A9678D5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B92B5-188D-4FEF-A788-87163138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EF25-0058-4D33-A75B-7088D5B0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086-41AB-4289-8E81-86E28F1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FDE7-3A11-4633-A1C4-EA3B61F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24E7-BADA-4D5E-9270-E1997873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BF72-AB97-44A7-AA1C-6ABF9A7A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F051A-7232-411E-81F7-0A9A0CF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6EB5-EB73-4DC7-8FA1-6973EA9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95F9-22D9-4C41-8B20-7F6E42E5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8E3C-BB71-4881-A4CB-C86F9303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7166-CC3E-4F77-B9F3-53141CD2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A88E-0FEB-40F0-9DDB-ABFAEC31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117C-D66D-4D40-BD25-DAB7E5A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235-70DA-4E4F-86C1-6F08BFE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9E4E-646A-4C35-BEF7-AD660003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8A9D-2521-4C9A-B707-4353286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C678-3D54-47DF-A0A3-B421A6F2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7C323-20DC-4427-84C2-C6AF81B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51F0-A6BC-4AF0-998E-B27AA4A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9D33-E89B-4696-BA88-BDFA626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B871-88E3-4982-978F-7EB5E56D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D4C4D-8C08-4BB9-A5AF-D673FA2A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989F-E71E-495F-980C-873000D7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2A934-ECAD-4C80-8E95-2D91DFE1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078-9B31-4878-B7A1-92BF9FD1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8B35-81F1-4685-A86D-76CD6FA6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CF0A-D622-42B2-8728-849BD185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C6BF-1D76-4286-85A6-AA40316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2964-9932-4720-958D-6A700A2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7BFE-5A97-4BDB-BCF4-ED8764B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331E-66FA-431A-8399-CD5FDE5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2DC5F-DF07-4B31-8763-5884596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98B8-4736-4DFE-9F0D-EE116A8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C0D5-AFC4-427D-9567-931AE10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B503D-070E-4442-8732-A46DDCDC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A5D-4AAB-4632-A9F0-A2F5A33C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4B6E-1B5F-4B66-B028-AF617080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CFAB6-47CC-4753-B908-745949CE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3BEB-8256-4D80-8F01-D6BEC64E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7CF5-FF2E-45D2-B4A2-2D49D3A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D8AB-2FBF-47FE-9DAC-684D064F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5CA2A-216B-42AD-B3B2-9439F0D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F1736-8065-43AD-B494-A012D43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86F5-D761-4FD9-B79B-A4DDB2C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A513-998F-4F18-9A84-6905FB4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4288-D94A-4DA9-A65A-CAA41A6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537-2811-4F05-92EB-5005FF9C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5059A-163D-4A53-9D13-CF4B553C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E983D-ED58-44C5-9787-295BAC70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C226E-57EF-40A1-B4DD-562FAF12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8FDC4-D475-4B03-A2E1-8BE6FC9D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3696-DB0A-48B5-83D8-678061D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EE98-E708-4B81-BD08-709F23D4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E0860-3ADC-4324-848D-1932E88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673F-495D-48A1-89C0-10C801A8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84BE9-F97D-4F9F-A6BF-451AABBC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AC56-7C1C-4BCD-8A13-88783C0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463-9CAA-4C59-9DE3-E46461FB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85FB-2359-4F53-846F-7CE293D3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5EA3-A850-459D-AA89-ED157E8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A6FBD-7D51-46CD-958A-B495B478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0BB6-8078-4783-B4DF-C4276AA1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001D-ACE8-4017-8357-5F75D687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60B8-9404-4615-BAAE-3D6B8982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1DCD-F33A-41D9-BE44-14484ED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55DB-5367-4DE7-AE74-3974F756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BB1B4-0570-455A-A8F0-DF17397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A8ADB-D9AA-48EB-99F2-30132482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C8F-A1A0-4FCD-9181-67FC46E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F74C3-BF63-426E-AEAE-45D7BBDD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A35B1-8561-4E9A-83F0-E81B9DB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6D38-AC98-41A3-9493-C3639D9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8BCE-C767-4515-AAE3-6D96116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7F0CF-EFB6-4190-A3E5-E09C33E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CA9D6-2E9E-400F-961A-62FC4372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71494-0B46-42FE-AC40-017C303C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0919E-CB5A-4731-A590-5131F5BD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10B3B-940B-4969-9BFD-381A7265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FA870-6CD1-433F-8FC2-E29483A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80B0-5C61-4895-ABA7-BAF1CBA857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0A2E-4703-4B35-8357-E2F7B68D67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0E5E-7E1D-47CC-B62B-90EE4247BC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29C-B9E4-46D2-BC64-989425F5D0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598C-0949-4FBF-9CD2-7DF9D93504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81D-F9F1-47A6-AB17-0D33753F711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A13-A81C-417D-AC2F-6DEA6335EF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A48-6A39-45EF-98B4-7EE040B8A5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6AB2-105D-4B3D-8A15-9D275D4153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12640" y="189000"/>
            <a:ext cx="7979040" cy="128592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Храм Христа 12.jpg"/>
          <p:cNvPicPr/>
          <p:nvPr/>
        </p:nvPicPr>
        <p:blipFill>
          <a:blip r:embed="rId2"/>
          <a:stretch/>
        </p:blipFill>
        <p:spPr>
          <a:xfrm>
            <a:off x="2786040" y="1643040"/>
            <a:ext cx="3270240" cy="4525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3"/>
          <p:cNvSpPr/>
          <p:nvPr/>
        </p:nvSpPr>
        <p:spPr>
          <a:xfrm>
            <a:off x="6656400" y="3929040"/>
            <a:ext cx="246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ова Ир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8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Воевод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инн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1000080" y="1428840"/>
            <a:ext cx="75200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а месте храма предполагалось построить Дворец Советов - гигантскую башню, увенчанную статуей В. И. Ленина. Однако планы по возведению здания были нарушены Второй мировой войной. В 1958-1960-х годах котлован, вырытый под фундамент Дворца, был использован для строительства открытого плавательного бассейна "Москва". Бассейн "Москва" просуществовал 30 лет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6" descr="Храм Христа после взрыва.jpg"/>
          <p:cNvPicPr/>
          <p:nvPr/>
        </p:nvPicPr>
        <p:blipFill>
          <a:blip r:embed="rId1"/>
          <a:stretch/>
        </p:blipFill>
        <p:spPr>
          <a:xfrm>
            <a:off x="4648320" y="2500200"/>
            <a:ext cx="42289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 конце 1980-х годов появилось общественное движение за возрождение храма Христа Спасителя, а в июле 1992 года Президент России Б. Н. Ельцин издал указ о создании Фонда возрождения Москвы. В перечне объектов, которые требовалось восстановить, на первом месте стоял Храм Христа Спасителя. Благодаря невероятно стремительным темпам ведения строительных работ уже в 2000 году полностью воссозданный храм был освящен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Содержимое 5" descr="Храм Христа Спасителя 10.jpg"/>
          <p:cNvPicPr/>
          <p:nvPr/>
        </p:nvPicPr>
        <p:blipFill>
          <a:blip r:embed="rId1"/>
          <a:stretch/>
        </p:blipFill>
        <p:spPr>
          <a:xfrm>
            <a:off x="4857840" y="1165320"/>
            <a:ext cx="33274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25 декабря 1812 года российский император Александр I издал манифест, по которому в Москве предполагалось возвести храм в честь победы России над армией Наполеона. Новый храм должен был стать олицетворением подвига русского народа и ознаменованием "благодарности к Промыслу Божию, спасшему Россию от грозившей ей гибели"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Содержимое 10" descr="Храм Христа 6.jpg"/>
          <p:cNvPicPr/>
          <p:nvPr/>
        </p:nvPicPr>
        <p:blipFill>
          <a:blip r:embed="rId1"/>
          <a:stretch/>
        </p:blipFill>
        <p:spPr>
          <a:xfrm>
            <a:off x="4468680" y="2214720"/>
            <a:ext cx="4218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Содержимое 8" descr="Храм Христа 0.jpg"/>
          <p:cNvPicPr/>
          <p:nvPr/>
        </p:nvPicPr>
        <p:blipFill>
          <a:blip r:embed="rId1"/>
          <a:stretch/>
        </p:blipFill>
        <p:spPr>
          <a:xfrm>
            <a:off x="285840" y="1928880"/>
            <a:ext cx="4408560" cy="33051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Автором первого проекта храма был архитектор Александр Витберг. Согласно его плану, местом возведения храма Христа Спасителя должны были стать Воробьевы горы, а сам собор должен был состоять из трех частей, связанных между собой и символизировавших Воплощение, Преображение и Воскресение. В нижнем храме предполагалось похоронить останки павших в боях во время Отечественной войны 1812 года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Храм был торжественно заложен в 1817 году, однако планам Витберга не суждено было воплотиться в жизнь: горы начали оседать под тяжестью возводимого сооружения, а Николай I, сменивший Александра I на российском престоле, и вовсе нашел проект Витберга неудачным и неосуществимым. Вместо него в 1832 году архитектором храма Воскресения Христова был назначен Константин Тон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Содержимое 5" descr="Храм Христа 7.jpg"/>
          <p:cNvPicPr/>
          <p:nvPr/>
        </p:nvPicPr>
        <p:blipFill>
          <a:blip r:embed="rId1"/>
          <a:stretch/>
        </p:blipFill>
        <p:spPr>
          <a:xfrm>
            <a:off x="142920" y="1214280"/>
            <a:ext cx="3321000" cy="4838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286080" y="499680"/>
            <a:ext cx="5400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Храм решено было возвести на месте бывшего Алексеевского женского монастыря. В связи с этим долгое время существовала легенда, согласно которой одна из монахинь, возмущенная переносом монастыря, в сердцах прокляла место возведения храма и предрекла, что ни одно сооружение не простоит на этом месте более 50 лет. Как бы то ни было, место строительства было выбрано как нельзя более удачно: храм был виден с любой точки Москвы, а соседство с Кремлем подчеркивало глубокую связь нового храма Христа Спасителя с русской историей и культур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На строительство и внутреннюю отделку храма Христа Спасителя ушло почти 40 лет: он возводился с 1839 по 1883 год. 26 мая 1883 года храм был торжественно освящен в присутствии Александра III и императорской семьи. В плане собор представлял собой равноконечный крес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Содержимое 6" descr="храм Христа 9.jpg"/>
          <p:cNvPicPr/>
          <p:nvPr/>
        </p:nvPicPr>
        <p:blipFill>
          <a:blip r:embed="rId1"/>
          <a:stretch/>
        </p:blipFill>
        <p:spPr>
          <a:xfrm>
            <a:off x="4648320" y="2025720"/>
            <a:ext cx="4343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7855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нешняя часть была оформлена двойным рядом мраморных горельефов работы скульпторов Клодта, Логиновского и Рамазанова. Все входные двери - всего двенадцать - были выполнены из бронзы, а украшающие их изображения святых отлиты по эскизам известного скульптора графа Ф. П. Толстого. Современников восхищали размеры храма: он мог вместить до 10 000 человек. Богатое внутреннее убранство храма Христа Спасителя состояло из росписей и украшений из камней - лабрадора, шошкинского порфира и итальянского мрамора. Над украшением храма работали прославленные русские живописцы - В. Верещагин, В. Суриков, И. Крамско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Содержимое 6" descr="Храм Христа 11.jpg"/>
          <p:cNvPicPr/>
          <p:nvPr/>
        </p:nvPicPr>
        <p:blipFill>
          <a:blip r:embed="rId1"/>
          <a:stretch/>
        </p:blipFill>
        <p:spPr>
          <a:xfrm>
            <a:off x="841320" y="1600200"/>
            <a:ext cx="3117960" cy="472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28616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 периметру здание опоясывала галерея, которая стала первым музеем войны 1812 года. На стены галереи были вмонтированы мраморные доски, на которых в хронологическом порядке перечислялись все сражения русской армии, назывались имена военачальников, отличившихся офицеров и солдат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Содержимое 7" descr="Храм 8 Разрушение.jpg"/>
          <p:cNvPicPr/>
          <p:nvPr/>
        </p:nvPicPr>
        <p:blipFill>
          <a:blip r:embed="rId1"/>
          <a:stretch/>
        </p:blipFill>
        <p:spPr>
          <a:xfrm>
            <a:off x="428760" y="714240"/>
            <a:ext cx="4005000" cy="4525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357440" y="428760"/>
            <a:ext cx="43290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ервый храм Христа Спасителя просуществовал 48 лет, в связи с чем многие вспоминали о легенде про проклятие монахини. Величественный храм вызывал раздражение Советского правительства: он никак не вписывался в новую государственную идеологию и повсеместное насаждение атеизма. По распоряжению Иосифа Сталина храм Христа Спасителя был взорван 5 декабря 1931 год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Содержимое 3" descr="Храм Христа Спасителя 3.jpg"/>
          <p:cNvPicPr/>
          <p:nvPr/>
        </p:nvPicPr>
        <p:blipFill>
          <a:blip r:embed="rId2"/>
          <a:stretch/>
        </p:blipFill>
        <p:spPr>
          <a:xfrm>
            <a:off x="2500200" y="5072040"/>
            <a:ext cx="1962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6:27:36Z</dcterms:created>
  <dc:creator>user</dc:creator>
  <dc:description/>
  <dc:language>en-US</dc:language>
  <cp:lastModifiedBy>user</cp:lastModifiedBy>
  <dcterms:modified xsi:type="dcterms:W3CDTF">2011-02-20T17:26:07Z</dcterms:modified>
  <cp:revision>6</cp:revision>
  <dc:subject/>
  <dc:title>Слайд 1</dc:title>
</cp:coreProperties>
</file>