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7F2-5E05-4939-B020-752478DE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6F2-FF8C-4005-B0F0-0BB3489E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20331-FD8C-4670-8FBD-79852616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940FB-3871-4CBA-8F5B-12BFBD9F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EB3A2-CFEE-4AB4-BF21-3721D92C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181A7-4793-4C6B-A475-9B01041E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C1D45-59B1-4D7B-885D-51F54E2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242FB-7002-44A7-A0D5-881FFF8A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C5CCB-8423-4A17-AD9D-C662C3BB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F3D41-6337-4A6C-A41D-A45B1A08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2EBC3-DB7C-4C0D-A619-9702E0CC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76F-7154-43E7-A185-CB1E3FD4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E7B-691D-4F81-AF0B-E37DF86D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2C64-4C9B-4803-9694-18D0ECAD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F6EA-3BCA-4B88-B89E-60F8CE5A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1561-4D64-442B-ADE3-01E7432A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0856-DD84-420D-BE41-F9C4BDC9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9208-BB6D-4527-A187-315DF069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A774-7C6E-43A0-80AD-055D3DC9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7F79-041A-4276-B152-AFAD4D44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2D6-68B8-4C99-A1CD-49A4C7E3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4675-2F66-44DC-8D50-389833E3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361B-10F8-485D-8544-7E562A5D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713A-E631-4DA9-B7BD-9F0AE6E2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3D4C-3ED1-4658-87A4-9E4EC93E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0F97-3F90-4003-85EF-7C4A51DC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0A80-784C-4316-93E1-226684F2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506B-D011-4B85-B403-747BC4EE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16B0-A3F1-40D9-9687-BAE41E26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B268-1CE6-4601-991F-EEAE8C2D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1FD3-C9D7-48A8-AE46-38A2FFA5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B72-E742-4B86-BB32-B717BEF0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5CA69-4F98-4C5A-B487-DE34495D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2039D-2A37-4D9A-A918-1B14BCB6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9DCE-540C-456A-AC10-2B71FBE2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D3BF-5ABC-4812-9EF2-D1E38CB6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2332-B1B8-4F2A-B258-8C1EC893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DF85-821D-4A64-9E6A-45668FDF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7E29-8C6F-4C14-9554-E0865E65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CDD4A-E95C-42D6-8B09-CAA48BB5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4EE91-A4A7-4321-B00F-F17F103A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3ACCA-451B-4BC7-8FEF-864D2706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45C-58C5-4547-85D7-2D019B29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CF72-611B-4709-A4B2-A3AE879A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7002B-E452-430A-8829-067CBEDF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A6AB2-45E8-422D-89B0-AB1A9822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E9145-3F6E-46A6-B1C7-2FD26820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6021-50C5-474E-B6D2-6C8B9643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9232-49F6-4918-B680-FC46BC0A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D7FA1-6034-417C-914A-F8A8B81C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6BC31-A9FD-4C56-8FAD-19F4BDD7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70B9E-153F-4CDD-B3C2-F239D13B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446F2-2631-45C4-8231-054A46C6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33D-DD43-4003-AC94-EDD091A0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A294B-FFB8-46F8-B7DE-04AB879C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FBD6B-6B8B-451C-9B32-08AC5F90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0218D-C70A-4116-848D-AA4E3D82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3CA0B-AF65-4A10-8BC8-53D6A583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010A8-4617-40EF-ADCF-F0D4BE77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32CC3-95C2-4495-990A-77C27481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CCC7A-42DA-419F-B525-F9E32BF0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F864D-2A73-4FFE-AF67-56687DAA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01ABD-D38F-4A56-B285-9672787B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88EA2-82C3-4C56-9FB1-FAA99CBE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E1C-E5BC-4FDF-9074-CECC81E5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3BB48-FCB6-4112-911D-1752FB0A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D9F89-0646-417E-BA26-C834F510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A1C56-609F-47F9-9EE6-CEF6AED2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FD362-1AB3-40E7-A1E4-869529C9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74A91-EBA2-4B16-8887-5D89306D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F255A-0860-41F0-833B-60E9C545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7905B-2B95-4537-BA1D-68D236C7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AD90A-E777-42B0-BE7E-517F111A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44D6C-4C07-4F9C-8298-2C8942F9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40671-8D04-4918-ABE1-BBC35C93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73F-B6F7-457F-A903-2371FF16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9C57A-0838-4709-A9E4-B9294455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0274C-8FF1-4A62-BA69-7194BD66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FE4BC-DEB3-4BBA-BAE1-E3C3DA8F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C083F-3ED0-4173-9C3D-6158EE7D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4F57B-F1D2-4C8A-9859-82007FEB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5DB5E-3FF5-41BB-B06C-8282FCD4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251FA-7CAB-40C1-BE50-7B018AC6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AA818-7536-4BB5-9437-3838F6F7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CA5A-4992-46DB-9D59-FE348BD8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B21B-778B-499E-A0B7-654D8676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7CB-611D-4C64-BAF0-FE3668B3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8E12A-FFC8-41C0-99C0-7CE04785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A8E12-AE7A-4493-817B-79A72427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3122D-93C4-4D85-AA92-D0E3E65F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A37CF-2886-4730-894A-738D71EC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13712-9758-42E5-A93B-0A0F97C2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B8BD2-A67B-4BC9-9BD1-76C4178D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D18B8-C616-4E5E-A2BC-A2A82EFB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6E5E9-8A89-4E57-A1D1-F7020ADC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5E4E3-F694-4F3A-AD57-EDF1D9DA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8B470-7569-422E-8590-AC057DC2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856-85E1-43CE-83D9-9C828B00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A66FC-A3A6-4B95-9F57-C486DCE7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67990-5D60-400E-B88A-2FFAF74A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10E11-5AF0-45D4-9EC6-BACACEDE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EC9A9-E33C-41F2-AE01-A55E1B45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C5417-E5D2-4F14-8507-6AD88DF5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3831D-D01B-4AAF-ADF9-DB2965DD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C2A22-61D0-438F-B367-39ACAE0E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703F4-557C-40A3-915B-26596E4F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48E15-4C53-427C-A4A4-4DAE59EE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2A2DE-F828-406A-BB75-58F8E622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FE4F-1B28-47AD-BA1D-5FED5D46BC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4FE3-AC60-4445-BE07-13C87FE273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5621-C54B-429F-90FE-4BBB5B4840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FDD1-34E8-4415-9B5D-1A29B323878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B80A-7255-4AA8-9031-9ACCF75441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EB4F-ACA2-4AA0-8361-776A4B65F0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D128-BF33-4DAE-9D8C-5BF7CFF8A6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2D0A-50D0-4425-8650-8FD0A21728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893D-2E6E-4F46-BCF1-5F67102B46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12640" y="189000"/>
            <a:ext cx="7979040" cy="1285920"/>
          </a:xfrm>
          <a:prstGeom prst="rect">
            <a:avLst/>
          </a:prstGeom>
          <a:ln w="0">
            <a:noFill/>
          </a:ln>
        </p:spPr>
      </p:pic>
      <p:pic>
        <p:nvPicPr>
          <p:cNvPr id="400" name="Содержимое 3" descr="Храм Христа 12.jpg"/>
          <p:cNvPicPr/>
          <p:nvPr/>
        </p:nvPicPr>
        <p:blipFill>
          <a:blip r:embed="rId2"/>
          <a:stretch/>
        </p:blipFill>
        <p:spPr>
          <a:xfrm>
            <a:off x="2786040" y="1643040"/>
            <a:ext cx="3270240" cy="45259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3"/>
          <p:cNvSpPr/>
          <p:nvPr/>
        </p:nvSpPr>
        <p:spPr>
          <a:xfrm>
            <a:off x="6656400" y="3929040"/>
            <a:ext cx="246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ова Ир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ца 8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«Воевод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инн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6" descr="Храм Христа после взрыва.jpg"/>
          <p:cNvPicPr/>
          <p:nvPr/>
        </p:nvPicPr>
        <p:blipFill>
          <a:blip r:embed="rId1"/>
          <a:stretch/>
        </p:blipFill>
        <p:spPr>
          <a:xfrm>
            <a:off x="1000080" y="1428840"/>
            <a:ext cx="75200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а месте храма предполагалось построить Дворец Советов - гигантскую башню, увенчанную статуей В. И. Ленина. Однако планы по возведению здания были нарушены Второй мировой войной. В 1958-1960-х годах котлован, вырытый под фундамент Дворца, был использован для строительства открытого плавательного бассейна "Москва". Бассейн "Москва" просуществовал 30 лет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Содержимое 6" descr="Храм Христа после взрыва.jpg"/>
          <p:cNvPicPr/>
          <p:nvPr/>
        </p:nvPicPr>
        <p:blipFill>
          <a:blip r:embed="rId1"/>
          <a:stretch/>
        </p:blipFill>
        <p:spPr>
          <a:xfrm>
            <a:off x="4648320" y="2500200"/>
            <a:ext cx="42289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конце 1980-х годов появилось общественное движение за возрождение храма Христа Спасителя, а в июле 1992 года Президент России Б. Н. Ельцин издал указ о создании Фонда возрождения Москвы. В перечне объектов, которые требовалось восстановить, на первом месте стоял Храм Христа Спасителя. Благодаря невероятно стремительным темпам ведения строительных работ уже в 2000 году полностью воссозданный храм был освящен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Содержимое 5" descr="Храм Христа Спасителя 10.jpg"/>
          <p:cNvPicPr/>
          <p:nvPr/>
        </p:nvPicPr>
        <p:blipFill>
          <a:blip r:embed="rId1"/>
          <a:stretch/>
        </p:blipFill>
        <p:spPr>
          <a:xfrm>
            <a:off x="4857840" y="1165320"/>
            <a:ext cx="332748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25 декабря 1812 года российский император Александр I издал манифест, по которому в Москве предполагалось возвести храм в честь победы России над армией Наполеона. Новый храм должен был стать олицетворением подвига русского народа и ознаменованием "благодарности к Промыслу Божию, спасшему Россию от грозившей ей гибели"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Содержимое 10" descr="Храм Христа 6.jpg"/>
          <p:cNvPicPr/>
          <p:nvPr/>
        </p:nvPicPr>
        <p:blipFill>
          <a:blip r:embed="rId1"/>
          <a:stretch/>
        </p:blipFill>
        <p:spPr>
          <a:xfrm>
            <a:off x="4468680" y="2214720"/>
            <a:ext cx="4218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Содержимое 8" descr="Храм Христа 0.jpg"/>
          <p:cNvPicPr/>
          <p:nvPr/>
        </p:nvPicPr>
        <p:blipFill>
          <a:blip r:embed="rId1"/>
          <a:stretch/>
        </p:blipFill>
        <p:spPr>
          <a:xfrm>
            <a:off x="285840" y="1928880"/>
            <a:ext cx="4408560" cy="3305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Автором первого проекта храма был архитектор Александр Витберг. Согласно его плану, местом возведения храма Христа Спасителя должны были стать Воробьевы горы, а сам собор должен был состоять из трех частей, связанных между собой и символизировавших Воплощение, Преображение и Воскресение. В нижнем храме предполагалось похоронить останки павших в боях во время Отечественной войны 1812 года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рам был торжественно заложен в 1817 году, однако планам Витберга не суждено было воплотиться в жизнь: горы начали оседать под тяжестью возводимого сооружения, а Николай I, сменивший Александра I на российском престоле, и вовсе нашел проект Витберга неудачным и неосуществимым. Вместо него в 1832 году архитектором храма Воскресения Христова был назначен Константин Тон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Содержимое 5" descr="Храм Христа 7.jpg"/>
          <p:cNvPicPr/>
          <p:nvPr/>
        </p:nvPicPr>
        <p:blipFill>
          <a:blip r:embed="rId1"/>
          <a:stretch/>
        </p:blipFill>
        <p:spPr>
          <a:xfrm>
            <a:off x="142920" y="1214280"/>
            <a:ext cx="3321000" cy="4838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286080" y="499680"/>
            <a:ext cx="5400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Храм решено было возвести на месте бывшего Алексеевского женского монастыря. В связи с этим долгое время существовала легенда, согласно которой одна из монахинь, возмущенная переносом монастыря, в сердцах прокляла место возведения храма и предрекла, что ни одно сооружение не простоит на этом месте более 50 лет. Как бы то ни было, место строительства было выбрано как нельзя более удачно: храм был виден с любой точки Москвы, а соседство с Кремлем подчеркивало глубокую связь нового храма Христа Спасителя с русской историей и культуро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На строительство и внутреннюю отделку храма Христа Спасителя ушло почти 40 лет: он возводился с 1839 по 1883 год. 26 мая 1883 года храм был торжественно освящен в присутствии Александра III и императорской семьи. В плане собор представлял собой равноконечный крест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Содержимое 6" descr="храм Христа 9.jpg"/>
          <p:cNvPicPr/>
          <p:nvPr/>
        </p:nvPicPr>
        <p:blipFill>
          <a:blip r:embed="rId1"/>
          <a:stretch/>
        </p:blipFill>
        <p:spPr>
          <a:xfrm>
            <a:off x="4648320" y="2025720"/>
            <a:ext cx="4343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7855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нешняя часть была оформлена двойным рядом мраморных горельефов работы скульпторов Клодта, Логиновского и Рамазанова. Все входные двери - всего двенадцать - были выполнены из бронзы, а украшающие их изображения святых отлиты по эскизам известного скульптора графа Ф. П. Толстого. Современников восхищали размеры храма: он мог вместить до 10 000 человек. Богатое внутреннее убранство храма Христа Спасителя состояло из росписей и украшений из камней - лабрадора, шошкинского порфира и итальянского мрамора. Над украшением храма работали прославленные русские живописцы - В. Верещагин, В. Суриков, И. Крамско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Содержимое 6" descr="Храм Христа 11.jpg"/>
          <p:cNvPicPr/>
          <p:nvPr/>
        </p:nvPicPr>
        <p:blipFill>
          <a:blip r:embed="rId1"/>
          <a:stretch/>
        </p:blipFill>
        <p:spPr>
          <a:xfrm>
            <a:off x="841320" y="1600200"/>
            <a:ext cx="3117960" cy="4724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28616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 периметру здание опоясывала галерея, которая стала первым музеем войны 1812 года. На стены галереи были вмонтированы мраморные доски, на которых в хронологическом порядке перечислялись все сражения русской армии, назывались имена военачальников, отличившихся офицеров и солдат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Содержимое 7" descr="Храм 8 Разрушение.jpg"/>
          <p:cNvPicPr/>
          <p:nvPr/>
        </p:nvPicPr>
        <p:blipFill>
          <a:blip r:embed="rId1"/>
          <a:stretch/>
        </p:blipFill>
        <p:spPr>
          <a:xfrm>
            <a:off x="428760" y="714240"/>
            <a:ext cx="4005000" cy="45259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357440" y="428760"/>
            <a:ext cx="43290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ервый храм Христа Спасителя просуществовал 48 лет, в связи с чем многие вспоминали о легенде про проклятие монахини. Величественный храм вызывал раздражение Советского правительства: он никак не вписывался в новую государственную идеологию и повсеместное насаждение атеизма. По распоряжению Иосифа Сталина храм Христа Спасителя был взорван 5 декабря 1931 год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Содержимое 3" descr="Храм Христа Спасителя 3.jpg"/>
          <p:cNvPicPr/>
          <p:nvPr/>
        </p:nvPicPr>
        <p:blipFill>
          <a:blip r:embed="rId2"/>
          <a:stretch/>
        </p:blipFill>
        <p:spPr>
          <a:xfrm>
            <a:off x="2500200" y="5072040"/>
            <a:ext cx="1962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6:27:36Z</dcterms:created>
  <dc:creator>user</dc:creator>
  <dc:description/>
  <dc:language>en-US</dc:language>
  <cp:lastModifiedBy>user</cp:lastModifiedBy>
  <dcterms:modified xsi:type="dcterms:W3CDTF">2011-02-20T17:26:07Z</dcterms:modified>
  <cp:revision>6</cp:revision>
  <dc:subject/>
  <dc:title>Слайд 1</dc:title>
</cp:coreProperties>
</file>