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5.jpeg" ContentType="image/jpeg"/>
  <Override PartName="/ppt/media/image14.jpeg" ContentType="image/jpeg"/>
  <Override PartName="/ppt/media/image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3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09F85-9212-47A1-B14F-8E48084E3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B7218-384D-466E-A3C6-3A287F706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14941C-56D9-4B81-A721-93592A458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DB1BD3-685E-4846-B606-730AAD69E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DF45E4-A5EF-4476-A038-1C0CC2777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94EC0E-903D-48B1-B27A-9EC20F13D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365FAE-3776-431B-BA6D-3536A330B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02D41C-4E42-4BBD-98E2-22825D1CC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CD164E-5939-42B8-A638-442886CC1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EA12F0-6ACA-4E31-B25B-000A35A2D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344540-9048-4273-9732-C65046854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D075F-01AA-41C5-B521-B27A2BA18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04FBC-E1F0-4E91-82FF-65B14C53B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D3446-B92D-4144-8AD1-5B5689B13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CAEF9-58A6-43FE-9BE6-5F97E5DAF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5C54C-1677-42EC-A6D4-DE7BF6BED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CF846-C57F-4909-A2F0-45CD9B512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A76A1-8470-4322-B882-6F13BEE8A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9BEF9-BD30-484C-A754-FEB95158C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00F43-FB63-426E-B1A6-E9A276102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35F3E-B05B-4F9F-A05F-90BC1D053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0D76D-2AA8-40F9-A713-23C2B58B4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B135E-368C-47A9-8737-4311C9084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F3853-9DB4-4935-985A-C5D5397F2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05E6B-D693-4C40-B141-BC6133785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5F7AA-C3BE-4746-A11F-8DA41CC64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5B2F08-5A5D-4C4A-8F3D-99D94B233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F3D5F4-BDC3-49FB-9B3C-22844F61B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EEFF67-1733-4DBB-8FD7-E9B25B102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E70138-DBD3-46C3-8A31-008876897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CD64EA-B9AB-4E97-A83C-5609E5754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D94F3-2B27-4E66-8F91-E75A12899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85FD78-498D-4F9D-9D9C-B1505C973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F21630-8C47-4626-9039-1453D7374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361A9D-2401-4CAB-AD24-E4434F5E7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66D284-6988-42A6-B0A6-352542128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162286-2244-4F74-A671-C54A3DB4E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FF7299-6247-4FE6-B55D-2B08D6323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5CB39B-44E4-4353-B2F2-1FF16D296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DE5794-1A73-436F-AC94-0F6923870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FDEB4D-4205-47DA-84ED-45BF1117C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944EF6-80A6-4DE5-8F85-D28D41407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2B0FD-6449-4CCF-A51B-90DFCD98B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A72BB1-9479-49AB-ACAA-8CEC79E71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5EB68F-2A18-4565-9217-87E4548A5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D7C152-D122-4D45-A58F-DBA5130B2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C5C535-7A44-4A59-BFA7-162B55E11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9223A0-9C6E-4366-9D3C-E2581D777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45B145-960A-4DF3-9E67-8363BD0C1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6F9245-0519-4BC7-ADFB-DC06E3AF2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02D13B-4EA2-4550-99AF-A804FE7D7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A3CA85-0979-424E-8ED4-857EFE0B7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5F5513-A229-401C-99FE-A950201A3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894C2-DB14-4286-B9C4-8ECC4C4F6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5CFC25-CE35-4B1D-8083-D1D1CAECF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F1FE0A-0E88-4255-BE95-DB9B5219C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7F73D4-8257-475A-917B-4BF3F1396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C5E262-BEE6-447D-B4AC-0A308FEDE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466BBA-C4DE-4542-9FD2-2BB98355F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F6C845-4E4F-4F95-983A-CF5EF0371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30657E-130E-4D5B-ACE4-30976FAB9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2101E8-3AE8-49F6-80BA-236D10BCF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880961-871D-4E93-8277-FFB5DBF51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89EF3D-FC9D-401C-B1CE-D582E41B6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53787-70AF-4BC8-9E5C-6A63964BC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467F7F-6CB1-45B1-901F-FDFAF2A28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9C9CEC-065F-4567-A08D-A6E2B9124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8862ED-CB0E-475C-9CCA-187CBD524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105BA0-CB5A-42EA-BFF4-E7BF815D6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23B207-9C55-41AC-9690-AFF61D764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BAE7C0-397F-45C1-A10B-E55D9910D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00C260-F62B-4F27-83E2-EB75274D2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544E66-0B7E-4E99-91D1-DDFC3DD53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9B8AAC-B0DF-493E-B86A-F36BAC218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ED1E98-60A7-4330-807C-EBF05AA3D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E19D3-8E9D-4B63-92A2-9EFDADF46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7168B4-7F33-4733-9A07-5FD90EDB1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247DF4-8BB8-467C-B60F-140BA86B5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E80A90-0893-410B-A64B-D3748B10C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4C938D-D2EC-4F71-BB46-667D4E336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80CB67-F3A1-4AB8-B694-D3C808EFD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2D839D-E11A-4224-B99E-B2C567350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E0E48C-A418-49D8-A900-8CF1D3B94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0EFA0D-F966-4806-894A-39DCB6F58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FA4495-B269-4CA3-8222-AA6A6608F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1788AF-52E6-4E8F-9DD9-7870A9E69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CEE79-42DF-4075-B446-019B74815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C952D4-2B6E-4A5E-BDA8-FD74C356A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50A88E-2F4D-4151-86C0-6D30172E5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755139-4D7F-4F84-88E2-AC1AC7D25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17D4FB-CA0F-41FB-9713-81D37C4CB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BD33E2-E7B2-464E-8E90-7B5898A69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583709-F8BD-44D8-A690-F805FAAE9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8750BA-0C9C-4458-AC87-AAE784FD6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982B95-C4E9-4A4F-84FC-D849795D9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40F37D-0D54-480D-A139-870311BBB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96C517-C335-4A41-AECE-176E0B890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8AC13-E62C-4AAF-8C8F-C5CC1187D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3FC6CD-64DA-4F35-82D3-B76044811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0925FA-02B2-416C-A174-F5C1CCE79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E5241F-D121-486B-9625-A1BC2AECB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7EAB5D-2D4F-46E1-9E8A-4FF0CB63F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45C8D6-E116-4E34-9EFC-66C375F50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CB4F38-43B9-4312-91C1-B23D9D301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0CD261-E33E-4C29-A31D-E9DAD9620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F18E61-43E4-4BA5-8A5A-F86E7A4BE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E6A8AD-EFD6-4222-B670-39774174E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313752-369E-4BD3-8DC6-1F300DCAB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E7AEC-FB68-4F20-867C-CD8D72E67E3A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EB481-B185-4289-8FF2-F3A111E7569D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0BBC5-C276-4F72-A04D-896B26E248A0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4DCA3-0523-498D-8841-913243E85A7B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B645D-977E-42C3-AAF4-1266D4BD975F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DD515-2FC8-4549-85AC-BF1EE1B0EA86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F9F49-30F3-47B0-BEDB-29D8F8014B33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B6183-BD48-4DC0-A3EB-0597CA3AA5DA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3879E-B9FB-4B75-9246-530961C9765F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Заголовок 1" descr=""/>
          <p:cNvPicPr/>
          <p:nvPr/>
        </p:nvPicPr>
        <p:blipFill>
          <a:blip r:embed="rId1"/>
          <a:stretch/>
        </p:blipFill>
        <p:spPr>
          <a:xfrm>
            <a:off x="512640" y="189000"/>
            <a:ext cx="7979040" cy="1285920"/>
          </a:xfrm>
          <a:prstGeom prst="rect">
            <a:avLst/>
          </a:prstGeom>
          <a:ln w="0">
            <a:noFill/>
          </a:ln>
        </p:spPr>
      </p:pic>
      <p:pic>
        <p:nvPicPr>
          <p:cNvPr id="400" name="Содержимое 3" descr="Храм Христа 12.jpg"/>
          <p:cNvPicPr/>
          <p:nvPr/>
        </p:nvPicPr>
        <p:blipFill>
          <a:blip r:embed="rId2"/>
          <a:stretch/>
        </p:blipFill>
        <p:spPr>
          <a:xfrm>
            <a:off x="2786040" y="1643040"/>
            <a:ext cx="3270240" cy="4525920"/>
          </a:xfrm>
          <a:prstGeom prst="rect">
            <a:avLst/>
          </a:prstGeom>
          <a:ln w="0">
            <a:noFill/>
          </a:ln>
        </p:spPr>
      </p:pic>
      <p:sp>
        <p:nvSpPr>
          <p:cNvPr id="401" name="TextBox 3"/>
          <p:cNvSpPr/>
          <p:nvPr/>
        </p:nvSpPr>
        <p:spPr>
          <a:xfrm>
            <a:off x="6656400" y="3929040"/>
            <a:ext cx="2465280" cy="16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боту выполни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пова Ирин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ченица 8 класс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ОУ «Воеводская сош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Целинного рай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лтайского кр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Содержимое 6" descr="Храм Христа после взрыва.jpg"/>
          <p:cNvPicPr/>
          <p:nvPr/>
        </p:nvPicPr>
        <p:blipFill>
          <a:blip r:embed="rId1"/>
          <a:stretch/>
        </p:blipFill>
        <p:spPr>
          <a:xfrm>
            <a:off x="1000080" y="1428840"/>
            <a:ext cx="7520040" cy="463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 txBox="1"/>
          <p:nvPr/>
        </p:nvSpPr>
        <p:spPr>
          <a:xfrm>
            <a:off x="304560" y="1599840"/>
            <a:ext cx="41907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e3b30"/>
                </a:solidFill>
                <a:latin typeface="Franklin Gothic Book"/>
              </a:rPr>
              <a:t>    </a:t>
            </a:r>
            <a:r>
              <a:rPr b="0" lang="ru-RU" sz="2200" spc="-1" strike="noStrike">
                <a:solidFill>
                  <a:srgbClr val="4e3b30"/>
                </a:solidFill>
                <a:latin typeface="Franklin Gothic Book"/>
              </a:rPr>
              <a:t>На месте храма предполагалось построить Дворец Советов - гигантскую башню, увенчанную статуей В. И. Ленина. Однако планы по возведению здания были нарушены Второй мировой войной. В 1958-1960-х годах котлован, вырытый под фундамент Дворца, был использован для строительства открытого плавательного бассейна "Москва". Бассейн "Москва" просуществовал 30 лет. 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19" name="Содержимое 6" descr="Храм Христа после взрыва.jpg"/>
          <p:cNvPicPr/>
          <p:nvPr/>
        </p:nvPicPr>
        <p:blipFill>
          <a:blip r:embed="rId1"/>
          <a:stretch/>
        </p:blipFill>
        <p:spPr>
          <a:xfrm>
            <a:off x="4648320" y="2500200"/>
            <a:ext cx="4228920" cy="260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 txBox="1"/>
          <p:nvPr/>
        </p:nvSpPr>
        <p:spPr>
          <a:xfrm>
            <a:off x="457200" y="1285560"/>
            <a:ext cx="403848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499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    </a:t>
            </a: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В конце 1980-х годов появилось общественное движение за возрождение храма Христа Спасителя, а в июле 1992 года Президент России Б. Н. Ельцин издал указ о создании Фонда возрождения Москвы. В перечне объектов, которые требовалось восстановить, на первом месте стоял Храм Христа Спасителя. Благодаря невероятно стремительным темпам ведения строительных работ уже в 2000 году полностью воссозданный храм был освящен.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21" name="Содержимое 5" descr="Храм Христа Спасителя 10.jpg"/>
          <p:cNvPicPr/>
          <p:nvPr/>
        </p:nvPicPr>
        <p:blipFill>
          <a:blip r:embed="rId1"/>
          <a:stretch/>
        </p:blipFill>
        <p:spPr>
          <a:xfrm>
            <a:off x="4857840" y="1165320"/>
            <a:ext cx="332748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 txBox="1"/>
          <p:nvPr/>
        </p:nvSpPr>
        <p:spPr>
          <a:xfrm>
            <a:off x="304560" y="1599840"/>
            <a:ext cx="41907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  </a:t>
            </a: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25 декабря 1812 года российский император Александр I издал манифест, по которому в Москве предполагалось возвести храм в честь победы России над армией Наполеона. Новый храм должен был стать олицетворением подвига русского народа и ознаменованием "благодарности к Промыслу Божию, спасшему Россию от грозившей ей гибели".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03" name="Содержимое 10" descr="Храм Христа 6.jpg"/>
          <p:cNvPicPr/>
          <p:nvPr/>
        </p:nvPicPr>
        <p:blipFill>
          <a:blip r:embed="rId1"/>
          <a:stretch/>
        </p:blipFill>
        <p:spPr>
          <a:xfrm>
            <a:off x="4468680" y="2214720"/>
            <a:ext cx="4218120" cy="31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Содержимое 8" descr="Храм Христа 0.jpg"/>
          <p:cNvPicPr/>
          <p:nvPr/>
        </p:nvPicPr>
        <p:blipFill>
          <a:blip r:embed="rId1"/>
          <a:stretch/>
        </p:blipFill>
        <p:spPr>
          <a:xfrm>
            <a:off x="285840" y="1928880"/>
            <a:ext cx="4408560" cy="3305160"/>
          </a:xfrm>
          <a:prstGeom prst="rect">
            <a:avLst/>
          </a:prstGeom>
          <a:ln w="0">
            <a:noFill/>
          </a:ln>
        </p:spPr>
      </p:pic>
      <p:sp>
        <p:nvSpPr>
          <p:cNvPr id="405" name=""/>
          <p:cNvSpPr txBox="1"/>
          <p:nvPr/>
        </p:nvSpPr>
        <p:spPr>
          <a:xfrm>
            <a:off x="4647960" y="1599840"/>
            <a:ext cx="4343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550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e3b30"/>
                </a:solidFill>
                <a:latin typeface="Franklin Gothic Book"/>
              </a:rPr>
              <a:t>  </a:t>
            </a:r>
            <a:r>
              <a:rPr b="0" lang="ru-RU" sz="2200" spc="-1" strike="noStrike">
                <a:solidFill>
                  <a:srgbClr val="4e3b30"/>
                </a:solidFill>
                <a:latin typeface="Franklin Gothic Book"/>
              </a:rPr>
              <a:t>Автором первого проекта храма был архитектор Александр Витберг. Согласно его плану, местом возведения храма Христа Спасителя должны были стать Воробьевы горы, а сам собор должен был состоять из трех частей, связанных между собой и символизировавших Воплощение, Преображение и Воскресение. В нижнем храме предполагалось похоронить останки павших в боях во время Отечественной войны 1812 года. 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  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Храм был торжественно заложен в 1817 году, однако планам Витберга не суждено было воплотиться в жизнь: горы начали оседать под тяжестью возводимого сооружения, а Николай I, сменивший Александра I на российском престоле, и вовсе нашел проект Витберга неудачным и неосуществимым. Вместо него в 1832 году архитектором храма Воскресения Христова был назначен Константин Тон.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Содержимое 5" descr="Храм Христа 7.jpg"/>
          <p:cNvPicPr/>
          <p:nvPr/>
        </p:nvPicPr>
        <p:blipFill>
          <a:blip r:embed="rId1"/>
          <a:stretch/>
        </p:blipFill>
        <p:spPr>
          <a:xfrm>
            <a:off x="142920" y="1214280"/>
            <a:ext cx="3321000" cy="483876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 txBox="1"/>
          <p:nvPr/>
        </p:nvSpPr>
        <p:spPr>
          <a:xfrm>
            <a:off x="3286080" y="499680"/>
            <a:ext cx="540072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     </a:t>
            </a: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Храм решено было возвести на месте бывшего Алексеевского женского монастыря. В связи с этим долгое время существовала легенда, согласно которой одна из монахинь, возмущенная переносом монастыря, в сердцах прокляла место возведения храма и предрекла, что ни одно сооружение не простоит на этом месте более 50 лет. Как бы то ни было, место строительства было выбрано как нельзя более удачно: храм был виден с любой точки Москвы, а соседство с Кремлем подчеркивало глубокую связь нового храма Христа Спасителя с русской историей и культурой.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 txBox="1"/>
          <p:nvPr/>
        </p:nvSpPr>
        <p:spPr>
          <a:xfrm>
            <a:off x="304560" y="1599840"/>
            <a:ext cx="41907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49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4e3b30"/>
                </a:solidFill>
                <a:latin typeface="Franklin Gothic Book"/>
              </a:rPr>
              <a:t>   </a:t>
            </a:r>
            <a:r>
              <a:rPr b="0" lang="ru-RU" sz="2600" spc="-1" strike="noStrike">
                <a:solidFill>
                  <a:srgbClr val="4e3b30"/>
                </a:solidFill>
                <a:latin typeface="Franklin Gothic Book"/>
              </a:rPr>
              <a:t>На строительство и внутреннюю отделку храма Христа Спасителя ушло почти 40 лет: он возводился с 1839 по 1883 год. 26 мая 1883 года храм был торжественно освящен в присутствии Александра III и императорской семьи. В плане собор представлял собой равноконечный крест.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10" name="Содержимое 6" descr="храм Христа 9.jpg"/>
          <p:cNvPicPr/>
          <p:nvPr/>
        </p:nvPicPr>
        <p:blipFill>
          <a:blip r:embed="rId1"/>
          <a:stretch/>
        </p:blipFill>
        <p:spPr>
          <a:xfrm>
            <a:off x="4648320" y="2025720"/>
            <a:ext cx="4343400" cy="387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 txBox="1"/>
          <p:nvPr/>
        </p:nvSpPr>
        <p:spPr>
          <a:xfrm>
            <a:off x="457200" y="785520"/>
            <a:ext cx="82296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    </a:t>
            </a: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Внешняя часть была оформлена двойным рядом мраморных горельефов работы скульпторов Клодта, Логиновского и Рамазанова. Все входные двери - всего двенадцать - были выполнены из бронзы, а украшающие их изображения святых отлиты по эскизам известного скульптора графа Ф. П. Толстого. Современников восхищали размеры храма: он мог вместить до 10 000 человек. Богатое внутреннее убранство храма Христа Спасителя состояло из росписей и украшений из камней - лабрадора, шошкинского порфира и итальянского мрамора. Над украшением храма работали прославленные русские живописцы - В. Верещагин, В. Суриков, И. Крамской.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Содержимое 6" descr="Храм Христа 11.jpg"/>
          <p:cNvPicPr/>
          <p:nvPr/>
        </p:nvPicPr>
        <p:blipFill>
          <a:blip r:embed="rId1"/>
          <a:stretch/>
        </p:blipFill>
        <p:spPr>
          <a:xfrm>
            <a:off x="841320" y="1600200"/>
            <a:ext cx="3117960" cy="4724280"/>
          </a:xfrm>
          <a:prstGeom prst="rect">
            <a:avLst/>
          </a:prstGeom>
          <a:ln w="0">
            <a:noFill/>
          </a:ln>
        </p:spPr>
      </p:pic>
      <p:sp>
        <p:nvSpPr>
          <p:cNvPr id="413" name=""/>
          <p:cNvSpPr txBox="1"/>
          <p:nvPr/>
        </p:nvSpPr>
        <p:spPr>
          <a:xfrm>
            <a:off x="4286160" y="1600200"/>
            <a:ext cx="4400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   </a:t>
            </a: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По периметру здание опоясывала галерея, которая стала первым музеем войны 1812 года. На стены галереи были вмонтированы мраморные доски, на которых в хронологическом порядке перечислялись все сражения русской армии, назывались имена военачальников, отличившихся офицеров и солдат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Содержимое 7" descr="Храм 8 Разрушение.jpg"/>
          <p:cNvPicPr/>
          <p:nvPr/>
        </p:nvPicPr>
        <p:blipFill>
          <a:blip r:embed="rId1"/>
          <a:stretch/>
        </p:blipFill>
        <p:spPr>
          <a:xfrm>
            <a:off x="428760" y="714240"/>
            <a:ext cx="4005000" cy="4525920"/>
          </a:xfrm>
          <a:prstGeom prst="rect">
            <a:avLst/>
          </a:prstGeom>
          <a:ln w="0">
            <a:noFill/>
          </a:ln>
        </p:spPr>
      </p:pic>
      <p:sp>
        <p:nvSpPr>
          <p:cNvPr id="415" name=""/>
          <p:cNvSpPr txBox="1"/>
          <p:nvPr/>
        </p:nvSpPr>
        <p:spPr>
          <a:xfrm>
            <a:off x="4357440" y="428760"/>
            <a:ext cx="4329000" cy="56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   </a:t>
            </a: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Первый храм Христа Спасителя просуществовал 48 лет, в связи с чем многие вспоминали о легенде про проклятие монахини. Величественный храм вызывал раздражение Советского правительства: он никак не вписывался в новую государственную идеологию и повсеместное насаждение атеизма. По распоряжению Иосифа Сталина храм Христа Спасителя был взорван 5 декабря 1931 года.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16" name="Содержимое 3" descr="Храм Христа Спасителя 3.jpg"/>
          <p:cNvPicPr/>
          <p:nvPr/>
        </p:nvPicPr>
        <p:blipFill>
          <a:blip r:embed="rId2"/>
          <a:stretch/>
        </p:blipFill>
        <p:spPr>
          <a:xfrm>
            <a:off x="2500200" y="5072040"/>
            <a:ext cx="1962360" cy="15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2T16:27:36Z</dcterms:created>
  <dc:creator>user</dc:creator>
  <dc:description/>
  <dc:language>en-US</dc:language>
  <cp:lastModifiedBy>user</cp:lastModifiedBy>
  <dcterms:modified xsi:type="dcterms:W3CDTF">2011-02-20T17:26:07Z</dcterms:modified>
  <cp:revision>6</cp:revision>
  <dc:subject/>
  <dc:title>Слайд 1</dc:title>
</cp:coreProperties>
</file>