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B0CAC-5F0E-4132-A12B-225021267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9D257-189D-49EE-B677-992B729E1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C165B-757D-4F42-B6CC-635B0B20F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83E8D-5A3B-4AEF-8598-A58A806A3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0D335-7069-477D-A743-A653CEBAB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8054F-5A6A-4129-B56F-9410D08F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B2CFC-9721-491E-9658-9A802B1B8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A502C-DEF6-49D5-ADC3-F8EDD0AA2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FA626-663B-473F-A67D-5493196E9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D7A90-F81B-4531-ACE8-BA46EF792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D9EAA-F6A3-40DE-A80B-4BDE1E48F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FE423-A5E4-40D9-9456-E48EC4ACC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60E9-730E-4AC8-B015-B024209E4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glazychew.ru/"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89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ТВОРЧЕСКАЯ РАБОТА НА ТЕМУ: СПЕЦИФИКА ПРОЕКТНОГО МЫШЛЕНИЯ ДИЗАЙНЕРА В СРАВНЕНИИ С МЫШЛЕНИЕМ ПОТРЕБИТЕЛЯ.</a:t>
            </a:r>
            <a:endParaRPr b="0" lang="en-US" sz="2400" spc="-1" strike="noStrike">
              <a:solidFill>
                <a:srgbClr val="000000"/>
              </a:solidFill>
              <a:latin typeface="Arial"/>
            </a:endParaRPr>
          </a:p>
        </p:txBody>
      </p:sp>
      <p:sp>
        <p:nvSpPr>
          <p:cNvPr id="42" name="PlaceHolder 2"/>
          <p:cNvSpPr>
            <a:spLocks noGrp="1"/>
          </p:cNvSpPr>
          <p:nvPr>
            <p:ph type="subTitle"/>
          </p:nvPr>
        </p:nvSpPr>
        <p:spPr>
          <a:xfrm>
            <a:off x="3635280" y="3933720"/>
            <a:ext cx="6400800" cy="2735280"/>
          </a:xfrm>
          <a:prstGeom prst="rect">
            <a:avLst/>
          </a:prstGeom>
          <a:noFill/>
          <a:ln w="0">
            <a:noFill/>
          </a:ln>
        </p:spPr>
        <p:txBody>
          <a:bodyPr lIns="90000" rIns="90000" tIns="46800" bIns="46800" anchor="t">
            <a:noAutofit/>
          </a:bodyPr>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ыполнила: студентка ГО – 36041</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астрыкина О.А.</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роверила: ДФН Быстрова Т.Ю.</a:t>
            </a: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endParaRPr b="0" lang="en-US" sz="1400" spc="-1" strike="noStrike">
              <a:solidFill>
                <a:srgbClr val="000000"/>
              </a:solidFill>
              <a:latin typeface="Arial"/>
            </a:endParaRPr>
          </a:p>
        </p:txBody>
      </p:sp>
      <p:sp>
        <p:nvSpPr>
          <p:cNvPr id="43" name=""/>
          <p:cNvSpPr/>
          <p:nvPr/>
        </p:nvSpPr>
        <p:spPr>
          <a:xfrm>
            <a:off x="2585880" y="6186600"/>
            <a:ext cx="2685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катерибург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енденции развития дизайна</a:t>
            </a:r>
            <a:endParaRPr b="0" lang="en-US" sz="28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 современном дизайне наблюдается две тенденции развития:</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радиционный</a:t>
            </a:r>
            <a:r>
              <a:rPr b="0" lang="ru-RU" sz="1600" spc="-1" strike="noStrike">
                <a:solidFill>
                  <a:srgbClr val="000000"/>
                </a:solidFill>
                <a:latin typeface="Times New Roman"/>
              </a:rPr>
              <a:t>, представляющий гармоничное сочетание качества и эстетических потребностей.</a:t>
            </a: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development</a:t>
            </a:r>
            <a:r>
              <a:rPr b="0" lang="en-US" sz="1600" spc="-1" strike="noStrike">
                <a:solidFill>
                  <a:srgbClr val="000000"/>
                </a:solidFill>
                <a:latin typeface="Times New Roman"/>
              </a:rPr>
              <a:t> </a:t>
            </a:r>
            <a:r>
              <a:rPr b="0" lang="ru-RU" sz="1600" spc="-1" strike="noStrike">
                <a:solidFill>
                  <a:srgbClr val="000000"/>
                </a:solidFill>
                <a:latin typeface="Times New Roman"/>
              </a:rPr>
              <a:t>дизайн, направленный на то, чтобы «заставить» потребителя приобрести тот или иной товар, завлекая необычным внешним видом или наличием множества функций</a:t>
            </a:r>
            <a:endParaRPr b="0" lang="en-US" sz="1600" spc="-1" strike="noStrike">
              <a:solidFill>
                <a:srgbClr val="000000"/>
              </a:solidFill>
              <a:latin typeface="Arial"/>
            </a:endParaRPr>
          </a:p>
        </p:txBody>
      </p:sp>
      <p:pic>
        <p:nvPicPr>
          <p:cNvPr id="57" name="" descr=""/>
          <p:cNvPicPr/>
          <p:nvPr/>
        </p:nvPicPr>
        <p:blipFill>
          <a:blip r:embed="rId1"/>
          <a:stretch/>
        </p:blipFill>
        <p:spPr>
          <a:xfrm>
            <a:off x="5003640" y="3789360"/>
            <a:ext cx="3219480" cy="2187720"/>
          </a:xfrm>
          <a:prstGeom prst="rect">
            <a:avLst/>
          </a:prstGeom>
          <a:ln w="0">
            <a:noFill/>
          </a:ln>
        </p:spPr>
      </p:pic>
      <p:pic>
        <p:nvPicPr>
          <p:cNvPr id="58" name="" descr=""/>
          <p:cNvPicPr/>
          <p:nvPr/>
        </p:nvPicPr>
        <p:blipFill>
          <a:blip r:embed="rId2"/>
          <a:stretch/>
        </p:blipFill>
        <p:spPr>
          <a:xfrm>
            <a:off x="5003640" y="1052640"/>
            <a:ext cx="3240360" cy="2185920"/>
          </a:xfrm>
          <a:prstGeom prst="rect">
            <a:avLst/>
          </a:prstGeom>
          <a:ln w="0">
            <a:noFill/>
          </a:ln>
        </p:spPr>
      </p:pic>
      <p:sp>
        <p:nvSpPr>
          <p:cNvPr id="59" name=""/>
          <p:cNvSpPr/>
          <p:nvPr/>
        </p:nvSpPr>
        <p:spPr>
          <a:xfrm>
            <a:off x="5000400" y="3284640"/>
            <a:ext cx="306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терьер магазина обуви «</a:t>
            </a:r>
            <a:r>
              <a:rPr b="0" lang="en-US" sz="1400" spc="-1" strike="noStrike">
                <a:solidFill>
                  <a:srgbClr val="000000"/>
                </a:solidFill>
                <a:latin typeface="Times New Roman"/>
              </a:rPr>
              <a:t>Respect</a:t>
            </a:r>
            <a:r>
              <a:rPr b="0" lang="ru-RU" sz="1400" spc="-1" strike="noStrike">
                <a:solidFill>
                  <a:srgbClr val="000000"/>
                </a:solidFill>
                <a:latin typeface="Times New Roman"/>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радиционный минимализм</a:t>
            </a:r>
            <a:endParaRPr b="0" lang="en-US" sz="1400" spc="-1" strike="noStrike">
              <a:solidFill>
                <a:srgbClr val="000000"/>
              </a:solidFill>
              <a:latin typeface="Arial"/>
            </a:endParaRPr>
          </a:p>
        </p:txBody>
      </p:sp>
      <p:sp>
        <p:nvSpPr>
          <p:cNvPr id="60" name=""/>
          <p:cNvSpPr/>
          <p:nvPr/>
        </p:nvSpPr>
        <p:spPr>
          <a:xfrm>
            <a:off x="4911840" y="616428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998240" y="6021360"/>
            <a:ext cx="315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изайнер интерьера – </a:t>
            </a:r>
            <a:r>
              <a:rPr b="0" lang="en-US" sz="1400" spc="-1" strike="noStrike">
                <a:solidFill>
                  <a:srgbClr val="000000"/>
                </a:solidFill>
                <a:latin typeface="Times New Roman"/>
              </a:rPr>
              <a:t>Fabio Novembre</a:t>
            </a:r>
            <a:r>
              <a:rPr b="0" lang="ru-RU"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ой мотив – тема «шнурк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радиционный дизайн</a:t>
            </a:r>
            <a:endParaRPr b="0" lang="en-US" sz="2800" spc="-1" strike="noStrike">
              <a:solidFill>
                <a:srgbClr val="000000"/>
              </a:solidFill>
              <a:latin typeface="Arial"/>
            </a:endParaRPr>
          </a:p>
        </p:txBody>
      </p:sp>
      <p:sp>
        <p:nvSpPr>
          <p:cNvPr id="63" name="PlaceHolder 2"/>
          <p:cNvSpPr>
            <a:spLocks noGrp="1"/>
          </p:cNvSpPr>
          <p:nvPr>
            <p:ph/>
          </p:nvPr>
        </p:nvSpPr>
        <p:spPr>
          <a:xfrm>
            <a:off x="900000" y="4724280"/>
            <a:ext cx="7786800" cy="140184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Пожалуй, сложно сейчас назвать автомобильное дизайн-бюро, которое было бы способно так играючи воздействовать на центральные точки нервной системы автоценителей, как это делают дизайнеры Citroen. Центр разработки концептов для марки с шевроном на логотипе во главе с Жилем Видалем в очередной раз будет испытывать падких на автомобильную красоту посетителей Франкфуртского автосалона. Citroen представляет свой последний концепт C5 Airscape.</a:t>
            </a:r>
            <a:endParaRPr b="0" lang="en-US" sz="1600" spc="-1" strike="noStrike">
              <a:solidFill>
                <a:srgbClr val="000000"/>
              </a:solidFill>
              <a:latin typeface="Arial"/>
            </a:endParaRPr>
          </a:p>
        </p:txBody>
      </p:sp>
      <p:pic>
        <p:nvPicPr>
          <p:cNvPr id="64" name="" descr=""/>
          <p:cNvPicPr/>
          <p:nvPr/>
        </p:nvPicPr>
        <p:blipFill>
          <a:blip r:embed="rId1"/>
          <a:stretch/>
        </p:blipFill>
        <p:spPr>
          <a:xfrm>
            <a:off x="1908000" y="1309680"/>
            <a:ext cx="5328000" cy="319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evelopment design</a:t>
            </a:r>
            <a:endParaRPr b="0" lang="en-US" sz="2800" spc="-1" strike="noStrike">
              <a:solidFill>
                <a:srgbClr val="000000"/>
              </a:solidFill>
              <a:latin typeface="Arial"/>
            </a:endParaRPr>
          </a:p>
        </p:txBody>
      </p:sp>
      <p:sp>
        <p:nvSpPr>
          <p:cNvPr id="66" name="PlaceHolder 2"/>
          <p:cNvSpPr>
            <a:spLocks noGrp="1"/>
          </p:cNvSpPr>
          <p:nvPr>
            <p:ph/>
          </p:nvPr>
        </p:nvSpPr>
        <p:spPr>
          <a:xfrm>
            <a:off x="539640" y="4653000"/>
            <a:ext cx="8136000" cy="14731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центре Токио, в собственной галерее Ginza, компания Nissan представила концепткар Pivo. Если когда-нибудь эту машину начнут выпускать, она привлечёт людей экологической чистотой, оригинальным дизайном, необычной вспомогательной электроникой.</a:t>
            </a:r>
            <a:endParaRPr b="0" lang="en-US" sz="1400" spc="-1" strike="noStrike">
              <a:solidFill>
                <a:srgbClr val="000000"/>
              </a:solidFill>
              <a:latin typeface="Arial"/>
            </a:endParaRPr>
          </a:p>
        </p:txBody>
      </p:sp>
      <p:pic>
        <p:nvPicPr>
          <p:cNvPr id="67" name="" descr=""/>
          <p:cNvPicPr/>
          <p:nvPr/>
        </p:nvPicPr>
        <p:blipFill>
          <a:blip r:embed="rId1"/>
          <a:stretch/>
        </p:blipFill>
        <p:spPr>
          <a:xfrm>
            <a:off x="2340000" y="1125360"/>
            <a:ext cx="4535640" cy="338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Традиционный дизайн                      </a:t>
            </a:r>
            <a:r>
              <a:rPr b="0" lang="en-US" sz="2000" spc="-1" strike="noStrike">
                <a:solidFill>
                  <a:srgbClr val="000000"/>
                </a:solidFill>
                <a:latin typeface="Arial"/>
              </a:rPr>
              <a:t>New development </a:t>
            </a:r>
            <a:r>
              <a:rPr b="0" lang="ru-RU" sz="2000" spc="-1" strike="noStrike">
                <a:solidFill>
                  <a:srgbClr val="000000"/>
                </a:solidFill>
                <a:latin typeface="Arial"/>
              </a:rPr>
              <a:t>дизайн</a:t>
            </a:r>
            <a:endParaRPr b="0" lang="en-US" sz="2000" spc="-1" strike="noStrike">
              <a:solidFill>
                <a:srgbClr val="000000"/>
              </a:solidFill>
              <a:latin typeface="Arial"/>
            </a:endParaRPr>
          </a:p>
        </p:txBody>
      </p:sp>
      <p:pic>
        <p:nvPicPr>
          <p:cNvPr id="69" name="" descr=""/>
          <p:cNvPicPr/>
          <p:nvPr/>
        </p:nvPicPr>
        <p:blipFill>
          <a:blip r:embed="rId1"/>
          <a:stretch/>
        </p:blipFill>
        <p:spPr>
          <a:xfrm>
            <a:off x="755640" y="1628640"/>
            <a:ext cx="3456000" cy="3456000"/>
          </a:xfrm>
          <a:prstGeom prst="rect">
            <a:avLst/>
          </a:prstGeom>
          <a:ln w="0">
            <a:noFill/>
          </a:ln>
        </p:spPr>
      </p:pic>
      <p:pic>
        <p:nvPicPr>
          <p:cNvPr id="70" name="" descr=""/>
          <p:cNvPicPr/>
          <p:nvPr/>
        </p:nvPicPr>
        <p:blipFill>
          <a:blip r:embed="rId2"/>
          <a:stretch/>
        </p:blipFill>
        <p:spPr>
          <a:xfrm>
            <a:off x="4932360" y="1341360"/>
            <a:ext cx="2584440" cy="3484800"/>
          </a:xfrm>
          <a:prstGeom prst="rect">
            <a:avLst/>
          </a:prstGeom>
          <a:ln w="0">
            <a:noFill/>
          </a:ln>
        </p:spPr>
      </p:pic>
      <p:sp>
        <p:nvSpPr>
          <p:cNvPr id="71" name=""/>
          <p:cNvSpPr/>
          <p:nvPr/>
        </p:nvSpPr>
        <p:spPr>
          <a:xfrm>
            <a:off x="663480" y="5372280"/>
            <a:ext cx="383724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63480" y="5299200"/>
            <a:ext cx="362124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1280" y="5445000"/>
            <a:ext cx="360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ужские и женские </a:t>
            </a:r>
            <a:r>
              <a:rPr b="1" lang="ru-RU" sz="1400" spc="-1" strike="noStrike">
                <a:solidFill>
                  <a:srgbClr val="000000"/>
                </a:solidFill>
                <a:latin typeface="Times New Roman"/>
              </a:rPr>
              <a:t>электронные часы Casio</a:t>
            </a:r>
            <a:r>
              <a:rPr b="0" lang="ru-RU" sz="1400" spc="-1" strike="noStrike">
                <a:solidFill>
                  <a:srgbClr val="000000"/>
                </a:solidFill>
                <a:latin typeface="Times New Roman"/>
              </a:rPr>
              <a:t> отличаются надежностью и современным дизайном, технологичностью и стилем. </a:t>
            </a:r>
            <a:endParaRPr b="0" lang="en-US" sz="1400" spc="-1" strike="noStrike">
              <a:solidFill>
                <a:srgbClr val="000000"/>
              </a:solidFill>
              <a:latin typeface="Arial"/>
            </a:endParaRPr>
          </a:p>
        </p:txBody>
      </p:sp>
      <p:sp>
        <p:nvSpPr>
          <p:cNvPr id="74" name=""/>
          <p:cNvSpPr/>
          <p:nvPr/>
        </p:nvSpPr>
        <p:spPr>
          <a:xfrm>
            <a:off x="4911840" y="5299200"/>
            <a:ext cx="18396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4788000" y="5084640"/>
            <a:ext cx="36925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Часы </a:t>
            </a:r>
            <a:r>
              <a:rPr b="1" lang="ru-RU" sz="1400" spc="-1" strike="noStrike">
                <a:solidFill>
                  <a:srgbClr val="000000"/>
                </a:solidFill>
                <a:latin typeface="Times New Roman"/>
              </a:rPr>
              <a:t>Fortis IQ</a:t>
            </a:r>
            <a:r>
              <a:rPr b="0" lang="ru-RU" sz="1400" spc="-1" strike="noStrike">
                <a:solidFill>
                  <a:srgbClr val="000000"/>
                </a:solidFill>
                <a:latin typeface="Times New Roman"/>
              </a:rPr>
              <a:t> разработал дизайнер </a:t>
            </a:r>
            <a:r>
              <a:rPr b="1" lang="ru-RU" sz="1400" spc="-1" strike="noStrike">
                <a:solidFill>
                  <a:srgbClr val="000000"/>
                </a:solidFill>
                <a:latin typeface="Times New Roman"/>
              </a:rPr>
              <a:t>Рольф Сакс (Rolf Sachs)</a:t>
            </a:r>
            <a:r>
              <a:rPr b="0" lang="ru-RU" sz="1400" spc="-1" strike="noStrike">
                <a:solidFill>
                  <a:srgbClr val="000000"/>
                </a:solidFill>
                <a:latin typeface="Times New Roman"/>
              </a:rPr>
              <a:t> специально для швейцарской часовой фабрики Fort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ля использования часов Fortis IQ потребуются базовые знания математики, ну или навыки определения времени по часам с циферблато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68360" y="981000"/>
            <a:ext cx="4038480" cy="2725920"/>
          </a:xfrm>
          <a:prstGeom prst="rect">
            <a:avLst/>
          </a:prstGeom>
          <a:ln w="0">
            <a:noFill/>
          </a:ln>
        </p:spPr>
      </p:pic>
      <p:pic>
        <p:nvPicPr>
          <p:cNvPr id="77" name="" descr=""/>
          <p:cNvPicPr/>
          <p:nvPr/>
        </p:nvPicPr>
        <p:blipFill>
          <a:blip r:embed="rId2"/>
          <a:stretch/>
        </p:blipFill>
        <p:spPr>
          <a:xfrm>
            <a:off x="5003640" y="981000"/>
            <a:ext cx="3291120" cy="4525920"/>
          </a:xfrm>
          <a:prstGeom prst="rect">
            <a:avLst/>
          </a:prstGeom>
          <a:ln w="0">
            <a:noFill/>
          </a:ln>
        </p:spPr>
      </p:pic>
      <p:sp>
        <p:nvSpPr>
          <p:cNvPr id="78" name=""/>
          <p:cNvSpPr/>
          <p:nvPr/>
        </p:nvSpPr>
        <p:spPr>
          <a:xfrm>
            <a:off x="587160" y="4003560"/>
            <a:ext cx="35046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тол выполненный в стиле традиционног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инимализма – прямые точные формы,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ахроматическая гамма – ничего лишнего.</a:t>
            </a:r>
            <a:endParaRPr b="0" lang="en-US" sz="1400" spc="-1" strike="noStrike">
              <a:solidFill>
                <a:srgbClr val="000000"/>
              </a:solidFill>
              <a:latin typeface="Arial"/>
            </a:endParaRPr>
          </a:p>
        </p:txBody>
      </p:sp>
      <p:sp>
        <p:nvSpPr>
          <p:cNvPr id="79" name=""/>
          <p:cNvSpPr/>
          <p:nvPr/>
        </p:nvSpPr>
        <p:spPr>
          <a:xfrm>
            <a:off x="4984920" y="5587920"/>
            <a:ext cx="38350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535120" y="5587920"/>
            <a:ext cx="63579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2176560" y="5587920"/>
            <a:ext cx="6716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816200" y="5516640"/>
            <a:ext cx="7076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Paint Or Die But Love Me" (покрась или умри, но люби меня) - надо сказать очень замороченое название для великолепного концепт-дизайна необычного стола от Французского дизайнера </a:t>
            </a:r>
            <a:r>
              <a:rPr b="0" lang="en-US" sz="1400" spc="-1" strike="noStrike">
                <a:solidFill>
                  <a:srgbClr val="000000"/>
                </a:solidFill>
                <a:latin typeface="Times New Roman"/>
              </a:rPr>
              <a:t>Johna </a:t>
            </a:r>
            <a:r>
              <a:rPr b="0" lang="ru-RU" sz="1400" spc="-1" strike="noStrike">
                <a:solidFill>
                  <a:srgbClr val="000000"/>
                </a:solidFill>
                <a:latin typeface="Times New Roman"/>
              </a:rPr>
              <a:t>То</a:t>
            </a:r>
            <a:r>
              <a:rPr b="0" lang="en-US" sz="1400" spc="-1" strike="noStrike">
                <a:solidFill>
                  <a:srgbClr val="000000"/>
                </a:solidFill>
                <a:latin typeface="Times New Roman"/>
              </a:rPr>
              <a:t>uanesinga</a:t>
            </a:r>
            <a:r>
              <a:rPr b="0" lang="ru-RU" sz="1400" spc="-1" strike="noStrike">
                <a:solidFill>
                  <a:srgbClr val="000000"/>
                </a:solidFill>
                <a:latin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042920" y="1989000"/>
            <a:ext cx="2857680" cy="3721320"/>
          </a:xfrm>
          <a:prstGeom prst="rect">
            <a:avLst/>
          </a:prstGeom>
          <a:ln w="0">
            <a:noFill/>
          </a:ln>
        </p:spPr>
      </p:pic>
      <p:pic>
        <p:nvPicPr>
          <p:cNvPr id="84" name="" descr=""/>
          <p:cNvPicPr/>
          <p:nvPr/>
        </p:nvPicPr>
        <p:blipFill>
          <a:blip r:embed="rId2"/>
          <a:stretch/>
        </p:blipFill>
        <p:spPr>
          <a:xfrm>
            <a:off x="4716360" y="765000"/>
            <a:ext cx="3810240" cy="3810240"/>
          </a:xfrm>
          <a:prstGeom prst="rect">
            <a:avLst/>
          </a:prstGeom>
          <a:ln w="0">
            <a:noFill/>
          </a:ln>
        </p:spPr>
      </p:pic>
      <p:sp>
        <p:nvSpPr>
          <p:cNvPr id="85" name=""/>
          <p:cNvSpPr/>
          <p:nvPr/>
        </p:nvSpPr>
        <p:spPr>
          <a:xfrm>
            <a:off x="950760" y="763560"/>
            <a:ext cx="31896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755640" y="1125360"/>
            <a:ext cx="36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TravelDrive использует современный дизайн без традиционного колпачка, с поворотным механизмом на 180º. </a:t>
            </a:r>
            <a:endParaRPr b="0" lang="en-US" sz="1400" spc="-1" strike="noStrike">
              <a:solidFill>
                <a:srgbClr val="000000"/>
              </a:solidFill>
              <a:latin typeface="Arial"/>
            </a:endParaRPr>
          </a:p>
        </p:txBody>
      </p:sp>
      <p:sp>
        <p:nvSpPr>
          <p:cNvPr id="87" name=""/>
          <p:cNvSpPr/>
          <p:nvPr/>
        </p:nvSpPr>
        <p:spPr>
          <a:xfrm>
            <a:off x="4335480" y="4795920"/>
            <a:ext cx="441324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284720" y="4869000"/>
            <a:ext cx="46814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Эта USB флешка помимо своей прямой обязанности - хранить информацию, может служить ещё и прикольным аксессуаром. Её металлический корпус выполнен в виде робота и оснащён замком, с помощью которого эту флешку можно прицепить скажем к джинса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39640" y="692280"/>
            <a:ext cx="3810240" cy="2914560"/>
          </a:xfrm>
          <a:prstGeom prst="rect">
            <a:avLst/>
          </a:prstGeom>
          <a:ln w="0">
            <a:noFill/>
          </a:ln>
        </p:spPr>
      </p:pic>
      <p:pic>
        <p:nvPicPr>
          <p:cNvPr id="90" name="" descr=""/>
          <p:cNvPicPr/>
          <p:nvPr/>
        </p:nvPicPr>
        <p:blipFill>
          <a:blip r:embed="rId2"/>
          <a:stretch/>
        </p:blipFill>
        <p:spPr>
          <a:xfrm>
            <a:off x="4643280" y="620640"/>
            <a:ext cx="4038840" cy="3165480"/>
          </a:xfrm>
          <a:prstGeom prst="rect">
            <a:avLst/>
          </a:prstGeom>
          <a:ln w="0">
            <a:noFill/>
          </a:ln>
        </p:spPr>
      </p:pic>
      <p:sp>
        <p:nvSpPr>
          <p:cNvPr id="91" name=""/>
          <p:cNvSpPr/>
          <p:nvPr/>
        </p:nvSpPr>
        <p:spPr>
          <a:xfrm>
            <a:off x="519120" y="3932280"/>
            <a:ext cx="37656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539640" y="4221000"/>
            <a:ext cx="3888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радиционный дизайн многофункциональных телефонов фирмы «</a:t>
            </a:r>
            <a:r>
              <a:rPr b="0" lang="en-US" sz="1400" spc="-1" strike="noStrike">
                <a:solidFill>
                  <a:srgbClr val="000000"/>
                </a:solidFill>
                <a:latin typeface="Times New Roman"/>
              </a:rPr>
              <a:t>Sony Ericsson</a:t>
            </a:r>
            <a:r>
              <a:rPr b="0" lang="ru-RU" sz="1400" spc="-1" strike="noStrike">
                <a:solidFill>
                  <a:srgbClr val="000000"/>
                </a:solidFill>
                <a:latin typeface="Times New Roman"/>
              </a:rPr>
              <a:t>. Здесь внешние характеристики и удобство использования сочетаются с неизменным качеством.</a:t>
            </a:r>
            <a:endParaRPr b="0" lang="en-US" sz="1400" spc="-1" strike="noStrike">
              <a:solidFill>
                <a:srgbClr val="000000"/>
              </a:solidFill>
              <a:latin typeface="Arial"/>
            </a:endParaRPr>
          </a:p>
        </p:txBody>
      </p:sp>
      <p:sp>
        <p:nvSpPr>
          <p:cNvPr id="93" name=""/>
          <p:cNvSpPr/>
          <p:nvPr/>
        </p:nvSpPr>
        <p:spPr>
          <a:xfrm>
            <a:off x="4767120" y="4003560"/>
            <a:ext cx="3908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479840" y="4003560"/>
            <a:ext cx="46641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00720" y="4005360"/>
            <a:ext cx="43923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изайнер Энрико Пандольфини (Enrico Pandolfini) решил представить концепт телефона, управляемого сенсорно, но начисто лишенного сенсорного дисплея. Пользователь просто нажимает на то место, где обычно располагаются традиционные клавиши. Когда нажатие было совершено верно, телефон активизирует подсветку, выполняющую не только прикладную, но и эстетическую функци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ственность дизайнера</a:t>
            </a:r>
            <a:endParaRPr b="0" lang="en-US" sz="2400" spc="-1" strike="noStrike">
              <a:solidFill>
                <a:srgbClr val="000000"/>
              </a:solidFill>
              <a:latin typeface="Arial"/>
            </a:endParaRPr>
          </a:p>
        </p:txBody>
      </p:sp>
      <p:sp>
        <p:nvSpPr>
          <p:cNvPr id="97" name="PlaceHolder 2"/>
          <p:cNvSpPr>
            <a:spLocks noGrp="1"/>
          </p:cNvSpPr>
          <p:nvPr>
            <p:ph/>
          </p:nvPr>
        </p:nvSpPr>
        <p:spPr>
          <a:xfrm>
            <a:off x="4642920" y="1125000"/>
            <a:ext cx="4038840" cy="5218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Можно заставлять потреблять, формируя искусственные потребности и механизмы их раздувания, а можно изучать потребности и удовлетворять их. (4) </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ожно продолжать традиционный дизайн, неподвластный времени, а можно создавать  дизайн будущего, используя новейшие технологии.</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 любом случае дизайнер становится ответственным за то, что он создает и как это может отразится на том, для «Кого» он создает новую вещественную реальность.</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еакция потребителя на новый продукт дизайна может быть неоднозначной – </a:t>
            </a:r>
            <a:r>
              <a:rPr b="0" lang="en-US" sz="1400" spc="-1" strike="noStrike" u="sng">
                <a:solidFill>
                  <a:srgbClr val="000000"/>
                </a:solidFill>
                <a:uFillTx/>
                <a:latin typeface="Times New Roman"/>
              </a:rPr>
              <a:t>«люди могут быть очень разными, исковерканными условиями жизни в городской среде… Неудобное кресло кого то привлечет своей экстравагантностью, мельтешащая реклама – мрачноватым юмором и т.п. Дизайнер работает на живого человека и момент знания будет заключаться в том, чтобы как можно более отчетливо его себе представлять. Осознание ситуации приводит к возрастающей ответственности творца.» (4)</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98" name="" descr=""/>
          <p:cNvPicPr/>
          <p:nvPr/>
        </p:nvPicPr>
        <p:blipFill>
          <a:blip r:embed="rId1"/>
          <a:stretch/>
        </p:blipFill>
        <p:spPr>
          <a:xfrm>
            <a:off x="900000" y="3213000"/>
            <a:ext cx="3179880" cy="2016360"/>
          </a:xfrm>
          <a:prstGeom prst="rect">
            <a:avLst/>
          </a:prstGeom>
          <a:ln w="0">
            <a:noFill/>
          </a:ln>
        </p:spPr>
      </p:pic>
      <p:pic>
        <p:nvPicPr>
          <p:cNvPr id="99" name="" descr=""/>
          <p:cNvPicPr/>
          <p:nvPr/>
        </p:nvPicPr>
        <p:blipFill>
          <a:blip r:embed="rId2"/>
          <a:stretch/>
        </p:blipFill>
        <p:spPr>
          <a:xfrm>
            <a:off x="900000" y="907920"/>
            <a:ext cx="3167280" cy="2016360"/>
          </a:xfrm>
          <a:prstGeom prst="rect">
            <a:avLst/>
          </a:prstGeom>
          <a:ln w="0">
            <a:noFill/>
          </a:ln>
        </p:spPr>
      </p:pic>
      <p:sp>
        <p:nvSpPr>
          <p:cNvPr id="100" name=""/>
          <p:cNvSpPr/>
          <p:nvPr/>
        </p:nvSpPr>
        <p:spPr>
          <a:xfrm>
            <a:off x="808200" y="5443560"/>
            <a:ext cx="36194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995640" y="573408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68360" y="5445000"/>
            <a:ext cx="7991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ы ведь знаете, что бывают такие вещи на которые смотреть не хочется, но вы всё же смотрите на них. Ковер с названием "убийство на дороге" подтверждает это высказывание. Он выполнен на грани отвращения и интереса. Этот ковер очень мягкий, тёплый, но изображение раздавленной машиной лисы... Хотя … наверняка найдутся люди, которым эта необычная дизайнерская идея придется по вкус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56000" y="836640"/>
            <a:ext cx="3800520" cy="3467160"/>
          </a:xfrm>
          <a:prstGeom prst="rect">
            <a:avLst/>
          </a:prstGeom>
          <a:ln w="0">
            <a:noFill/>
          </a:ln>
        </p:spPr>
      </p:pic>
      <p:sp>
        <p:nvSpPr>
          <p:cNvPr id="104" name=""/>
          <p:cNvSpPr/>
          <p:nvPr/>
        </p:nvSpPr>
        <p:spPr>
          <a:xfrm>
            <a:off x="519120" y="4795920"/>
            <a:ext cx="8156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Что тут еще добавить? Дозатор в виде носа крепится на стену в ванной комнате и при нажатии на одну из его ноздрей из неё вытекает налитое в носовой резервуар жидкое мыло или скажем шампунь. Забавно, конечно, но глядя на это возникают определенные ассоциации…не очень приятные. Но кто то наверное оценит юмористическую составляющую этого объекта дизайн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666880" y="304920"/>
            <a:ext cx="3571920" cy="5429160"/>
          </a:xfrm>
          <a:prstGeom prst="rect">
            <a:avLst/>
          </a:prstGeom>
          <a:ln w="0">
            <a:noFill/>
          </a:ln>
        </p:spPr>
      </p:pic>
      <p:sp>
        <p:nvSpPr>
          <p:cNvPr id="106" name=""/>
          <p:cNvSpPr/>
          <p:nvPr/>
        </p:nvSpPr>
        <p:spPr>
          <a:xfrm>
            <a:off x="447840" y="5732640"/>
            <a:ext cx="8227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Fuck The Rain" - именно так называется зонтик с изображенным на нем всем известным жестом, который показывает отношение к дождю человека, носящего такой прикольный зонтик. Дизайн: Артемий Лебедев и Антон Шнайде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Содержание:</a:t>
            </a:r>
            <a:endParaRPr b="0" lang="en-US" sz="36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ведение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ктуальность темы</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ипотеза и определение основных вопросов</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ая часть:</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 </a:t>
            </a:r>
            <a:r>
              <a:rPr b="0" lang="ru-RU" sz="2000" spc="-1" strike="noStrike">
                <a:solidFill>
                  <a:srgbClr val="000000"/>
                </a:solidFill>
                <a:latin typeface="Times New Roman"/>
              </a:rPr>
              <a:t>сходство, различия, точки пересечения двух образов мышл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 </a:t>
            </a:r>
            <a:r>
              <a:rPr b="0" lang="ru-RU" sz="2000" spc="-1" strike="noStrike">
                <a:solidFill>
                  <a:srgbClr val="000000"/>
                </a:solidFill>
                <a:latin typeface="Times New Roman"/>
              </a:rPr>
              <a:t>диалог и его необходимость</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радиционный дизайн</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development </a:t>
            </a:r>
            <a:r>
              <a:rPr b="0" lang="ru-RU" sz="2000" spc="-1" strike="noStrike">
                <a:solidFill>
                  <a:srgbClr val="000000"/>
                </a:solidFill>
                <a:latin typeface="Times New Roman"/>
              </a:rPr>
              <a:t>дизайн</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ветственность дизайнера</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еальный дизайн»</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ывод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исок литератур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деальный» дизайн</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озможно ли найти компромисс между качеством и креативом, неординарностью и необходимостью? Найти так называемую «золотую середину» можно лишь в гармонии внешней формы и внутреннего содерж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Главной отправной точкой любой проектной деятельности выступает сам человек. Поиски разнообразных «мер» есть поиски средств на пути достижения главного результата – гармонии предметной среды и людей, в ней существующих. «Вторая природа» отличается от «первой» именно тем, что создается людьми и для людей. (4)</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900000" y="2781360"/>
            <a:ext cx="3214800" cy="2185920"/>
          </a:xfrm>
          <a:prstGeom prst="rect">
            <a:avLst/>
          </a:prstGeom>
          <a:ln w="0">
            <a:noFill/>
          </a:ln>
        </p:spPr>
      </p:pic>
      <p:sp>
        <p:nvSpPr>
          <p:cNvPr id="110" name=""/>
          <p:cNvSpPr/>
          <p:nvPr/>
        </p:nvSpPr>
        <p:spPr>
          <a:xfrm>
            <a:off x="324000" y="5084640"/>
            <a:ext cx="5011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BOX" - это набор полок-ниш разных расцветок и размеров, купив которые можно попробовать себя в роли дизайнера интерьера офиса или квартиры, комбинируя полки в различных вариациях по своему усмотрению. </a:t>
            </a:r>
            <a:endParaRPr b="0" lang="en-US" sz="1600" spc="-1" strike="noStrike">
              <a:solidFill>
                <a:srgbClr val="000000"/>
              </a:solidFill>
              <a:latin typeface="Arial"/>
            </a:endParaRPr>
          </a:p>
        </p:txBody>
      </p:sp>
      <p:sp>
        <p:nvSpPr>
          <p:cNvPr id="111" name=""/>
          <p:cNvSpPr/>
          <p:nvPr/>
        </p:nvSpPr>
        <p:spPr>
          <a:xfrm>
            <a:off x="5487840" y="2924280"/>
            <a:ext cx="333216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2"/>
          <a:stretch/>
        </p:blipFill>
        <p:spPr>
          <a:xfrm>
            <a:off x="900000" y="260280"/>
            <a:ext cx="3810240" cy="2305080"/>
          </a:xfrm>
          <a:prstGeom prst="rect">
            <a:avLst/>
          </a:prstGeom>
          <a:ln w="0">
            <a:noFill/>
          </a:ln>
        </p:spPr>
      </p:pic>
      <p:sp>
        <p:nvSpPr>
          <p:cNvPr id="113" name=""/>
          <p:cNvSpPr/>
          <p:nvPr/>
        </p:nvSpPr>
        <p:spPr>
          <a:xfrm>
            <a:off x="5127480" y="258840"/>
            <a:ext cx="37656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076720" y="260280"/>
            <a:ext cx="381636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Napbook" - так называется эта необычная сумка для ноутбука. Помимо своего привлекательного дизайна, эта сумка интересна еще тем, что может быть использована в качестве мягкой подушки! Так что если вдруг в длительной поездке или на лекции в институте вы решите немного вздремнуть, то более комфортно это будет сделать с мягкой сумкой для вашего ноутбука ;-)Дизайн: </a:t>
            </a:r>
            <a:r>
              <a:rPr b="0" lang="en-US" sz="1400" spc="-1" strike="noStrike">
                <a:solidFill>
                  <a:srgbClr val="000000"/>
                </a:solidFill>
                <a:latin typeface="Times New Roman"/>
              </a:rPr>
              <a:t>Hafsteinu Julisson</a:t>
            </a:r>
            <a:endParaRPr b="0" lang="en-US" sz="1400" spc="-1" strike="noStrike">
              <a:solidFill>
                <a:srgbClr val="000000"/>
              </a:solidFill>
              <a:latin typeface="Arial"/>
            </a:endParaRPr>
          </a:p>
        </p:txBody>
      </p:sp>
      <p:pic>
        <p:nvPicPr>
          <p:cNvPr id="115" name="" descr=""/>
          <p:cNvPicPr/>
          <p:nvPr/>
        </p:nvPicPr>
        <p:blipFill>
          <a:blip r:embed="rId3"/>
          <a:stretch/>
        </p:blipFill>
        <p:spPr>
          <a:xfrm>
            <a:off x="5364000" y="2708280"/>
            <a:ext cx="2737080" cy="2558880"/>
          </a:xfrm>
          <a:prstGeom prst="rect">
            <a:avLst/>
          </a:prstGeom>
          <a:ln w="0">
            <a:noFill/>
          </a:ln>
        </p:spPr>
      </p:pic>
      <p:sp>
        <p:nvSpPr>
          <p:cNvPr id="116" name=""/>
          <p:cNvSpPr/>
          <p:nvPr/>
        </p:nvSpPr>
        <p:spPr>
          <a:xfrm>
            <a:off x="5487840" y="5443560"/>
            <a:ext cx="3476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ания Shuella предложила свой вариант обуви, которая в сложенном виде умещается в сумку. Если непогода застала врасплох, можно просто надеть ее поверх своей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вод</a:t>
            </a:r>
            <a:endParaRPr b="0" lang="en-US" sz="28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так, в конце исследования можно сделать вывод, что моя гипотеза была не верна. Нельзя сказать, что мышление дизайнера и мышление потребителя полностью не совпадают. Если бы здесь не было точек соприкосновения, не был бы возможен диалог между дизайнером и потребителем. Но этот диалог необходим, так как </a:t>
            </a:r>
            <a:r>
              <a:rPr b="0" lang="ru-RU" sz="1800" spc="-1" strike="noStrike" u="sng">
                <a:solidFill>
                  <a:srgbClr val="000000"/>
                </a:solidFill>
                <a:uFillTx/>
                <a:latin typeface="Arial"/>
              </a:rPr>
              <a:t>«дизайнер творит для другого», а потребитель «от ощущения, через эмоции приходит к духовно – ценностным переживаниям культурного смысла объекта»(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вопрос создания «идеального дизайна», в котором присутствовала бы не только креативная составляющая, но и соответствие всем требованиям эргономики, экологии и эстетики, остается открыты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Список литературы:</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Быстрова Т.Ю. Режим доступа: </a:t>
            </a:r>
            <a:r>
              <a:rPr b="0" lang="en-US" sz="1800" spc="-1" strike="noStrike">
                <a:solidFill>
                  <a:srgbClr val="000000"/>
                </a:solidFill>
                <a:latin typeface="Times New Roman"/>
              </a:rPr>
              <a:t>www. Taby 27. ru/studentam _ aspirantam/ philos _ design / utferaty _ philos _ design/ 513/…</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t>
            </a:r>
            <a:r>
              <a:rPr b="0" lang="ru-RU" sz="1800" spc="-1" strike="noStrike">
                <a:solidFill>
                  <a:srgbClr val="000000"/>
                </a:solidFill>
                <a:latin typeface="Times New Roman"/>
              </a:rPr>
              <a:t>Глазычев     Режим доступа: </a:t>
            </a:r>
            <a:r>
              <a:rPr b="0" lang="en-US" sz="1800" spc="-1" strike="noStrike" u="sng">
                <a:solidFill>
                  <a:srgbClr val="009999"/>
                </a:solidFill>
                <a:uFillTx/>
                <a:latin typeface="Times New Roman"/>
                <a:hlinkClick r:id="rId1"/>
              </a:rPr>
              <a:t>www.glazychew.ru/</a:t>
            </a:r>
            <a:r>
              <a:rPr b="0" lang="en-US" sz="1800" spc="-1" strike="noStrike">
                <a:solidFill>
                  <a:srgbClr val="000000"/>
                </a:solidFill>
                <a:latin typeface="Times New Roman"/>
              </a:rPr>
              <a:t> books/design_0.5.htm</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a:t>
            </a:r>
            <a:r>
              <a:rPr b="0" lang="ru-RU" sz="1800" spc="-1" strike="noStrike">
                <a:solidFill>
                  <a:srgbClr val="000000"/>
                </a:solidFill>
                <a:latin typeface="Times New Roman"/>
              </a:rPr>
              <a:t>Режим доступа: </a:t>
            </a:r>
            <a:r>
              <a:rPr b="0" lang="en-US" sz="1800" spc="-1" strike="noStrike">
                <a:solidFill>
                  <a:srgbClr val="000000"/>
                </a:solidFill>
                <a:latin typeface="Times New Roman"/>
              </a:rPr>
              <a:t>elib.Ispu.ru/library/tgm/spraw/defineusers.htm</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ru-RU" sz="1800" spc="-1" strike="noStrike">
                <a:solidFill>
                  <a:srgbClr val="000000"/>
                </a:solidFill>
                <a:latin typeface="Times New Roman"/>
              </a:rPr>
              <a:t>. Быстрова Т.Ю. «Философские проблемы творчества в искусстве и дизай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6" name=""/>
          <p:cNvSpPr/>
          <p:nvPr/>
        </p:nvSpPr>
        <p:spPr>
          <a:xfrm>
            <a:off x="324000" y="189000"/>
            <a:ext cx="8424720" cy="557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Введение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 сегодняшний день дизайн охватывает многие сферы производства и становится все более индивидуальным. Индивидуальное начало – важная составляющая любого дизайн – проектирования, ведь каждая вещь в своем зарождении начинается с «творческой» мысли дизайнер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ория дизайна рассматривает термины и их значения, формы и методы дизайн – проектирования, а так же особенности проектного мышле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днако, причина возникновения того или иного образа мышления и его влияние на человека и общество в целом требует, .на мой взгляд, более детального рассмотрения. Естественно, что проектное мышление дизайнера имеет определенную специфику, которая характеризуется целостностью видения предметного мира и стремлением к его гармонизации и эстетиза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Лично для меня наибольший интерес представляет проблема определения специфики проектного мышления дизайнера в сравнении с мышлением потребителя. И проблема здесь не только в том, что и тому и другому присуще разное мировосприятие – если дизайнер может понять суть вещи и ее значение как «вещи» самой по себе, то потребителю зачастую  свойственно именно «потребительское» отношение к вещи – важно и то, каким образом должно быть настроено мышление дизайнера, что бы оно в какой то степени совпадало с мышлением потребителя, чтобы они могли понять друг друг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
          <p:cNvSpPr/>
          <p:nvPr/>
        </p:nvSpPr>
        <p:spPr>
          <a:xfrm>
            <a:off x="468360" y="1197000"/>
            <a:ext cx="82803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8" name=""/>
          <p:cNvSpPr/>
          <p:nvPr/>
        </p:nvSpPr>
        <p:spPr>
          <a:xfrm>
            <a:off x="468360" y="138240"/>
            <a:ext cx="7991280" cy="508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Актуальность тем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Несмотря на то, что современный дизайн предлагает потребителю веши, сохраняющие концепцию индивидуальности и разнообразия в сочетании с новейшими методами производства, потребитель зачастую склонен приобретать вещи, которые ему навязывает реклама. Нельзя сказать однозначно, что эти вещи плохие или хорошие, но они далеко не всегда удобны или достаточно красивы с точки зрения эстетики производ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ак почему же так происходит? Ответом на этот вопрос может стать простая психология потребителя, которая уже давно изучена рекламодателями. Но в моем исследовании основной вопрос состоит не в этом, а в том, что можно сделать для того, чтобы этого не происходил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овременный потребитель живет в мире обусловленном культурой и стереотипами, и дизайнеру необходимо учитывать это, чтобы его «творения» не остались невостребованными. Эта проблема, я считаю, достаточно актуальна. Тем более она требует рассмотрения, опираясь на тот факт, что само по себе взаимодействие дизайнера и потребителя на сегодняшний день мало изучено, и решение этой проблемы могло бы оказать существенное влияние на дизайн как в теории, так и на практик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49" name=""/>
          <p:cNvSpPr/>
          <p:nvPr/>
        </p:nvSpPr>
        <p:spPr>
          <a:xfrm>
            <a:off x="324000" y="282600"/>
            <a:ext cx="8496000" cy="527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Гипотеза и определение основных вопросо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так, на мой взгляд, мышление дизайнера и потребителя совершенно не совпадают</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Чтобы подтвердить или опровергнуть эту гипотезу,  необходимо рассмотреть несколько  основных вопросов исследования, а именно: сходство и различие мышления потребителя и проектного мышления дизайнера, а так же найти точки соприкосновения, если они ес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Кроме того мною поставлена еще одна проблема – поиск «идеального» решения организации предметного пространства, которое будет гармонично взаимодействовать с современным среднестатистическим потребителем. Для этого я предлагаю рассмотреть основные тенденции развития современного дизайна и определить их влияние на сознание потребителя и на формирование окружающей предметной сре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0" name=""/>
          <p:cNvSpPr/>
          <p:nvPr/>
        </p:nvSpPr>
        <p:spPr>
          <a:xfrm>
            <a:off x="324000" y="138240"/>
            <a:ext cx="8391240" cy="60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ходство, различия, точки пересечения двух образов мышлени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ходство :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Бессознательное восприятие смысла предмета, как объекта с определенным назначением.</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осприятие предметного мира в соответствии с собственным мироощущением, эмоциями, настроением, представлениями о комфорте и красоте.</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онимание красоты как гармонии эстетического и функционального в вещи.</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лич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rPr>
              <a:t>Структура проективного мышления включает в себя следующие момен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синтез внутреннего, сокровенного, имманентно присущего творцу, и внешнего, даваемого культуро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единство новаторского и репродуктивного, соотношение которых меняется в различных проекта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синтез воображения и абстрактного мышления, воображения и рассудка, интуитивного и дискурсивног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способность предвосхищения </a:t>
            </a:r>
            <a:r>
              <a:rPr b="0" i="1" lang="ru-RU" sz="1600" spc="-1" strike="noStrike" u="sng">
                <a:solidFill>
                  <a:srgbClr val="000000"/>
                </a:solidFill>
                <a:uFillTx/>
                <a:latin typeface="Times New Roman"/>
              </a:rPr>
              <a:t>(антиципация)</a:t>
            </a:r>
            <a:r>
              <a:rPr b="0" lang="ru-RU" sz="1600" spc="-1" strike="noStrike" u="sng">
                <a:solidFill>
                  <a:srgbClr val="000000"/>
                </a:solidFill>
                <a:uFillTx/>
                <a:latin typeface="Times New Roman"/>
              </a:rPr>
              <a:t>, предполагающая «вырастание» будущего из настоящего, а не беспочвенное фантазировани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единство сознательного и бессознательного, либо подсознательного – в первую очередь, архетипов и стереотипо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a:t>
            </a:r>
            <a:r>
              <a:rPr b="0" lang="ru-RU" sz="1600" spc="-1" strike="noStrike" u="sng">
                <a:solidFill>
                  <a:srgbClr val="000000"/>
                </a:solidFill>
                <a:uFillTx/>
                <a:latin typeface="Times New Roman"/>
              </a:rPr>
              <a:t>единство отражения и преображения действительности;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1" name=""/>
          <p:cNvSpPr/>
          <p:nvPr/>
        </p:nvSpPr>
        <p:spPr>
          <a:xfrm>
            <a:off x="376200" y="138240"/>
            <a:ext cx="8372520" cy="627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руктура мышления потребителя характеризует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реобладанием бессознательного в оценке действительности (эмоции, воспоминания, ассоциации)</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Неоднозначным отношением ко всему новому (в основном – недоверие)</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осприятие объектов дизайна как абстрактного искусства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Потребительской идеологией, вещизмом, который выражается уже не в накоплении аналогичных по утилитарной полезности вещей, а в их непрерывной замене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 Универсальной конформизацией сознания, распространением потребительской идеологии – воздействие на сознание потребителя моды и рекламы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ведение потребителя могут определять силы, которые он сам не в состоянии выразить вербально: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нутренние желания и раннее воздействие</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Взаимодействие внутреннего и внешнего мира</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Образ жизни и социальные условия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озможно ли найти точки соприкосновения двух настолько различных типов мышле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пытка провести параллель между ними относительно одних и тех же ориентиров мышления представлена в таблиц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риентиры мышления</a:t>
            </a:r>
            <a:endParaRPr b="0" lang="en-US" sz="2800" spc="-1" strike="noStrike">
              <a:solidFill>
                <a:srgbClr val="000000"/>
              </a:solidFill>
              <a:latin typeface="Arial"/>
            </a:endParaRPr>
          </a:p>
        </p:txBody>
      </p:sp>
      <p:graphicFrame>
        <p:nvGraphicFramePr>
          <p:cNvPr id="53" name=""/>
          <p:cNvGraphicFramePr/>
          <p:nvPr/>
        </p:nvGraphicFramePr>
        <p:xfrm>
          <a:off x="468360" y="1557360"/>
          <a:ext cx="8229600" cy="4525920"/>
        </p:xfrm>
        <a:graphic>
          <a:graphicData uri="http://schemas.openxmlformats.org/drawingml/2006/table">
            <a:tbl>
              <a:tblPr/>
              <a:tblGrid>
                <a:gridCol w="1176120"/>
                <a:gridCol w="1175040"/>
                <a:gridCol w="1176120"/>
                <a:gridCol w="1174680"/>
                <a:gridCol w="1176480"/>
                <a:gridCol w="1174680"/>
                <a:gridCol w="1176480"/>
              </a:tblGrid>
              <a:tr h="1508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осприятие действительност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Отношение к новом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Отношение к дизайну</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онятие эстетик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онятие красот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Воздействие мод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Мышление дизайнера</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Рациональное (разу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Бессознательное(вдохновение)</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тремление создавать принципиально ново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изайн – ср – во формирования реальности и ср – во самовыражения дизайнер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уховная наполненость предметного мир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Гармония эстетического и функционального в вещ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Создание собственного стиля</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Мышление потребителя</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Эмоции, настроение, ассоциаци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едоверие или восхищение, стремление к перемена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Дизайн – ср – во визуального воздействия и ср – во самовыражения потребител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хороший вкус» , то, что принят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ривлекательный внешний вид и функциональные качеств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Подражание моде, либо полное ее отрицание</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e4c6"/>
        </a:solidFill>
      </p:bgPr>
    </p:bg>
    <p:spTree>
      <p:nvGrpSpPr>
        <p:cNvPr id="1" name=""/>
        <p:cNvGrpSpPr/>
        <p:nvPr/>
      </p:nvGrpSpPr>
      <p:grpSpPr>
        <a:xfrm>
          <a:off x="0" y="0"/>
          <a:ext cx="0" cy="0"/>
          <a:chOff x="0" y="0"/>
          <a:chExt cx="0" cy="0"/>
        </a:xfrm>
      </p:grpSpPr>
      <p:sp>
        <p:nvSpPr>
          <p:cNvPr id="54" name=""/>
          <p:cNvSpPr/>
          <p:nvPr/>
        </p:nvSpPr>
        <p:spPr>
          <a:xfrm>
            <a:off x="324000" y="333360"/>
            <a:ext cx="8496000" cy="597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Диалог между дизайнером и потребителем.</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Дизайнер, создавая новые вещи, строит новые формы преобразования и организации предметной среды, превращает, казалось бы, обычную среду в нечто, недоступное прошлому видению. Но преобразование действительности у различных групп людей происходит по-разному. Дизайнер имеет свои фантазийные представления о том, как вещи формируют пространство, а заказчик - другие. Но очевидно одно, что благодаря вещам происходят изменения мира. </a:t>
            </a:r>
            <a:r>
              <a:rPr b="1" lang="en-US" sz="1400" spc="-1" strike="noStrike" u="sng">
                <a:solidFill>
                  <a:srgbClr val="000000"/>
                </a:solidFill>
                <a:uFillTx/>
                <a:latin typeface="Times New Roman"/>
              </a:rPr>
              <a:t>Только благодаря общности интересов дизайнера и потребителя возможен диалог, способный привести к новой форме преобразования действительности.</a:t>
            </a:r>
            <a:r>
              <a:rPr b="0" lang="en-US" sz="1400" spc="-1" strike="noStrike">
                <a:solidFill>
                  <a:srgbClr val="000000"/>
                </a:solidFill>
                <a:latin typeface="Times New Roman"/>
              </a:rPr>
              <a:t> Канал коммуникации должен быть направлен в две стороны: от дизайнера к потребителю, и наоборот. Для дизайнера должен быть интерес в создании вещи для определённого круга потребителей, потому что ему предоставляется возможность ставить себя в различные позиции потребителя, а заказчику должен быть интересен процесс самовыражения через создание новых вещей.(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В связи с тем, что дизайнер является частью социального слоя, он может смотреть на вещи с двух сторон, как с точки зрения создателя искусства - творца, так и с точки потребителя, его отстранение от взаимодействия с обществом ведёт к субъективному произволу и непониманию проблем проектирования. Утрата контроля над дизайнером ведёт к тому, что проектирование их объектов, вещей будет основываться только на индивидуальном опыте.(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Упор на идею "человеческого" между дизайнером и потребителей в проектировании может проявляться в форме игры.</a:t>
            </a:r>
            <a:r>
              <a:rPr b="0" lang="en-US" sz="1400" spc="-1" strike="noStrike">
                <a:solidFill>
                  <a:srgbClr val="000000"/>
                </a:solidFill>
                <a:latin typeface="Times New Roman"/>
              </a:rPr>
              <a:t> Игра - это своеобразная реальность, самостоятельное, серьезное понятие, она не служит обычным средством удовлетворения нужд обеих сторон, она является временным действием, в свершении которого уже и заключается удовлетворение. Так, потребители довольны, что их выслушивают и обращают внимание на их проблемы и интересы, а дизайнеры могут видеть и слышать своих заказчиков, тем самым, сопоставляя свои дизайнерские и творческие идеи с увиденным, дабы избежать противоречий, которые могли бы возникнуть без вмешательства потребителей.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так, диалог дизайнера и потребителя безусловно необходим, и он возможен при участии той и другой стороны, так как несмотря на различия, образ мышления дизайнера и потребителя все же имеет точки соприкоснове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15:44:39Z</dcterms:created>
  <dc:creator>SamLab.ws</dc:creator>
  <dc:description/>
  <dc:language>en-US</dc:language>
  <cp:lastModifiedBy>SamLab.ws</cp:lastModifiedBy>
  <dcterms:modified xsi:type="dcterms:W3CDTF">2008-12-14T20:18:39Z</dcterms:modified>
  <cp:revision>6</cp:revision>
  <dc:subject/>
  <dc:title>ТВОРЧЕСКАЯ РАБОТА НА ТЕМУ: СПЕЦИФИКА ПРОЕКТНОГО МЫШЛЕНИЯ ДИЗАЙНЕРА В СРАВНЕНИИ С МЫШЛЕНИЕМ ПОТРЕБИТЕЛЯ.</dc:title>
</cp:coreProperties>
</file>