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CC9-33AE-49A9-8381-3E3325F0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B75-7418-44F8-A614-4185BE16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415-99BA-4E92-836C-6C0AE014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BCE-5157-427A-BB7E-2C674E3E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E1C9-83E7-4454-A371-68B56C2C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47A7-0911-4E4E-81B7-C9942F8B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447A-2594-46CD-BB8B-FDAB1BC7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F36B-666B-4A26-A3E7-02FE4BF4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11DF-D6C5-4DC2-B97C-EC88D818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0D65-9957-4B65-BF87-11EB0373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58F6-AEEF-4489-B57D-5CA14970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B01-DAB4-4E17-B990-418BA5B9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74B2-ABE2-4EE9-86F7-ECE70AD1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8391-6403-49A1-B54C-68EDB72D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5965-7A18-4619-B50B-947F4A9B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E96-69FF-4EDE-8F4B-5124208D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89F1-70C2-413D-B4A1-66139575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54AF-FB87-4FEE-9CBF-08F1E610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1B1F-AC89-40AD-BA21-F9FB6C22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6734-B98B-4E73-8FC7-0698F0D3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67E8-ABA6-4FE3-B0D0-0A2EC758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9022-E3FE-4C3B-BCFD-DE5E21C3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C51-F073-440E-8374-5CEA2A78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C02A9-B3EA-4491-954D-78A94EBB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3CA5-1BFB-41BA-B4DF-F861A628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A79D-88C0-4681-ADB4-34F3BF33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EFB0-C541-4189-AA25-C011EB5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3AF2D-08C8-42FF-9A3C-96241527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0F211-2D38-4D13-B9ED-B0C452A2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C5C7-FAB8-4D18-83B1-8BF63011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E9C4-40F9-4C11-A6E7-C70CFA8F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19B88-2218-47AC-9BCE-3701BB69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2C58-0AB7-4DE2-B7CB-FBF17C61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4C5-3202-4B10-8DFC-FA78D8CB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D8E1-7EBB-43D4-9881-8AAEB699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0DB4C-5A37-463C-8D36-DF7AA972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3A8E3-CF4A-4E40-B8BF-BB366D87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B44A-449E-4353-A2A6-D3157FF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CF1C1-0C93-466C-9FD3-23F402E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7C79-98BF-45A4-BE76-437AF182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0F05-ECDE-47D7-A294-3D1EA2F0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F118C-8F89-44FB-A81F-E861F82F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DFD3F-8FDA-42C8-9454-4DCF0B9F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66CC-85E6-472B-A349-88BCE731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766-E256-4628-8309-8A75B607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AA173-9504-43F2-B0BE-0AE9DACE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8B5F9-3860-40AC-8CA2-3F1D0C00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A678C-775C-444C-ADFE-7A511FDA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A9F00-EB66-42F1-AD43-24ECE712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580E0-81E2-4723-8190-03DAF97E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2C6B5-5924-486A-A46E-A67B52EE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F4F7-2EB8-4BDD-960E-3B2D4AE8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83556-CC9C-4E7C-B526-DF74F62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40477-A99E-46A4-B414-371B35CE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C56B-5A2E-4509-B523-9BDEA6D7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2AD-D04F-4882-AD85-198D8D69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825AD-0B04-4D63-A111-FD6B7937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C83-C59B-4F38-A59C-0EE7C44F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A1F-E86B-4CCE-8846-234B357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47F-72F7-40E2-BD0E-DA483C50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B5F6-928B-41FD-87C2-1274C6BA05A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424F-1E4F-44E6-9438-A5FB8D0ADA5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0D6A-09E5-42CC-99DA-4CA821309E9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1F6B-4184-40E3-BEAB-D2378A861F0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3E57-7BD8-4145-94BF-0C498183E7D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078000" y="530280"/>
            <a:ext cx="5681880" cy="2878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643200" y="4857840"/>
            <a:ext cx="511488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Алтаева Т.В., учитель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английского язы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У СОШ № 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0" y="317520"/>
            <a:ext cx="8077320" cy="1614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2499840"/>
            <a:ext cx="723888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Georgia"/>
              </a:rPr>
              <a:t>What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Georgia"/>
              </a:rPr>
              <a:t>are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playing now</a:t>
            </a:r>
            <a:r>
              <a:rPr b="1" lang="ru-RU" sz="3600" spc="-1" strike="noStrike">
                <a:solidFill>
                  <a:srgbClr val="772754"/>
                </a:solidFill>
                <a:latin typeface="Georg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Во что они играют сейчас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36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13840" y="1609200"/>
            <a:ext cx="7929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am reading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is writing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is playing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are working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are driving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are doing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14360" y="317520"/>
            <a:ext cx="7321680" cy="12621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600" spc="-1" strike="noStrike">
                <a:solidFill>
                  <a:srgbClr val="772754"/>
                </a:solidFill>
                <a:latin typeface="Georgia"/>
              </a:rPr>
              <a:t>Когда мы описываем событие, которое совершается в определенное время в настоящем, мы использу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72754"/>
                </a:solidFill>
                <a:latin typeface="Georgia"/>
              </a:rPr>
              <a:t>to be + V</a:t>
            </a: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6480" y="-304920"/>
            <a:ext cx="8242560" cy="1597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He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he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It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s               +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You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y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e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re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авая фигурная скобка 3"/>
          <p:cNvSpPr/>
          <p:nvPr/>
        </p:nvSpPr>
        <p:spPr>
          <a:xfrm>
            <a:off x="4143240" y="1357200"/>
            <a:ext cx="714600" cy="485784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4857840"/>
              <a:gd name="textAreaBottom" fmla="*/ 4839480 h 485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"/>
                  <a:pt x="10800" y="265"/>
                </a:cubicBezTo>
                <a:lnTo>
                  <a:pt x="10800" y="10535"/>
                </a:lnTo>
                <a:cubicBezTo>
                  <a:pt x="10800" y="10668"/>
                  <a:pt x="16200" y="10800"/>
                  <a:pt x="21600" y="10800"/>
                </a:cubicBezTo>
                <a:cubicBezTo>
                  <a:pt x="16200" y="10800"/>
                  <a:pt x="10800" y="10933"/>
                  <a:pt x="10800" y="11065"/>
                </a:cubicBezTo>
                <a:lnTo>
                  <a:pt x="10800" y="21335"/>
                </a:lnTo>
                <a:cubicBezTo>
                  <a:pt x="10800" y="2146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m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read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s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writ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s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play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re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work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re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driv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re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do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14360" y="317520"/>
            <a:ext cx="7321680" cy="974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2754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772754"/>
                </a:solidFill>
                <a:latin typeface="Georgia"/>
              </a:rPr>
              <a:t>В </a:t>
            </a:r>
            <a:r>
              <a:rPr b="1" i="1" lang="ru-RU" sz="2600" spc="-1" strike="noStrike">
                <a:solidFill>
                  <a:srgbClr val="772754"/>
                </a:solidFill>
                <a:latin typeface="Georgia"/>
              </a:rPr>
              <a:t>предложениях, выраженных</a:t>
            </a:r>
            <a:r>
              <a:rPr b="1" i="1" lang="ru-RU" sz="3200" spc="-1" strike="noStrike">
                <a:solidFill>
                  <a:srgbClr val="772754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772754"/>
                </a:solidFill>
                <a:latin typeface="Georgia"/>
              </a:rPr>
              <a:t>Present Progressive </a:t>
            </a: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нередко употребляются </a:t>
            </a:r>
            <a:r>
              <a:rPr b="1" i="1" lang="ru-RU" sz="2800" spc="-1" strike="noStrike" u="sng">
                <a:solidFill>
                  <a:srgbClr val="772754"/>
                </a:solidFill>
                <a:uFillTx/>
                <a:latin typeface="Georgia"/>
              </a:rPr>
              <a:t>указатели времени</a:t>
            </a: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now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 – </a:t>
            </a:r>
            <a:r>
              <a:rPr b="1" i="1" lang="ru-RU" sz="3200" spc="-1" strike="noStrike">
                <a:solidFill>
                  <a:srgbClr val="773313"/>
                </a:solidFill>
                <a:latin typeface="Georgia"/>
              </a:rPr>
              <a:t>сейчас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t the momen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                       </a:t>
            </a:r>
            <a:r>
              <a:rPr b="1" i="1" lang="ru-RU" sz="3200" spc="-1" strike="noStrike">
                <a:solidFill>
                  <a:srgbClr val="773313"/>
                </a:solidFill>
                <a:latin typeface="Georgia"/>
              </a:rPr>
              <a:t>в данный момен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t this moment</a:t>
            </a: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авая фигурная скобка 3"/>
          <p:cNvSpPr/>
          <p:nvPr/>
        </p:nvSpPr>
        <p:spPr>
          <a:xfrm>
            <a:off x="3571920" y="4071960"/>
            <a:ext cx="357120" cy="17859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785960"/>
              <a:gd name="textAreaBottom" fmla="*/ 17769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773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-139680" y="281160"/>
            <a:ext cx="8217000" cy="1298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-360" y="1856880"/>
            <a:ext cx="8001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  </a:t>
            </a: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They </a:t>
            </a:r>
            <a:r>
              <a:rPr b="1" lang="en-US" sz="3200" spc="-1" strike="noStrike" u="sng">
                <a:solidFill>
                  <a:srgbClr val="772754"/>
                </a:solidFill>
                <a:uFillTx/>
                <a:latin typeface="Georgia"/>
              </a:rPr>
              <a:t>are</a:t>
            </a: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playing football now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2754"/>
                </a:solidFill>
                <a:latin typeface="Georgia"/>
              </a:rPr>
              <a:t>                    </a:t>
            </a:r>
            <a:r>
              <a:rPr b="1" lang="ru-RU" sz="2800" spc="-1" strike="noStrike">
                <a:solidFill>
                  <a:srgbClr val="772754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772754"/>
                </a:solidFill>
                <a:latin typeface="Georgia"/>
              </a:rPr>
              <a:t>Они не играют в футбол сейчас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-6480" y="317520"/>
            <a:ext cx="771228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13840" y="1609200"/>
            <a:ext cx="7929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am reading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is writing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is playing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are working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are driving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are doing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-171360" y="353880"/>
            <a:ext cx="824868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Georgia"/>
              </a:rPr>
              <a:t>Are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playing football now</a:t>
            </a:r>
            <a:r>
              <a:rPr b="1" lang="ru-RU" sz="3600" spc="-1" strike="noStrike">
                <a:solidFill>
                  <a:srgbClr val="772754"/>
                </a:solidFill>
                <a:latin typeface="Georg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2754"/>
                </a:solidFill>
                <a:latin typeface="Georgia"/>
              </a:rPr>
              <a:t>                    </a:t>
            </a:r>
            <a:r>
              <a:rPr b="1" lang="ru-RU" sz="2400" spc="-1" strike="noStrike">
                <a:solidFill>
                  <a:srgbClr val="772754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Они играют в футбол сейчас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08080" y="231840"/>
            <a:ext cx="7802280" cy="1236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42920" y="1609200"/>
            <a:ext cx="7929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am reading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is writing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is playing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are working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are driving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are doing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25:26Z</dcterms:created>
  <dc:creator>Customer</dc:creator>
  <dc:description/>
  <dc:language>en-US</dc:language>
  <cp:lastModifiedBy>Алтаева</cp:lastModifiedBy>
  <dcterms:modified xsi:type="dcterms:W3CDTF">2011-06-24T07:22:07Z</dcterms:modified>
  <cp:revision>9</cp:revision>
  <dc:subject/>
  <dc:title>Present Progressive</dc:title>
</cp:coreProperties>
</file>