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17B8-9740-4AC1-923C-ABA5AA19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5AD0-3C42-480B-B575-7A877546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4A6C-D246-4405-B743-BA6E26A0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0A00-A892-4190-803D-7DF61606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E999-6982-476F-A6AC-182D9488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F519-2537-4912-8A95-8E0B4D78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6ACD-DD20-4219-9F2D-D25794D1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0D47-28C3-4531-8726-7420D663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C81D-82F5-4419-A983-DBF0CA50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2DD6-D8FE-467E-A70B-948B144E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DE80-7301-4937-9273-92B39907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DD9F-3317-4629-8C58-A19EE8FF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7858-B451-4885-833A-D07399CE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3572-CD0A-4ED9-BBCC-D7D65738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FAD0-FB2B-4283-B0DD-B016A72A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4ACB-52B4-428B-B115-0BEED0A3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E1C9-E6FC-4535-9599-FBE766E5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E3C20-E07F-4593-87F9-AD831D79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2161E-8ABB-423A-808E-7404B5ED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362F8-8024-4DCE-899A-D82A55AA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E4C5B-9366-4838-AEDE-A2CC613B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7B106-6DCA-441F-A63C-797186A0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6D0-E609-4317-941D-3970C0C4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BE429-78B3-4829-B8CA-BCB51F90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C255B-55B8-4EFB-BA29-994D824B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D4697-291F-4E0E-A1E7-207FB5C0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75519-722B-4053-AF08-B48E37E3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02E82-3F75-420A-ACA2-F2A488DD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8B2C9-90EB-40BF-9365-19CCC130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CC607-F15E-4588-91BD-E59E5216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E5D10-3F78-4E48-95BA-9D4CCAF5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38AB0-723E-47F7-B196-25781A50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90D1D-C876-4B2B-85D3-865466A9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9BEC-438E-43AB-8839-5BEB16E5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591ED-92FF-4581-A48B-93F36C9D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EF66A-FC35-4515-87E6-132E4F7B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C0385-B8ED-4495-8A0A-19710368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93567-3355-4951-B810-05A4F634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02BFA-B3AA-4D51-AEEF-A7E79C06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A86E4-1444-4F80-AF9F-7203AA92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263F3-7D9D-4E8B-B302-66399D13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46497-BC88-4E7D-B18C-17045D18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175B1-DE1F-40B3-97F5-E7B42107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11295-C98E-4628-A1E5-B16DDACD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DD79-9D14-4828-AFD6-019DCC82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63F30-359B-44F5-8DAE-1ACAC2D3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CBD96-71A2-49D2-A241-E615EA7B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64F49-C100-4F4A-A446-144A862C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9CE97-1A88-46D3-9A09-2302033A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D91E3-E6D1-4457-A2C4-BF4C30BA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79EA4-7B15-4F02-9C0C-2D2FC69B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BC591-5707-477A-94AB-074DBBB5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4C8B0-1C55-4889-9CAC-9AB4F6AE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D9A31-B9D1-46A7-9E2E-360B9BC1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0AE58-1B4A-4DCD-83EE-C957B4A6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42B0-BDBD-4F16-A0D7-C0E5FFB6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6E47A-0DB2-4581-92A6-E8FF891AB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4FE3-B902-4B6C-A036-94DFEFF3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F8D3-EC04-4B3E-8BA2-E7C246CB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CC22-2FC7-4A8F-87D5-38933BD2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96a8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57D3-CC50-4D17-A038-7582056B64A9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96a8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F9D9-FD41-47A8-8F6E-44C1E58597E2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96a8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4388-D410-49DF-8D75-A5625B7183EB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96a8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1088-FDEB-46E8-BAD1-1E3355B72950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96a8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4935-DFEE-49DF-B615-FFFD2D4C6BDA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3078000" y="530280"/>
            <a:ext cx="5681880" cy="28782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643200" y="4857840"/>
            <a:ext cx="511488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Алтаева Т.В., учитель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английского язык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МОУ СОШ № 2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0" y="317520"/>
            <a:ext cx="8077320" cy="16146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2499840"/>
            <a:ext cx="723888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Georgia"/>
              </a:rPr>
              <a:t>What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Georgia"/>
              </a:rPr>
              <a:t>are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they playing now</a:t>
            </a:r>
            <a:r>
              <a:rPr b="1" lang="ru-RU" sz="3600" spc="-1" strike="noStrike">
                <a:solidFill>
                  <a:srgbClr val="772754"/>
                </a:solidFill>
                <a:latin typeface="Georgi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72754"/>
                </a:solidFill>
                <a:latin typeface="Georgia"/>
              </a:rPr>
              <a:t>Во что они играют сейчас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7255080" cy="12366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213840" y="1609200"/>
            <a:ext cx="79297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I am reading a book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He is writing a lett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She is playing the piano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We are working in the garden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You are driving a ca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They are doing their homework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414360" y="317520"/>
            <a:ext cx="7321680" cy="12621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0" y="1609200"/>
            <a:ext cx="7696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i="1" lang="ru-RU" sz="2600" spc="-1" strike="noStrike">
                <a:solidFill>
                  <a:srgbClr val="772754"/>
                </a:solidFill>
                <a:latin typeface="Georgia"/>
              </a:rPr>
              <a:t>Когда мы описываем событие, которое совершается в определенное время в настоящем, мы используе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72754"/>
                </a:solidFill>
                <a:latin typeface="Georgia"/>
              </a:rPr>
              <a:t>to be + V</a:t>
            </a:r>
            <a:r>
              <a:rPr b="1" lang="en-US" sz="6000" spc="-1" strike="noStrike">
                <a:solidFill>
                  <a:srgbClr val="ff0000"/>
                </a:solidFill>
                <a:latin typeface="Georgia"/>
              </a:rPr>
              <a:t>ing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-6480" y="-304920"/>
            <a:ext cx="8242560" cy="1597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I </a:t>
            </a: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am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He </a:t>
            </a: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he </a:t>
            </a: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It </a:t>
            </a: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is               +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V</a:t>
            </a: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You </a:t>
            </a: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ar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hey </a:t>
            </a: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ar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We </a:t>
            </a: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are  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Правая фигурная скобка 3"/>
          <p:cNvSpPr/>
          <p:nvPr/>
        </p:nvSpPr>
        <p:spPr>
          <a:xfrm>
            <a:off x="4143240" y="1357200"/>
            <a:ext cx="714600" cy="4857840"/>
          </a:xfrm>
          <a:custGeom>
            <a:avLst/>
            <a:gdLst>
              <a:gd name="textAreaLeft" fmla="*/ 0 w 714600"/>
              <a:gd name="textAreaRight" fmla="*/ 258120 w 714600"/>
              <a:gd name="textAreaTop" fmla="*/ 18360 h 4857840"/>
              <a:gd name="textAreaBottom" fmla="*/ 4839480 h 485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3"/>
                  <a:pt x="10800" y="265"/>
                </a:cubicBezTo>
                <a:lnTo>
                  <a:pt x="10800" y="10535"/>
                </a:lnTo>
                <a:cubicBezTo>
                  <a:pt x="10800" y="10668"/>
                  <a:pt x="16200" y="10800"/>
                  <a:pt x="21600" y="10800"/>
                </a:cubicBezTo>
                <a:cubicBezTo>
                  <a:pt x="16200" y="10800"/>
                  <a:pt x="10800" y="10933"/>
                  <a:pt x="10800" y="11065"/>
                </a:cubicBezTo>
                <a:lnTo>
                  <a:pt x="10800" y="21335"/>
                </a:lnTo>
                <a:cubicBezTo>
                  <a:pt x="10800" y="21468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-360" y="1609200"/>
            <a:ext cx="80722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I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am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read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ing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a book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He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is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writ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ing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a lett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She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is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play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ing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the piano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We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are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work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ing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in the garden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You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are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driv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ing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a ca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They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are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do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ing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their homework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14360" y="317520"/>
            <a:ext cx="7321680" cy="974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72754"/>
                </a:solidFill>
                <a:latin typeface="Georgia"/>
              </a:rPr>
              <a:t>   </a:t>
            </a:r>
            <a:r>
              <a:rPr b="1" i="1" lang="ru-RU" sz="3200" spc="-1" strike="noStrike">
                <a:solidFill>
                  <a:srgbClr val="772754"/>
                </a:solidFill>
                <a:latin typeface="Georgia"/>
              </a:rPr>
              <a:t>В </a:t>
            </a:r>
            <a:r>
              <a:rPr b="1" i="1" lang="ru-RU" sz="2600" spc="-1" strike="noStrike">
                <a:solidFill>
                  <a:srgbClr val="772754"/>
                </a:solidFill>
                <a:latin typeface="Georgia"/>
              </a:rPr>
              <a:t>предложениях, выраженных</a:t>
            </a:r>
            <a:r>
              <a:rPr b="1" i="1" lang="ru-RU" sz="3200" spc="-1" strike="noStrike">
                <a:solidFill>
                  <a:srgbClr val="772754"/>
                </a:solidFill>
                <a:latin typeface="Georgia"/>
              </a:rPr>
              <a:t> </a:t>
            </a:r>
            <a:r>
              <a:rPr b="1" i="1" lang="en-US" sz="3200" spc="-1" strike="noStrike">
                <a:solidFill>
                  <a:srgbClr val="772754"/>
                </a:solidFill>
                <a:latin typeface="Georgia"/>
              </a:rPr>
              <a:t>Present Progressive </a:t>
            </a:r>
            <a:r>
              <a:rPr b="1" i="1" lang="ru-RU" sz="2800" spc="-1" strike="noStrike">
                <a:solidFill>
                  <a:srgbClr val="772754"/>
                </a:solidFill>
                <a:latin typeface="Georgia"/>
              </a:rPr>
              <a:t>нередко употребляются </a:t>
            </a:r>
            <a:r>
              <a:rPr b="1" i="1" lang="ru-RU" sz="2800" spc="-1" strike="noStrike" u="sng">
                <a:solidFill>
                  <a:srgbClr val="772754"/>
                </a:solidFill>
                <a:uFillTx/>
                <a:latin typeface="Georgia"/>
              </a:rPr>
              <a:t>указатели времени</a:t>
            </a:r>
            <a:r>
              <a:rPr b="1" i="1" lang="ru-RU" sz="2800" spc="-1" strike="noStrike">
                <a:solidFill>
                  <a:srgbClr val="772754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now</a:t>
            </a: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 – </a:t>
            </a:r>
            <a:r>
              <a:rPr b="1" i="1" lang="ru-RU" sz="3200" spc="-1" strike="noStrike">
                <a:solidFill>
                  <a:srgbClr val="773313"/>
                </a:solidFill>
                <a:latin typeface="Georgia"/>
              </a:rPr>
              <a:t>сейчас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at the momen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rebuchet MS"/>
              </a:rPr>
              <a:t>                       </a:t>
            </a:r>
            <a:r>
              <a:rPr b="1" i="1" lang="ru-RU" sz="3200" spc="-1" strike="noStrike">
                <a:solidFill>
                  <a:srgbClr val="773313"/>
                </a:solidFill>
                <a:latin typeface="Georgia"/>
              </a:rPr>
              <a:t>в данный момен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at this moment</a:t>
            </a:r>
            <a:r>
              <a:rPr b="1" lang="ru-RU" sz="40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Правая фигурная скобка 3"/>
          <p:cNvSpPr/>
          <p:nvPr/>
        </p:nvSpPr>
        <p:spPr>
          <a:xfrm>
            <a:off x="3571920" y="4071960"/>
            <a:ext cx="357120" cy="178596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1785960"/>
              <a:gd name="textAreaBottom" fmla="*/ 177696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16200" y="10800"/>
                  <a:pt x="21600" y="10800"/>
                </a:cubicBezTo>
                <a:cubicBezTo>
                  <a:pt x="162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773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-139680" y="281160"/>
            <a:ext cx="8217000" cy="12985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-360" y="1856880"/>
            <a:ext cx="80010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2754"/>
                </a:solidFill>
                <a:latin typeface="Georgia"/>
              </a:rPr>
              <a:t>  </a:t>
            </a:r>
            <a:r>
              <a:rPr b="1" lang="en-US" sz="3200" spc="-1" strike="noStrike">
                <a:solidFill>
                  <a:srgbClr val="772754"/>
                </a:solidFill>
                <a:latin typeface="Georgia"/>
              </a:rPr>
              <a:t>They </a:t>
            </a:r>
            <a:r>
              <a:rPr b="1" lang="en-US" sz="3200" spc="-1" strike="noStrike" u="sng">
                <a:solidFill>
                  <a:srgbClr val="772754"/>
                </a:solidFill>
                <a:uFillTx/>
                <a:latin typeface="Georgia"/>
              </a:rPr>
              <a:t>are</a:t>
            </a:r>
            <a:r>
              <a:rPr b="1" lang="en-US" sz="3200" spc="-1" strike="noStrike">
                <a:solidFill>
                  <a:srgbClr val="772754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772754"/>
                </a:solidFill>
                <a:latin typeface="Georgia"/>
              </a:rPr>
              <a:t>playing football now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2754"/>
                </a:solidFill>
                <a:latin typeface="Georgia"/>
              </a:rPr>
              <a:t>                    </a:t>
            </a:r>
            <a:r>
              <a:rPr b="1" lang="ru-RU" sz="2800" spc="-1" strike="noStrike">
                <a:solidFill>
                  <a:srgbClr val="772754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772754"/>
                </a:solidFill>
                <a:latin typeface="Georgia"/>
              </a:rPr>
              <a:t>Они не играют в футбол сейчас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-6480" y="317520"/>
            <a:ext cx="771228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213840" y="1609200"/>
            <a:ext cx="79297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I am reading a book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He is writing a lett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She is playing the piano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We are working in the garden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You are driving a ca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They are doing their homework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-171360" y="353880"/>
            <a:ext cx="824868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-360" y="1609200"/>
            <a:ext cx="80722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Georgia"/>
              </a:rPr>
              <a:t>Are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they playing football now</a:t>
            </a:r>
            <a:r>
              <a:rPr b="1" lang="ru-RU" sz="3600" spc="-1" strike="noStrike">
                <a:solidFill>
                  <a:srgbClr val="772754"/>
                </a:solidFill>
                <a:latin typeface="Georgi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2754"/>
                </a:solidFill>
                <a:latin typeface="Georgia"/>
              </a:rPr>
              <a:t>                    </a:t>
            </a:r>
            <a:r>
              <a:rPr b="1" lang="ru-RU" sz="2400" spc="-1" strike="noStrike">
                <a:solidFill>
                  <a:srgbClr val="772754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772754"/>
                </a:solidFill>
                <a:latin typeface="Georgia"/>
              </a:rPr>
              <a:t>Они играют в футбол сейчас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208080" y="231840"/>
            <a:ext cx="7802280" cy="1236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42920" y="1609200"/>
            <a:ext cx="79293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I am reading a book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He is writing a lett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She is playing the piano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We are working in the garden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You are driving a ca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They are doing their homework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20:25:26Z</dcterms:created>
  <dc:creator>Customer</dc:creator>
  <dc:description/>
  <dc:language>en-US</dc:language>
  <cp:lastModifiedBy>Алтаева</cp:lastModifiedBy>
  <dcterms:modified xsi:type="dcterms:W3CDTF">2011-06-24T07:22:07Z</dcterms:modified>
  <cp:revision>9</cp:revision>
  <dc:subject/>
  <dc:title>Present Progressive</dc:title>
</cp:coreProperties>
</file>