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6DEB-79A4-41C3-84AF-B0B08C4A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712-7591-4282-9480-C2B2212F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8464-C671-41EC-A3A3-C4030DFC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55F-9B76-45C7-8C93-C6A33A1D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0115-D01A-4B6A-9D3B-1B677677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715B-3C1B-4CF4-868D-26E687C3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8CED-6300-4BAE-A13C-918401C7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2F29-670C-453D-A4A1-B8FF0BE8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61AC-8C6D-436F-8EC0-4DDE83EC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02DE-3ADB-4268-AE2D-B8FFF83A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7423-6879-43D3-8E1D-278C0584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8D63-ECDF-41BB-AB36-E4E9B3BB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BA68-74AC-4188-A160-C49FAAB3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8C92-BE5D-4A3D-8E4B-66AA9AA1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9F86-8717-4614-BE85-0369534A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F5DF-4DCA-4FA1-84BD-60E90252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BFDA-B7E8-414B-B416-B9E9D7A2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FB1B-9C22-4C56-832E-A5B3DC9B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7413-2324-433A-B349-1EEC329C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F3B20-071F-4F4A-99E5-F873761E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CEF82-FEF6-4F39-9BA8-1F1B4E19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59A7E-11C1-4455-ABEB-9F33508A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B66-293B-43F0-B327-0B730536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30428-D032-491F-8978-0F418DD2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6287-4D28-43F1-82B3-35FC04F9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55DD9-CC2B-4FC4-902B-AC71C12C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AA00B-D783-47E7-A33E-7BF26070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B0687-426A-41DC-9C85-1A0DA151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E674D-C29D-417F-A0A6-2F165816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3A3AD-11DC-4E4A-96E2-7CAF7673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39723-3803-4837-A461-9D192D89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BF7B8-E777-4603-BA7C-DEB526C3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39F53-980F-4B01-96EE-7EBA6EE2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FF9-F6D4-4041-BEC8-85D4C433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CAD1C-570A-4E5D-9DAF-56BDA99A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C1B33-A572-44FE-B177-1BCBE520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F0286-121D-4ED6-BEFD-E5A783A8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977A5-D83F-41B4-8A61-5B6F0EA7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EEBD7-D31B-494B-8FF5-EDB37319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8A6F6-54D8-4A64-B130-50421DE7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BCACA-EEA8-4F0C-AB62-40FE4184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685E4-F8E8-4CE1-BC61-16F1609A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527B6-359B-4078-BC39-04FF8306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63552-FA6F-4CE2-89D2-B55436B6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345-49FA-41F8-95B7-BCD54135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14BB3-DA68-4B6C-966B-4871F060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C021E-F938-4556-A063-D282F14C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5AA1C-2BB4-4815-BD6D-0FD32CF6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5B125-22C8-4C06-A3E1-CEDE24B3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7EA51-1698-4EE1-973D-E0E4F631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A8D94-28B3-4F21-926C-0A904AA1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64C03-6C3C-42B0-892F-BCAFA6AB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F0A7E-B233-44E4-9B9E-43D88F15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347BB-385B-4DE3-A393-8607D4A3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8B503-D77C-4677-8A1D-47411E05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4A2-F5C5-49EB-B33C-EDF32F6D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F1348-64D3-4BA4-889F-D61F30E3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768-D111-4AF3-BFCB-505E5213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37A-E811-48F3-948E-38F08AC4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EE1B-0889-4474-9B67-118660B3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77B8-006F-4C26-BEAC-9518BBE4B90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86F2-B407-4418-958A-9BCE37D3DA3B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F946-BCA7-4F95-853C-72BCE892953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118E-3A70-4CE1-841D-F70C05727F0C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96a8"/>
            </a:gs>
            <a:gs pos="100000">
              <a:srgbClr val="f5e0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3F94-9A53-421A-B0CD-870E368A310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3078000" y="530280"/>
            <a:ext cx="5681880" cy="28782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643200" y="4857840"/>
            <a:ext cx="511488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Алтаева Т.В., учитель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английского язык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МОУ СОШ № 2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0" y="317520"/>
            <a:ext cx="8077320" cy="1614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2499840"/>
            <a:ext cx="723888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Georgia"/>
              </a:rPr>
              <a:t>What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Georgia"/>
              </a:rPr>
              <a:t>are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playing now</a:t>
            </a:r>
            <a:r>
              <a:rPr b="1" lang="ru-RU" sz="3600" spc="-1" strike="noStrike">
                <a:solidFill>
                  <a:srgbClr val="772754"/>
                </a:solidFill>
                <a:latin typeface="Georg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72754"/>
                </a:solidFill>
                <a:latin typeface="Georgia"/>
              </a:rPr>
              <a:t>Во что они играют сейчас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7255080" cy="12366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213840" y="1609200"/>
            <a:ext cx="79297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I am reading a boo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He is writing a lett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She is playing the piano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We are working in the garde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You are driving a c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are doing their homewor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14360" y="317520"/>
            <a:ext cx="7321680" cy="12621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0" y="160920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2600" spc="-1" strike="noStrike">
                <a:solidFill>
                  <a:srgbClr val="772754"/>
                </a:solidFill>
                <a:latin typeface="Georgia"/>
              </a:rPr>
              <a:t>Когда мы описываем событие, которое совершается в определенное время в настоящем, мы используе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72754"/>
                </a:solidFill>
                <a:latin typeface="Georgia"/>
              </a:rPr>
              <a:t>to be + V</a:t>
            </a:r>
            <a:r>
              <a:rPr b="1" lang="en-US" sz="6000" spc="-1" strike="noStrike">
                <a:solidFill>
                  <a:srgbClr val="ff0000"/>
                </a:solidFill>
                <a:latin typeface="Georgia"/>
              </a:rPr>
              <a:t>ing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-6480" y="-304920"/>
            <a:ext cx="8242560" cy="1597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am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He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he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It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is               +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V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You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They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ar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We 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are 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Правая фигурная скобка 3"/>
          <p:cNvSpPr/>
          <p:nvPr/>
        </p:nvSpPr>
        <p:spPr>
          <a:xfrm>
            <a:off x="4143240" y="1357200"/>
            <a:ext cx="714600" cy="4857840"/>
          </a:xfrm>
          <a:custGeom>
            <a:avLst/>
            <a:gdLst>
              <a:gd name="textAreaLeft" fmla="*/ 0 w 714600"/>
              <a:gd name="textAreaRight" fmla="*/ 258120 w 714600"/>
              <a:gd name="textAreaTop" fmla="*/ 18360 h 4857840"/>
              <a:gd name="textAreaBottom" fmla="*/ 4839480 h 485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3"/>
                  <a:pt x="10800" y="265"/>
                </a:cubicBezTo>
                <a:lnTo>
                  <a:pt x="10800" y="10535"/>
                </a:lnTo>
                <a:cubicBezTo>
                  <a:pt x="10800" y="10668"/>
                  <a:pt x="16200" y="10800"/>
                  <a:pt x="21600" y="10800"/>
                </a:cubicBezTo>
                <a:cubicBezTo>
                  <a:pt x="16200" y="10800"/>
                  <a:pt x="10800" y="10933"/>
                  <a:pt x="10800" y="11065"/>
                </a:cubicBezTo>
                <a:lnTo>
                  <a:pt x="10800" y="21335"/>
                </a:lnTo>
                <a:cubicBezTo>
                  <a:pt x="10800" y="2146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-360" y="1609200"/>
            <a:ext cx="80722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m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read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a boo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He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s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writ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a lett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She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s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play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the piano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We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re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work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in the garde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You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re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driv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a c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re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do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g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 their homewor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14360" y="317520"/>
            <a:ext cx="7321680" cy="974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0" y="1609200"/>
            <a:ext cx="81439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72754"/>
                </a:solidFill>
                <a:latin typeface="Georgia"/>
              </a:rPr>
              <a:t>   </a:t>
            </a:r>
            <a:r>
              <a:rPr b="1" i="1" lang="ru-RU" sz="3200" spc="-1" strike="noStrike">
                <a:solidFill>
                  <a:srgbClr val="772754"/>
                </a:solidFill>
                <a:latin typeface="Georgia"/>
              </a:rPr>
              <a:t>В </a:t>
            </a:r>
            <a:r>
              <a:rPr b="1" i="1" lang="ru-RU" sz="2600" spc="-1" strike="noStrike">
                <a:solidFill>
                  <a:srgbClr val="772754"/>
                </a:solidFill>
                <a:latin typeface="Georgia"/>
              </a:rPr>
              <a:t>предложениях, выраженных</a:t>
            </a:r>
            <a:r>
              <a:rPr b="1" i="1" lang="ru-RU" sz="3200" spc="-1" strike="noStrike">
                <a:solidFill>
                  <a:srgbClr val="772754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772754"/>
                </a:solidFill>
                <a:latin typeface="Georgia"/>
              </a:rPr>
              <a:t>Present Progressive </a:t>
            </a:r>
            <a:r>
              <a:rPr b="1" i="1" lang="ru-RU" sz="2800" spc="-1" strike="noStrike">
                <a:solidFill>
                  <a:srgbClr val="772754"/>
                </a:solidFill>
                <a:latin typeface="Georgia"/>
              </a:rPr>
              <a:t>нередко употребляются </a:t>
            </a:r>
            <a:r>
              <a:rPr b="1" i="1" lang="ru-RU" sz="2800" spc="-1" strike="noStrike" u="sng">
                <a:solidFill>
                  <a:srgbClr val="772754"/>
                </a:solidFill>
                <a:uFillTx/>
                <a:latin typeface="Georgia"/>
              </a:rPr>
              <a:t>указатели времени</a:t>
            </a:r>
            <a:r>
              <a:rPr b="1" i="1" lang="ru-RU" sz="2800" spc="-1" strike="noStrike">
                <a:solidFill>
                  <a:srgbClr val="772754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now</a:t>
            </a:r>
            <a:r>
              <a:rPr b="1" lang="en-US" sz="4400" spc="-1" strike="noStrike">
                <a:solidFill>
                  <a:srgbClr val="ff0000"/>
                </a:solidFill>
                <a:latin typeface="Trebuchet MS"/>
              </a:rPr>
              <a:t> – </a:t>
            </a:r>
            <a:r>
              <a:rPr b="1" i="1" lang="ru-RU" sz="3200" spc="-1" strike="noStrike">
                <a:solidFill>
                  <a:srgbClr val="773313"/>
                </a:solidFill>
                <a:latin typeface="Georgia"/>
              </a:rPr>
              <a:t>сейчас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at the momen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                       </a:t>
            </a:r>
            <a:r>
              <a:rPr b="1" i="1" lang="ru-RU" sz="3200" spc="-1" strike="noStrike">
                <a:solidFill>
                  <a:srgbClr val="773313"/>
                </a:solidFill>
                <a:latin typeface="Georgia"/>
              </a:rPr>
              <a:t>в данный момен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rebuchet MS"/>
              </a:rPr>
              <a:t>at this moment</a:t>
            </a: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Правая фигурная скобка 3"/>
          <p:cNvSpPr/>
          <p:nvPr/>
        </p:nvSpPr>
        <p:spPr>
          <a:xfrm>
            <a:off x="3571920" y="4071960"/>
            <a:ext cx="357120" cy="178596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1785960"/>
              <a:gd name="textAreaBottom" fmla="*/ 17769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773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-139680" y="281160"/>
            <a:ext cx="8217000" cy="12985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-360" y="1856880"/>
            <a:ext cx="80010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2754"/>
                </a:solidFill>
                <a:latin typeface="Georgia"/>
              </a:rPr>
              <a:t>  </a:t>
            </a:r>
            <a:r>
              <a:rPr b="1" lang="en-US" sz="3200" spc="-1" strike="noStrike">
                <a:solidFill>
                  <a:srgbClr val="772754"/>
                </a:solidFill>
                <a:latin typeface="Georgia"/>
              </a:rPr>
              <a:t>They </a:t>
            </a:r>
            <a:r>
              <a:rPr b="1" lang="en-US" sz="3200" spc="-1" strike="noStrike" u="sng">
                <a:solidFill>
                  <a:srgbClr val="772754"/>
                </a:solidFill>
                <a:uFillTx/>
                <a:latin typeface="Georgia"/>
              </a:rPr>
              <a:t>are</a:t>
            </a:r>
            <a:r>
              <a:rPr b="1" lang="en-US" sz="3200" spc="-1" strike="noStrike">
                <a:solidFill>
                  <a:srgbClr val="772754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772754"/>
                </a:solidFill>
                <a:latin typeface="Georgia"/>
              </a:rPr>
              <a:t>playing football now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2754"/>
                </a:solidFill>
                <a:latin typeface="Georgia"/>
              </a:rPr>
              <a:t>                    </a:t>
            </a:r>
            <a:r>
              <a:rPr b="1" lang="ru-RU" sz="2800" spc="-1" strike="noStrike">
                <a:solidFill>
                  <a:srgbClr val="772754"/>
                </a:solidFill>
                <a:latin typeface="Georgia"/>
              </a:rPr>
              <a:t>     </a:t>
            </a:r>
            <a:r>
              <a:rPr b="1" i="1" lang="ru-RU" sz="2400" spc="-1" strike="noStrike">
                <a:solidFill>
                  <a:srgbClr val="772754"/>
                </a:solidFill>
                <a:latin typeface="Georgia"/>
              </a:rPr>
              <a:t>Они не играют в футбол сейчас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-6480" y="317520"/>
            <a:ext cx="771228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13840" y="1609200"/>
            <a:ext cx="7929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I am reading a boo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He is writing a lett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She is playing the piano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We are working in the garde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You are driving a c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are doing their homewor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-171360" y="353880"/>
            <a:ext cx="824868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-360" y="1609200"/>
            <a:ext cx="80722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Georgia"/>
              </a:rPr>
              <a:t>Are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playing football now</a:t>
            </a:r>
            <a:r>
              <a:rPr b="1" lang="ru-RU" sz="3600" spc="-1" strike="noStrike">
                <a:solidFill>
                  <a:srgbClr val="772754"/>
                </a:solidFill>
                <a:latin typeface="Georg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2754"/>
                </a:solidFill>
                <a:latin typeface="Georgia"/>
              </a:rPr>
              <a:t>                    </a:t>
            </a:r>
            <a:r>
              <a:rPr b="1" lang="ru-RU" sz="2400" spc="-1" strike="noStrike">
                <a:solidFill>
                  <a:srgbClr val="772754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772754"/>
                </a:solidFill>
                <a:latin typeface="Georgia"/>
              </a:rPr>
              <a:t>Они играют в футбол сейчас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208080" y="231840"/>
            <a:ext cx="7802280" cy="1236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42920" y="1609200"/>
            <a:ext cx="79293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I am reading a boo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He is writing a lette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She is playing the piano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We are working in the garden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You are driving a car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2754"/>
                </a:solidFill>
                <a:latin typeface="Georgia"/>
              </a:rPr>
              <a:t>They are doing their homework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0:25:26Z</dcterms:created>
  <dc:creator>Customer</dc:creator>
  <dc:description/>
  <dc:language>en-US</dc:language>
  <cp:lastModifiedBy>Алтаева</cp:lastModifiedBy>
  <dcterms:modified xsi:type="dcterms:W3CDTF">2011-06-24T07:22:07Z</dcterms:modified>
  <cp:revision>9</cp:revision>
  <dc:subject/>
  <dc:title>Present Progressive</dc:title>
</cp:coreProperties>
</file>