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16E7D-FFAC-4126-89F1-674A26B74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10DA-8F0C-4E3C-80EA-D8A58385B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FC249-FB5E-4A9E-AC99-CEB6C06F2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60DF4-AD19-45B8-9552-F8261981D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9F47A-30F5-4D0F-9555-C6D9D5985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29205-99B1-4E45-800F-8F6BFBD6C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77B97-C45E-4F61-AE92-7FE658B62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E258B-973C-4E94-8142-0F974CB86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48D78-095F-48B0-AC18-4CC545D9D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677DC-6624-47E4-BBBA-81BA0CCBF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E7CDE-6CF5-469D-ACAA-9271EDBA8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000B-EDC6-4675-B61D-240A354B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0A75-3C3A-41E4-9B09-D0F954906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3B16E-E5FE-45D9-921D-002682B13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1F1FD-5EAD-45D8-9D64-262BB2FF5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EDD92-2183-49A0-A35B-6252010E0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9B96A-1F39-4215-A779-B25505A7D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87C85-0539-435A-A799-1EA2500A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9FAB-F194-4467-91B5-2ED0780E9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00139-8706-44FB-9720-F66BA312B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F93A-4CEA-4790-B862-36360BFE0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6B2D-B2C1-45ED-BE67-B77D08436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AC26-75A0-41B3-95C1-D746A519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F7B1-8570-4FE5-B0E0-E42106CB4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DB86-D567-4287-8545-0237F61F52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735-30C0-4FBD-895A-2CBE508300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357360"/>
            <a:ext cx="8744040" cy="309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00"/>
                </a:solidFill>
                <a:latin typeface="Palatino Linotype"/>
              </a:rPr>
              <a:t>         </a:t>
            </a:r>
            <a:r>
              <a:rPr b="0" lang="ru-RU" sz="6000" spc="-1" strike="noStrike">
                <a:solidFill>
                  <a:srgbClr val="cc0000"/>
                </a:solidFill>
                <a:latin typeface="Palatino Linotype"/>
              </a:rPr>
              <a:t>Максим Горький</a:t>
            </a:r>
            <a:br>
              <a:rPr sz="6000"/>
            </a:br>
            <a:br>
              <a:rPr sz="3600"/>
            </a:br>
            <a:r>
              <a:rPr b="0" lang="ru-RU" sz="3600" spc="-1" strike="noStrike">
                <a:solidFill>
                  <a:srgbClr val="000000"/>
                </a:solidFill>
                <a:latin typeface="Verdana"/>
              </a:rPr>
              <a:t>                           </a:t>
            </a:r>
            <a:br>
              <a:rPr sz="3600"/>
            </a:br>
            <a:r>
              <a:rPr b="0" lang="ru-RU" sz="3600" spc="-1" strike="noStrike">
                <a:solidFill>
                  <a:srgbClr val="000000"/>
                </a:solidFill>
                <a:latin typeface="Verdana"/>
              </a:rPr>
              <a:t>(Алексей</a:t>
            </a:r>
            <a:br>
              <a:rPr sz="3600"/>
            </a:br>
            <a:r>
              <a:rPr b="0" lang="ru-RU" sz="3600" spc="-1" strike="noStrike">
                <a:solidFill>
                  <a:srgbClr val="000000"/>
                </a:solidFill>
                <a:latin typeface="Verdana"/>
              </a:rPr>
              <a:t>   Максимович                                                                                                     </a:t>
            </a:r>
            <a:br>
              <a:rPr sz="3600"/>
            </a:br>
            <a:r>
              <a:rPr b="0" lang="ru-RU" sz="3600" spc="-1" strike="noStrike">
                <a:solidFill>
                  <a:srgbClr val="000000"/>
                </a:solidFill>
                <a:latin typeface="Verdana"/>
              </a:rPr>
              <a:t>     Пешков)</a:t>
            </a:r>
            <a:br>
              <a:rPr sz="3600"/>
            </a:br>
            <a:br>
              <a:rPr sz="3600"/>
            </a:br>
            <a:r>
              <a:rPr b="0" lang="ru-RU" sz="3600" spc="-1" strike="noStrike">
                <a:solidFill>
                  <a:srgbClr val="000000"/>
                </a:solidFill>
                <a:latin typeface="Verdana"/>
              </a:rPr>
              <a:t> </a:t>
            </a:r>
            <a:r>
              <a:rPr b="0" lang="ru-RU" sz="3600" spc="-1" strike="noStrike">
                <a:solidFill>
                  <a:srgbClr val="cc0000"/>
                </a:solidFill>
                <a:latin typeface="Verdana"/>
              </a:rPr>
              <a:t>1868 – </a:t>
            </a:r>
            <a:br>
              <a:rPr sz="3600"/>
            </a:br>
            <a:r>
              <a:rPr b="0" lang="ru-RU" sz="3600" spc="-1" strike="noStrike">
                <a:solidFill>
                  <a:srgbClr val="cc0000"/>
                </a:solidFill>
                <a:latin typeface="Verdana"/>
              </a:rPr>
              <a:t>     1936</a:t>
            </a:r>
            <a:r>
              <a:rPr b="0" lang="ru-RU" sz="3600" spc="-1" strike="noStrike">
                <a:solidFill>
                  <a:srgbClr val="000000"/>
                </a:solidFill>
                <a:latin typeface="Verdana"/>
              </a:rPr>
              <a:t> </a:t>
            </a:r>
            <a:endParaRPr b="0" lang="en-US" sz="3600" spc="-1" strike="noStrike">
              <a:solidFill>
                <a:srgbClr val="000000"/>
              </a:solidFill>
              <a:latin typeface="Verdana"/>
            </a:endParaRPr>
          </a:p>
        </p:txBody>
      </p:sp>
      <p:pic>
        <p:nvPicPr>
          <p:cNvPr id="86" name="Picture 4" descr="336357"/>
          <p:cNvPicPr/>
          <p:nvPr/>
        </p:nvPicPr>
        <p:blipFill>
          <a:blip r:embed="rId1"/>
          <a:stretch/>
        </p:blipFill>
        <p:spPr>
          <a:xfrm>
            <a:off x="3635280" y="2492280"/>
            <a:ext cx="4753080" cy="417852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Первая жена писателя.</a:t>
            </a:r>
            <a:endParaRPr b="0" lang="en-US" sz="4000" spc="-1" strike="noStrike">
              <a:solidFill>
                <a:srgbClr val="000000"/>
              </a:solidFill>
              <a:latin typeface="Verdana"/>
            </a:endParaRPr>
          </a:p>
        </p:txBody>
      </p:sp>
      <p:sp>
        <p:nvSpPr>
          <p:cNvPr id="103" name="PlaceHolder 2"/>
          <p:cNvSpPr>
            <a:spLocks noGrp="1"/>
          </p:cNvSpPr>
          <p:nvPr>
            <p:ph/>
          </p:nvPr>
        </p:nvSpPr>
        <p:spPr>
          <a:xfrm>
            <a:off x="566640" y="1752480"/>
            <a:ext cx="400536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год – Горький и Волжина женятся.</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 1897 годы – Горький работает на родине, в газете «Нижегородский листок».</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у писателя рождается сын Максим.</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0 год – рождается дочь Катя.</a:t>
            </a:r>
            <a:endParaRPr b="0" lang="en-US" sz="1600" spc="-1" strike="noStrike">
              <a:solidFill>
                <a:srgbClr val="000000"/>
              </a:solidFill>
              <a:latin typeface="Verdana"/>
            </a:endParaRPr>
          </a:p>
        </p:txBody>
      </p:sp>
      <p:pic>
        <p:nvPicPr>
          <p:cNvPr id="104" name="Picture 6" descr="peshkovy1903"/>
          <p:cNvPicPr/>
          <p:nvPr/>
        </p:nvPicPr>
        <p:blipFill>
          <a:blip r:embed="rId1"/>
          <a:stretch/>
        </p:blipFill>
        <p:spPr>
          <a:xfrm>
            <a:off x="4716360" y="1700280"/>
            <a:ext cx="3754440" cy="446544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0920" y="1700280"/>
            <a:ext cx="5445000" cy="812880"/>
          </a:xfrm>
          <a:prstGeom prst="rect">
            <a:avLst/>
          </a:prstGeom>
          <a:noFill/>
          <a:ln w="0">
            <a:noFill/>
          </a:ln>
        </p:spPr>
        <p:txBody>
          <a:bodyPr anchor="t">
            <a:normAutofit fontScale="91000"/>
          </a:bodyPr>
          <a:p>
            <a:pPr marL="427320" indent="-4273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 двадцать лет </a:t>
            </a:r>
            <a:r>
              <a:rPr b="0" lang="ru-RU" sz="1400" spc="-1" strike="noStrike">
                <a:solidFill>
                  <a:srgbClr val="000000"/>
                </a:solidFill>
                <a:latin typeface="Palatino Linotype"/>
              </a:rPr>
              <a:t>Екатерина Павловна Волжина</a:t>
            </a:r>
            <a:r>
              <a:rPr b="0" lang="ru-RU" sz="1400" spc="-1" strike="noStrike">
                <a:solidFill>
                  <a:srgbClr val="000000"/>
                </a:solidFill>
                <a:latin typeface="Georgia"/>
              </a:rPr>
              <a:t> стала женой безызвестного провинциального литератора, вместе с ним прошла весь путь от подножия славы до ее вершины, была знакома со Львом Толстым, Чеховым…</a:t>
            </a:r>
            <a:endParaRPr b="0" lang="en-US" sz="1400" spc="-1" strike="noStrike">
              <a:solidFill>
                <a:srgbClr val="000000"/>
              </a:solidFill>
              <a:latin typeface="Verdana"/>
            </a:endParaRPr>
          </a:p>
        </p:txBody>
      </p:sp>
      <p:sp>
        <p:nvSpPr>
          <p:cNvPr id="106" name="Rectangle 4"/>
          <p:cNvSpPr/>
          <p:nvPr/>
        </p:nvSpPr>
        <p:spPr>
          <a:xfrm>
            <a:off x="684360" y="76500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Palatino Linotype"/>
              </a:rPr>
              <a:t>Екатерина Павловна Волжина.</a:t>
            </a:r>
            <a:endParaRPr b="0" lang="en-US" sz="3600" spc="-1" strike="noStrike">
              <a:solidFill>
                <a:srgbClr val="000000"/>
              </a:solidFill>
              <a:latin typeface="Verdana"/>
            </a:endParaRPr>
          </a:p>
        </p:txBody>
      </p:sp>
      <p:pic>
        <p:nvPicPr>
          <p:cNvPr id="107" name="Picture 8" descr="mu08"/>
          <p:cNvPicPr/>
          <p:nvPr/>
        </p:nvPicPr>
        <p:blipFill>
          <a:blip r:embed="rId1"/>
          <a:stretch/>
        </p:blipFill>
        <p:spPr>
          <a:xfrm>
            <a:off x="755640" y="2637000"/>
            <a:ext cx="2590920" cy="3482640"/>
          </a:xfrm>
          <a:prstGeom prst="rect">
            <a:avLst/>
          </a:prstGeom>
          <a:ln w="0">
            <a:noFill/>
          </a:ln>
        </p:spPr>
      </p:pic>
      <p:pic>
        <p:nvPicPr>
          <p:cNvPr id="108" name="Picture 14" descr="42_01_01"/>
          <p:cNvPicPr/>
          <p:nvPr/>
        </p:nvPicPr>
        <p:blipFill>
          <a:blip r:embed="rId2"/>
          <a:stretch/>
        </p:blipFill>
        <p:spPr>
          <a:xfrm>
            <a:off x="6140520" y="1628640"/>
            <a:ext cx="2400120" cy="2808360"/>
          </a:xfrm>
          <a:prstGeom prst="rect">
            <a:avLst/>
          </a:prstGeom>
          <a:ln w="0">
            <a:noFill/>
          </a:ln>
        </p:spPr>
      </p:pic>
      <p:sp>
        <p:nvSpPr>
          <p:cNvPr id="109" name="Rectangle 0"/>
          <p:cNvSpPr/>
          <p:nvPr/>
        </p:nvSpPr>
        <p:spPr>
          <a:xfrm>
            <a:off x="3348000" y="2637000"/>
            <a:ext cx="2808360" cy="1439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ставленная мужем с двумя детьми – шестилетним Максимом и трехлетней Катей, – сумела подняться над обидой на него и сохранить дружеские отношения, продолжавшиеся до его кончины.</a:t>
            </a:r>
            <a:endParaRPr b="0" lang="en-US" sz="1400" spc="-1" strike="noStrike">
              <a:solidFill>
                <a:srgbClr val="000000"/>
              </a:solidFill>
              <a:latin typeface="Verdana"/>
            </a:endParaRPr>
          </a:p>
        </p:txBody>
      </p:sp>
      <p:sp>
        <p:nvSpPr>
          <p:cNvPr id="110" name="Rectangle 1"/>
          <p:cNvSpPr/>
          <p:nvPr/>
        </p:nvSpPr>
        <p:spPr>
          <a:xfrm>
            <a:off x="3276720" y="4797360"/>
            <a:ext cx="5327640" cy="1368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Схоронила обоих детей – дочь в пятилетнем возрасте, сына – не дожившим до сорока. С середины XX века связала свою жизнь с деятельностью общественных организаций, с 1922 по 1937 возглавляла Политический Красный Крест – организацию Помощи политическим заключенным.</a:t>
            </a:r>
            <a:endParaRPr b="0" lang="en-US" sz="1400" spc="-1" strike="noStrike">
              <a:solidFill>
                <a:srgbClr val="000000"/>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2" name="PlaceHolder 2"/>
          <p:cNvSpPr>
            <a:spLocks noGrp="1"/>
          </p:cNvSpPr>
          <p:nvPr>
            <p:ph/>
          </p:nvPr>
        </p:nvSpPr>
        <p:spPr>
          <a:xfrm>
            <a:off x="566280" y="1752480"/>
            <a:ext cx="5373720" cy="4267440"/>
          </a:xfrm>
          <a:prstGeom prst="rect">
            <a:avLst/>
          </a:prstGeom>
          <a:noFill/>
          <a:ln w="0">
            <a:noFill/>
          </a:ln>
        </p:spPr>
        <p:txBody>
          <a:bodyPr anchor="t">
            <a:normAutofit fontScale="95000"/>
          </a:bodyPr>
          <a:p>
            <a:pPr marL="446040" indent="-446040">
              <a:lnSpc>
                <a:spcPct val="8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00 год – Горький знакомится с актрисой Московского Художественного Театра, убежденной марксисткой Марией Федоровной Андреевой. Мария Андреева тоже была замужем. Однако супруг и двое детей, сын Юрий и дочь Екатерина, не могли сдержать страстную натуру актрисы. Ее муж, крупный чиновник Андрей Желябужский, был старше Андреевой на целых 18 лет и уже давно сквозь пальцы смотрел на амурные похождения жены. В ту пору у Андреевой был бурный роман. И не с кем-нибудь, а с известным на всю Россию миллионером Саввой Морозовым. </a:t>
            </a:r>
            <a:endParaRPr b="0" lang="en-US" sz="2000" spc="-1" strike="noStrike">
              <a:solidFill>
                <a:srgbClr val="000000"/>
              </a:solidFill>
              <a:latin typeface="Verdana"/>
            </a:endParaRPr>
          </a:p>
          <a:p>
            <a:pPr marL="44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3" name="Picture 11" descr="42_01_02"/>
          <p:cNvPicPr/>
          <p:nvPr/>
        </p:nvPicPr>
        <p:blipFill>
          <a:blip r:embed="rId1"/>
          <a:stretch/>
        </p:blipFill>
        <p:spPr>
          <a:xfrm>
            <a:off x="5940360" y="1484280"/>
            <a:ext cx="2567160" cy="468144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                            </a:t>
            </a: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5" name="PlaceHolder 2"/>
          <p:cNvSpPr>
            <a:spLocks noGrp="1"/>
          </p:cNvSpPr>
          <p:nvPr>
            <p:ph/>
          </p:nvPr>
        </p:nvSpPr>
        <p:spPr>
          <a:xfrm>
            <a:off x="3564000" y="1700280"/>
            <a:ext cx="5256000" cy="4465440"/>
          </a:xfrm>
          <a:prstGeom prst="rect">
            <a:avLst/>
          </a:prstGeom>
          <a:noFill/>
          <a:ln w="0">
            <a:noFill/>
          </a:ln>
        </p:spPr>
        <p:txBody>
          <a:bodyPr anchor="t">
            <a:normAutofit fontScale="97000"/>
          </a:bodyPr>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СЕ изменилось после встречи с Горьким. Андреева вдруг поняла, что влюбилась по-настоящему. Она практически сразу разорвала отношения с Морозовым (ходили слухи, что причиной самоубийства знаменитого предпринимателя было расставание с Андреевой), ушла из театра, увлеклась революционными идеями. В 1903 году Мария Федоровна переехала к Горькому. Многочисленных знакомых удивляло, что двое настолько разных людей умудряются мирно сосуществовать под одной крышей. Из известной актрисы, кокетки и светской львицы Андреева превратилась в верную жену и соратницу. </a:t>
            </a:r>
            <a:endParaRPr b="0" lang="en-US" sz="1400" spc="-1" strike="noStrike">
              <a:solidFill>
                <a:srgbClr val="000000"/>
              </a:solidFill>
              <a:latin typeface="Verdana"/>
            </a:endParaRPr>
          </a:p>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на вела переписку Горького, спорила с издателями о гонорарах, переводила многочисленные произведения Алексея Максимовича на французский, немецкий и итальянский языки. Здоровье Горького оставляло желать лучшего (с молодости писатель страдал от заболевания легких), поэтому Марии Федоровне приходилось еще и выполнять обязанности сиделки, сопровождая Горького в многочисленных заграничных поездках, где он лечился, а заодно и собирал средства в поддержку революции в России. </a:t>
            </a:r>
            <a:endParaRPr b="0" lang="en-US" sz="1400" spc="-1" strike="noStrike">
              <a:solidFill>
                <a:srgbClr val="000000"/>
              </a:solidFill>
              <a:latin typeface="Verdana"/>
            </a:endParaRPr>
          </a:p>
        </p:txBody>
      </p:sp>
      <p:pic>
        <p:nvPicPr>
          <p:cNvPr id="116" name="Picture 4" descr="Мария Андреева и Максим &lt;a href="/>
          <p:cNvPicPr/>
          <p:nvPr/>
        </p:nvPicPr>
        <p:blipFill>
          <a:blip r:embed="rId1"/>
          <a:stretch/>
        </p:blipFill>
        <p:spPr>
          <a:xfrm>
            <a:off x="539640" y="1700280"/>
            <a:ext cx="2990880" cy="446544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66280" y="1752480"/>
            <a:ext cx="515772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леша так много пишет, что я за ним едва поспеваю. Пишу дневник нашего заграничного пребывания, перевожу с французского одну книгу, немного шью, словом, всячески наполняю день, чтобы к вечеру устать и уснуть и не видеть снов, потому что хороших снов я не вижу…»  — писала Андреева во время совместного с Горьким путешествия в США в 1906 г. Поездка в Америку оставила самые неприятные воспоминания. Алексей Максимович везде представлял Марию Федоровну в качестве своей жены, однако в прессу просочились слухи, что писатель так и не развелся со своей первой супругой. Горького обвинили в двоеженстве, начались неприятности с властями, и писателю пришлось уехать из Штатов в Италию.</a:t>
            </a:r>
            <a:endParaRPr b="0" lang="en-US" sz="1600" spc="-1" strike="noStrike">
              <a:solidFill>
                <a:srgbClr val="000000"/>
              </a:solidFill>
              <a:latin typeface="Verdana"/>
            </a:endParaRPr>
          </a:p>
        </p:txBody>
      </p:sp>
      <p:pic>
        <p:nvPicPr>
          <p:cNvPr id="118" name="Picture 5" descr="f634c297129b"/>
          <p:cNvPicPr/>
          <p:nvPr/>
        </p:nvPicPr>
        <p:blipFill>
          <a:blip r:embed="rId1"/>
          <a:stretch/>
        </p:blipFill>
        <p:spPr>
          <a:xfrm>
            <a:off x="5796000" y="1773360"/>
            <a:ext cx="2846520" cy="381636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6640" y="1752480"/>
            <a:ext cx="4726080" cy="4267440"/>
          </a:xfrm>
          <a:prstGeom prst="rect">
            <a:avLst/>
          </a:prstGeom>
          <a:noFill/>
          <a:ln w="0">
            <a:noFill/>
          </a:ln>
        </p:spPr>
        <p:txBody>
          <a:bodyPr anchor="t">
            <a:normAutofit fontScale="98000"/>
          </a:bodyPr>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езадолго до революции Горький и Андреева вернулись в Россию. Мария Федоровна продолжала жить интересами Горького. Она становится финансовым агентом партии и изыскивает повсюду средства для революционной деятельности. За деловую хватку, умение «выбить» и достать Ленин называл Марию Андрееву «товарищ Феномен».</a:t>
            </a:r>
            <a:endParaRPr b="0" lang="en-US" sz="1600" spc="-1" strike="noStrike">
              <a:solidFill>
                <a:srgbClr val="000000"/>
              </a:solidFill>
              <a:latin typeface="Verdana"/>
            </a:endParaRPr>
          </a:p>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Однако Мария Федоровна так увлеклась партийными нуждами, что временами Горький начинал чувствовать себя позабытым. Его верная Мария уже не могла все время быть рядом с ним, у нее появились свои дела, она постоянно пропадала на нескончаемых заседаниях и совещаниях. И удар не заставил себя ждать.</a:t>
            </a:r>
            <a:r>
              <a:rPr b="0" lang="ru-RU" sz="1600" spc="-1" strike="noStrike">
                <a:solidFill>
                  <a:srgbClr val="000000"/>
                </a:solidFill>
                <a:latin typeface="Verdana"/>
              </a:rPr>
              <a:t> </a:t>
            </a:r>
            <a:endParaRPr b="0" lang="en-US" sz="1600" spc="-1" strike="noStrike">
              <a:solidFill>
                <a:srgbClr val="000000"/>
              </a:solidFill>
              <a:latin typeface="Verdana"/>
            </a:endParaRPr>
          </a:p>
        </p:txBody>
      </p:sp>
      <p:pic>
        <p:nvPicPr>
          <p:cNvPr id="120" name="Picture 2" descr="gorky-andr"/>
          <p:cNvPicPr/>
          <p:nvPr/>
        </p:nvPicPr>
        <p:blipFill>
          <a:blip r:embed="rId1"/>
          <a:stretch/>
        </p:blipFill>
        <p:spPr>
          <a:xfrm>
            <a:off x="5364000" y="1773360"/>
            <a:ext cx="3200400" cy="42670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Palatino Linotype"/>
              </a:rPr>
              <a:t>Мария Игнатьевна</a:t>
            </a:r>
            <a:br>
              <a:rPr sz="3200"/>
            </a:br>
            <a:r>
              <a:rPr b="0" lang="ru-RU" sz="3200" spc="-1" strike="noStrike">
                <a:solidFill>
                  <a:srgbClr val="cc0000"/>
                </a:solidFill>
                <a:latin typeface="Palatino Linotype"/>
              </a:rPr>
              <a:t>                         Закревская-Бенкендорф.</a:t>
            </a:r>
            <a:endParaRPr b="0" lang="en-US" sz="3200" spc="-1" strike="noStrike">
              <a:solidFill>
                <a:srgbClr val="000000"/>
              </a:solidFill>
              <a:latin typeface="Verdana"/>
            </a:endParaRPr>
          </a:p>
        </p:txBody>
      </p:sp>
      <p:sp>
        <p:nvSpPr>
          <p:cNvPr id="122" name="PlaceHolder 2"/>
          <p:cNvSpPr>
            <a:spLocks noGrp="1"/>
          </p:cNvSpPr>
          <p:nvPr>
            <p:ph/>
          </p:nvPr>
        </p:nvSpPr>
        <p:spPr>
          <a:xfrm>
            <a:off x="3347640" y="1752480"/>
            <a:ext cx="5256360" cy="4267440"/>
          </a:xfrm>
          <a:prstGeom prst="rect">
            <a:avLst/>
          </a:prstGeom>
          <a:noFill/>
          <a:ln w="0">
            <a:noFill/>
          </a:ln>
        </p:spPr>
        <p:txBody>
          <a:bodyPr anchor="t">
            <a:normAutofit/>
          </a:bodyPr>
          <a:p>
            <a:pPr marL="343080" indent="-343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1919 году в жизни 52-летнего Горького появилась Мария Игнатьевна Закревская-Бенкендорф. Их познакомил Корней Чуковский, порекомендовав Горькому Марию Игнатьевну в качестве секретаря. Он же описал первое редакционное заседание, на котором присутствовала Закревская. «Как ни странно, Горький хоть и не говорил ни слова ей, но все говорил для нее, распустил весь павлиний хвост. Был очень остроумен, словоохотлив, блестящ, как гимназист на балу». Мария Закревская была моложе писателя на 24 года. Однако к моменту их встречи она уже успела побывать замужем и родить двоих детей. Об этой женщине ходили самые невероятные слухи, ее подозревали в связях с английской разведкой и НКВД, называли «русской миледи». Горький увлекся и очень скоро сделал Марии Закревской предложение руки и сердца. </a:t>
            </a:r>
            <a:endParaRPr b="0" lang="en-US" sz="1600" spc="-1" strike="noStrike">
              <a:solidFill>
                <a:srgbClr val="000000"/>
              </a:solidFill>
              <a:latin typeface="Verdana"/>
            </a:endParaRPr>
          </a:p>
        </p:txBody>
      </p:sp>
      <p:pic>
        <p:nvPicPr>
          <p:cNvPr id="123" name="Picture 7" descr="42_01_03"/>
          <p:cNvPicPr/>
          <p:nvPr/>
        </p:nvPicPr>
        <p:blipFill>
          <a:blip r:embed="rId1"/>
          <a:stretch/>
        </p:blipFill>
        <p:spPr>
          <a:xfrm>
            <a:off x="544680" y="1700280"/>
            <a:ext cx="2779560" cy="43927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000" y="1628640"/>
            <a:ext cx="4103640" cy="244800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мейную идиллию Горького и Закревской нарушил приезд знаменитого английского писателя Герберта Уэллса, который в 1920 году решил посетить революционную Россию. В те времена найти приличный номер в гостинице было проблемой, поэтому Уэллса определили на постой в дом Горького. Мария Игнатьевна вызвалась быть переводчицей Уэллса. </a:t>
            </a:r>
            <a:endParaRPr b="0" lang="en-US" sz="1600" spc="-1" strike="noStrike">
              <a:solidFill>
                <a:srgbClr val="000000"/>
              </a:solidFill>
              <a:latin typeface="Verdana"/>
            </a:endParaRPr>
          </a:p>
        </p:txBody>
      </p:sp>
      <p:pic>
        <p:nvPicPr>
          <p:cNvPr id="125" name="Picture 4" descr="GU1"/>
          <p:cNvPicPr/>
          <p:nvPr/>
        </p:nvPicPr>
        <p:blipFill>
          <a:blip r:embed="rId1"/>
          <a:stretch/>
        </p:blipFill>
        <p:spPr>
          <a:xfrm>
            <a:off x="4788000" y="1700280"/>
            <a:ext cx="3887640" cy="2314440"/>
          </a:xfrm>
          <a:prstGeom prst="rect">
            <a:avLst/>
          </a:prstGeom>
          <a:ln w="0">
            <a:noFill/>
          </a:ln>
        </p:spPr>
      </p:pic>
      <p:sp>
        <p:nvSpPr>
          <p:cNvPr id="126" name="Rectangle 0"/>
          <p:cNvSpPr/>
          <p:nvPr/>
        </p:nvSpPr>
        <p:spPr>
          <a:xfrm>
            <a:off x="611280" y="4076640"/>
            <a:ext cx="8064360" cy="1800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еред отъездом Уэллса произошла пикантная история. Якобы англичанин ошибся дверью и случайно оказался в комнате Марии Игнатьевны. Утром Алексей Максимович застал Герберта Уэллса в постели Закревской. Успокаивая Горького, Мария Игнатьевна говорила: «Алексей Максимович, какой вы, право! Ведь даже для самой любвеобильной женщины сразу два знаменитых писателя — это слишком много! И потом, Герберт старше вас!»</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орький простил измену. Они прожили с Закревской 16 лет вплоть до смерти писателя в 1936 году. Общих детей у них не было.</a:t>
            </a:r>
            <a:endParaRPr b="0" lang="en-US" sz="1600" spc="-1" strike="noStrike">
              <a:solidFill>
                <a:srgbClr val="000000"/>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66640" y="1752480"/>
            <a:ext cx="4510080" cy="4267440"/>
          </a:xfrm>
          <a:prstGeom prst="rect">
            <a:avLst/>
          </a:prstGeom>
          <a:noFill/>
          <a:ln w="0">
            <a:noFill/>
          </a:ln>
        </p:spPr>
        <p:txBody>
          <a:bodyPr anchor="t">
            <a:normAutofit fontScale="98000"/>
          </a:bodyPr>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прель 1901 года – Горький арестован в Нижнем Новгороде и заключен под стражу за участие в студенческих волнениях в Петербурге. Под арестом писатель пребывает месяц, после чего он отпущен под домашний арест, а затем выслан в Арзамас. В этом же году в журнале «Жизнь» выходит «Песня о буревестнике», после чего журнал закрыт властями.</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2 год – во МХаТе поставлены пьесы «На дне» и «Мещане». Премьера «На дне» проходит с небывалым триумфом.</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Максим Горький избран почетным академиком по разряду изящной словесности. Приказом Николая II результаты этих выборов аннулированы. В ответ от своих званий почетных академиков отказываются Чехов и Короленко.</a:t>
            </a:r>
            <a:endParaRPr b="0" lang="en-US" sz="1600" spc="-1" strike="noStrike">
              <a:solidFill>
                <a:srgbClr val="000000"/>
              </a:solidFill>
              <a:latin typeface="Verdana"/>
            </a:endParaRPr>
          </a:p>
          <a:p>
            <a:pPr marL="460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8" name="Picture 4" descr="репин"/>
          <p:cNvPicPr/>
          <p:nvPr/>
        </p:nvPicPr>
        <p:blipFill>
          <a:blip r:embed="rId1"/>
          <a:stretch/>
        </p:blipFill>
        <p:spPr>
          <a:xfrm>
            <a:off x="5081760" y="1628640"/>
            <a:ext cx="3522600" cy="446436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3 год – Андреева становится гражданской женой Горького.</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5 год – Горький активно участвует в революции, он тесно связан с социал-демократами, но при этом вместе с группой интеллигентов накануне «кровавого воскресенья» посещает С.Ю. Витте и пытается предотвратить трагедию. После революции его арестовывают (инкриминируется участие в подготовке государственного переворота), но в защиту писателя выступает и русская, и европейская культурная среда. Горького отпускают.</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чало 1906 года – Горький эмигрирует из России. Он едет в Америку, собирать средства для поддержки революции в России. </a:t>
            </a:r>
            <a:endParaRPr b="0" lang="en-US" sz="2000" spc="-1" strike="noStrike">
              <a:solidFill>
                <a:srgbClr val="000000"/>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Детство.</a:t>
            </a:r>
            <a:endParaRPr b="0" lang="en-US" sz="4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Алексей Пешков родился 16 марта 1868 года в Нижнем Новгороде. Его отец, Максим Саватеевич Пешков, был управляющим астраханской конторой пароходства И. Колчина. Мать, Варвара Васильевна, урожденная Каширина, была дочерью нижегородского купца. Дед, Василий Каширин, был зажиточным купцом, старшиной городского красильного цеха. </a:t>
            </a:r>
            <a:endParaRPr b="0" lang="en-US" sz="2000" spc="-1" strike="noStrike">
              <a:solidFill>
                <a:srgbClr val="000000"/>
              </a:solidFill>
              <a:latin typeface="Verdana"/>
            </a:endParaRPr>
          </a:p>
          <a:p>
            <a:pPr marL="460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Летом 1871 года – от холеры умирает Максим Саватеевич. Невольным виновником его смерти Варвара Васильевна считала маленького Алексея (отец заразился, выхаживая заболевшего холерой сына). Мать отдает Алексея в семью своего отца. За воспитание будущего писателя принимаются дед и бабушка, большая любительница народных сказок. С шести лет мальчика начинают обучать церковно-славянской грамоте.</a:t>
            </a:r>
            <a:endParaRPr b="0" lang="en-US" sz="2000" spc="-1" strike="noStrike">
              <a:solidFill>
                <a:srgbClr val="000000"/>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640" y="1752480"/>
            <a:ext cx="2276640" cy="4267440"/>
          </a:xfrm>
          <a:prstGeom prst="rect">
            <a:avLst/>
          </a:prstGeom>
          <a:noFill/>
          <a:ln w="0">
            <a:noFill/>
          </a:ln>
        </p:spPr>
        <p:txBody>
          <a:bodyPr anchor="t">
            <a:norm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7 год – в Америке выходит роман «Мать». В Лондоне на V съезде РСДРП Горький знакомится с В.И. Ульяновым.</a:t>
            </a:r>
            <a:endParaRPr b="0" lang="en-US" sz="1600" spc="-1" strike="noStrike">
              <a:solidFill>
                <a:srgbClr val="000000"/>
              </a:solidFill>
              <a:latin typeface="Verdana"/>
            </a:endParaRPr>
          </a:p>
        </p:txBody>
      </p:sp>
      <p:pic>
        <p:nvPicPr>
          <p:cNvPr id="131" name="Picture 4" descr="47601638_1250493311_02182"/>
          <p:cNvPicPr/>
          <p:nvPr/>
        </p:nvPicPr>
        <p:blipFill>
          <a:blip r:embed="rId1"/>
          <a:stretch/>
        </p:blipFill>
        <p:spPr>
          <a:xfrm>
            <a:off x="2843280" y="1700280"/>
            <a:ext cx="5796000" cy="2603520"/>
          </a:xfrm>
          <a:prstGeom prst="rect">
            <a:avLst/>
          </a:prstGeom>
          <a:ln w="0">
            <a:noFill/>
          </a:ln>
        </p:spPr>
      </p:pic>
      <p:sp>
        <p:nvSpPr>
          <p:cNvPr id="132" name="Rectangle 0"/>
          <p:cNvSpPr/>
          <p:nvPr/>
        </p:nvSpPr>
        <p:spPr>
          <a:xfrm>
            <a:off x="611280" y="4221000"/>
            <a:ext cx="7993080" cy="1944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ец 1906 – 1913 годы – Максим Горький постоянно живет на острове Капри (Италия). Здесь написано множество произведений: пьесы «Последние», «Васса Железнова», повести «Лето», «Городок Окуров», роман «Жизнь Матвея Кожемякина».</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8 – 1913 годы – Горький переписывается с Лениным. Переписка пронизана спорами, так как взгляды писателя и политика расходятся. Горький, в частности, считает, что революционность нужно соединять с просветительством и гуманизмом. Это противопоставляет его большевикам.</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4653000" cy="4392720"/>
          </a:xfrm>
          <a:prstGeom prst="rect">
            <a:avLst/>
          </a:prstGeom>
          <a:noFill/>
          <a:ln w="0">
            <a:noFill/>
          </a:ln>
        </p:spPr>
        <p:txBody>
          <a:bodyPr anchor="t">
            <a:normAutofit fontScale="97000"/>
          </a:bodyPr>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3 год – Горький возвращается в Россию. В этом же году пишет «Детство».</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5 год – написан роман «В людях». Горький начинает выпускать журнал «Летопис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7 год – после Революции Горький оказывается в двойственном положении: с одной стороны, он выступает за пришедшую власть, с другой – продолжает оставаться при своих убеждениях, считая, что заниматься нужно не классовой борьбой, а культурой масс… Тогда же писатель начинает работать в издательстве «Всемирная литература», основывает газету «Новая жизн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Конец 1910-х годов – отношения Горького с новой властью постепенно обостряются.</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21 год – Максим Горький уезжает из России, официально – в Германию, лечиться, а фактически – от расправы большевиков. До 1924 года писатель живет в Германии и Чехословакии.</a:t>
            </a:r>
            <a:endParaRPr b="0" lang="en-US" sz="1500" spc="-1" strike="noStrike">
              <a:solidFill>
                <a:srgbClr val="000000"/>
              </a:solidFill>
              <a:latin typeface="Verdana"/>
            </a:endParaRPr>
          </a:p>
          <a:p>
            <a:pPr marL="455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34" name="Picture 4" descr="Maxim_Gorky_authographed_portrait"/>
          <p:cNvPicPr/>
          <p:nvPr/>
        </p:nvPicPr>
        <p:blipFill>
          <a:blip r:embed="rId1"/>
          <a:stretch/>
        </p:blipFill>
        <p:spPr>
          <a:xfrm>
            <a:off x="5211720" y="1700280"/>
            <a:ext cx="3333960" cy="439272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9280" y="1773000"/>
            <a:ext cx="4753080" cy="426708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1 – 1922 годы – Горький активно публикует свои статьи в немецких журналах («Призвание писателя и русская литература нашего времени», «Русская жестокость», «Интеллигенция и революция»). Все они говорят об одном – Горький не может принять случившегося в России; он все еще стремится объединить русских работников искусства за рубежом.</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3 год – Горький пишет «Мои университеты».</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5 год – начинается работа над романом «Жизнь Клима Самгина», который так и не был закончен.</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редина 1920-х годов – Максим Горький переезжает в Сорренто (Италия).</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8 год – Горький совершает поездку в СССР. Все лето он путешествует по стране. Впечатления писателя отразились в книге «По Союзу Советов» (1929 год). </a:t>
            </a:r>
            <a:endParaRPr b="0" lang="en-US" sz="1600" spc="-1" strike="noStrike">
              <a:solidFill>
                <a:srgbClr val="000000"/>
              </a:solidFill>
              <a:latin typeface="Verdana"/>
            </a:endParaRPr>
          </a:p>
        </p:txBody>
      </p:sp>
      <p:pic>
        <p:nvPicPr>
          <p:cNvPr id="136" name="Picture 6" descr="728423_1_42416"/>
          <p:cNvPicPr/>
          <p:nvPr/>
        </p:nvPicPr>
        <p:blipFill>
          <a:blip r:embed="rId1"/>
          <a:stretch/>
        </p:blipFill>
        <p:spPr>
          <a:xfrm>
            <a:off x="5291280" y="1773360"/>
            <a:ext cx="3287520" cy="439236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9280" y="198900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1 год – Горький переезжает в Москву. Насмотревшись во время путешествия на результаты воздействия большевистской власти абсолютно на все, писатель ставит себе цель всячески способствовать новому «культурному строительству». По его инициативе создаются литературные журналы и книжные издательства, выходят книжные издания и серии.</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4 год – Максим Горький выступает в качестве организатора и председателя I Всесоюзного съезда советских писателей.</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66280" y="1752480"/>
            <a:ext cx="3429000" cy="4267440"/>
          </a:xfrm>
          <a:prstGeom prst="rect">
            <a:avLst/>
          </a:prstGeom>
          <a:noFill/>
          <a:ln w="0">
            <a:noFill/>
          </a:ln>
        </p:spPr>
        <p:txBody>
          <a:bodyPr anchor="t">
            <a:normAutofit fontScale="96000"/>
          </a:bodyPr>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й этого же года – убит сын Горького Максим. По одной из версий, сделано это было по инициативе НКВД.</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 июня 1936 года – Максим Горький умирает в Горках. Похоронен в Москве. </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исатель здорово занемог и слег. А вскоре у постели больного появилась дорогая конфетная бонбоньерка с шелковой лентой - знак внимания из Кремля.</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фетами угостился не один Горький, с ним еще двое санитаров. Через час все трое были мертвы.</a:t>
            </a:r>
            <a:endParaRPr b="0" lang="en-US" sz="1600" spc="-1" strike="noStrike">
              <a:solidFill>
                <a:srgbClr val="000000"/>
              </a:solidFill>
              <a:latin typeface="Verdana"/>
            </a:endParaRPr>
          </a:p>
          <a:p>
            <a:pPr marL="45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9" name="Picture 6" descr="60721"/>
          <p:cNvPicPr/>
          <p:nvPr/>
        </p:nvPicPr>
        <p:blipFill>
          <a:blip r:embed="rId1"/>
          <a:stretch/>
        </p:blipFill>
        <p:spPr>
          <a:xfrm>
            <a:off x="3995640" y="1773360"/>
            <a:ext cx="4537080" cy="340344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66640" y="1752480"/>
            <a:ext cx="4510080" cy="4267440"/>
          </a:xfrm>
          <a:prstGeom prst="rect">
            <a:avLst/>
          </a:prstGeom>
          <a:noFill/>
          <a:ln w="0">
            <a:noFill/>
          </a:ln>
        </p:spPr>
        <p:txBody>
          <a:bodyPr anchor="t">
            <a:normAutofit/>
          </a:bodyPr>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офессор Плетнев, лечивший Алексея Максимовича, был сначала приговорен к расстрелу за убийство знаменитого писателя, потом смертную казнь ему заменили двадцатью пятью годами лагерей.</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было гуманно по отношению к человеку, который и понятия не имел о коробке с роковыми конфетами.</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Пе-Крю - Крючков, сотрудник НКВД, признал виновным себя.</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1" name="Picture 2" descr="60723"/>
          <p:cNvPicPr/>
          <p:nvPr/>
        </p:nvPicPr>
        <p:blipFill>
          <a:blip r:embed="rId1"/>
          <a:stretch/>
        </p:blipFill>
        <p:spPr>
          <a:xfrm>
            <a:off x="5089680" y="1700280"/>
            <a:ext cx="3403440" cy="439272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292428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Спасибо за внимание!</a:t>
            </a:r>
            <a:endParaRPr b="0" lang="en-US" sz="4400" spc="-1" strike="noStrike">
              <a:solidFill>
                <a:srgbClr val="000000"/>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101399"/>
          <p:cNvPicPr/>
          <p:nvPr/>
        </p:nvPicPr>
        <p:blipFill>
          <a:blip r:embed="rId1"/>
          <a:stretch/>
        </p:blipFill>
        <p:spPr>
          <a:xfrm>
            <a:off x="539640" y="692280"/>
            <a:ext cx="8136000" cy="52578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Обучение.</a:t>
            </a:r>
            <a:endParaRPr b="0" lang="en-US" sz="4400" spc="-1" strike="noStrike">
              <a:solidFill>
                <a:srgbClr val="000000"/>
              </a:solidFill>
              <a:latin typeface="Verdana"/>
            </a:endParaRPr>
          </a:p>
        </p:txBody>
      </p:sp>
      <p:sp>
        <p:nvSpPr>
          <p:cNvPr id="91" name="PlaceHolder 2"/>
          <p:cNvSpPr>
            <a:spLocks noGrp="1"/>
          </p:cNvSpPr>
          <p:nvPr>
            <p:ph/>
          </p:nvPr>
        </p:nvSpPr>
        <p:spPr>
          <a:xfrm>
            <a:off x="394920" y="1699920"/>
            <a:ext cx="8209080" cy="4267080"/>
          </a:xfrm>
          <a:prstGeom prst="rect">
            <a:avLst/>
          </a:prstGeom>
          <a:noFill/>
          <a:ln w="0">
            <a:noFill/>
          </a:ln>
        </p:spPr>
        <p:txBody>
          <a:bodyPr anchor="t">
            <a:normAutofit fontScale="93000"/>
          </a:bodyPr>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7 – 1879 годы – Алексей Пешков учится в Нижегородском Кунавинском училище.</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год – от скоротечной чахотки умирает мать Алексея Пешкова. После этого в семье Кашириных начинаются конфликты, в результате которых разоряется и сходит с ума дед. Из-за отсутствия денег Алексей Пешков вынужден оставить учебу и идти «в люди».</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 1884 годы – Алексей одно за другим меняет места «обучения». Сначала он ученик сапожника (родственника Кашириных), затем ученик в чертежной мастерской, после – в иконописной. Наконец он становится поваренком на пароходе, ходившем по Волге. Много лет спустя уже известный писатель Максим Горький вспоминает повара парохода «Добрый» М.А. Смурого, который был малограмотен, но при этом собирал книги. Благодаря повару, юный Горький знакомится с самыми разными произведениями мировой литературы, занимается самообразованием.</a:t>
            </a:r>
            <a:endParaRPr b="0" lang="en-US" sz="2000" spc="-1" strike="noStrike">
              <a:solidFill>
                <a:srgbClr val="000000"/>
              </a:solidFill>
              <a:latin typeface="Verdana"/>
            </a:endParaRPr>
          </a:p>
          <a:p>
            <a:pPr marL="436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Georgia"/>
              </a:rPr>
              <a:t>Полоса жизненных неудач.</a:t>
            </a:r>
            <a:endParaRPr b="0" lang="en-US" sz="44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4 год – Пешков переезжает в Казань, с целью поступить в университет. Но оно не состоялось из-за недостатка средств, для него началась «школа революционного подполья». Он посещает гимназические и студенческие народнические кружки, увлекается соответствующей литературой, вступает в конфликты с полицией, </a:t>
            </a:r>
            <a:r>
              <a:rPr b="0" lang="ru-RU" sz="1900" spc="-1" strike="noStrike">
                <a:solidFill>
                  <a:srgbClr val="000000"/>
                </a:solidFill>
                <a:latin typeface="Verdana"/>
              </a:rPr>
              <a:t>зарабатывая себе репутацию «неблагонадежного».</a:t>
            </a:r>
            <a:r>
              <a:rPr b="0" lang="ru-RU" sz="2000" spc="-1" strike="noStrike">
                <a:solidFill>
                  <a:srgbClr val="000000"/>
                </a:solidFill>
                <a:latin typeface="Georgia"/>
              </a:rPr>
              <a:t> Одновременно он зарабатывает себе на жизнь, выполняя черную работу.</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екабрь 1887 года – полоса жизненных неудач приводит Пешкова к попытке самоубийства.</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9640" y="2133360"/>
            <a:ext cx="7461360" cy="426708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8 – 1891 годы – Алексей Пешков скитается по России в поисках работы и впечатлений. Он проезжает Поволжье, Дон, Украину, Крым, Южную Бесарабию, Кавказ. Пешков успевает побывать батраком в деревне, мойщиком посуды, поработать на рыбных, соляных промыслах, сторожем на железной дороге, работником в ремонтных мастерских. Он успевает завязывать контакты в творческой среде. Странствуя, Пешков собирает прототипы своих будущих героев – это заметно по раннему творчеству писателя, когда героями его произведений становились люди «дна».</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Начало творчества.</a:t>
            </a:r>
            <a:endParaRPr b="0" lang="en-US" sz="4400" spc="-1" strike="noStrike">
              <a:solidFill>
                <a:srgbClr val="000000"/>
              </a:solidFill>
              <a:latin typeface="Verdana"/>
            </a:endParaRPr>
          </a:p>
        </p:txBody>
      </p:sp>
      <p:sp>
        <p:nvSpPr>
          <p:cNvPr id="96" name="PlaceHolder 2"/>
          <p:cNvSpPr>
            <a:spLocks noGrp="1"/>
          </p:cNvSpPr>
          <p:nvPr>
            <p:ph/>
          </p:nvPr>
        </p:nvSpPr>
        <p:spPr>
          <a:xfrm>
            <a:off x="566640" y="1752480"/>
            <a:ext cx="4726080" cy="2252880"/>
          </a:xfrm>
          <a:prstGeom prst="rect">
            <a:avLst/>
          </a:prstGeom>
          <a:noFill/>
          <a:ln w="0">
            <a:noFill/>
          </a:ln>
        </p:spPr>
        <p:txBody>
          <a:bodyPr anchor="t">
            <a:normAutofit fontScale="93000"/>
          </a:bodyPr>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2 сентября 1892 года – в тифлисской газете «Кавказ» впервые напечатан рассказ Пешкова «Макар Чудра». Произведение было подписано «Максим Горький».</a:t>
            </a:r>
            <a:endParaRPr b="0" lang="en-US" sz="1800" spc="-1" strike="noStrike">
              <a:solidFill>
                <a:srgbClr val="000000"/>
              </a:solidFill>
              <a:latin typeface="Verdana"/>
            </a:endParaRPr>
          </a:p>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тановление Горького как писателя проходит при участии Короленко, который рекомендует нового автора в издательства, правит его рукописи.</a:t>
            </a:r>
            <a:endParaRPr b="0" lang="en-US" sz="1800" spc="-1" strike="noStrike">
              <a:solidFill>
                <a:srgbClr val="000000"/>
              </a:solidFill>
              <a:latin typeface="Verdana"/>
            </a:endParaRPr>
          </a:p>
        </p:txBody>
      </p:sp>
      <p:pic>
        <p:nvPicPr>
          <p:cNvPr id="97" name="Picture 4" descr="dhdhdhdhdh-dh-dhdhdhdhdh"/>
          <p:cNvPicPr/>
          <p:nvPr/>
        </p:nvPicPr>
        <p:blipFill>
          <a:blip r:embed="rId1"/>
          <a:stretch/>
        </p:blipFill>
        <p:spPr>
          <a:xfrm>
            <a:off x="5292720" y="1557360"/>
            <a:ext cx="3325680" cy="2422440"/>
          </a:xfrm>
          <a:prstGeom prst="rect">
            <a:avLst/>
          </a:prstGeom>
          <a:ln w="0">
            <a:noFill/>
          </a:ln>
        </p:spPr>
      </p:pic>
      <p:sp>
        <p:nvSpPr>
          <p:cNvPr id="98" name="Rectangle 1"/>
          <p:cNvSpPr/>
          <p:nvPr/>
        </p:nvSpPr>
        <p:spPr>
          <a:xfrm>
            <a:off x="539640" y="4005360"/>
            <a:ext cx="8064720" cy="2087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3 – 1895 годы – рассказы Горького часто выходят в приволжской прессе. В эти годы были написаны: «Челкаш», «Месть», «Старуха Изергиль», «Емельян Пиляй», «Вывод», «Песня о соколе».</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ои рассказы Пешков подписывает различными псевдонимами, которых в общей сложности было около 30. Наиболее известные из них: «А.П.», «М.Г.», «А-а!», «Один из недоумевающих», «Иегудиил Хламида», «Тарас Опарин» и др.</a:t>
            </a:r>
            <a:endParaRPr b="0" lang="en-US" sz="1800" spc="-1" strike="noStrike">
              <a:solidFill>
                <a:srgbClr val="000000"/>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10920" y="1915920"/>
            <a:ext cx="8001000" cy="426708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год – Горький и Волжина женятся.</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 1897 годы – Горький работает на родине, в газете «Нижегородский листок».</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т же год – у писателя рождается сын Максим.</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66640" y="1752480"/>
            <a:ext cx="3718080" cy="426744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1" name="Picture 4" descr="6-246-20050620051352-E_P_Peshkova"/>
          <p:cNvPicPr/>
          <p:nvPr/>
        </p:nvPicPr>
        <p:blipFill>
          <a:blip r:embed="rId1"/>
          <a:stretch/>
        </p:blipFill>
        <p:spPr>
          <a:xfrm>
            <a:off x="4280040" y="1700280"/>
            <a:ext cx="4190760" cy="439272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9:49:06Z</dcterms:created>
  <dc:creator>Hell</dc:creator>
  <dc:description/>
  <dc:language>en-US</dc:language>
  <cp:lastModifiedBy>Словак Саша</cp:lastModifiedBy>
  <dcterms:modified xsi:type="dcterms:W3CDTF">2011-11-21T14:31:00Z</dcterms:modified>
  <cp:revision>7</cp:revision>
  <dc:subject/>
  <dc:title>Максим Горький  (Алексей Максимович                                                                                                                                  Пешков)</dc:title>
</cp:coreProperties>
</file>