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1F3-B5F8-477C-9FC4-AB8FDAA8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9E3-6F70-4CF6-8CB4-63E4D051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72C-0ABA-40A2-B55C-85BCFCBC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6DC-B795-4F02-8A77-27008D91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0C5C-5543-4A59-B3BD-B141FC4A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1A2C-9EF3-4EF6-BBCC-5419518F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B9AF-3B7E-49B4-9594-FDBEFF4C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D6C4-B5FD-4564-95C9-BF8EBFAC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BF1C-729B-46E3-8368-CC498BB8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3F49-4DA5-44B4-8727-72EAAA94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028B-4832-4312-A5FD-4944AEA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459-445A-4BF0-BCF3-537C308B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1F4D-DA67-47B7-853A-3F1A60F0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4A09-A81A-4B20-9959-848B323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67BC-563C-43AC-BD59-59C957ED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9846-4289-4951-892A-61B4B9A4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7261-0275-4736-B7B2-2AE83F16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ACB-23F0-4701-BB26-80C42050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E41-3E60-43FB-BDCA-8A0C9921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85C-F4E6-45A4-B9F0-9676B1C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F80-572B-4672-9F85-32D7B601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0D0-6DAD-4136-BABC-78C7179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AF1-8290-4DBE-B2C4-0F67189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95A-3AD1-43B4-A334-A89BA768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82A5-4CD0-45EB-A345-3B2AD4D3A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5E9-677A-4DB4-9137-C588CE47E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ЧТО ТАКОЕ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60" y="5445000"/>
            <a:ext cx="915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ШКОЛЬНОЕ ОБРАЗОВАНИЕ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87280" y="1220760"/>
            <a:ext cx="6048720" cy="4040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3348000" y="6237360"/>
            <a:ext cx="280656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99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митрий Дорош,  6-1</a:t>
            </a:r>
            <a:endParaRPr b="0" lang="en-US" sz="1800" spc="1" strike="noStrike">
              <a:ln w="6480">
                <a:solidFill>
                  <a:srgbClr val="99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859280" y="2786040"/>
            <a:ext cx="4075200" cy="3909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928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125360"/>
            <a:ext cx="4464000" cy="42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ae8"/>
                </a:solidFill>
                <a:latin typeface="Arial"/>
              </a:rPr>
              <a:t>1) Багаж знаний и умений, который приобретается  человеком в школе, для того чтобы быть успешным в дальнейшей жизн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1341360"/>
            <a:ext cx="4464000" cy="37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ae8"/>
                </a:solidFill>
                <a:latin typeface="Arial"/>
              </a:rPr>
              <a:t>2) Изучение основ наук по учебным предметам и программам, одинаковым на всей территории Росси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414792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18900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1125360"/>
            <a:ext cx="4321440" cy="37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ae8"/>
                </a:solidFill>
                <a:latin typeface="Arial"/>
              </a:rPr>
              <a:t>3) Образование получаемое в специальном учебном заведении общественного характера (школе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16360" y="3017880"/>
            <a:ext cx="4248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928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125360"/>
            <a:ext cx="784836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ae8"/>
                </a:solidFill>
                <a:latin typeface="Arial"/>
              </a:rPr>
              <a:t>4) Первый жизненный опыт, приобретаемый учениками в  стенах школы среди сверстник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633420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960720" cy="4824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928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Школьное образование – это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1557360"/>
            <a:ext cx="396072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Arial"/>
              </a:rPr>
              <a:t>5) Гарантирова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Arial"/>
              </a:rPr>
              <a:t>Конституцией Российской Федерации право всех граждан страны на  бесплатное, доступное и качественное школьное образ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0920" y="18900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Ступени школьного образования: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2592360" cy="1587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2592360" cy="1581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06880" y="1433520"/>
            <a:ext cx="54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ступень – начальная  ш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80680" y="33577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ступень – основная  ш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9960" y="5445000"/>
            <a:ext cx="50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ступень – средняя  ш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50920" y="119700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Виды общеобразовательных учреждений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403280" y="2492280"/>
            <a:ext cx="187344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4581360"/>
            <a:ext cx="15825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</a:rPr>
              <a:t>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427640" y="2492280"/>
            <a:ext cx="144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2492280"/>
            <a:ext cx="165600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581360"/>
            <a:ext cx="15825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</a:rPr>
              <a:t>гимна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88000" y="4581360"/>
            <a:ext cx="15829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</a:rPr>
              <a:t>лице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64320" y="2637000"/>
            <a:ext cx="293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48:01Z</dcterms:created>
  <dc:creator>Admin</dc:creator>
  <dc:description/>
  <dc:language>en-US</dc:language>
  <cp:lastModifiedBy>Admin</cp:lastModifiedBy>
  <dcterms:modified xsi:type="dcterms:W3CDTF">2011-12-27T17:34:03Z</dcterms:modified>
  <cp:revision>3</cp:revision>
  <dc:subject/>
  <dc:title>ЧТО ТАКОЕ </dc:title>
</cp:coreProperties>
</file>