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AB7-5E7C-4E24-80B2-A026D249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8BD-2AF6-4D79-9653-4EAF98C0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F00-350C-434E-B53F-C46546C7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5F2-465C-444F-BF0D-4066040D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AFD3-06AD-4AD9-9817-6CBD289B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48E3-3FCA-4567-B851-A28FA5FA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E878-AA1D-4B5F-A095-5891077F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1530-60A1-4A8A-9312-0604BDF8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31AD-6212-4B3B-A48E-623064D1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B077-E9EE-49FB-81E7-1C308BC4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C932-5CDB-433E-9E9B-EE7DC0B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3E2-A35C-4BD0-9A9C-89698E1D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5788-39CA-4F37-86BF-BDD3BEE2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0BB2-03EA-4668-ACFA-A90836C1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BFBE-4D45-401F-AA9F-D59B4E1D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A959-5D50-4BC6-A389-0D6676D8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2652-8C73-4C37-9BB6-A2263683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184-AF13-4E43-AF2A-ECB8F8D3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7B1-E0DF-430C-8E40-AB25376A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DF9-40DB-4CFE-A2A4-324F3D93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B97-CEF8-42D0-A305-68F735DC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308-CC41-40D3-84A8-08FD0C89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A97-DBCF-4F2B-A683-C85776B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191-AC73-47FC-BF0C-451C656F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4376-ABD2-40FA-8599-34F9B416E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AE07-F6B0-41CE-B242-801B234C5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ЧТО ТАКОЕ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60" y="5445000"/>
            <a:ext cx="915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ШКОЛЬНОЕ ОБРАЗОВАНИЕ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87280" y="1220760"/>
            <a:ext cx="6048720" cy="4040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3348000" y="6237360"/>
            <a:ext cx="280656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99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митрий Дорош,  6-1</a:t>
            </a:r>
            <a:endParaRPr b="0" lang="en-US" sz="1800" spc="1" strike="noStrike">
              <a:ln w="6480">
                <a:solidFill>
                  <a:srgbClr val="99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859280" y="2786040"/>
            <a:ext cx="4075200" cy="3909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928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125360"/>
            <a:ext cx="4464000" cy="42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ae8"/>
                </a:solidFill>
                <a:latin typeface="Arial"/>
              </a:rPr>
              <a:t>1) Багаж знаний и умений, который приобретается  человеком в школе, для того чтобы быть успешным в дальнейшей жизн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1341360"/>
            <a:ext cx="4464000" cy="37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ae8"/>
                </a:solidFill>
                <a:latin typeface="Arial"/>
              </a:rPr>
              <a:t>2) Изучение основ наук по учебным предметам и программам, одинаковым на всей территории Росси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414792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18900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1125360"/>
            <a:ext cx="4321440" cy="37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ae8"/>
                </a:solidFill>
                <a:latin typeface="Arial"/>
              </a:rPr>
              <a:t>3) Образование получаемое в специальном учебном заведении общественного характера (школе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16360" y="3017880"/>
            <a:ext cx="4248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928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125360"/>
            <a:ext cx="784836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ae8"/>
                </a:solidFill>
                <a:latin typeface="Arial"/>
              </a:rPr>
              <a:t>4) Первый жизненный опыт, приобретаемый учениками в  стенах школы среди сверстник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633420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960720" cy="4824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928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1557360"/>
            <a:ext cx="396072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Arial"/>
              </a:rPr>
              <a:t>5) Гарантирова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Arial"/>
              </a:rPr>
              <a:t>Конституцией Российской Федерации право всех граждан страны на  бесплатное, доступное и качественное школьное образ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0920" y="18900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Ступени школьного образования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2592360" cy="1587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2592360" cy="1581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06880" y="1433520"/>
            <a:ext cx="54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ступень – начальная  ш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80680" y="33577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ступень – основная  ш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9960" y="5445000"/>
            <a:ext cx="50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ступень – средняя  ш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50920" y="119700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Виды общеобразовательных учреждений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403280" y="2492280"/>
            <a:ext cx="187344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4581360"/>
            <a:ext cx="15825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</a:rPr>
              <a:t>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427640" y="2492280"/>
            <a:ext cx="144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2492280"/>
            <a:ext cx="165600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581360"/>
            <a:ext cx="15825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</a:rPr>
              <a:t>гимна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88000" y="4581360"/>
            <a:ext cx="15829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</a:rPr>
              <a:t>лице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64320" y="2637000"/>
            <a:ext cx="293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48:01Z</dcterms:created>
  <dc:creator>Admin</dc:creator>
  <dc:description/>
  <dc:language>en-US</dc:language>
  <cp:lastModifiedBy>Admin</cp:lastModifiedBy>
  <dcterms:modified xsi:type="dcterms:W3CDTF">2011-12-27T17:34:03Z</dcterms:modified>
  <cp:revision>3</cp:revision>
  <dc:subject/>
  <dc:title>ЧТО ТАКОЕ </dc:title>
</cp:coreProperties>
</file>