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9F67-E6E8-4B99-9F41-ED0F8FEFC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C7EF-C924-4EB4-9A3F-2112B1B0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3328-4BA1-44A3-9681-F4B12564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FA53-7F08-4A2E-923D-90701128B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E8C7-025D-4285-86EA-90E93997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B736-344A-4944-8EAF-B62684D0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3233-5442-4001-8488-F5C44506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205C-7918-4034-AB6A-CE31EA44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0882-20CA-4EF5-B7AE-628E2853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25E1-232A-4644-9B3A-8F7CE5D1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6524-04FB-4637-93F9-33C2FBE2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01A1-8AD2-4141-977B-D9D5D3FF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2A82-BFF7-43E9-BCEF-EFEBDE774A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{2A2F9D32-8C26-4C75-8B21-5303E021F8F9}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140360" y="396720"/>
            <a:ext cx="4505040" cy="60786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468360" y="1668600"/>
            <a:ext cx="7199280" cy="35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9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кульптура</a:t>
            </a:r>
            <a:endParaRPr b="1" lang="en-US" sz="18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НТИЧНОСТИ</a:t>
            </a:r>
            <a:endParaRPr b="1" lang="en-US" sz="1800" spc="1" strike="noStrike">
              <a:ln w="38160">
                <a:solidFill>
                  <a:srgbClr val="00800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8"/>
          <p:cNvSpPr txBox="1"/>
          <p:nvPr/>
        </p:nvSpPr>
        <p:spPr>
          <a:xfrm>
            <a:off x="1042920" y="692280"/>
            <a:ext cx="28083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Лисипп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324000" y="1844640"/>
            <a:ext cx="3960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н создал около 1500 статуй. Среди которых колоссальные фигуры богов, героев, атлетов. Им присущи пафос, вдохновенье, эмоцион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{7B593650-7234-40C3-AD28-A9BC667F3139}"/>
          <p:cNvPicPr/>
          <p:nvPr/>
        </p:nvPicPr>
        <p:blipFill>
          <a:blip r:embed="rId3"/>
          <a:stretch/>
        </p:blipFill>
        <p:spPr>
          <a:xfrm>
            <a:off x="4932360" y="549360"/>
            <a:ext cx="3457440" cy="5715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1"/>
          <p:cNvSpPr/>
          <p:nvPr/>
        </p:nvSpPr>
        <p:spPr>
          <a:xfrm>
            <a:off x="1116000" y="53737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Геракл</a:t>
            </a:r>
            <a:r>
              <a:rPr b="1" i="1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борющийся</a:t>
            </a:r>
            <a:r>
              <a:rPr b="1" i="1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со</a:t>
            </a:r>
            <a:r>
              <a:rPr b="1" i="1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ль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72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{4B5B627A-BDC5-43F1-89E1-738217B7CA2C}"/>
          <p:cNvPicPr/>
          <p:nvPr/>
        </p:nvPicPr>
        <p:blipFill>
          <a:blip r:embed="rId1"/>
          <a:stretch/>
        </p:blipFill>
        <p:spPr>
          <a:xfrm>
            <a:off x="395280" y="476280"/>
            <a:ext cx="3606840" cy="604836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4427640" y="692280"/>
            <a:ext cx="3863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Леохар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356000" y="1844640"/>
            <a:ext cx="439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 его произведениях не только совершенство образов, а мастерство и техника исполнения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4211640" y="4869000"/>
            <a:ext cx="42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Апполон Бельведер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4067280" y="551664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Считается одним из лучших произведений Ант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{2A2F9D32-8C26-4C75-8B21-5303E021F8F9}"/>
          <p:cNvPicPr/>
          <p:nvPr/>
        </p:nvPicPr>
        <p:blipFill>
          <a:blip r:embed="rId1"/>
          <a:stretch/>
        </p:blipFill>
        <p:spPr>
          <a:xfrm>
            <a:off x="4356000" y="404640"/>
            <a:ext cx="4483080" cy="6048720"/>
          </a:xfrm>
          <a:prstGeom prst="rect">
            <a:avLst/>
          </a:prstGeom>
          <a:ln w="0">
            <a:noFill/>
          </a:ln>
        </p:spPr>
      </p:pic>
      <p:sp>
        <p:nvSpPr>
          <p:cNvPr id="105" name="WordArt 5"/>
          <p:cNvSpPr txBox="1"/>
          <p:nvPr/>
        </p:nvSpPr>
        <p:spPr>
          <a:xfrm>
            <a:off x="539640" y="333360"/>
            <a:ext cx="4249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Эллинизм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84360" y="1197000"/>
            <a:ext cx="51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Изменил темы и сюжеты. Подчас трагическая трактовка известных классических моти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539640" y="5805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ика Самофракий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{9A017B56-3546-4488-A690-A4B0DBF5C063}"/>
          <p:cNvPicPr/>
          <p:nvPr/>
        </p:nvPicPr>
        <p:blipFill>
          <a:blip r:embed="rId2"/>
          <a:stretch/>
        </p:blipFill>
        <p:spPr>
          <a:xfrm>
            <a:off x="539640" y="765000"/>
            <a:ext cx="2857680" cy="5715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9"/>
          <p:cNvSpPr/>
          <p:nvPr/>
        </p:nvSpPr>
        <p:spPr>
          <a:xfrm>
            <a:off x="3635280" y="5373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нера Милосская. 120 г до н.э. Агессан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96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{3A97C20B-AD4D-4783-9016-2E94D8BBF368}"/>
          <p:cNvPicPr/>
          <p:nvPr/>
        </p:nvPicPr>
        <p:blipFill>
          <a:blip r:embed="rId1"/>
          <a:stretch/>
        </p:blipFill>
        <p:spPr>
          <a:xfrm>
            <a:off x="127080" y="228600"/>
            <a:ext cx="8889840" cy="64008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900000" y="595008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льшой алтарь Зевса в Перга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{AF100813-1098-42FA-8239-66EF6D870175}"/>
          <p:cNvPicPr/>
          <p:nvPr/>
        </p:nvPicPr>
        <p:blipFill>
          <a:blip r:embed="rId2"/>
          <a:stretch/>
        </p:blipFill>
        <p:spPr>
          <a:xfrm>
            <a:off x="179280" y="260280"/>
            <a:ext cx="6553440" cy="5761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{5F58B2FC-B989-4C19-A972-0757187B8A53}"/>
          <p:cNvPicPr/>
          <p:nvPr/>
        </p:nvPicPr>
        <p:blipFill>
          <a:blip r:embed="rId3"/>
          <a:stretch/>
        </p:blipFill>
        <p:spPr>
          <a:xfrm>
            <a:off x="4759200" y="260280"/>
            <a:ext cx="4127760" cy="58327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{A116DDA7-3E45-4BA7-9D73-9ADA1BA1887F}"/>
          <p:cNvPicPr/>
          <p:nvPr/>
        </p:nvPicPr>
        <p:blipFill>
          <a:blip r:embed="rId1"/>
          <a:stretch/>
        </p:blipFill>
        <p:spPr>
          <a:xfrm>
            <a:off x="324000" y="333360"/>
            <a:ext cx="6116400" cy="61866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8"/>
          <p:cNvSpPr/>
          <p:nvPr/>
        </p:nvSpPr>
        <p:spPr>
          <a:xfrm>
            <a:off x="6516720" y="2924280"/>
            <a:ext cx="2376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Агесандр, Афинодор, Полидор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«Лаокоо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6732720" y="494172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дин из шедевров Элли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b9"/>
            </a:gs>
            <a:gs pos="100000">
              <a:srgbClr val="ffa6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{BF6007BC-FFBA-4938-82DE-E979A7E79490}"/>
          <p:cNvPicPr/>
          <p:nvPr/>
        </p:nvPicPr>
        <p:blipFill>
          <a:blip r:embed="rId1"/>
          <a:stretch/>
        </p:blipFill>
        <p:spPr>
          <a:xfrm>
            <a:off x="4859280" y="476280"/>
            <a:ext cx="3765600" cy="5759280"/>
          </a:xfrm>
          <a:prstGeom prst="rect">
            <a:avLst/>
          </a:prstGeom>
          <a:ln w="28440">
            <a:solidFill>
              <a:srgbClr val="ffa669"/>
            </a:solidFill>
            <a:miter/>
          </a:ln>
        </p:spPr>
      </p:pic>
      <p:sp>
        <p:nvSpPr>
          <p:cNvPr id="44" name="Text Box 8"/>
          <p:cNvSpPr/>
          <p:nvPr/>
        </p:nvSpPr>
        <p:spPr>
          <a:xfrm>
            <a:off x="900000" y="33336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АРХА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24000" y="1197000"/>
            <a:ext cx="388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ревнейшие греческие скульптуры датируютс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до н.э. По легенде первым скульптором был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Дед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1979640" y="573408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РОС.  530 г до н.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611280" y="429264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урос- молодой ат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{DEF14FBC-D501-4925-8B60-53D5E4B8A954}"/>
          <p:cNvPicPr/>
          <p:nvPr/>
        </p:nvPicPr>
        <p:blipFill>
          <a:blip r:embed="rId2"/>
          <a:stretch/>
        </p:blipFill>
        <p:spPr>
          <a:xfrm>
            <a:off x="395280" y="260280"/>
            <a:ext cx="4254480" cy="60962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3"/>
          <p:cNvSpPr/>
          <p:nvPr/>
        </p:nvSpPr>
        <p:spPr>
          <a:xfrm>
            <a:off x="4643280" y="615636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РА. Хиосского мастера. Ок. 520 г до н.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55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55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{FFFCCFB0-5192-47C5-AE7A-119DB96D562E}"/>
          <p:cNvPicPr/>
          <p:nvPr/>
        </p:nvPicPr>
        <p:blipFill>
          <a:blip r:embed="rId1"/>
          <a:stretch/>
        </p:blipFill>
        <p:spPr>
          <a:xfrm>
            <a:off x="468360" y="404640"/>
            <a:ext cx="3097080" cy="619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{6C118303-C2C6-4BD0-8D64-748FEB1D1737}"/>
          <p:cNvPicPr/>
          <p:nvPr/>
        </p:nvPicPr>
        <p:blipFill>
          <a:blip r:embed="rId2"/>
          <a:stretch/>
        </p:blipFill>
        <p:spPr>
          <a:xfrm>
            <a:off x="4572000" y="260280"/>
            <a:ext cx="4048200" cy="60721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3708360" y="5950080"/>
            <a:ext cx="49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Масхофор. ( несущий тельц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539640" y="549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Скульптура классического периода –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V 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в. до н.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11280" y="141300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Греческие скульпторы создавали рельефы для храмов, статуи богов и героев. К ним добавлялись  изваяния олимпийских героев и политических дея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39640" y="3429000"/>
            <a:ext cx="453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порция и динамика 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аправление в скульптуре этого пери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{F729C43A-E0C6-4867-8E3E-9A8FFCD04A24}"/>
          <p:cNvPicPr/>
          <p:nvPr/>
        </p:nvPicPr>
        <p:blipFill>
          <a:blip r:embed="rId1"/>
          <a:stretch/>
        </p:blipFill>
        <p:spPr>
          <a:xfrm>
            <a:off x="237960" y="333360"/>
            <a:ext cx="3762720" cy="5878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{E041C4B3-3D3C-4739-901E-59080384DF4D}"/>
          <p:cNvPicPr/>
          <p:nvPr/>
        </p:nvPicPr>
        <p:blipFill>
          <a:blip r:embed="rId2"/>
          <a:stretch/>
        </p:blipFill>
        <p:spPr>
          <a:xfrm>
            <a:off x="4551480" y="333360"/>
            <a:ext cx="4043160" cy="6335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1"/>
          <p:cNvSpPr/>
          <p:nvPr/>
        </p:nvSpPr>
        <p:spPr>
          <a:xfrm>
            <a:off x="3708360" y="6004080"/>
            <a:ext cx="5184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Ника, спускающаяся с олим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эо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179280" y="6035760"/>
            <a:ext cx="49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 прекрасном теле – здоровый ду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58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8" presetSubtype="16">
                                  <p:stCondLst>
                                    <p:cond delay="15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1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4"/>
          <p:cNvSpPr txBox="1"/>
          <p:nvPr/>
        </p:nvSpPr>
        <p:spPr>
          <a:xfrm>
            <a:off x="755640" y="620640"/>
            <a:ext cx="374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ФИДИЙ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" name="Picture 7" descr="{03D3C5C7-E6F8-491E-BDB3-CC9AF8F35DBE}"/>
          <p:cNvPicPr/>
          <p:nvPr/>
        </p:nvPicPr>
        <p:blipFill>
          <a:blip r:embed="rId3"/>
          <a:stretch/>
        </p:blipFill>
        <p:spPr>
          <a:xfrm>
            <a:off x="4716360" y="620640"/>
            <a:ext cx="3868920" cy="58327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0"/>
          <p:cNvSpPr/>
          <p:nvPr/>
        </p:nvSpPr>
        <p:spPr>
          <a:xfrm>
            <a:off x="684360" y="1341360"/>
            <a:ext cx="36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Его образы возвышены и прекрас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{F6466E0C-3B42-4BCB-B62D-57CB4F112A0C}"/>
          <p:cNvPicPr/>
          <p:nvPr/>
        </p:nvPicPr>
        <p:blipFill>
          <a:blip r:embed="rId4"/>
          <a:stretch/>
        </p:blipFill>
        <p:spPr>
          <a:xfrm>
            <a:off x="395280" y="765000"/>
            <a:ext cx="4113360" cy="55976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200"/>
                            </p:stCondLst>
                            <p:childTnLst>
                              <p:par>
                                <p:cTn id="1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200"/>
                            </p:stCondLst>
                            <p:childTnLst>
                              <p:par>
                                <p:cTn id="1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611280" y="549360"/>
            <a:ext cx="3889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оликлет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95280" y="141300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Его произведения стали гимном величия и духовной мощи Челове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{CDEBDD16-8CA1-4E0B-BA6B-BEBA2E9F0B7B}"/>
          <p:cNvPicPr/>
          <p:nvPr/>
        </p:nvPicPr>
        <p:blipFill>
          <a:blip r:embed="rId3"/>
          <a:stretch/>
        </p:blipFill>
        <p:spPr>
          <a:xfrm>
            <a:off x="5003640" y="620640"/>
            <a:ext cx="3457800" cy="5715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3203640" y="5877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риф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{2182B16E-9263-420E-9FED-C3ACCC6F4A73}"/>
          <p:cNvPicPr/>
          <p:nvPr/>
        </p:nvPicPr>
        <p:blipFill>
          <a:blip r:embed="rId4"/>
          <a:stretch/>
        </p:blipFill>
        <p:spPr>
          <a:xfrm>
            <a:off x="395280" y="189000"/>
            <a:ext cx="3073320" cy="6146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{8864790C-3BF4-4CDD-8A3E-3AFAF535F1B7}"/>
          <p:cNvPicPr/>
          <p:nvPr/>
        </p:nvPicPr>
        <p:blipFill>
          <a:blip r:embed="rId5"/>
          <a:stretch/>
        </p:blipFill>
        <p:spPr>
          <a:xfrm>
            <a:off x="2776680" y="571680"/>
            <a:ext cx="3590640" cy="5715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1"/>
          <p:cNvSpPr/>
          <p:nvPr/>
        </p:nvSpPr>
        <p:spPr>
          <a:xfrm>
            <a:off x="2411280" y="5805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адумен (увенчивающий себ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2" descr="{6A9F98A9-B0DA-4FF0-9731-CB56C88867A1}"/>
          <p:cNvPicPr/>
          <p:nvPr/>
        </p:nvPicPr>
        <p:blipFill>
          <a:blip r:embed="rId6"/>
          <a:stretch/>
        </p:blipFill>
        <p:spPr>
          <a:xfrm>
            <a:off x="539640" y="260280"/>
            <a:ext cx="4203720" cy="6350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{A0567106-300E-4E08-81A8-575147BA3991}"/>
          <p:cNvPicPr/>
          <p:nvPr/>
        </p:nvPicPr>
        <p:blipFill>
          <a:blip r:embed="rId7"/>
          <a:stretch/>
        </p:blipFill>
        <p:spPr>
          <a:xfrm>
            <a:off x="4716360" y="620640"/>
            <a:ext cx="4076640" cy="55450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4"/>
          <p:cNvSpPr/>
          <p:nvPr/>
        </p:nvSpPr>
        <p:spPr>
          <a:xfrm>
            <a:off x="2843280" y="5589720"/>
            <a:ext cx="27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ненная амазо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4"/>
          <p:cNvSpPr txBox="1"/>
          <p:nvPr/>
        </p:nvSpPr>
        <p:spPr>
          <a:xfrm>
            <a:off x="684360" y="549360"/>
            <a:ext cx="3382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ирон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24000" y="1484280"/>
            <a:ext cx="388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Был первым мастером сложных бронзовых отлив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{D95D0E7C-46B1-4B12-BF1B-1CF8561C0711}"/>
          <p:cNvPicPr/>
          <p:nvPr/>
        </p:nvPicPr>
        <p:blipFill>
          <a:blip r:embed="rId3"/>
          <a:stretch/>
        </p:blipFill>
        <p:spPr>
          <a:xfrm>
            <a:off x="3132000" y="2637000"/>
            <a:ext cx="5811840" cy="39020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468360" y="558972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фина и Марс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{09981147-9A7F-46B9-B5B5-AE7CC8492BF7}"/>
          <p:cNvPicPr/>
          <p:nvPr/>
        </p:nvPicPr>
        <p:blipFill>
          <a:blip r:embed="rId4"/>
          <a:stretch/>
        </p:blipFill>
        <p:spPr>
          <a:xfrm>
            <a:off x="4211640" y="620640"/>
            <a:ext cx="3648240" cy="5715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9"/>
          <p:cNvSpPr/>
          <p:nvPr/>
        </p:nvSpPr>
        <p:spPr>
          <a:xfrm>
            <a:off x="755640" y="436572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Дискоб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{715119DA-1009-46E8-BC1C-2625478F85B5}"/>
          <p:cNvPicPr/>
          <p:nvPr/>
        </p:nvPicPr>
        <p:blipFill>
          <a:blip r:embed="rId5"/>
          <a:stretch/>
        </p:blipFill>
        <p:spPr>
          <a:xfrm>
            <a:off x="4572000" y="189000"/>
            <a:ext cx="3132000" cy="6264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2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9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5"/>
          <p:cNvSpPr txBox="1"/>
          <p:nvPr/>
        </p:nvSpPr>
        <p:spPr>
          <a:xfrm>
            <a:off x="684360" y="620640"/>
            <a:ext cx="3456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копас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468360" y="1557360"/>
            <a:ext cx="36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Страсть, пафос, сильное движение главные черты искусств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Скоп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{FF1DA68E-5102-4F30-92F6-40707F354395}"/>
          <p:cNvPicPr/>
          <p:nvPr/>
        </p:nvPicPr>
        <p:blipFill>
          <a:blip r:embed="rId3"/>
          <a:stretch/>
        </p:blipFill>
        <p:spPr>
          <a:xfrm>
            <a:off x="4932360" y="549360"/>
            <a:ext cx="3881520" cy="6002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9"/>
          <p:cNvSpPr/>
          <p:nvPr/>
        </p:nvSpPr>
        <p:spPr>
          <a:xfrm>
            <a:off x="2484360" y="595008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Мена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0" descr="{2DDC6F20-C48F-4DEE-9F7F-72A89DCF9F5E}"/>
          <p:cNvPicPr/>
          <p:nvPr/>
        </p:nvPicPr>
        <p:blipFill>
          <a:blip r:embed="rId4"/>
          <a:stretch/>
        </p:blipFill>
        <p:spPr>
          <a:xfrm>
            <a:off x="468360" y="907920"/>
            <a:ext cx="2857320" cy="5715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{57B125B5-4449-490D-BF1D-DDD91D56F2CD}"/>
          <p:cNvPicPr/>
          <p:nvPr/>
        </p:nvPicPr>
        <p:blipFill>
          <a:blip r:embed="rId5"/>
          <a:stretch/>
        </p:blipFill>
        <p:spPr>
          <a:xfrm>
            <a:off x="2050920" y="549360"/>
            <a:ext cx="5042160" cy="61056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3"/>
          <p:cNvSpPr/>
          <p:nvPr/>
        </p:nvSpPr>
        <p:spPr>
          <a:xfrm>
            <a:off x="2916360" y="623736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ва  с  амазон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684360" y="620640"/>
            <a:ext cx="387000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акситель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611280" y="162864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евец женской крас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{B8064EAE-F094-449C-9D72-812396D4B8E2}"/>
          <p:cNvPicPr/>
          <p:nvPr/>
        </p:nvPicPr>
        <p:blipFill>
          <a:blip r:embed="rId3"/>
          <a:stretch/>
        </p:blipFill>
        <p:spPr>
          <a:xfrm>
            <a:off x="5435640" y="260280"/>
            <a:ext cx="3289320" cy="60310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7"/>
          <p:cNvSpPr/>
          <p:nvPr/>
        </p:nvSpPr>
        <p:spPr>
          <a:xfrm>
            <a:off x="1908000" y="544500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фродита Книд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{9C97BCC7-0BE9-4255-A3FF-2203DA89BC15}"/>
          <p:cNvPicPr/>
          <p:nvPr/>
        </p:nvPicPr>
        <p:blipFill>
          <a:blip r:embed="rId4"/>
          <a:stretch/>
        </p:blipFill>
        <p:spPr>
          <a:xfrm>
            <a:off x="468360" y="333360"/>
            <a:ext cx="3002040" cy="6002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{C0D3F356-14F7-4FCB-912E-1E5B86A91788}"/>
          <p:cNvPicPr/>
          <p:nvPr/>
        </p:nvPicPr>
        <p:blipFill>
          <a:blip r:embed="rId5"/>
          <a:stretch/>
        </p:blipFill>
        <p:spPr>
          <a:xfrm>
            <a:off x="2771640" y="189000"/>
            <a:ext cx="4203720" cy="63500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0"/>
          <p:cNvSpPr/>
          <p:nvPr/>
        </p:nvSpPr>
        <p:spPr>
          <a:xfrm>
            <a:off x="2987640" y="6093000"/>
            <a:ext cx="43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10:24:36Z</dcterms:created>
  <dc:creator>User</dc:creator>
  <dc:description/>
  <dc:language>en-US</dc:language>
  <cp:lastModifiedBy>Коля</cp:lastModifiedBy>
  <dcterms:modified xsi:type="dcterms:W3CDTF">2013-05-30T22:10:06Z</dcterms:modified>
  <cp:revision>6</cp:revision>
  <dc:subject/>
  <dc:title>Древние скульптур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420000000000010243000207f6000400038000</vt:lpwstr>
  </property>
</Properties>
</file>