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DE3-346C-4BA4-98E4-7F1D6030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EAD-5F56-480B-A212-950537E8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2A1-17C4-471F-B02F-EA1A0669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5B1-C428-4A8A-8491-7AC1E94F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D1D-2897-44AB-B108-2B879254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1AA-5FA9-4F31-811E-8CF483C4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F93-50A0-4B82-9A54-D73316D1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FB2-52C1-4087-9A53-59F2D93E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3FF-D786-40EB-BDFD-DDFA4EA4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B2A-C7F6-4A53-B5E8-332DD29B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922-8C8B-4AB3-89D4-1640261A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7A3-B5B4-4A00-A8E4-3E693B59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8E72-8AF3-4BB9-8E5F-127E5C9B6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{2A2F9D32-8C26-4C75-8B21-5303E021F8F9}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396720"/>
            <a:ext cx="4505040" cy="60786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468360" y="1668600"/>
            <a:ext cx="7199280" cy="35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ульптура</a:t>
            </a: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ТИЧНОСТИ</a:t>
            </a: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8"/>
          <p:cNvSpPr txBox="1"/>
          <p:nvPr/>
        </p:nvSpPr>
        <p:spPr>
          <a:xfrm>
            <a:off x="1042920" y="692280"/>
            <a:ext cx="280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исипп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4000" y="1844640"/>
            <a:ext cx="39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н создал около 1500 статуй. Среди которых колоссальные фигуры богов, героев, атлетов. Им присущи пафос, вдохновенье, эмоцион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{7B593650-7234-40C3-AD28-A9BC667F3139}"/>
          <p:cNvPicPr/>
          <p:nvPr/>
        </p:nvPicPr>
        <p:blipFill>
          <a:blip r:embed="rId3"/>
          <a:stretch/>
        </p:blipFill>
        <p:spPr>
          <a:xfrm>
            <a:off x="4932360" y="549360"/>
            <a:ext cx="345744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1116000" y="5373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Геракл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борющийся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со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ль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72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{4B5B627A-BDC5-43F1-89E1-738217B7CA2C}"/>
          <p:cNvPicPr/>
          <p:nvPr/>
        </p:nvPicPr>
        <p:blipFill>
          <a:blip r:embed="rId1"/>
          <a:stretch/>
        </p:blipFill>
        <p:spPr>
          <a:xfrm>
            <a:off x="395280" y="476280"/>
            <a:ext cx="3606840" cy="60483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4427640" y="692280"/>
            <a:ext cx="3863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охар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356000" y="1844640"/>
            <a:ext cx="43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его произведениях не только совершенство образов, а мастерство и техника исполнения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211640" y="486900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Апполон Бельвед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067280" y="55166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читается одним из лучших произведений Ант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{2A2F9D32-8C26-4C75-8B21-5303E021F8F9}"/>
          <p:cNvPicPr/>
          <p:nvPr/>
        </p:nvPicPr>
        <p:blipFill>
          <a:blip r:embed="rId1"/>
          <a:stretch/>
        </p:blipFill>
        <p:spPr>
          <a:xfrm>
            <a:off x="4356000" y="404640"/>
            <a:ext cx="4483080" cy="604872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539640" y="333360"/>
            <a:ext cx="424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Эллиниз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84360" y="119700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зменил темы и сюжеты. Подчас трагическая трактовка известных классических мо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9640" y="580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ика Самофракий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{9A017B56-3546-4488-A690-A4B0DBF5C063}"/>
          <p:cNvPicPr/>
          <p:nvPr/>
        </p:nvPicPr>
        <p:blipFill>
          <a:blip r:embed="rId2"/>
          <a:stretch/>
        </p:blipFill>
        <p:spPr>
          <a:xfrm>
            <a:off x="539640" y="765000"/>
            <a:ext cx="285768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3635280" y="5373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ера Милосская. 120 г до н.э. Агес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96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{3A97C20B-AD4D-4783-9016-2E94D8BBF368}"/>
          <p:cNvPicPr/>
          <p:nvPr/>
        </p:nvPicPr>
        <p:blipFill>
          <a:blip r:embed="rId1"/>
          <a:stretch/>
        </p:blipFill>
        <p:spPr>
          <a:xfrm>
            <a:off x="127080" y="228600"/>
            <a:ext cx="8889840" cy="6400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00000" y="59500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ой алтарь Зевса в Перга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{AF100813-1098-42FA-8239-66EF6D870175}"/>
          <p:cNvPicPr/>
          <p:nvPr/>
        </p:nvPicPr>
        <p:blipFill>
          <a:blip r:embed="rId2"/>
          <a:stretch/>
        </p:blipFill>
        <p:spPr>
          <a:xfrm>
            <a:off x="179280" y="260280"/>
            <a:ext cx="6553440" cy="576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{5F58B2FC-B989-4C19-A972-0757187B8A53}"/>
          <p:cNvPicPr/>
          <p:nvPr/>
        </p:nvPicPr>
        <p:blipFill>
          <a:blip r:embed="rId3"/>
          <a:stretch/>
        </p:blipFill>
        <p:spPr>
          <a:xfrm>
            <a:off x="4759200" y="260280"/>
            <a:ext cx="412776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{A116DDA7-3E45-4BA7-9D73-9ADA1BA1887F}"/>
          <p:cNvPicPr/>
          <p:nvPr/>
        </p:nvPicPr>
        <p:blipFill>
          <a:blip r:embed="rId1"/>
          <a:stretch/>
        </p:blipFill>
        <p:spPr>
          <a:xfrm>
            <a:off x="324000" y="333360"/>
            <a:ext cx="6116400" cy="6186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6516720" y="2924280"/>
            <a:ext cx="237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гесандр, Афинодор, Полидо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«Лаоко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732720" y="494172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ин из шедевров Элли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9"/>
            </a:gs>
            <a:gs pos="100000">
              <a:srgbClr val="ffa6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{BF6007BC-FFBA-4938-82DE-E979A7E79490}"/>
          <p:cNvPicPr/>
          <p:nvPr/>
        </p:nvPicPr>
        <p:blipFill>
          <a:blip r:embed="rId1"/>
          <a:stretch/>
        </p:blipFill>
        <p:spPr>
          <a:xfrm>
            <a:off x="4859280" y="476280"/>
            <a:ext cx="3765600" cy="5759280"/>
          </a:xfrm>
          <a:prstGeom prst="rect">
            <a:avLst/>
          </a:prstGeom>
          <a:ln w="28440">
            <a:solidFill>
              <a:srgbClr val="ffa669"/>
            </a:solidFill>
            <a:miter/>
          </a:ln>
        </p:spPr>
      </p:pic>
      <p:sp>
        <p:nvSpPr>
          <p:cNvPr id="44" name="Text Box 8"/>
          <p:cNvSpPr/>
          <p:nvPr/>
        </p:nvSpPr>
        <p:spPr>
          <a:xfrm>
            <a:off x="900000" y="333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АРХА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24000" y="119700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йшие греческие скульптуры датиру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о н.э. По легенде первым скульптором бы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ед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979640" y="57340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ОС.  530 г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611280" y="4292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урос- молодой ат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{DEF14FBC-D501-4925-8B60-53D5E4B8A954}"/>
          <p:cNvPicPr/>
          <p:nvPr/>
        </p:nvPicPr>
        <p:blipFill>
          <a:blip r:embed="rId2"/>
          <a:stretch/>
        </p:blipFill>
        <p:spPr>
          <a:xfrm>
            <a:off x="395280" y="260280"/>
            <a:ext cx="4254480" cy="6096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4643280" y="61563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А. Хиосского мастера. Ок. 520 г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5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5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{FFFCCFB0-5192-47C5-AE7A-119DB96D562E}"/>
          <p:cNvPicPr/>
          <p:nvPr/>
        </p:nvPicPr>
        <p:blipFill>
          <a:blip r:embed="rId1"/>
          <a:stretch/>
        </p:blipFill>
        <p:spPr>
          <a:xfrm>
            <a:off x="468360" y="404640"/>
            <a:ext cx="3097080" cy="619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{6C118303-C2C6-4BD0-8D64-748FEB1D1737}"/>
          <p:cNvPicPr/>
          <p:nvPr/>
        </p:nvPicPr>
        <p:blipFill>
          <a:blip r:embed="rId2"/>
          <a:stretch/>
        </p:blipFill>
        <p:spPr>
          <a:xfrm>
            <a:off x="4572000" y="260280"/>
            <a:ext cx="4048200" cy="6072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708360" y="595008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асхофор. ( несущий тель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539640" y="549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Скульптура классического периода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в. до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1280" y="141300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Греческие скульпторы создавали рельефы для храмов, статуи богов и героев. К ним добавлялись  изваяния олимпийских героев и политических дея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39640" y="342900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порция и динамика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правление в скульптуре эт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{F729C43A-E0C6-4867-8E3E-9A8FFCD04A24}"/>
          <p:cNvPicPr/>
          <p:nvPr/>
        </p:nvPicPr>
        <p:blipFill>
          <a:blip r:embed="rId1"/>
          <a:stretch/>
        </p:blipFill>
        <p:spPr>
          <a:xfrm>
            <a:off x="237960" y="333360"/>
            <a:ext cx="3762720" cy="587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{E041C4B3-3D3C-4739-901E-59080384DF4D}"/>
          <p:cNvPicPr/>
          <p:nvPr/>
        </p:nvPicPr>
        <p:blipFill>
          <a:blip r:embed="rId2"/>
          <a:stretch/>
        </p:blipFill>
        <p:spPr>
          <a:xfrm>
            <a:off x="4551480" y="333360"/>
            <a:ext cx="4043160" cy="633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708360" y="6004080"/>
            <a:ext cx="518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Ника, спускающаяся с олим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эо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79280" y="603576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прекрасном теле – здоровый ду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8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75564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Д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7" descr="{03D3C5C7-E6F8-491E-BDB3-CC9AF8F35DBE}"/>
          <p:cNvPicPr/>
          <p:nvPr/>
        </p:nvPicPr>
        <p:blipFill>
          <a:blip r:embed="rId3"/>
          <a:stretch/>
        </p:blipFill>
        <p:spPr>
          <a:xfrm>
            <a:off x="4716360" y="620640"/>
            <a:ext cx="3868920" cy="5832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684360" y="134136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Его образы возвышены и прекра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{F6466E0C-3B42-4BCB-B62D-57CB4F112A0C}"/>
          <p:cNvPicPr/>
          <p:nvPr/>
        </p:nvPicPr>
        <p:blipFill>
          <a:blip r:embed="rId4"/>
          <a:stretch/>
        </p:blipFill>
        <p:spPr>
          <a:xfrm>
            <a:off x="395280" y="765000"/>
            <a:ext cx="4113360" cy="5597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611280" y="54936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ликл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5280" y="1413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Его произведения стали гимном величия и духовной мощи Челов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{CDEBDD16-8CA1-4E0B-BA6B-BEBA2E9F0B7B}"/>
          <p:cNvPicPr/>
          <p:nvPr/>
        </p:nvPicPr>
        <p:blipFill>
          <a:blip r:embed="rId3"/>
          <a:stretch/>
        </p:blipFill>
        <p:spPr>
          <a:xfrm>
            <a:off x="5003640" y="620640"/>
            <a:ext cx="34578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20364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иф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{2182B16E-9263-420E-9FED-C3ACCC6F4A73}"/>
          <p:cNvPicPr/>
          <p:nvPr/>
        </p:nvPicPr>
        <p:blipFill>
          <a:blip r:embed="rId4"/>
          <a:stretch/>
        </p:blipFill>
        <p:spPr>
          <a:xfrm>
            <a:off x="395280" y="189000"/>
            <a:ext cx="3073320" cy="614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{8864790C-3BF4-4CDD-8A3E-3AFAF535F1B7}"/>
          <p:cNvPicPr/>
          <p:nvPr/>
        </p:nvPicPr>
        <p:blipFill>
          <a:blip r:embed="rId5"/>
          <a:stretch/>
        </p:blipFill>
        <p:spPr>
          <a:xfrm>
            <a:off x="2776680" y="571680"/>
            <a:ext cx="359064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2411280" y="580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адумен (увенчивающий себ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{6A9F98A9-B0DA-4FF0-9731-CB56C88867A1}"/>
          <p:cNvPicPr/>
          <p:nvPr/>
        </p:nvPicPr>
        <p:blipFill>
          <a:blip r:embed="rId6"/>
          <a:stretch/>
        </p:blipFill>
        <p:spPr>
          <a:xfrm>
            <a:off x="539640" y="260280"/>
            <a:ext cx="4203720" cy="635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{A0567106-300E-4E08-81A8-575147BA3991}"/>
          <p:cNvPicPr/>
          <p:nvPr/>
        </p:nvPicPr>
        <p:blipFill>
          <a:blip r:embed="rId7"/>
          <a:stretch/>
        </p:blipFill>
        <p:spPr>
          <a:xfrm>
            <a:off x="4716360" y="620640"/>
            <a:ext cx="407664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2843280" y="5589720"/>
            <a:ext cx="27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енная амазо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54936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ирон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4000" y="148428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ыл первым мастером сложных бронзовых отли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{D95D0E7C-46B1-4B12-BF1B-1CF8561C0711}"/>
          <p:cNvPicPr/>
          <p:nvPr/>
        </p:nvPicPr>
        <p:blipFill>
          <a:blip r:embed="rId3"/>
          <a:stretch/>
        </p:blipFill>
        <p:spPr>
          <a:xfrm>
            <a:off x="3132000" y="2637000"/>
            <a:ext cx="5811840" cy="3902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68360" y="5589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ина и Мар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{09981147-9A7F-46B9-B5B5-AE7CC8492BF7}"/>
          <p:cNvPicPr/>
          <p:nvPr/>
        </p:nvPicPr>
        <p:blipFill>
          <a:blip r:embed="rId4"/>
          <a:stretch/>
        </p:blipFill>
        <p:spPr>
          <a:xfrm>
            <a:off x="4211640" y="620640"/>
            <a:ext cx="364824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755640" y="4365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иско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{715119DA-1009-46E8-BC1C-2625478F85B5}"/>
          <p:cNvPicPr/>
          <p:nvPr/>
        </p:nvPicPr>
        <p:blipFill>
          <a:blip r:embed="rId5"/>
          <a:stretch/>
        </p:blipFill>
        <p:spPr>
          <a:xfrm>
            <a:off x="4572000" y="189000"/>
            <a:ext cx="3132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684360" y="620640"/>
            <a:ext cx="345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опа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68360" y="155736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трасть, пафос, сильное движение главные черты искус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ко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{FF1DA68E-5102-4F30-92F6-40707F354395}"/>
          <p:cNvPicPr/>
          <p:nvPr/>
        </p:nvPicPr>
        <p:blipFill>
          <a:blip r:embed="rId3"/>
          <a:stretch/>
        </p:blipFill>
        <p:spPr>
          <a:xfrm>
            <a:off x="4932360" y="549360"/>
            <a:ext cx="3881520" cy="6002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84360" y="5950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ен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{2DDC6F20-C48F-4DEE-9F7F-72A89DCF9F5E}"/>
          <p:cNvPicPr/>
          <p:nvPr/>
        </p:nvPicPr>
        <p:blipFill>
          <a:blip r:embed="rId4"/>
          <a:stretch/>
        </p:blipFill>
        <p:spPr>
          <a:xfrm>
            <a:off x="468360" y="907920"/>
            <a:ext cx="285732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{57B125B5-4449-490D-BF1D-DDD91D56F2CD}"/>
          <p:cNvPicPr/>
          <p:nvPr/>
        </p:nvPicPr>
        <p:blipFill>
          <a:blip r:embed="rId5"/>
          <a:stretch/>
        </p:blipFill>
        <p:spPr>
          <a:xfrm>
            <a:off x="2050920" y="549360"/>
            <a:ext cx="5042160" cy="6105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3"/>
          <p:cNvSpPr/>
          <p:nvPr/>
        </p:nvSpPr>
        <p:spPr>
          <a:xfrm>
            <a:off x="2916360" y="6237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 с  амазон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684360" y="620640"/>
            <a:ext cx="387000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аксител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16286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евец женской крас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{B8064EAE-F094-449C-9D72-812396D4B8E2}"/>
          <p:cNvPicPr/>
          <p:nvPr/>
        </p:nvPicPr>
        <p:blipFill>
          <a:blip r:embed="rId3"/>
          <a:stretch/>
        </p:blipFill>
        <p:spPr>
          <a:xfrm>
            <a:off x="5435640" y="260280"/>
            <a:ext cx="3289320" cy="6031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1908000" y="544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фродита Кни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{9C97BCC7-0BE9-4255-A3FF-2203DA89BC15}"/>
          <p:cNvPicPr/>
          <p:nvPr/>
        </p:nvPicPr>
        <p:blipFill>
          <a:blip r:embed="rId4"/>
          <a:stretch/>
        </p:blipFill>
        <p:spPr>
          <a:xfrm>
            <a:off x="468360" y="333360"/>
            <a:ext cx="3002040" cy="600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{C0D3F356-14F7-4FCB-912E-1E5B86A91788}"/>
          <p:cNvPicPr/>
          <p:nvPr/>
        </p:nvPicPr>
        <p:blipFill>
          <a:blip r:embed="rId5"/>
          <a:stretch/>
        </p:blipFill>
        <p:spPr>
          <a:xfrm>
            <a:off x="2771640" y="189000"/>
            <a:ext cx="4203720" cy="6350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2987640" y="609300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0:24:36Z</dcterms:created>
  <dc:creator>User</dc:creator>
  <dc:description/>
  <dc:language>en-US</dc:language>
  <cp:lastModifiedBy>Коля</cp:lastModifiedBy>
  <dcterms:modified xsi:type="dcterms:W3CDTF">2013-05-30T22:10:06Z</dcterms:modified>
  <cp:revision>6</cp:revision>
  <dc:subject/>
  <dc:title>Древние скульпту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420000000000010243000207f6000400038000</vt:lpwstr>
  </property>
</Properties>
</file>