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Ряды Фурь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и 15,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Ряд Фурье периодической с периодом 2</a:t>
            </a:r>
            <a:r>
              <a:rPr b="1" i="1" lang="en-US" sz="4000" spc="-1" strike="noStrike">
                <a:solidFill>
                  <a:srgbClr val="0f2bec"/>
                </a:solidFill>
                <a:latin typeface="Arial"/>
              </a:rPr>
              <a:t>l</a:t>
            </a: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 функци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меет период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, г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любое число, большее нуля, то ее ряд Фурье можно получить из ряда Фурье периодической с периодом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функции, положив           . Т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ункция                           имеет период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В самом де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500720" y="3429000"/>
                <a:ext cx="1008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56000" y="4005360"/>
                <a:ext cx="2808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8"/>
          <p:cNvSpPr/>
          <p:nvPr/>
        </p:nvSpPr>
        <p:spPr>
          <a:xfrm>
            <a:off x="4405320" y="32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1042920" y="5084640"/>
                <a:ext cx="66978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Продолж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ожим в ряд Функцию         , а затем вернемся к старой переменной. Им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5219640" y="1557360"/>
                <a:ext cx="863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042920" y="2349360"/>
                <a:ext cx="568800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Rectangle 9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2411280" y="3429000"/>
                <a:ext cx="29512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0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2124000" y="4365720"/>
                <a:ext cx="38880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2124000" y="5373720"/>
                <a:ext cx="39243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Ряд Фурье четной функци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налогично тому, как получается ряд Фурье периодической с периодом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функции, можно получить ряд функции с периодом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Тогда имеем следующие формулы:                                           ,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916360" y="3357720"/>
                <a:ext cx="4032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8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1258920" y="4508640"/>
                <a:ext cx="6300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Ряд Фурье нечетной функции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функция является нечетной, то ее ряд Фурье является рядом по синусам и его можно записать в следующем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124000" y="3141720"/>
                <a:ext cx="35276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979640" y="4437000"/>
                <a:ext cx="38894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Разложение в ряд Фурье непериодических функций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функци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является периодической, то эту функцию доопределяют до периодической. Затем получившуюся периодическую функцию раскладывают в ряд Фурье, который будет сходиться к функци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 на промежутке, где задана эта функция, если, конечно, она удовлетворяет условиям достаточного признака сходимости ряда Фурье. При этом доопределить функцию до периодической можно различными способами. В частности, ее можно доопределить как четную или как нечет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это можно сделать, рассмотрим на конкретном прим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Пример разложения функции в ряд Фурье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ложить функцию у=х в ряд Фурье а) по синусам  и б) по косинусам. Доопределим функци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 периодической нечетным обр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908000" y="3716280"/>
          <a:ext cx="50770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716280"/>
                    <a:ext cx="50770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Решение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                                    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м интеграл по част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1763640" y="1268280"/>
                <a:ext cx="27370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5580000" y="1268280"/>
                <a:ext cx="2521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Rectangle 9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755640" y="2852640"/>
                <a:ext cx="72010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dx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900000" y="4037040"/>
                <a:ext cx="48960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1042920" y="5013360"/>
                <a:ext cx="619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π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Продолж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,                       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3924360" y="1413000"/>
                <a:ext cx="2232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971640" y="2276640"/>
                <a:ext cx="40320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Rectangle 10"/>
          <p:cNvSpPr/>
          <p:nvPr/>
        </p:nvSpPr>
        <p:spPr>
          <a:xfrm>
            <a:off x="3782160" y="2869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д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786840" y="33141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8"/>
              <p:cNvSpPr txBox="1"/>
              <p:nvPr/>
            </p:nvSpPr>
            <p:spPr>
              <a:xfrm>
                <a:off x="1835280" y="3645000"/>
                <a:ext cx="38163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5796000" y="2781360"/>
                <a:ext cx="1655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Î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Продолжение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определим тепер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до периодической функции четным образом. Тогда                               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924360" y="2349360"/>
                <a:ext cx="3887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900000" y="3284640"/>
                <a:ext cx="51134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Rectangle 9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684360" y="4508640"/>
                <a:ext cx="748800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nxdx</m:t>
                        </m:r>
                      </m:e>
                    </m:nary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Продолж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че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ражение в скобках равно нулю и, значит,                , а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ечетном, т.е. 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олучили разложение  функции в ряд Фурье на промежутк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684360" y="1773360"/>
                <a:ext cx="72723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468360" y="2852640"/>
                <a:ext cx="8209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p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p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p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2124000" y="4292640"/>
                <a:ext cx="1152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7308720" y="4292640"/>
                <a:ext cx="1513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900000" y="4724280"/>
                <a:ext cx="30243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4"/>
              <p:cNvSpPr txBox="1"/>
              <p:nvPr/>
            </p:nvSpPr>
            <p:spPr>
              <a:xfrm>
                <a:off x="5003640" y="4869000"/>
                <a:ext cx="3816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Определение ортогональной системы функций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игонометрическая система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ется ортогональной на отрезке    [-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] и на всяком отрезке длины 2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оже в том смысле, что интеграл по этому отрезку от произведения любых двух различных функций этой системы равен нулю, а от одинаковых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971640" y="2060640"/>
                <a:ext cx="7632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,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,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rPr>
                        <m:lit/>
                        <m:nor/>
                      </m:rPr>
                      <m:t xml:space="preserve">,sin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Пример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несколько примеров таких интегр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нечетности подынтеграль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6"/>
              <p:cNvSpPr txBox="1"/>
              <p:nvPr/>
            </p:nvSpPr>
            <p:spPr>
              <a:xfrm>
                <a:off x="971640" y="2492280"/>
                <a:ext cx="1800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8"/>
              <p:cNvSpPr txBox="1"/>
              <p:nvPr/>
            </p:nvSpPr>
            <p:spPr>
              <a:xfrm>
                <a:off x="900000" y="3716280"/>
                <a:ext cx="79200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mx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900000" y="4724280"/>
                <a:ext cx="5400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n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Определение ряда Фурь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гонометрический ря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ы которого вычислены по формулам Фурье, т. 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рядом Фурье периодической с периодом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функции.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971640" y="2133720"/>
                <a:ext cx="64087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684360" y="4076640"/>
                <a:ext cx="7920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d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xdx</m:t>
                                </m:r>
                              </m:e>
                            </m:nary>
                          </m:e>
                        </m:nary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Определение кусочно-монотонной функции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ется кусочно-монотонной на отрезке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, если этот отрезок можно разбить конечным числом точек на интервалы, в каждом из которых функция моното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f2bec"/>
                </a:solidFill>
                <a:latin typeface="Arial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усочно-монотонных функций:1)                            , 2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2987640" y="4653000"/>
                <a:ext cx="2736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Достаточный признак сходимости ряда Фурье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ериодическая с периодом 2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ункция 1) кусочно-монотонна, 2) непрерывна на отрезке [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] или имеет на нем конечное число точек разрыва 1-го рода, то ряд Фурье этой функции сходится во всех точках этого отрезка. Сумма полученного ря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равна значению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ах непрерывности функции, а в точках ее разрыва сумма ряда равна полусумме левостороннего и правостороннего пределов функции, т.е., ес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точка разрыва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050920" y="5373720"/>
                <a:ext cx="38880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Разложение в ряды Фурье четных функций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четная функция, то 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нечетными,  а функции                        -чет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любых п=1,2,…. Тогда в силу свойства определенного интеграл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четна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четна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900000" y="2205000"/>
                <a:ext cx="2089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771640" y="2708280"/>
                <a:ext cx="208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900000" y="4005360"/>
                <a:ext cx="20894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0"/>
              <p:cNvSpPr txBox="1"/>
              <p:nvPr/>
            </p:nvSpPr>
            <p:spPr>
              <a:xfrm>
                <a:off x="900000" y="5013360"/>
                <a:ext cx="3168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f2bec"/>
                </a:solidFill>
                <a:latin typeface="Arial"/>
              </a:rPr>
              <a:t>Продолж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имеем:                                   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т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2627280" y="1268280"/>
                <a:ext cx="651672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2050920" y="2492280"/>
                <a:ext cx="33847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635280" y="3141720"/>
                <a:ext cx="41036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547640" y="4076640"/>
                <a:ext cx="58327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f2bec"/>
                </a:solidFill>
                <a:latin typeface="Arial"/>
              </a:rPr>
              <a:t>Ряд Фурье нечетной функции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вляется нечетной и периодической с периодом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, то ее ряд Фурье имеет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 коэффици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050920" y="2924280"/>
                <a:ext cx="34560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1908000" y="4653000"/>
                <a:ext cx="35276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3:26:50Z</dcterms:created>
  <dc:creator>Людмла</dc:creator>
  <dc:description/>
  <dc:language>en-US</dc:language>
  <cp:lastModifiedBy>Коля</cp:lastModifiedBy>
  <dcterms:modified xsi:type="dcterms:W3CDTF">2013-03-27T15:34:32Z</dcterms:modified>
  <cp:revision>13</cp:revision>
  <dc:subject/>
  <dc:title>Ряды Фурье</dc:title>
</cp:coreProperties>
</file>