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6DC-A411-4E5C-8541-CE55352F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C19-02CE-4BAD-8413-9BF8A3CE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F9B-C14B-4CE8-A9EA-B9443ADE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12A-6DBF-41C6-8D35-0EA577E3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772B-FC0A-43BA-9B61-094E40E9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4A32-FD7D-4B19-81D9-2067A0BA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1187-ABDD-4656-AA94-493E5B6B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0136-B833-4886-A886-7AF91ECC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F77F-A44B-4F57-AE69-2A765A1D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B50D-6261-4199-84BA-5748DA38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79DA-9AED-4624-97C2-83A91430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D40-82CE-44EE-BEFB-B942276D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5809-FC78-49CD-AB51-716B6816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0620-A206-4617-ABA5-055D68B0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8BE2-EB7E-4B0E-90DF-543B7F9F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2DDE-EC31-4766-AC33-D6D3FA02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F42C-AD0B-40DD-884C-89C05024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727-91CB-4B47-996F-3DDB8A98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4E6-1AA6-4082-9836-4ED91905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990-1286-43D0-B31C-C693527E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ACB-3227-4B33-851D-9885CD02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65D-DC60-4BF0-9F37-D19A7ACC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736-8698-4C68-A9F3-72655ADA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005-8338-4B86-8D3E-4285F1C8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E873-76AB-4B38-B627-2F2DDCAB8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FE97-50C9-4B97-ACB3-DB388966D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Я ЖЕЛАЮ ВАМ ЗДОРОВЬЯ!!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26920" y="227664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ЗДОРОВЬЕ НЕ КУПИШЬ!!!»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ЗДОРОВЬЕ – ВСЕМУ ГОЛОВА»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В ЗДОРОВОМ ТЕЛЕ – ЗДОРОВЫЙ ДУХ»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ЗДОРОВЫЙ НИЩИЙ СЧАСТЛИВЕЕ БОЛЬНОГО КОРОЛЯ»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ЗДОРОВЬЕ – ЭТО СЧАСТЬЕ!!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ДОРОВЫЙ ПОЗВОНОЧНИ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БОРОДОК К ГРУДИ – ВДО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ОРОТЫ ГОЛОВЫ ВПРАВО – ВЛЕВО НА ВДОХ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БОРОДОК К ГРУДИ – ПОВОРОТЫ ГОЛОВЫ В СТОРОНЫ – ОСТОРОЖНО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КСИМАЛЬНО ПРОГНУТЬСЯ НАЗА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СПИНЕ, НОГИ СОГНУТЬ В КОЛЕНЯХ – ВПРАВО И ВЛЕ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РЯЧЬ МЫШЦЫ ТА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ОХОЕ НАСТРОЕНИЕ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СМОТРИ НА НЕБО!!! ПРЕДСТАВЬ СЕБЕ, ЧТО ОНО ГОЛУБОЕ, ПРОНИЗЫВАЕТ ТЕБЯ ГОЛУБЫМИ ЛУЧАМИ, ПРИМИ НА СЕБЯ ЭТОТ ГОЛУБОЙ ПОТОК, ЦВЕТ ПРЕДСТАВЬ ВНУТРИ СЕБЯ И ПОБУДЬ ТАКИМ «ГОЛУБЫМ» 15 МИНУТ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ДОРОВЫЙ ДУ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ЗДОРОВЫЙ ДУХ РОЖДАЕТ ЗДОРОВЫЕ, ЗДОРОВЫЕ МЫСЛИ. НОВОРОЖДЕННАЯ ЮНАЯ ДУША РОЖДАЕТ ЮНУЮ ЗДОРОВУЮ КРЕПКУЮ ГОЛОВУ. ЮНАЯ ДУША РОЖДАЕТ КРЕПКУЮ ЗДОРОВУЮ ГОЛОВУ.ЮНАЯ ДУША РОЖДАЕТ КРАСИВОЕ ЛИЦО. (5 РАЗ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СТРОЙ НА ДОЛГОЛЕТ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Я – МОЛОДАЯ, ЗДОРОВАЯ, ЭНЕРГИЧНАЯ. Я ПРОДОЛЖАЮ МОЛОДЕТЬ, ЗДОРОВЕТЬ И КРЕПНУТЬ СКВОЗЬ ВСЕ ТРУДНОСТИ ЖИЗНИ. ВСЕ КРОВЕНОСНЫЕ СОСУДЫ РАСКРЫТЫ ПО ВСЕЙ ДЛИНЕ. ВО ВСЁМ ТЕЛЕ СВОБОДНОЕ, АБСОЛЮТНО СВОБОДНОЕ КРОВООБРАЩЕНИЕ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СТРОЙ НА ОМОЛОЖ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НОВОРОЖДЕННАЯ МОЛОДОСТЬ ВЛИВАЕТСЯ В МОЁ ЛИЦО. МОЁ ЛИЦО ПОЛНОСТЬЮ ОБНОВЛЯЕТСЯ. МОЁ ЛИЦО НОВОЕ РОЖДАЕТСЯ НОВОЕ – НОВОРОЖДЕННОЕ. СВЕЖЕСТЬ ЮНОСТИ РОЖДАЕТСЯ В МОЁМ ЛИЦЕ. ВСЁ ЛИЦО НАПОЛНЯЕТСЯ РОЗОВЫМ, РОЗОВЫМ ЦВЕТОМ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СТОЙЧИВОСТЬ НЕРВНОЙ СИСТ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НЕПРЕРЫВНО ПОВЫШАЕТСЯ УСТОЙЧИВОСТЬ НЕРВНОЙ СИСТЕМЫ. МОЁ САМОЧУВСТВИЕ ПРЕКРАСНОЕ. МОЁ НАСТРОЕНИЕ ПРЕКРАСНОЕ. Я СТАНОВЛЮСЬ ВЕСЁЛОЙ, ЖИЗНЕРАДОСТНОЙ ЖЕНЩИНОЙ. КРЕПНУТ И ЗДОРОВЕЮТ МОИ МОЛОДЫЕ НЕРВЫ. Я ЗДОРОВА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СТРОЙ НА КАЖДЫЙ ДЕН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МОЙ ДУХ СИЛЁН. МОЯ ВОЛЯ СИЛЬНА. Я ПОЛНА ЛЮБВИ И ДОБРА. Я СОВЕРШЕННО СПОКОЙНА И ХЛАДНОКРОВНА. Я НЕ БУДУ НЕРВНИЧАТЬ И РАЗДРАЖАТЬСЯ. Я ВЛАДЕЮ СВОИМИ ЧУВСТВАМИ И СОБОЙ. НИКТО МЕНЯ НЕ РАЗДРАЖИТ. Я ЗДОР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УДЬ В СИЛАХ Т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ВАЖНИЧАТЬ С ТОЛПО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НЕ ТЕРЯТЬСЯ В ОБЩЕСТВЕ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Ь НЕ РАНИМ НИ ДРУЖБОЙ, НИ ВРАЖДО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 В КАЖДОМ ЧТИ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Ь В СИЛАХ ТЫ ВСЮ ЖИЗНЬ ЛЕТЕТЬ СТРЕЛО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ВСЁ ЖЕ НА МГНОВЕНЬЯ МЕРИТЬ ВЕ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ГДАВ, МОЙ ДРУГ, ТЫ – ЧЕЛОВЕК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АК ПЕРЕХИТРИТЬ СТАР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ПЕЙТЕ ЧЕРЕЗ СОЛОМИН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ШЬТЕ МЕНЬШЕ МЯ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ИМНАСТИКА ДЛЯ ГЛА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ЛНЦЕЗАЩИТНЫЕ О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ЫПАЙТЕ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ЖЕ НАДЕВАТЬ ВЫСОКИЕ КАБЛ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УЧШЕ СПАТЬ НА СП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ИЗНУРЯТЬ СЕБ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ЛЕКС «БУДУАНЬ ЦЗИНЬ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 УДАРОВ ЗУБ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 УДАРОВ ПАЛЬЦАМИ ПО ЗАТЫЛ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 ПОВОРОТОВ ГОЛОВЫ ВПРАВО – ВЛЕ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 РАЗ ПОТЕРЕТЬ СПИНУ В ОБЛАСТИ ПО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 РАЗ ПРАВОЕ ПЛЕЧО ВПЕРЁД, ЛЕВОЕ – НАЗАД, РУКИ НА ПОЯ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 РАЗ ПОДНЯТЬ СКРЕЩЁННЫЕ РУКИ ЛАДОНЯМИ  ВВЕР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 ГРИП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крупных зубчиков чесн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лимон мелко нарезать вместе с кожур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лить 0,5 литра холодной кипячёной во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ранить в холодильн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ить по 1 ст. л. В д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ЛЯ НАСТРО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Неугасимый, неугасимый огонёк светится в моих глазах! Солнечная радость светится в моих глазах! Солнечная радость жизни светится в моих глазах. Беззаботная, безоблачная юность рождается в моей душе. Всё тело живёт счастливой радостной жизнью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ТОЧНИКИ БОДР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Ё ВАЛИТСЯ ИЗ РУК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НАДАВИТЕ ПАЛЬЦАМИ НА ТОЧКИ МЕЖДУ ЛОПАТКАМИ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НАДАВИТЕ ПАЛЬЦАМИ НА 4 ТОЧКИ СЛЕВА  и СПРАВА НА ШЕЕ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НАДАВИТЕ ЧЕТЫРЬМЯ ПАЛЬЦАМИ ВДОЛЬ ЗАТЫЛКА НА ЗАДНЕЙ ПОВЕРХНОСТИ ШЕ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УДРОСТЬ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ЛЫБАЙТЕСЬ, ОБНИМАЙТЕ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ЫТЬ ТРЕБОВАТЕЛЬНЫМ ДУШЕВ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НАВЯЗЫВАТЬ СВОЮ ВОЛ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ВСЁ ГОВОРИТЕ ВСЛУХ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ИСПЫТЫВАЙТЕ ЖАЛОСТЬ К СЕ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ЩИТЕ В ЛЮДЯХ ХОРОШ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СЕТУЙТЕ НА СУДЬБ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ЛГОЛЕТИЕ БЕЗ БОЛЕЗН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ЕШЬТЕ М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ОПТИМИЗМОМ СМОТРИТЕ В БУДУЩ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ТАВАЙТЕСЬ АКТИВН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ЖЕДНЕВНО СЪЕДАЙТЕ БАН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ЛАЖДАЙТЕСЬ ЖИЗН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ОДИТЕ В ГОСТИ, В КИНО, В ТЕАТ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ОДИТЕ БОСИКОМ, ПЕЙТЕ В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УТРЕННИЙ ТОНИЗИРУЮЩИЙ МАССАЖ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ЖДУ БОЛЬШИМ И УКАЗАТЕЛЬНЫМ ПАЛЬЦ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КЛАДКЕ ЛОКТЯ СО СТОРОНЫ БОЛЬШОГО ПАЛЬ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ССАЖ ПЕРЕНОС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ЧКА СНАРУЖИ КОЛЕ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ЧКА ВЫШЕ ВНУТРЕННЕЙ ЛОДЫЖКИ (ДЛЯ КРАСОТ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23:22:07Z</dcterms:created>
  <dc:creator>Komp_5</dc:creator>
  <dc:description/>
  <dc:language>en-US</dc:language>
  <cp:lastModifiedBy>Komp_5</cp:lastModifiedBy>
  <dcterms:modified xsi:type="dcterms:W3CDTF">2009-08-13T22:05:22Z</dcterms:modified>
  <cp:revision>4</cp:revision>
  <dc:subject/>
  <dc:title>Я ЖЕЛАЮ ВАМ ЗДОРОВЬЯ!!!</dc:title>
</cp:coreProperties>
</file>