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DF4-D7A7-4EC9-91FA-542157F8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A2E-4034-4F48-9675-2BBB50C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6B3-1ACF-4FEA-8B36-9DAEFBAD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58D-26D5-4BE7-9B1A-380A61B5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41D7-F6AC-41E7-8DB3-62E8C40C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1AD6-FBE9-474D-B600-0083EEEC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7624-0108-4F4E-BCCA-ED6469EA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4BE3-AA0F-442C-B1C0-8EFA202A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B26-27F7-431C-8BB9-F47766DE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A1CF-1D21-49C0-BE99-F951013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CAA-346F-4AED-9829-1037828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239-6C16-47E0-92F3-DAA741EE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8E52-2F61-42D5-8698-7E755E6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6C5-A398-480C-A23E-0F4F300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8C19-DFF2-4D17-950A-C6618552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2CD-CE1F-4238-9E91-48DFFA6B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1958-2C8D-4242-BF96-6375931F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B79-D894-47FD-9B17-39C4438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519-7581-4D51-9453-A5E38209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811-29AA-4CE2-BC93-9F9C7FC9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CD0-7A9D-453B-9039-DEFD19E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C39-1EB9-4880-897B-D3CCD0A9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4F8-AE9F-4374-ABF5-F114A00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D43-C094-4C88-BF2B-5A8AB1C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7A2-50F5-46FE-B910-A690EDD6C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4DE-EB00-44B1-A91D-B3FDED689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Я ЖЕЛАЮ ВАМ ЗДОРОВЬЯ!!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ЬЕ НЕ КУПИШЬ!!!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ЬЕ – ВСЕМУ ГОЛОВА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ЗДОРОВОМ ТЕЛЕ – ЗДОРОВЫЙ ДУХ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ЫЙ НИЩИЙ СЧАСТЛИВЕЕ БОЛЬНОГО КОРОЛЯ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ЬЕ – ЭТО СЧАСТЬЕ!!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ДОРОВЫЙ ПОЗВОНОЧ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БОРОДОК К ГРУДИ – ВДО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ОРОТЫ ГОЛОВЫ ВПРАВО – ВЛЕВО НА ВДОХ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БОРОДОК К ГРУДИ – ПОВОРОТЫ ГОЛОВЫ В СТОРОНЫ – ОСТОРОЖНО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АЛЬНО ПРОГНУТЬСЯ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ПИНЕ, НОГИ СОГНУТЬ В КОЛЕНЯХ – ВПРАВО И ВЛ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ЯЧЬ МЫШЦЫ Т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ОХОЕ НАСТРОЕНИЕ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СМОТРИ НА НЕБО!!! ПРЕДСТАВЬ СЕБЕ, ЧТО ОНО ГОЛУБОЕ, ПРОНИЗЫВАЕТ ТЕБЯ ГОЛУБЫМИ ЛУЧАМИ, ПРИМИ НА СЕБЯ ЭТОТ ГОЛУБОЙ ПОТОК, ЦВЕТ ПРЕДСТАВЬ ВНУТРИ СЕБЯ И ПОБУДЬ ТАКИМ «ГОЛУБЫМ» 15 МИНУТ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ДОРОВЫЙ ДУ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ЫЙ ДУХ РОЖДАЕТ ЗДОРОВЫЕ, ЗДОРОВЫЕ МЫСЛИ. НОВОРОЖДЕННАЯ ЮНАЯ ДУША РОЖДАЕТ ЮНУЮ ЗДОРОВУЮ КРЕПКУЮ ГОЛОВУ. ЮНАЯ ДУША РОЖДАЕТ КРЕПКУЮ ЗДОРОВУЮ ГОЛОВУ.ЮНАЯ ДУША РОЖДАЕТ КРАСИВОЕ ЛИЦО. (5 РАЗ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СТРОЙ НА ДОЛГОЛЕТ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Я – МОЛОДАЯ, ЗДОРОВАЯ, ЭНЕРГИЧНАЯ. Я ПРОДОЛЖАЮ МОЛОДЕТЬ, ЗДОРОВЕТЬ И КРЕПНУТЬ СКВОЗЬ ВСЕ ТРУДНОСТИ ЖИЗНИ. ВСЕ КРОВЕНОСНЫЕ СОСУДЫ РАСКРЫТЫ ПО ВСЕЙ ДЛИНЕ. ВО ВСЁМ ТЕЛЕ СВОБОДНОЕ, АБСОЛЮТНО СВОБОДНОЕ КРОВООБРАЩЕНИЕ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СТРОЙ НА ОМОЛО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ОВОРОЖДЕННАЯ МОЛОДОСТЬ ВЛИВАЕТСЯ В МОЁ ЛИЦО. МОЁ ЛИЦО ПОЛНОСТЬЮ ОБНОВЛЯЕТСЯ. МОЁ ЛИЦО НОВОЕ РОЖДАЕТСЯ НОВОЕ – НОВОРОЖДЕННОЕ. СВЕЖЕСТЬ ЮНОСТИ РОЖДАЕТСЯ В МОЁМ ЛИЦЕ. ВСЁ ЛИЦО НАПОЛНЯЕТСЯ РОЗОВЫМ, РОЗОВЫМ ЦВЕТОМ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ТОЙЧИВОСТЬ НЕРВНОЙ СИСТ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ЕПРЕРЫВНО ПОВЫШАЕТСЯ УСТОЙЧИВОСТЬ НЕРВНОЙ СИСТЕМЫ. МОЁ САМОЧУВСТВИЕ ПРЕКРАСНОЕ. МОЁ НАСТРОЕНИЕ ПРЕКРАСНОЕ. Я СТАНОВЛЮСЬ ВЕСЁЛОЙ, ЖИЗНЕРАДОСТНОЙ ЖЕНЩИНОЙ. КРЕПНУТ И ЗДОРОВЕЮТ МОИ МОЛОДЫЕ НЕРВЫ. Я ЗДОРОВА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СТРОЙ НА КАЖДЫЙ ДЕ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МОЙ ДУХ СИЛЁН. МОЯ ВОЛЯ СИЛЬНА. Я ПОЛНА ЛЮБВИ И ДОБРА. Я СОВЕРШЕННО СПОКОЙНА И ХЛАДНОКРОВНА. Я НЕ БУДУ НЕРВНИЧАТЬ И РАЗДРАЖАТЬСЯ. Я ВЛАДЕЮ СВОИМИ ЧУВСТВАМИ И СОБОЙ. НИКТО МЕНЯ НЕ РАЗДРАЖИТ. Я ЗДОР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ДЬ В СИЛАХ 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АЖНИЧАТЬ С ТОЛП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НЕ ТЕРЯТЬСЯ В ОБЩЕСТВЕ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Ь НЕ РАНИМ НИ ДРУЖБОЙ, НИ ВРАЖД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 В КАЖДОМ Ч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Ь В СИЛАХ ТЫ ВСЮ ЖИЗНЬ ЛЕТЕТЬ СТРЕЛ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СЁ ЖЕ НА МГНОВЕНЬЯ МЕРИТЬ В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ДАВ, МОЙ ДРУГ, ТЫ – ЧЕЛОВЕК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ПЕРЕХИТРИТЬ СТА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ЕЙТЕ ЧЕРЕЗ СОЛОМИ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ШЬТЕ МЕНЬШЕ МЯ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ЕЗАЩИТНЫЕ 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ЙТЕ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ЖЕ НАДЕВАТЬ ВЫСОКИЕ КАБЛ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УЧШЕ СПАТЬ НА СП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ИЗНУРЯ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ЛЕКС «БУДУАНЬ ЦЗИНЬ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УДАРОВ ЗУБ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УДАРОВ ПАЛЬЦАМИ ПО ЗАТЫЛ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ПОВОРОТОВ ГОЛОВЫ ВПРАВО – ВЛЕ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РАЗ ПОТЕРЕТЬ СПИНУ В ОБЛАСТИ ПО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РАЗ ПРАВОЕ ПЛЕЧО ВПЕРЁД, ЛЕВОЕ – НАЗАД, РУКИ НА ПОЯ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РАЗ ПОДНЯТЬ СКРЕЩЁННЫЕ РУКИ ЛАДОНЯМИ 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 ГРИ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крупных зубчиков чесн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лимон мелко нарезать вместе с кож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ить 0,5 литра холодной кипячёной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анить в холодиль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ить по 1 ст. л. В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ЛЯ НАСТРО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еугасимый, неугасимый огонёк светится в моих глазах! Солнечная радость светится в моих глазах! Солнечная радость жизни светится в моих глазах. Беззаботная, безоблачная юность рождается в моей душе. Всё тело живёт счастливой радостной жизнь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ЧНИКИ БОДР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Ё ВАЛИТСЯ ИЗ РУК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НАДАВИТЕ ПАЛЬЦАМИ НА ТОЧКИ МЕЖДУ ЛОПАТКАМ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АДАВИТЕ ПАЛЬЦАМИ НА 4 ТОЧКИ СЛЕВА  и СПРАВА НА ШЕ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АДАВИТЕ ЧЕТЫРЬМЯ ПАЛЬЦАМИ ВДОЛЬ ЗАТЫЛКА НА ЗАДНЕЙ ПОВЕРХНОСТИ Ш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ДРОСТЬ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ЛЫБАЙТЕСЬ, ОБНИМАЙТ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ТЬ ТРЕБОВАТЕЛЬНЫМ ДУШЕВ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НАВЯЗЫВАТЬ СВОЮ ВО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ВСЁ ГОВОРИТЕ ВСЛУ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ИСПЫТЫВАЙТЕ ЖАЛОСТЬ К СЕ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ЩИТЕ В ЛЮДЯХ ХОРОШ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ЕТУЙТЕ НА СУДЬБ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ЛГОЛЕТИЕ БЕЗ БОЛЕЗ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ЕШЬТЕ М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ОПТИМИЗМОМ СМОТРИТЕ В БУДУ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ВАЙТЕСЬ АКТИВ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ЖЕДНЕВНО СЪЕДАЙТЕ БАН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ЛАЖДАЙТЕСЬ ЖИ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ДИТЕ В ГОСТИ, В КИНО, В ТЕА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ДИТЕ БОСИКОМ, ПЕЙТЕ В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ТРЕННИЙ ТОНИЗИРУЮЩИЙ МАССАЖ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 БОЛЬШИМ И УКАЗАТЕЛЬНЫМ ПАЛЬЦ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КЛАДКЕ ЛОКТЯ СО СТОРОНЫ БОЛЬШОГО ПАЛЬ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Ж ПЕРЕНОС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ЧКА СНАРУЖИ КОЛ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ЧКА ВЫШЕ ВНУТРЕННЕЙ ЛОДЫЖКИ (ДЛЯ КРАСО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23:22:07Z</dcterms:created>
  <dc:creator>Komp_5</dc:creator>
  <dc:description/>
  <dc:language>en-US</dc:language>
  <cp:lastModifiedBy>Komp_5</cp:lastModifiedBy>
  <dcterms:modified xsi:type="dcterms:W3CDTF">2009-08-13T22:05:22Z</dcterms:modified>
  <cp:revision>4</cp:revision>
  <dc:subject/>
  <dc:title>Я ЖЕЛАЮ ВАМ ЗДОРОВЬЯ!!!</dc:title>
</cp:coreProperties>
</file>