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7475-230E-4C9C-8BCA-B3AA719D83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D76-3BE5-4504-9B61-2E06D7DF2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D1F-95B7-4EC2-AE67-820FD0960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C73-59F5-4E62-AF5B-930AD2C8F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8AD0-2B1E-4AF6-86C5-9F3FBF170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F63-4DD1-4672-B47F-10B518103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22A-B086-4490-AA6A-171DB1039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AEA-38DD-46C1-B367-E5BC3DB33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748-B6E9-49E6-986A-73DA6C48D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14A-2ACC-4A6C-99A1-76686DF0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AB8-A03B-4DAE-BC5B-030D8CF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56E-DB30-40F7-B014-B78F08D6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6EE-7357-463D-9BB2-CC3E3AA7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221-D643-4894-95E2-2C1B1422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3C2-7C8D-4B50-BDDC-7DDFE87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69D-68CB-4D99-8205-EE028A14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0D7A-2364-4C51-B151-D3464968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6DC4-1B5C-4A72-AC6E-212D1FB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8B91-73C7-415D-809F-8BFCA92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3D2-F54E-4508-85B8-92D0926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872-73D6-471E-82D4-6007931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2111-0C7B-4076-B156-91A2D90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4D53-7772-4D14-97C2-BBDD260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B003-5D94-4E76-92FF-637A90A4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6D1-865E-4AFE-A96B-58BED0D2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BC4E-5D7D-4892-889E-769B87A3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BFBE-92CF-40D0-964A-520B5C2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C082-1560-4CCB-82F6-2FA851E7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7C43-ED2B-46CA-B392-B167941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1056-D2BA-46EE-96EA-F274D66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7438-ACE0-410A-A9A1-F1811CBE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67F-61DC-4AB7-A6E8-6D1597F5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CC7B-E36A-4CA5-BB73-384BF4F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ED58-78E6-4F16-AD3F-9C3253A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DE6E-4661-4F9B-BECB-7D60B42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41AC-281B-45EA-BACD-966F7C4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26B1-10CD-4A78-9333-C4BBDA60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C4DD-F722-4428-BFE6-ACE79F62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4838-FA68-4C8E-A6EC-D956BEF3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14DE1-9D4A-4034-9B6B-3464E2BD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64C6-1AA8-420E-ACCA-C1E239C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2D2D-0867-4E2A-B157-56A20642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E99-A718-4EC3-8611-05BE4FEA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9D78-0FC2-493E-909F-F1A0E16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7BE6B-9B11-414E-9F09-2321E69E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67D0-B87B-41FB-933A-5247FFA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9045-0CAB-4798-82E3-B364125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F807-E9FE-4129-B93D-F608FAB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1887-78E7-47D1-952B-FB181B0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42D2-91B8-404E-BDBB-5E0D406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1CD1-88D9-46CE-B191-83FC31D1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93AE-2A2F-4AAF-8929-20B166C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7028-AFB8-4EEF-8003-E400EA89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3FE-462A-4B06-996B-EFF2EC40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1DF5-48CF-4EDC-B662-A529760A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E335-7FD5-453E-BB58-2ABB554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F3FF-0B7F-43DB-B618-A59E3EB0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69F4-6F58-4010-8AD5-E6FC2CC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86F0-040B-4FF9-85CB-2E63131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3F6E-4109-4C20-8084-DE8A051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B918-55C5-4C96-90DE-D9A662DF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0742-EFEF-46B4-81DB-CC7CFB8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D90E-3EC8-4511-947F-427EC44F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4370-43C5-4C5C-ACA3-7766009E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0F3-B611-4E6C-938B-B684B2D6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27ED-F098-41F1-90A9-5DBBFFE4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A82-0BBF-4DC1-9BD3-32A6CEC2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467-D04E-4DE2-9FAA-8A6968F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861-1DDC-4403-9BB2-DF73AF6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A017-20C3-4F5A-AC6D-54A743404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37B7-ACB5-4235-B403-F9FB3846E90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92F-E318-4C1A-B266-96BFF78FB0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119E-C9B6-4031-9279-6A3A78D0F96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838-F79D-47F3-A104-46F710D3F3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4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5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6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1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3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3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Коля</cp:lastModifiedBy>
  <dcterms:modified xsi:type="dcterms:W3CDTF">2013-03-24T10:41:29Z</dcterms:modified>
  <cp:revision>18</cp:revision>
  <dc:subject/>
  <dc:title>АНТИЧНАЯ  ФИЛОСОФИЯ</dc:title>
</cp:coreProperties>
</file>