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AC88-1B61-4411-8B6B-CE5BABDBF2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EDEB-411D-4E32-98F5-35BBF1F61D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3645-7051-455D-B263-58DA71885C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49D1-83CA-4F9E-91CF-9D4C8BE6F2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4893-1DB7-4F47-B331-DA69815082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14F5-5B92-4E23-8636-3DC2193D2B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A4CD-6DC5-4A2E-896F-EBCE58508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B1CD-0DE8-4CCB-BD94-1560417EF9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45EE-AE13-4394-97FE-8F27CD18F6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AAA-B49E-4D88-8566-5421F380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CD3-B583-4D7B-9BE4-214FB194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673-AC40-40BF-BEFE-423320E0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FCF3-4855-4E5B-BA95-ECF52C22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7500-EAF4-47B7-98A5-52B058D7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D721-FD84-4CB4-8AA4-F4213CDA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57B5-F43A-439A-9A40-3674CF86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B07D-45A8-4C5A-884B-35551A9B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CD90-3F6D-4E6F-9A6A-E69F1571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A9A8-FA23-444C-8A2D-C41782E1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EE9D-29D1-4225-8A55-4D6C62EC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461-6929-4E9E-9C69-0A375520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5D1C-591C-4740-B6A5-97652482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23C1-9DD8-4D2A-9E1C-266B13F5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989B-2412-4373-86A1-C2B60A21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12D4-8534-4D33-BA59-3B43C1DE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C3F6-3152-4AC1-8FDE-E6D92DEA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5A1AB-4ED0-443E-97FE-12526F15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1A7AA-0498-4FB2-9523-0AB39C68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53BE0-2CC3-4691-B828-3689C354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64B37-C2ED-45FA-B6B5-9A525A7E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972EB-734A-48D1-A90B-AD616617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1E1-B71B-412A-B998-C3580E40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60AD5-8A80-4C15-B85E-484CE4B6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8AFBC-A7D4-457D-A77C-C193FCDE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060C6-3F16-4289-BB5C-A968C01F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40704-9292-4F4F-8D27-EAEED387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7DDD8-2CDD-4184-A6D7-F7016738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E9F72-52A5-4DCF-9C5B-8DFA5B8E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8FBF7-40E2-42AF-BF5A-7C8787C5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B10F8-5B6B-4167-8001-36F84B52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012CF-2D3A-405A-98AA-47F0D371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F73F9-9987-4BBA-8DD1-175EA0EA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CE0-15A9-4ED9-900E-D85F8034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6B124-05B0-49D8-8940-A0CBCB7D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A7716-8BF8-473E-A78E-FC81B974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A79E9-1E0D-4E77-AAF6-3D6B4514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60496-CE3C-421A-B91A-31B74E8D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D036B-A9C1-4CC6-AB03-E84C42AC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E1E6C-8AA0-4182-93BD-DDF75DD1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6D4B0-0AC4-4C00-BC3A-70F364D0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F502E-54FD-428C-9433-06E047DB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27704-DB6C-4231-B975-C2665ECC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CD513-BC0D-44BD-82CE-928A6084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2ED-2DBA-46E7-A312-823CF294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B2AA2-24EF-45FC-AA4F-E7B1F991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20D79-FD09-4FE8-B48F-DC7DB9E9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A37AA-56E6-47C6-9856-37F7F5C4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F0971-980E-4BCC-B33B-957D95DC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626BA-6189-46CC-8AA1-D8D5C26A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4C78A-9F0E-4D79-BB52-8F3FBEE7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2076A-8456-4296-A26B-245EE965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1D9CB-D152-4CAE-8F8D-C7F25442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D7B2E-6A62-458F-9EFF-8DDC20E3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E61B3-3954-4621-A23E-037A8EDF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C674-AA04-44FC-905A-09687FCB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EBEB4-E229-4B8C-8057-459A2358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612-7923-4011-A7BB-22C876EF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358-A88D-4F13-AC7D-5B321AA1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AA8-DB7E-4E05-A73D-F94C99C8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DFC2-97D9-4031-8DCD-3E114EA854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0CAB-D4E2-41D8-89AB-8C256A883925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5323-A43C-4F5E-A655-A4839EF293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27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282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8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87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288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291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294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300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3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306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09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312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315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318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321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324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327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330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333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3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339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342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34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348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2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353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356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9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362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365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368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371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374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377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380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5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386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387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9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6332-018A-4E5B-B94E-C3A64BD17EFE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F326-B143-4E71-A3ED-A489D5B7D0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8.xml"/><Relationship Id="rId5" Type="http://schemas.openxmlformats.org/officeDocument/2006/relationships/slide" Target="slide30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" Target="slide35.xml"/><Relationship Id="rId9" Type="http://schemas.openxmlformats.org/officeDocument/2006/relationships/slide" Target="slide36.xml"/><Relationship Id="rId10" Type="http://schemas.openxmlformats.org/officeDocument/2006/relationships/slide" Target="slide37.xml"/><Relationship Id="rId11" Type="http://schemas.openxmlformats.org/officeDocument/2006/relationships/slide" Target="slide38.xml"/><Relationship Id="rId1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575784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АНТИЧНАЯ  ФИЛОСОФ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WordArt 0"/>
          <p:cNvSpPr txBox="1"/>
          <p:nvPr/>
        </p:nvSpPr>
        <p:spPr>
          <a:xfrm>
            <a:off x="2195640" y="40464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ставител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3" name="WordArt 1"/>
          <p:cNvSpPr txBox="1"/>
          <p:nvPr/>
        </p:nvSpPr>
        <p:spPr>
          <a:xfrm>
            <a:off x="826920" y="2492280"/>
            <a:ext cx="756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летской школ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4" name="Picture 2" descr="Анаксимандр"/>
          <p:cNvPicPr/>
          <p:nvPr/>
        </p:nvPicPr>
        <p:blipFill>
          <a:blip r:embed="rId1"/>
          <a:stretch/>
        </p:blipFill>
        <p:spPr>
          <a:xfrm>
            <a:off x="900000" y="4292640"/>
            <a:ext cx="1602000" cy="215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5" name="Picture 3" descr="f1_f0"/>
          <p:cNvPicPr/>
          <p:nvPr/>
        </p:nvPicPr>
        <p:blipFill>
          <a:blip r:embed="rId2"/>
          <a:stretch/>
        </p:blipFill>
        <p:spPr>
          <a:xfrm>
            <a:off x="3708360" y="4221000"/>
            <a:ext cx="1820880" cy="223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6" name="Picture 4" descr="Image Preview"/>
          <p:cNvPicPr/>
          <p:nvPr/>
        </p:nvPicPr>
        <p:blipFill>
          <a:blip r:embed="rId3"/>
          <a:stretch/>
        </p:blipFill>
        <p:spPr>
          <a:xfrm>
            <a:off x="6716880" y="4221000"/>
            <a:ext cx="1777680" cy="22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5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5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анд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610-547 до н.э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648320" y="1600200"/>
            <a:ext cx="403884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оначало всего суще­го — «апейрон» — вечная, бесконечная субстанция, из которой вс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никло, все состоит и в которую все преврати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г — первопричина, а Боги становятся мирами, универсумами, коих множе­ство, и они-т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клически возникают и гибн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р состоит из серий противоположностей, опре­деляющих генезис Косм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 Вселенной — Зем­ля, представляющая собой срез цилиндра, который па­рит в воздух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7" descr="Анаксимандр"/>
          <p:cNvPicPr/>
          <p:nvPr/>
        </p:nvPicPr>
        <p:blipFill>
          <a:blip r:embed="rId1"/>
          <a:stretch/>
        </p:blipFill>
        <p:spPr>
          <a:xfrm>
            <a:off x="819000" y="1628640"/>
            <a:ext cx="3313440" cy="44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625-547 до н.э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648320" y="1600200"/>
            <a:ext cx="4038840" cy="397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да — «фазис», жидки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чий, а то, что мы пьем, — лишь одно из его состояний. Вода соотноси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божественным 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ивая природа, все вещи имеют душу (гилозоиз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 Вселенной — Земля, представляющая собой плоский диск, покоящийся на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ленная полна б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8" descr="f1_f0"/>
          <p:cNvPicPr/>
          <p:nvPr/>
        </p:nvPicPr>
        <p:blipFill>
          <a:blip r:embed="rId1"/>
          <a:stretch/>
        </p:blipFill>
        <p:spPr>
          <a:xfrm>
            <a:off x="654120" y="1628640"/>
            <a:ext cx="364176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е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585-525 до н.э.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067280" y="1600200"/>
            <a:ext cx="461988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здух, ко­торый проходит в сво­ем изменении ряд эта­пов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онь — воздух — ветры-облака — земля — камни. Воздух, входя­щий в вышеуказанный ряд, н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ждественен с перво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— источник жизни и психических яв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я — плоский диск, парящий в воз­дух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и отождествля­ются с Прир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8" descr="Image Preview"/>
          <p:cNvPicPr/>
          <p:nvPr/>
        </p:nvPicPr>
        <p:blipFill>
          <a:blip r:embed="rId1"/>
          <a:stretch/>
        </p:blipFill>
        <p:spPr>
          <a:xfrm>
            <a:off x="693720" y="1628640"/>
            <a:ext cx="321804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WordArt 6"/>
          <p:cNvSpPr txBox="1"/>
          <p:nvPr/>
        </p:nvSpPr>
        <p:spPr>
          <a:xfrm>
            <a:off x="971640" y="765000"/>
            <a:ext cx="734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лософия Гераклита Эфесск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ым после Милета очагом древнегреческой философии в Малой Азии был город Эфес, родина философ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еракли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. 530—470 до н.э.). Гераклит — оди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основоположников диалектики, учение которого является наиболе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м выражением стихийной диалектичности древнегрече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7" descr="biograf78"/>
          <p:cNvPicPr/>
          <p:nvPr/>
        </p:nvPicPr>
        <p:blipFill>
          <a:blip r:embed="rId1"/>
          <a:stretch/>
        </p:blipFill>
        <p:spPr>
          <a:xfrm>
            <a:off x="1038240" y="1844640"/>
            <a:ext cx="305280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учения Геракли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547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снове всего существующего лежи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гонь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первоначало, находящее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вечном движении и изменении. Переходящее из одного состояния в другое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одаря борьбе образующих его противоположностей, служит основой всего развития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находится в процессе непрерывного изменения, а из всех природных веществ наиболее способен к изменению огонь. Поэтому «этот космос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 тот же для всего существующего, не создал никакой Бог и никако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но всегда он был, есть и будет вечно живым огнем, мерами загорающимся и мерами потухающим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орым определяющим элементом мировоззрения Гераклита является утверждение 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сеобщей текучести вещей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няемости. «Нельзя войти в одн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у же реку дважды». «Мы входим и не входим в одну и ту же реку, мы т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 самые и не те же самые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происходит по необходимости и из «противоположного обмена»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бходимость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всеобщий закон «логос», созидающий сущее из «противоположного движения», т.е. здесь Гераклит говорит о внутренне противоречивом потоке, тем самым подходя к диалектическому пониманию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е о потоке тесно связано с учением о переходе одной противоположности в другую, т.е. Гераклит вплотную подходит к постановке проблем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динства противоположностей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мениваясь друг на друга, противоположности становятся друг другу тождественными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ивореч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борьба) является движущей силой всякого изменения и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основывается на понимании взаимосвязи чувственного 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ционального познания, а задача познания — проникновение в сущнос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ы в ее вечном изменении. Основа общности и истинности человеческого познания — «логос», т. е. единство, всеобщность и непреложность миро­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го поря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2"/>
          <p:cNvSpPr txBox="1"/>
          <p:nvPr/>
        </p:nvSpPr>
        <p:spPr>
          <a:xfrm>
            <a:off x="1763640" y="260280"/>
            <a:ext cx="574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лософия пифагорейце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2" name="AutoShape 3"/>
          <p:cNvSpPr/>
          <p:nvPr/>
        </p:nvSpPr>
        <p:spPr>
          <a:xfrm>
            <a:off x="1258920" y="1052640"/>
            <a:ext cx="6985080" cy="1368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ИФАГОРЕЙЦ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следователи Пифаг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2-я полов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начал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. до п.».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евнегреческого философа и математика, основавше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греческом городе Кротоне религиозный сою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0" descr="pythagoras"/>
          <p:cNvPicPr/>
          <p:nvPr/>
        </p:nvPicPr>
        <p:blipFill>
          <a:blip r:embed="rId3"/>
          <a:stretch/>
        </p:blipFill>
        <p:spPr>
          <a:xfrm>
            <a:off x="3059280" y="2565360"/>
            <a:ext cx="304164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761760" y="316440"/>
            <a:ext cx="7620480" cy="105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рактерные черты пифагорейск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ла она как некое братство или религиозный орден, подчиненны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гим правилам общежития и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е воспринималось как тайна, знать которую позволялось лиш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ептам и разглашение которой строжайше запрещ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фагорейский союз представлял собой реакционную партийну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ю аристокра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AutoShape 2"/>
          <p:cNvSpPr/>
          <p:nvPr/>
        </p:nvSpPr>
        <p:spPr>
          <a:xfrm>
            <a:off x="1403280" y="620640"/>
            <a:ext cx="6048360" cy="64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сновные положения философии пифагорей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179280" y="1341360"/>
            <a:ext cx="87854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ое мировоззрение, по Пифагору, покоится на трех основах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рали,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лигии и знани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аль Пифагора — это мораль аристократ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науки подчинены интересам рели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причина всего сущего — число. Все в природе измеряет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чиняется числу, в числе - сущность всех вещей; познать мир, 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ение, его закономерность — это значит познать управляющие и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сти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т ядро пифагорейского идеал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противоположностях оформляется в систему метафизичес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ых противоположностей (предел и беспредельное, нечет и чет, един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ножество, правое и левое, мужское и женское, покоящееся и движущее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е и кривое, свет и тьма, хорошее и дурное, четырехугольное 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ороннее). Основное философское значение имеет противополож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ельного и беспредельного, определяющая все другие противопо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в основном стояли на позиции метафизическо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понимания, что целиком связано с их понимание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преуспели в изучении музыки, геометрии и небесной меха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3"/>
          <p:cNvSpPr/>
          <p:nvPr/>
        </p:nvSpPr>
        <p:spPr>
          <a:xfrm>
            <a:off x="179280" y="76500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250920" y="1854000"/>
            <a:ext cx="8316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АТЫ — представители Элейской философской школы, существовавш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вв. до н.э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внегреческом полисе Элея н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современной Итали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и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WordArt 0"/>
          <p:cNvSpPr txBox="1"/>
          <p:nvPr/>
        </p:nvSpPr>
        <p:spPr>
          <a:xfrm>
            <a:off x="1547640" y="18900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лософия элеа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1" name="Picture 2" descr="homer2"/>
          <p:cNvPicPr/>
          <p:nvPr/>
        </p:nvPicPr>
        <p:blipFill>
          <a:blip r:embed="rId1"/>
          <a:stretch/>
        </p:blipFill>
        <p:spPr>
          <a:xfrm>
            <a:off x="546120" y="3357720"/>
            <a:ext cx="1655640" cy="234144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3"/>
          <p:cNvSpPr/>
          <p:nvPr/>
        </p:nvSpPr>
        <p:spPr>
          <a:xfrm>
            <a:off x="684360" y="5877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сеноф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4" descr="nb_pinacoteca_raphael_the_school_of_athens_detail_parmenides_enlarged"/>
          <p:cNvPicPr/>
          <p:nvPr/>
        </p:nvPicPr>
        <p:blipFill>
          <a:blip r:embed="rId2"/>
          <a:stretch/>
        </p:blipFill>
        <p:spPr>
          <a:xfrm>
            <a:off x="3203640" y="3357720"/>
            <a:ext cx="1388880" cy="244764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3205440" y="58770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мен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6" descr="zenon1"/>
          <p:cNvPicPr/>
          <p:nvPr/>
        </p:nvPicPr>
        <p:blipFill>
          <a:blip r:embed="rId3"/>
          <a:stretch/>
        </p:blipFill>
        <p:spPr>
          <a:xfrm>
            <a:off x="5219640" y="3357720"/>
            <a:ext cx="1782720" cy="244764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7"/>
          <p:cNvSpPr/>
          <p:nvPr/>
        </p:nvSpPr>
        <p:spPr>
          <a:xfrm>
            <a:off x="5726160" y="58770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е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8"/>
          <p:cNvSpPr/>
          <p:nvPr/>
        </p:nvSpPr>
        <p:spPr>
          <a:xfrm>
            <a:off x="7454880" y="58770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Мел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озникновение, эволюция и своеобразие античной философии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1 Общая характеристика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2 Отличительные особенности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3 Основные периоды развития античной философ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4 Краткая характеристика досократическ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5 Милетская шко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6 Философия Гераклита Эфесск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7 Философия пифагорейце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8 Философия элеа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9" action="ppaction://hlinksldjump"/>
              </a:rPr>
              <a:t>9 Атомистический материа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0" action="ppaction://hlinksldjump"/>
              </a:rPr>
              <a:t>10 Философия софис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1" action="ppaction://hlinksldjump"/>
              </a:rPr>
              <a:t>11 Краткая характеристика классической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2 Философия Сокра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3 Общая характеристика философии Плато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4 Учение Платона о государст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5 Научная деятельность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6 Общая характеристика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7 Проблемы материи, души, человека в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5941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эле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08720" cy="54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философские мировоззрения, с точки зрения Парменида, покоятся на одной из трех основных предпосылок: 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олько бытие есть, небытия нет,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только бытие, но и небытие существу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и небытие тождествен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предпосылки являются основой трех философских школ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— исходный пункт Элейской школы, вторая лежит в основе учения пифагорейской школы, а в третьей заключается учение Гераклита Эфесск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аты первыми попытались понять мир, применяя к многообразию вещей философские понятия предельной общности (бытие, небытие, движен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ное бытие понимается элеатами как непрерывное, нераздельное, одинаково присутствующее в каждом мельчайшем элементе действительности, исключающее количественную множествен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й и их движение (апории Зенона о невозможности движения). Множественность и движение не могут быть мыслимы без противоречия, и поэтому они не суть быт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знании элеаты разграничиваю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стину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ую на рациональ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нании, 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нени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ое на чувственных восприятиях. Послед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ят нас лишь с видимостью вещей, но не дают знания их истин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ности. Только разум может постичь истину о мире, исходя из тождест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шления и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нятии бытия, как его осмыслили элеаты, содержится три момента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есть, а небытия нет; 2) бытие одно, неделимо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познаваемо, а небыт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идимость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познаваемо: его нет для разума, а значит, оно не существу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ужающий мир элеаты рассматривали как нечт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изменчивое и подвижно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яя его в рамках чувственного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1476360" y="115920"/>
            <a:ext cx="620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стический материал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845240" y="1797120"/>
            <a:ext cx="3644640" cy="4132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телем атомисти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вкип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к. 500—440 до н.э.), учение которого продолжи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ый-энциклопедист и философ-материалис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мокри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60—370 до н.э.). Демокрит считался основоположником материалистического направ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илософии («линия Демокрита» 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полож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инии Платона» — идеалистического направ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1028" descr="demokrit"/>
          <p:cNvPicPr/>
          <p:nvPr/>
        </p:nvPicPr>
        <p:blipFill>
          <a:blip r:embed="rId1"/>
          <a:stretch/>
        </p:blipFill>
        <p:spPr>
          <a:xfrm>
            <a:off x="874800" y="1557360"/>
            <a:ext cx="3151080" cy="4535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атомис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 состоит из пространства и наполняющей его материи, или из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том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у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ы не возникают и не уничтожаются. Они вечны и неделимы, просты и качественно неизменн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ними существуют первоначальные отличия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орма, порядок и положе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он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личаются по величи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яже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виже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и составляет основу всей атомистической системы. Атомы находятся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вечном движении, атом — движущаяся матер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ленная бесконечна, бесконечно и число миров в ней. Земля — плоск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знание всеобщей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чинной необходимост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вляется одним из основных принципов все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ы атомистов. Отсюда атомисты одновременно и отрицают случайность, и признают ее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ют в смысле беспричинности — никакое событие не может возникнуть без причины; признаю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мысле противоположности целесообразности - никакое событие в природе не возникает и 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дит ради осуществления какой-либо цели. В этом смыс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якое событие случай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м началом и основанием в познании являю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щущен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сем, что дает для познания 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конечном счете обязан чувств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ь и смерть организмов — это соединение и размножение атомов. Тот же принцип положен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у психологии: душа состоит из огненных атомов и есть временное соединение. Бессмер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и отверг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исты, в частности Демокрит, проявляют большой интерес к вопросам политики, государственно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стройства, вопросам и проблемам физики, математики, техники, эстетики, филологии,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2195640" y="189000"/>
            <a:ext cx="469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лософия софист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7" name="AutoShape 3"/>
          <p:cNvSpPr/>
          <p:nvPr/>
        </p:nvSpPr>
        <p:spPr>
          <a:xfrm>
            <a:off x="179280" y="765000"/>
            <a:ext cx="8785440" cy="1295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ервая полов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 не представляла собой единого круга мыслител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фисты» не есть название определенного философского направления или особой философск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ы. Слово «софист», первоначально означавшее мудрец, искусник, изобретатель, со втор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означает особый тип философа-профессионала, учителя философии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ршие софис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)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Гиппий, Продик, Антифонт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итий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ладшие софисты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икофрон, Алкидамант, Трассимах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179280" y="2924280"/>
            <a:ext cx="8785440" cy="37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зн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основная проблема софистики. Софисты произвели смещение ос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ого исследования с природы на человека: именно в этом их историческое значение.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е внимания оказались человек и его психология: искусство убеждать требовало зн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форм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ю правоту софисты доказывали с помощью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физмов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приемов, уловок, благодар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м умозаключение, на первый взгляд правильное, оказывалось в итоге ложным, и собеседни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утывался в собственных мысл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й принцип софистов: «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есть мера всех вещей в том, что они существуют, и в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м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то они не существуют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отагор). Отсюда субъективизм в оценках и суждениях, отрицан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го бытия и попытки доказать то, что действительность существует только в мысл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софистов ориентирована на отдельного индивида — субъек­та познания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убъективный идеализм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е, истинное познание не­достижим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{скептицизм)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сяк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ние относительн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елятивиз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ятивизм в теории познания служит обоснованием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равственного релятивизм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фисты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ывали условность правовых норм, государственных законов и моральных оцен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755640" y="2349360"/>
            <a:ext cx="77058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фис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WordArt 2"/>
          <p:cNvSpPr txBox="1"/>
          <p:nvPr/>
        </p:nvSpPr>
        <p:spPr>
          <a:xfrm>
            <a:off x="179280" y="189000"/>
            <a:ext cx="8153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кая характеристика классическ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1" name="Oval 3"/>
          <p:cNvSpPr/>
          <p:nvPr/>
        </p:nvSpPr>
        <p:spPr>
          <a:xfrm>
            <a:off x="468360" y="1268280"/>
            <a:ext cx="82789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кратический период (середин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— конец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4"/>
          <p:cNvSpPr/>
          <p:nvPr/>
        </p:nvSpPr>
        <p:spPr>
          <a:xfrm>
            <a:off x="250920" y="2276640"/>
            <a:ext cx="2808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илософские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179280" y="2565360"/>
            <a:ext cx="295272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Сокр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кратические школ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гар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Евклид и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гар, Евбулид, Стильпо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дор Кро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лидо-эритрей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Фе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н, Менедем, Асклепиа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ниче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нтисфе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ген Синопский, Крат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рен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ристипп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одор, Гегезий, Анникер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Плат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Аристо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3203640" y="2565360"/>
            <a:ext cx="583236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философии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блема челове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морального существ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блема, как следует жить 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амопознание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юбое знание есть добро, а любое зло, порок соверша­ется о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знания - суть этического ра­ционализма Сокра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только общее, постигаемо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редством понятий. Общее совпадает с едины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ла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ей природе неизменно. Абстрактное высшее благо — Бог, раз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енная энергия (мегарц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дрость - в познании блага посред­ством отрешения от всего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делает че­ловека зависимым, отсюда идея свободы 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ства и проповедь безусловной естественности, безусловн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й сво­боды (кин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прак­тически достижимое благ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ерием блага является наслаждение или страда­ние.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и — в наслаждении насто­ящим. Средством к достиж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астья являе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вобод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кирена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роение метафизических систем и синтез основ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их пробле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латон, Аристотел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7"/>
          <p:cNvSpPr/>
          <p:nvPr/>
        </p:nvSpPr>
        <p:spPr>
          <a:xfrm>
            <a:off x="4500720" y="2276640"/>
            <a:ext cx="3384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соб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8"/>
          <p:cNvSpPr/>
          <p:nvPr/>
        </p:nvSpPr>
        <p:spPr>
          <a:xfrm flipH="1">
            <a:off x="1834920" y="1773360"/>
            <a:ext cx="23050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9"/>
          <p:cNvSpPr/>
          <p:nvPr/>
        </p:nvSpPr>
        <p:spPr>
          <a:xfrm>
            <a:off x="4140360" y="1773360"/>
            <a:ext cx="23032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WordArt 2"/>
          <p:cNvSpPr txBox="1"/>
          <p:nvPr/>
        </p:nvSpPr>
        <p:spPr>
          <a:xfrm>
            <a:off x="2195640" y="189000"/>
            <a:ext cx="440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лософия Сокра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 (469—399 до н.э.) — выдающийся афинский философ, учитель Платона. Сократ — представитель реалистического ре­лигиозно-нравственного мировоззрения. Впервые именно Со­крат сознательно поставил перед собой задачу обоснования идеализма и выступил против античного материалистического ми­ропонимания, естественно-научного знания и безбожия. Сократ исторически был зачинателем «тенденции Платона» в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031" descr="sokrat"/>
          <p:cNvPicPr/>
          <p:nvPr/>
        </p:nvPicPr>
        <p:blipFill>
          <a:blip r:embed="rId1"/>
          <a:stretch/>
        </p:blipFill>
        <p:spPr>
          <a:xfrm>
            <a:off x="826920" y="1700280"/>
            <a:ext cx="3167280" cy="4392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1835280" y="476280"/>
            <a:ext cx="540072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к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179280" y="1341360"/>
            <a:ext cx="8785440" cy="53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альная проблема в философии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и человеческое созна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и сущнос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 — это его душа (разум). Душа - это «Я сознаю­щее», т.е. совесть и интеллектуальная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ная личность. Благодаря этому открытию создана моральная и интеллектуальная традиция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ая питает Европу до настоящего времен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самопознание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ние самого себя ка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человека вообще», т.е. как моральную, общественно значи­мую личность. Познание — главная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пособность человека, ибо в про­цессе познания он приходит к общезначимым истинам, к позна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ра и красоты, блага и счастья. В этом и есть цель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ка Сократа отожд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обродетель со знанием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добродетель (мудрость, справедливость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ство, умеренность) есть всегда знание, порок — это всегда невежество; 2) никто не греши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знательно, а кто совершает зло, делает это по незнанию. Этот этический рационализм Сократ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дит мораль­ное благо к факту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лектика Сократа совпадает с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о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огос), который состоит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ух моментов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оверж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иронии»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майевтики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кратовский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 — это метод последовательно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тически задаваемых вопросов, имеющих своей целью приведение собеседника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иворечию с самим собой, к признанию собственного невежества. В этом суть «иронии», су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айевтики» — посредством наводящих вопросов и логических приемов под­вести собеседника к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оятельному нахождению ист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а метода — найти «всеобщее» в нравственности посредство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индук­ции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тыскания обще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частном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едел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установления родов и видов, их соотношений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составные части «сократического» метода: «ирония» и «майевтика» — по форме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индукция» и «определение» — по содержан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WordArt 2"/>
          <p:cNvSpPr txBox="1"/>
          <p:nvPr/>
        </p:nvSpPr>
        <p:spPr>
          <a:xfrm>
            <a:off x="1692360" y="189000"/>
            <a:ext cx="6164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 Л А Т О 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27—347 до н.э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пнейший философ Древней Греции, ученик Сократа, основатель собственной фило­софской школы — Академии, основоположник идеалисти­ческого направления в философии. Его настоящее имя - Аристокл, Платон - псевдо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031" descr="i?id=22718480&amp;tov=0"/>
          <p:cNvPicPr/>
          <p:nvPr/>
        </p:nvPicPr>
        <p:blipFill>
          <a:blip r:embed="rId1"/>
          <a:stretch/>
        </p:blipFill>
        <p:spPr>
          <a:xfrm>
            <a:off x="755640" y="1413000"/>
            <a:ext cx="336240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animClr clrSpc="rgb">
                                      <p:cBhvr>
                                        <p:cTn id="2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1979640" y="404640"/>
            <a:ext cx="504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Плат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179280" y="1197000"/>
            <a:ext cx="8785440" cy="554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ая система Платона — первая завершен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интетическая кон­цепц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через призм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чения о идеях рассматривались все составляющ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и античной философии: онтолог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носеология, этика, эстетика, философия полит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ым в философии Платона был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ение об идеях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ть материальный мир, в котором жив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. Но есть и другой мир — несотворимый и неуничтожимый, т.е. вечный. Это мир прич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ых форм и сущностей вещей. Это мир, который обозначается понятием «бытие» есть «мир ид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ельная вещь является материальной копией первоначальной идеи (эйдоса). Материальны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щи изменчивы и со временем прекращают свое суще­ствование; идеи вечны и неизмен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и - причины вещей и причина мира в целом, но они не присутствую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мире. Они пребывают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е человека. Именно душа содержит знания о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ях, поскольку она до вселения в тело обитала 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е идей. Поэтому иде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ются не через чувства, а посредством «припоминания» разум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альный мир познается, мир идей — «припоминается». Этим и определяет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оение души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ий уровень - разумный, с высоты которого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ерцает вечный мир идей и стремится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у, и низший - чувственный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мощью которого он познает мир вещ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у идей присуща иерархия. Прежде всего, это идея «общего блага» или «высшего блага»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это идеи: человеческих ценностей (мудрости, спра­ведливости, добра и зла), отношени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любви, ненависти, власти, государ­ственности и т.п.), свойств вещей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идей имеет практический аспект — обоснование общечеловечески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ов и нор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тия, ибо с позиции идеалов «мира идей»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ен оценивать окружающий его мир. Така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философии называется метафизической (не путать с метафизическим методом, возникшим в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2"/>
          <p:cNvSpPr txBox="1"/>
          <p:nvPr/>
        </p:nvSpPr>
        <p:spPr>
          <a:xfrm>
            <a:off x="1116000" y="189000"/>
            <a:ext cx="662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ение Платона о государст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68360" y="981000"/>
            <a:ext cx="8136000" cy="1079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олитическое учение Платона в разных вариантах излагается им в тре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иалогах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Государство», «Политик», «Законы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целиком направлено против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чной демокра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4"/>
          <p:cNvSpPr/>
          <p:nvPr/>
        </p:nvSpPr>
        <p:spPr>
          <a:xfrm>
            <a:off x="2627280" y="836640"/>
            <a:ext cx="3745080" cy="360360"/>
          </a:xfrm>
          <a:prstGeom prst="ellipse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государ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250920" y="2565360"/>
            <a:ext cx="3025800" cy="4103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Идеальное государство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ли при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ающееся к идеал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республ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монарх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исходящая иерархия государствен­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ых ф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м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большинства, власть военных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ждей, ар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лигарх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мократия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ран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179280" y="2276640"/>
            <a:ext cx="316872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ссификация государственных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орм по Плато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3708360" y="2276640"/>
            <a:ext cx="489600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 государственного устройства по Плато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3492360" y="2708280"/>
            <a:ext cx="5472360" cy="396072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альное государство есть со­обще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едельцев и ремесленников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ящих все необходимое дл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ания жизни гражда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инов, охраняющих безопас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ов-правителей, осуществляющих мудрое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аведлив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вление государ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е государства вмест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одят свободно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ститут брака упраздня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се жены и дети общ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и приветству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 раб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небольшая частная собственность и личн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ущество для всех сослов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WordArt 1026"/>
          <p:cNvSpPr txBox="1"/>
          <p:nvPr/>
        </p:nvSpPr>
        <p:spPr>
          <a:xfrm>
            <a:off x="324000" y="189000"/>
            <a:ext cx="842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щая характеристика античной философ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3" name="Rectangle 1027"/>
          <p:cNvSpPr/>
          <p:nvPr/>
        </p:nvSpPr>
        <p:spPr>
          <a:xfrm>
            <a:off x="179280" y="692280"/>
            <a:ext cx="8785440" cy="1657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это философия древних греков и древних римлян, охватывающая период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Античная филосо­фия возникла в греческих полисах (торгово-ремесл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ах-государствах) Малой Азии, Средиземноморья, Причерноморья и Крым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ственно Греции — в Афинах, в эллинистичес­ких государствах Азии и Африк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Римской империи. Античная философия внесла исключительный вклад в разви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овой цивилизации. Именно здесь зародилась европейская культура и цивилизац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десь истоки западной философии, почти всех ее последующих школ, идей и предста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028"/>
          <p:cNvSpPr/>
          <p:nvPr/>
        </p:nvSpPr>
        <p:spPr>
          <a:xfrm>
            <a:off x="2987640" y="2492280"/>
            <a:ext cx="2881440" cy="36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029"/>
          <p:cNvSpPr/>
          <p:nvPr/>
        </p:nvSpPr>
        <p:spPr>
          <a:xfrm>
            <a:off x="179280" y="3068640"/>
            <a:ext cx="8785440" cy="9367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зародилась не как область специальных философских исследований, а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азрывной связи с научными знаниями - математическими, естественно-научными, с зачатка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ческих понятий, а также с мифологией и искусством. Духовное развитие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ло от мифологии и религии к науке и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30"/>
          <p:cNvSpPr/>
          <p:nvPr/>
        </p:nvSpPr>
        <p:spPr>
          <a:xfrm>
            <a:off x="179280" y="4292640"/>
            <a:ext cx="8785440" cy="431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основных типа философского мировоззр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тери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Демокрита»)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де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Платона»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031"/>
          <p:cNvSpPr/>
          <p:nvPr/>
        </p:nvSpPr>
        <p:spPr>
          <a:xfrm>
            <a:off x="179280" y="5013360"/>
            <a:ext cx="8785440" cy="433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противоположных основных метода мышл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ек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тафизик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была первой исторически известной формой диалектической философ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032"/>
          <p:cNvSpPr/>
          <p:nvPr/>
        </p:nvSpPr>
        <p:spPr>
          <a:xfrm>
            <a:off x="179280" y="566100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ироком смысле слова термин «античность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т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iquus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древний) означает «древность». В узком смысле с понятием «античность» связывают историю и культуру Древней Греции (Эллады) и Древнего Ри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033"/>
          <p:cNvSpPr/>
          <p:nvPr/>
        </p:nvSpPr>
        <p:spPr>
          <a:xfrm>
            <a:off x="4356000" y="285264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034"/>
          <p:cNvSpPr/>
          <p:nvPr/>
        </p:nvSpPr>
        <p:spPr>
          <a:xfrm>
            <a:off x="4356000" y="400536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035"/>
          <p:cNvSpPr/>
          <p:nvPr/>
        </p:nvSpPr>
        <p:spPr>
          <a:xfrm>
            <a:off x="4356000" y="4724280"/>
            <a:ext cx="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WordArt 2"/>
          <p:cNvSpPr txBox="1"/>
          <p:nvPr/>
        </p:nvSpPr>
        <p:spPr>
          <a:xfrm>
            <a:off x="900000" y="620640"/>
            <a:ext cx="7486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учная деятельность Аристоте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384-322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ченый-энциклопедист, философ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Платона, воспитательАлександра Македон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5 — 322 гг. до н.э. основал философскую школу 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к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ерипатетическую школ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1031" descr="image009"/>
          <p:cNvPicPr/>
          <p:nvPr/>
        </p:nvPicPr>
        <p:blipFill>
          <a:blip r:embed="rId1"/>
          <a:stretch/>
        </p:blipFill>
        <p:spPr>
          <a:xfrm>
            <a:off x="755640" y="1484280"/>
            <a:ext cx="335592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ая характеристика научной деятельности Аристо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учная деятельность Аристотеля охватила все области античного знания. Произведения его нося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нциклопедический характер. Его сочинения относятся к различным областям знаний — философии, естествознанию, логике, истории, политике, этике, литерату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науки делятся по следующей классифик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еоре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ведется только ради него самого. Они включают «первую философию» (метафизику), математику и физику. «Первичная философия» изучает проблемы бытия, происхождение всего сущего, причины различных явлений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ак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е дают руководящие идеи для поведения человека, устройства государства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вор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совершается с целью достижения пользы или осуществления чего-либо прекрас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этом делении Аристотель не упоминает особо логику, хотя он является создателем этой науки (как и эстетики, и теории государства). Аристотель рассматривает логику как оружие всякого научного знания, а не как особую область науки (философи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 правило научного исследования — на первом месте должна стоять объективная истина самих вещей, самой природы, и никакие субъективные цели не должны исказить этой «правды вещ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бщая опыт предшествующего развития науки, Аристотель пытался по­строить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диную систему на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6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WordArt 2"/>
          <p:cNvSpPr txBox="1"/>
          <p:nvPr/>
        </p:nvSpPr>
        <p:spPr>
          <a:xfrm>
            <a:off x="2050920" y="189000"/>
            <a:ext cx="511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щая характерис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т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1547640" y="1197000"/>
            <a:ext cx="5977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считал, что философия не есть продукт единоличного индивидуального творчества, а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тог работы целых поколений мыс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внес существенные коррективы в ряд положений философии Платона, критикуя учение об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эйдосах» («чистых идеях»). Ошибка Платона, по Аристотелю, в том, что он оторвал «мир идей» о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ьного мира, поскольку бытие не есть «чистые идеи» («эйдосы») и их материальное отражени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«вещи»). Аристотель дает сво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нимание бытия через десять категори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тие — эт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убстанция), обладающая свойствам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личе­ства, качества, отношения, места, времени,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ложения, состояния, действия,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р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итика учения об идеях Платона приводит Аристотеля к принципиальным положениям, которы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гли в основу его миропоним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 один. Это духовно-материальный, реально существующий ми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ещи, явления и процессы реального мира могут быть познаны из него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ого, т.е. изучать следу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у действительность, а не мир ид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 центре познания должны быть не умозрительные схемы, а реальный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. Тогда наука получа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мысл как познание реального посредством понятийного мышления, которое изучается логикой.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Логика - орудие постижения сущности вещей, явлений и процессов мир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определил сущность материи и дал материалистическую трактовку происх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ра и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выделяет шесть типов государства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плох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тирания, крайняя олигархия 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лократия — власть толпы, крайняя демократия) 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хо­рош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монархия, аристократия и полития)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ал Аристотеля - политая, представляющая собой совокупность умеренной олигархи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еренной демократии, государство «среднего класс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Line 2"/>
          <p:cNvSpPr/>
          <p:nvPr/>
        </p:nvSpPr>
        <p:spPr>
          <a:xfrm>
            <a:off x="1692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471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>
            <a:off x="759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WordArt 5"/>
          <p:cNvSpPr txBox="1"/>
          <p:nvPr/>
        </p:nvSpPr>
        <p:spPr>
          <a:xfrm>
            <a:off x="1258920" y="189000"/>
            <a:ext cx="6797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материи, души человека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179280" y="907920"/>
            <a:ext cx="878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материи, души, человека в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108000" y="1916280"/>
            <a:ext cx="3168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субстрат. Без материи н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но и сама материя не сущ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вует самостоятельно. До при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формы материя находи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ся в состоянии небытия. Эта перв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лишена жизни, энергии, цел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сти, всяких свойств, всякой опр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енности. Материя еще не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тельность, а только возм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ность. Действительностью она ста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тся лишь в связи с фор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это потенция, огранич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ой; потенция (субстрат)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ное начало, форма — актив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кая вещь есть единство «матер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«форм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— обнаружение актив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 момент ее соединения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ичин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убстрат)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р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зующая «сущность»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ь)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изводящ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скрывающ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дви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формой всего сущего являе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ог, имеющий бытие вне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8"/>
          <p:cNvSpPr/>
          <p:nvPr/>
        </p:nvSpPr>
        <p:spPr>
          <a:xfrm>
            <a:off x="3348000" y="1916280"/>
            <a:ext cx="2736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- носитель сознания и од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ведает функция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уровня душ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стительная душа»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функции питания и размн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увственная (животная) душа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за функции питания, 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жения, ощущения и жел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зумная душа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ватывает вс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перечисленные функции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ает еще функциями позн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смерти. Одушевл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и (гилозоизм) — «нелеп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тивореч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9"/>
          <p:cNvSpPr/>
          <p:nvPr/>
        </p:nvSpPr>
        <p:spPr>
          <a:xfrm>
            <a:off x="6156360" y="1916280"/>
            <a:ext cx="280836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рождается политически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ом и стремится к «совм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му сожительств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есть политическое жив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ое (выводя политичность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его природы, а не наоборот 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человека из его деяте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ти в обществе, — Аристо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ошибк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ение политической сущ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 человека есть образов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и,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0"/>
          <p:cNvSpPr/>
          <p:nvPr/>
        </p:nvSpPr>
        <p:spPr>
          <a:xfrm>
            <a:off x="179280" y="1484280"/>
            <a:ext cx="30974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ма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1"/>
          <p:cNvSpPr/>
          <p:nvPr/>
        </p:nvSpPr>
        <p:spPr>
          <a:xfrm>
            <a:off x="3348000" y="1484280"/>
            <a:ext cx="2736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душ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2"/>
          <p:cNvSpPr/>
          <p:nvPr/>
        </p:nvSpPr>
        <p:spPr>
          <a:xfrm>
            <a:off x="6156360" y="1484280"/>
            <a:ext cx="2808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3"/>
          <p:cNvSpPr/>
          <p:nvPr/>
        </p:nvSpPr>
        <p:spPr>
          <a:xfrm>
            <a:off x="6157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WordArt 1026"/>
          <p:cNvSpPr txBox="1"/>
          <p:nvPr/>
        </p:nvSpPr>
        <p:spPr>
          <a:xfrm>
            <a:off x="1547640" y="189000"/>
            <a:ext cx="55915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личительные особенност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тичной философи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3" name="Rectangle 1027"/>
          <p:cNvSpPr/>
          <p:nvPr/>
        </p:nvSpPr>
        <p:spPr>
          <a:xfrm>
            <a:off x="1547640" y="1197000"/>
            <a:ext cx="604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028"/>
          <p:cNvSpPr/>
          <p:nvPr/>
        </p:nvSpPr>
        <p:spPr>
          <a:xfrm>
            <a:off x="395280" y="1989000"/>
            <a:ext cx="8424720" cy="424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личительной особенностью античной философии является единство трех взаимосвяза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собой моментов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ъекта исследования, метода и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й момент опреде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ой философии, которое конкретизируется в иде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центриз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обращаясь ко второму моменту триединства — методу, следует отметить следующу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рактерную особенность античной философии: стремление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 рациональному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ясн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общего, бытия, реальности. Она не ограничивается конкретными фактами и опытны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ми. Для нее значим не отдельный факт или конкретный опыт, а разумный аргумент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ое доказательство, знание. Это не только определяет научный характер философии, н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границы между философией, религией, мифом и искусством. Последние также имеют дело с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ьностью как целым, но если мифология описывает ее исходя из фактических представлений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игия — посредством веры, искусство — через идею красоты, воплощенную в художеств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ах, то философское объяснение осуществляется на рациональном уро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ектика мышл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в целом есть бескорыст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юбовь к истин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а особенность определя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е третий момент — цель. Цель античной философии состоит в чистом созерцании ист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ом желании достичь 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029"/>
          <p:cNvSpPr/>
          <p:nvPr/>
        </p:nvSpPr>
        <p:spPr>
          <a:xfrm>
            <a:off x="4643280" y="1628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WordArt 2"/>
          <p:cNvSpPr txBox="1"/>
          <p:nvPr/>
        </p:nvSpPr>
        <p:spPr>
          <a:xfrm>
            <a:off x="395280" y="0"/>
            <a:ext cx="83757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 периоды развития 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250920" y="476280"/>
            <a:ext cx="864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и греко-римская философия имеют более чем тысячелетнюю историю, начиная 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и до 529 г.н.э., когда император Юстиниан закрыл фило­софские школы в Афинах. В этой истории различают ряд пери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1187280" y="1268280"/>
            <a:ext cx="684072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ериоды развития античной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1908000" y="1989000"/>
            <a:ext cx="532800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ериод ран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468360" y="2276640"/>
            <a:ext cx="8280360" cy="86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туралистический период с его проблемами Фюзиса (Природы)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са (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алес, Анаксимандр, Анаксимен, Парменид, Зенон, Ксенофан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ифагор, Демокри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1908000" y="3573360"/>
            <a:ext cx="532800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сред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468360" y="3860640"/>
            <a:ext cx="8280360" cy="649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манистический период с ег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лемой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го школа; софисты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Продик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нтифонт, Антисфен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9"/>
          <p:cNvSpPr/>
          <p:nvPr/>
        </p:nvSpPr>
        <p:spPr>
          <a:xfrm>
            <a:off x="1835280" y="5084640"/>
            <a:ext cx="540072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высоко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468360" y="5372280"/>
            <a:ext cx="8280360" cy="64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большого синтеза с его главной проблем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нтез философского 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атон, Аристотел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их школ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1692360" y="1413000"/>
            <a:ext cx="554508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линиз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1700280"/>
            <a:ext cx="7848360" cy="129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эллинистических школ с его главными проблемами —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 и свобода человека, проблемы познания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пикур, Пиррон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ики раннего периода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нэций, Посидоний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ие римские стоики, или неостоицизм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енека, Эпиктет, Марк Аврел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1765440" y="3500280"/>
            <a:ext cx="554508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лигиозный период античной мы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684360" y="3787920"/>
            <a:ext cx="7848360" cy="1150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проблемы — структуры Космоса, судьбы Космоса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, отношения Бога и человека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отин, Порфирий, Прокл, Филон Александрийск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6372360" y="189000"/>
            <a:ext cx="24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дол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WordArt 1026"/>
          <p:cNvSpPr txBox="1"/>
          <p:nvPr/>
        </p:nvSpPr>
        <p:spPr>
          <a:xfrm>
            <a:off x="1476360" y="189000"/>
            <a:ext cx="6296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аткая характеристи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сократической философ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1" name="AutoShape 1027"/>
          <p:cNvSpPr/>
          <p:nvPr/>
        </p:nvSpPr>
        <p:spPr>
          <a:xfrm>
            <a:off x="539640" y="1268280"/>
            <a:ext cx="8136000" cy="7207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кратические философские школы Древней Грец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и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. до н.э. в ранних древнегреческих поли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028"/>
          <p:cNvSpPr/>
          <p:nvPr/>
        </p:nvSpPr>
        <p:spPr>
          <a:xfrm>
            <a:off x="2268360" y="2205000"/>
            <a:ext cx="4751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ские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029"/>
          <p:cNvSpPr/>
          <p:nvPr/>
        </p:nvSpPr>
        <p:spPr>
          <a:xfrm>
            <a:off x="395280" y="2492280"/>
            <a:ext cx="8424720" cy="4103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натурал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алес, Анаксимандр, Анаксимен, Геракл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фагор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ифагор, Архит Тарент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л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сенофан, Парменид, Зенон, Мели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ом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евкипп, Демокр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ые философы (Эмпедокл, .Анаксаг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гуман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тагор, Горгий, Продик, Гиппий, Антифонт)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исты совершили революцию, сместив философскую рефлексию с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тики природы и космоса на проблему человека и его жизн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члена общества. Софисты - это феномен столь же необходимы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Сократ и Платон; последние без первых немысл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026"/>
          <p:cNvSpPr/>
          <p:nvPr/>
        </p:nvSpPr>
        <p:spPr>
          <a:xfrm>
            <a:off x="1619280" y="836640"/>
            <a:ext cx="590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027"/>
          <p:cNvSpPr/>
          <p:nvPr/>
        </p:nvSpPr>
        <p:spPr>
          <a:xfrm>
            <a:off x="395280" y="1197000"/>
            <a:ext cx="8353440" cy="43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28"/>
          <p:cNvSpPr/>
          <p:nvPr/>
        </p:nvSpPr>
        <p:spPr>
          <a:xfrm>
            <a:off x="395280" y="119700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туралистической ориентации присуш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см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иск первоначал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ившее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е. Представители различных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алистических школ обнаруживают субстанциональные основы вещ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.е. то, из чего возникают все вещи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первоначало вс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го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Фалес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основа всего е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Анаксимен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исл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ифагор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х быти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арменид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ещи состоят из атомо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Левкипп, Демокрит)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 всего сущего есть вечное изменение, превращение мир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Гераклит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кларативно-догматический мето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ософ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илозоиз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душевление нежив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манистической ориентации присущ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минантные темы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ка, политика, риторика, искусство, язы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гия, воспитание, т.е. все то, ч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ыне зовется культуро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ещение оси философского поискас космоса на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WordArt 1026"/>
          <p:cNvSpPr txBox="1"/>
          <p:nvPr/>
        </p:nvSpPr>
        <p:spPr>
          <a:xfrm>
            <a:off x="1547640" y="189000"/>
            <a:ext cx="60487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летская шко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8" name="Rectangle 1027"/>
          <p:cNvSpPr/>
          <p:nvPr/>
        </p:nvSpPr>
        <p:spPr>
          <a:xfrm>
            <a:off x="179280" y="836640"/>
            <a:ext cx="8785440" cy="79200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а на рубеж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. до н.э. в Милете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ем греческом торгово-ремесленном полисе в Малой 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028"/>
          <p:cNvSpPr/>
          <p:nvPr/>
        </p:nvSpPr>
        <p:spPr>
          <a:xfrm>
            <a:off x="1908000" y="1916280"/>
            <a:ext cx="5112000" cy="431640"/>
          </a:xfrm>
          <a:prstGeom prst="roundRect">
            <a:avLst>
              <a:gd name="adj" fmla="val 16667"/>
            </a:avLst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29"/>
          <p:cNvSpPr/>
          <p:nvPr/>
        </p:nvSpPr>
        <p:spPr>
          <a:xfrm>
            <a:off x="179280" y="2349360"/>
            <a:ext cx="8785440" cy="396108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030"/>
          <p:cNvSpPr/>
          <p:nvPr/>
        </p:nvSpPr>
        <p:spPr>
          <a:xfrm>
            <a:off x="179280" y="270828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уралистический подход в понимании Природы и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первоначала — субстанции, из которой возник окружающий мир. Первовещество понималось не как мертвая и косная материя, а как вещество живое и в частях, наделенное душой и движением (панте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философских и естественно-научных вопросов увязывалось с прак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ческой деятельностью. Знания были не только основой для практическ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я, но прежде всего элементами цельного мировоззрения. Мировоз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рение это в своей сущности натуралистическ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астрономических, математических, физических и биологически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й; конструирование первых научных приборов (солнечные часы, моде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есной сферы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6:31:39Z</dcterms:created>
  <dc:creator>Леди Аза</dc:creator>
  <dc:description/>
  <dc:language>en-US</dc:language>
  <cp:lastModifiedBy>Коля</cp:lastModifiedBy>
  <dcterms:modified xsi:type="dcterms:W3CDTF">2013-03-24T10:41:29Z</dcterms:modified>
  <cp:revision>18</cp:revision>
  <dc:subject/>
  <dc:title>АНТИЧНАЯ  ФИЛОСОФИЯ</dc:title>
</cp:coreProperties>
</file>