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2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2190-72EF-41F3-AA3D-A575F973C5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F763-1563-4B57-B1D4-697D3D1580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E28-0032-4591-9A40-5BE5C340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512-A01F-4FA6-A009-880BC881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D10-3762-4F2C-AEE6-E4148DCF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017-AC0C-4D56-85AE-AA11A146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CF6-9F75-4CE0-934B-033D2577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2A8-92BA-4055-BA9D-0E3D915F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74B-6B05-4B88-90FA-97A4792E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91D-C6F4-4942-A880-F71CC447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116-E9A7-424F-851B-D5D43CF3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3EE-A96B-4682-8A6A-5FF8E83D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925-AE20-4032-A071-6EF93D0C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104-C33E-40A7-AD50-5372E47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0f6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7BDD-A886-4581-AC95-E3A6F9131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00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2d050"/>
                </a:solidFill>
                <a:latin typeface="Comic Sans MS"/>
              </a:rPr>
              <a:t>Путешествие в мир искус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7"/>
          <p:cNvSpPr/>
          <p:nvPr/>
        </p:nvSpPr>
        <p:spPr>
          <a:xfrm rot="277200">
            <a:off x="6381360" y="5753160"/>
            <a:ext cx="2738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дготовите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0016-016-I.I.Levitan.jpg"/>
          <p:cNvPicPr/>
          <p:nvPr/>
        </p:nvPicPr>
        <p:blipFill>
          <a:blip r:embed="rId1"/>
          <a:stretch/>
        </p:blipFill>
        <p:spPr>
          <a:xfrm>
            <a:off x="142920" y="142920"/>
            <a:ext cx="6786360" cy="642924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3"/>
          <p:cNvSpPr/>
          <p:nvPr/>
        </p:nvSpPr>
        <p:spPr>
          <a:xfrm>
            <a:off x="7215120" y="928800"/>
            <a:ext cx="1571760" cy="2928960"/>
          </a:xfrm>
          <a:custGeom>
            <a:avLst/>
            <a:gdLst>
              <a:gd name="textAreaLeft" fmla="*/ 76680 w 1571760"/>
              <a:gd name="textAreaRight" fmla="*/ 1495080 w 1571760"/>
              <a:gd name="textAreaTop" fmla="*/ 76680 h 2928960"/>
              <a:gd name="textAreaBottom" fmla="*/ 2852280 h 2928960"/>
            </a:gdLst>
            <a:ahLst/>
            <a:rect l="textAreaLeft" t="textAreaTop" r="textAreaRight" b="textAreaBottom"/>
            <a:pathLst>
              <a:path w="21600" h="40247">
                <a:moveTo>
                  <a:pt x="3600" y="0"/>
                </a:moveTo>
                <a:arcTo wR="3600" hR="3600" stAng="16200000" swAng="-5400000"/>
                <a:lnTo>
                  <a:pt x="0" y="36647"/>
                </a:lnTo>
                <a:arcTo wR="3600" hR="3600" stAng="10800000" swAng="-5400000"/>
                <a:lnTo>
                  <a:pt x="18000" y="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Ма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аак Ильич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0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0007-006-Devochka-s-persikami.jpg"/>
          <p:cNvPicPr/>
          <p:nvPr/>
        </p:nvPicPr>
        <p:blipFill>
          <a:blip r:embed="rId1"/>
          <a:stretch/>
        </p:blipFill>
        <p:spPr>
          <a:xfrm>
            <a:off x="142920" y="0"/>
            <a:ext cx="5786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кругленный прямоугольник 4"/>
          <p:cNvSpPr/>
          <p:nvPr/>
        </p:nvSpPr>
        <p:spPr>
          <a:xfrm>
            <a:off x="6357960" y="785880"/>
            <a:ext cx="2143080" cy="278604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786040"/>
              <a:gd name="textAreaBottom" fmla="*/ 2681640 h 278604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Девочка с перси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лентин Александрович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5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7" descr="0003-002-Avtoportret.jpg"/>
          <p:cNvPicPr/>
          <p:nvPr/>
        </p:nvPicPr>
        <p:blipFill>
          <a:blip r:embed="rId1"/>
          <a:stretch/>
        </p:blipFill>
        <p:spPr>
          <a:xfrm>
            <a:off x="28584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8"/>
          <p:cNvSpPr/>
          <p:nvPr/>
        </p:nvSpPr>
        <p:spPr>
          <a:xfrm>
            <a:off x="6643800" y="785880"/>
            <a:ext cx="2071440" cy="2714400"/>
          </a:xfrm>
          <a:custGeom>
            <a:avLst/>
            <a:gdLst>
              <a:gd name="textAreaLeft" fmla="*/ 100800 w 2071440"/>
              <a:gd name="textAreaRight" fmla="*/ 1970640 w 2071440"/>
              <a:gd name="textAreaTop" fmla="*/ 100800 h 2714400"/>
              <a:gd name="textAreaBottom" fmla="*/ 2613600 h 2714400"/>
            </a:gdLst>
            <a:ahLst/>
            <a:rect l="textAreaLeft" t="textAreaTop" r="textAreaRight" b="textAreaBottom"/>
            <a:pathLst>
              <a:path w="21600" h="28303">
                <a:moveTo>
                  <a:pt x="3600" y="0"/>
                </a:moveTo>
                <a:arcTo wR="3600" hR="3600" stAng="16200000" swAng="-5400000"/>
                <a:lnTo>
                  <a:pt x="0" y="24703"/>
                </a:lnTo>
                <a:arcTo wR="3600" hR="3600" stAng="10800000" swAng="-5400000"/>
                <a:lnTo>
                  <a:pt x="18000" y="28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Автопортр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аак Ильич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0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0003-003-Portret-I.I.-SHishkina-raboty-I.N.-Kramskogo.jpg"/>
          <p:cNvPicPr/>
          <p:nvPr/>
        </p:nvPicPr>
        <p:blipFill>
          <a:blip r:embed="rId1"/>
          <a:stretch/>
        </p:blipFill>
        <p:spPr>
          <a:xfrm>
            <a:off x="214200" y="285840"/>
            <a:ext cx="4114800" cy="592920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3"/>
          <p:cNvSpPr/>
          <p:nvPr/>
        </p:nvSpPr>
        <p:spPr>
          <a:xfrm>
            <a:off x="6500880" y="285840"/>
            <a:ext cx="2143080" cy="271440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714400"/>
              <a:gd name="textAreaBottom" fmla="*/ 2610000 h 2714400"/>
            </a:gdLst>
            <a:ahLst/>
            <a:rect l="textAreaLeft" t="textAreaTop" r="textAreaRight" b="textAreaBottom"/>
            <a:pathLst>
              <a:path w="21600" h="27357">
                <a:moveTo>
                  <a:pt x="3600" y="0"/>
                </a:moveTo>
                <a:arcTo wR="3600" hR="3600" stAng="16200000" swAng="-5400000"/>
                <a:lnTo>
                  <a:pt x="0" y="23757"/>
                </a:lnTo>
                <a:arcTo wR="3600" hR="3600" stAng="10800000" swAng="-5400000"/>
                <a:lnTo>
                  <a:pt x="18000" y="27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«Ивана Ивановича Шишкина (1832-1898), работа Ивана Николаевича Крам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0005-004-Portret-A.S.Pushkina.jpg"/>
          <p:cNvPicPr/>
          <p:nvPr/>
        </p:nvPicPr>
        <p:blipFill>
          <a:blip r:embed="rId1"/>
          <a:stretch/>
        </p:blipFill>
        <p:spPr>
          <a:xfrm>
            <a:off x="42876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4"/>
          <p:cNvSpPr/>
          <p:nvPr/>
        </p:nvSpPr>
        <p:spPr>
          <a:xfrm>
            <a:off x="6357960" y="285840"/>
            <a:ext cx="2214720" cy="27144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714400"/>
              <a:gd name="textAreaBottom" fmla="*/ 2606400 h 2714400"/>
            </a:gdLst>
            <a:ahLst/>
            <a:rect l="textAreaLeft" t="textAreaTop" r="textAreaRight" b="textAreaBottom"/>
            <a:pathLst>
              <a:path w="21600" h="26473">
                <a:moveTo>
                  <a:pt x="3600" y="0"/>
                </a:moveTo>
                <a:arcTo wR="3600" hR="3600" stAng="16200000" swAng="-5400000"/>
                <a:lnTo>
                  <a:pt x="0" y="22873"/>
                </a:lnTo>
                <a:arcTo wR="3600" hR="3600" stAng="10800000" swAng="-5400000"/>
                <a:lnTo>
                  <a:pt x="18000" y="264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А.С.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799-1837), работа Василия Андреевича Тропи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Заголовок 1"/>
          <p:cNvGrpSpPr/>
          <p:nvPr/>
        </p:nvGrpSpPr>
        <p:grpSpPr>
          <a:xfrm>
            <a:off x="6718320" y="244440"/>
            <a:ext cx="1895400" cy="2706840"/>
            <a:chOff x="6718320" y="244440"/>
            <a:chExt cx="1895400" cy="2706840"/>
          </a:xfrm>
        </p:grpSpPr>
        <p:pic>
          <p:nvPicPr>
            <p:cNvPr id="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718320" y="244440"/>
              <a:ext cx="189540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786720" y="285840"/>
              <a:ext cx="175716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Натюрморт «Цветы и Фрукты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Рисунок 2" descr="Carnations_and_Apples.jpg"/>
          <p:cNvPicPr/>
          <p:nvPr/>
        </p:nvPicPr>
        <p:blipFill>
          <a:blip r:embed="rId2"/>
          <a:stretch/>
        </p:blipFill>
        <p:spPr>
          <a:xfrm>
            <a:off x="500040" y="285840"/>
            <a:ext cx="614376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5" descr="59488144_Peaches_1882.jpg"/>
          <p:cNvPicPr/>
          <p:nvPr/>
        </p:nvPicPr>
        <p:blipFill>
          <a:blip r:embed="rId1"/>
          <a:stretch/>
        </p:blipFill>
        <p:spPr>
          <a:xfrm>
            <a:off x="285840" y="142920"/>
            <a:ext cx="6064200" cy="642924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6"/>
          <p:cNvSpPr/>
          <p:nvPr/>
        </p:nvSpPr>
        <p:spPr>
          <a:xfrm>
            <a:off x="6858000" y="214200"/>
            <a:ext cx="1928880" cy="285768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857680"/>
              <a:gd name="textAreaBottom" fmla="*/ 2763720 h 2857680"/>
            </a:gdLst>
            <a:ahLst/>
            <a:rect l="textAreaLeft" t="textAreaTop" r="textAreaRight" b="textAreaBottom"/>
            <a:pathLst>
              <a:path w="21600" h="31999">
                <a:moveTo>
                  <a:pt x="3600" y="0"/>
                </a:moveTo>
                <a:arcTo wR="3600" hR="3600" stAng="16200000" swAng="-5400000"/>
                <a:lnTo>
                  <a:pt x="0" y="28399"/>
                </a:lnTo>
                <a:arcTo wR="3600" hR="3600" stAng="10800000" swAng="-5400000"/>
                <a:lnTo>
                  <a:pt x="18000" y="3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тюрморт «Перс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дуард М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170474-foxixol.jpg"/>
          <p:cNvPicPr/>
          <p:nvPr/>
        </p:nvPicPr>
        <p:blipFill>
          <a:blip r:embed="rId1"/>
          <a:stretch/>
        </p:blipFill>
        <p:spPr>
          <a:xfrm>
            <a:off x="428760" y="46080"/>
            <a:ext cx="6143400" cy="676584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3"/>
          <p:cNvSpPr/>
          <p:nvPr/>
        </p:nvSpPr>
        <p:spPr>
          <a:xfrm>
            <a:off x="7072200" y="142920"/>
            <a:ext cx="1643040" cy="2286000"/>
          </a:xfrm>
          <a:custGeom>
            <a:avLst/>
            <a:gdLst>
              <a:gd name="textAreaLeft" fmla="*/ 79920 w 1643040"/>
              <a:gd name="textAreaRight" fmla="*/ 1563120 w 1643040"/>
              <a:gd name="textAreaTop" fmla="*/ 79920 h 2286000"/>
              <a:gd name="textAreaBottom" fmla="*/ 2206080 h 2286000"/>
            </a:gdLst>
            <a:ahLst/>
            <a:rect l="textAreaLeft" t="textAreaTop" r="textAreaRight" b="textAreaBottom"/>
            <a:pathLst>
              <a:path w="21600" h="30051">
                <a:moveTo>
                  <a:pt x="3600" y="0"/>
                </a:moveTo>
                <a:arcTo wR="3600" hR="3600" stAng="16200000" swAng="-5400000"/>
                <a:lnTo>
                  <a:pt x="0" y="26451"/>
                </a:lnTo>
                <a:arcTo wR="3600" hR="3600" stAng="10800000" swAng="-5400000"/>
                <a:lnTo>
                  <a:pt x="18000" y="30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тюрморт «Фрук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0007-003-PAMJATNIK-NIKOLAJU-I-Skulptor-Petr-Karlovich-Klodt.jpg"/>
          <p:cNvPicPr/>
          <p:nvPr/>
        </p:nvPicPr>
        <p:blipFill>
          <a:blip r:embed="rId1"/>
          <a:stretch/>
        </p:blipFill>
        <p:spPr>
          <a:xfrm>
            <a:off x="357120" y="0"/>
            <a:ext cx="6000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Прямоугольник 3"/>
          <p:cNvGrpSpPr/>
          <p:nvPr/>
        </p:nvGrpSpPr>
        <p:grpSpPr>
          <a:xfrm>
            <a:off x="6388200" y="328680"/>
            <a:ext cx="2616120" cy="2286000"/>
            <a:chOff x="6388200" y="328680"/>
            <a:chExt cx="2616120" cy="2286000"/>
          </a:xfrm>
        </p:grpSpPr>
        <p:pic>
          <p:nvPicPr>
            <p:cNvPr id="106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388200" y="328680"/>
              <a:ext cx="2616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00880" y="357120"/>
              <a:ext cx="242892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Памятник Николаю</a:t>
              </a:r>
              <a:r>
                <a:rPr b="0" lang="en-US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 I</a:t>
              </a: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. Скульптур  Петр Карлович Клодт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Скругленный прямоугольник 3"/>
          <p:cNvGrpSpPr/>
          <p:nvPr/>
        </p:nvGrpSpPr>
        <p:grpSpPr>
          <a:xfrm>
            <a:off x="6791400" y="244440"/>
            <a:ext cx="2279520" cy="2706840"/>
            <a:chOff x="6791400" y="244440"/>
            <a:chExt cx="2279520" cy="2706840"/>
          </a:xfrm>
        </p:grpSpPr>
        <p:pic>
          <p:nvPicPr>
            <p:cNvPr id="10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791400" y="244440"/>
              <a:ext cx="22795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962760" y="390600"/>
              <a:ext cx="193356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Памятник А.С. Пушкин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Скульптор  М. А. Аникушин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Рисунок 4" descr="MC900437793.bmp"/>
          <p:cNvPicPr/>
          <p:nvPr/>
        </p:nvPicPr>
        <p:blipFill>
          <a:blip r:embed="rId2"/>
          <a:stretch/>
        </p:blipFill>
        <p:spPr>
          <a:xfrm>
            <a:off x="357120" y="0"/>
            <a:ext cx="6286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Содержимое 7"/>
          <p:cNvGrpSpPr/>
          <p:nvPr/>
        </p:nvGrpSpPr>
        <p:grpSpPr>
          <a:xfrm>
            <a:off x="384120" y="1494000"/>
            <a:ext cx="8729640" cy="4887720"/>
            <a:chOff x="384120" y="1494000"/>
            <a:chExt cx="8729640" cy="4887720"/>
          </a:xfrm>
        </p:grpSpPr>
        <p:pic>
          <p:nvPicPr>
            <p:cNvPr id="52" name="Содержимое 7" descr=""/>
            <p:cNvPicPr/>
            <p:nvPr/>
          </p:nvPicPr>
          <p:blipFill>
            <a:blip r:embed="rId1"/>
            <a:stretch/>
          </p:blipFill>
          <p:spPr>
            <a:xfrm>
              <a:off x="384120" y="1494000"/>
              <a:ext cx="8729640" cy="48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d0d0d"/>
                  </a:solidFill>
                  <a:latin typeface="Calibri"/>
                </a:rPr>
                <a:t>Уточнить  и закрепить представления детей об изобразительном искусстве, его видах, о том, кто создает произведения искусства; о роли изобразительного искусства в жизни человека; как  к нему относятся люди, где хранятся подлинные произведения искусства, как ведут себя люди в музеях. Вызвать у детей интерес, эмоциональную отзывчивость на произведения искусства, желания всматриваться в них,  соотносить увиденное с личным опытом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олилиния 16"/>
          <p:cNvGrpSpPr/>
          <p:nvPr/>
        </p:nvGrpSpPr>
        <p:grpSpPr>
          <a:xfrm>
            <a:off x="-19080" y="-19080"/>
            <a:ext cx="1639800" cy="1446120"/>
            <a:chOff x="-19080" y="-19080"/>
            <a:chExt cx="1639800" cy="1446120"/>
          </a:xfrm>
        </p:grpSpPr>
        <p:pic>
          <p:nvPicPr>
            <p:cNvPr id="55" name="Полилиния 1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16398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60344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Полилиния 23"/>
          <p:cNvGrpSpPr/>
          <p:nvPr/>
        </p:nvGrpSpPr>
        <p:grpSpPr>
          <a:xfrm>
            <a:off x="7716960" y="-12600"/>
            <a:ext cx="1446120" cy="1633320"/>
            <a:chOff x="7716960" y="-12600"/>
            <a:chExt cx="1446120" cy="1633320"/>
          </a:xfrm>
        </p:grpSpPr>
        <p:pic>
          <p:nvPicPr>
            <p:cNvPr id="58" name="Полилиния 23" descr=""/>
            <p:cNvPicPr/>
            <p:nvPr/>
          </p:nvPicPr>
          <p:blipFill>
            <a:blip r:embed="rId3"/>
            <a:stretch/>
          </p:blipFill>
          <p:spPr>
            <a:xfrm>
              <a:off x="7716960" y="-12600"/>
              <a:ext cx="144612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rot="5400000">
              <a:off x="7637040" y="98280"/>
              <a:ext cx="160488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Заголовок 1" descr=""/>
          <p:cNvPicPr/>
          <p:nvPr/>
        </p:nvPicPr>
        <p:blipFill>
          <a:blip r:embed="rId4"/>
          <a:stretch/>
        </p:blipFill>
        <p:spPr>
          <a:xfrm>
            <a:off x="2309760" y="285840"/>
            <a:ext cx="388296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file.php_id=15831120008a54f1ff5c15c3ca5729b164c076fb5a.jpeg"/>
          <p:cNvPicPr/>
          <p:nvPr/>
        </p:nvPicPr>
        <p:blipFill>
          <a:blip r:embed="rId1"/>
          <a:stretch/>
        </p:blipFill>
        <p:spPr>
          <a:xfrm>
            <a:off x="0" y="0"/>
            <a:ext cx="5929200" cy="67150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6500880" y="214200"/>
            <a:ext cx="2143080" cy="285768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857680"/>
              <a:gd name="textAreaBottom" fmla="*/ 2753280 h 2857680"/>
            </a:gdLst>
            <a:ahLst/>
            <a:rect l="textAreaLeft" t="textAreaTop" r="textAreaRight" b="textAreaBottom"/>
            <a:pathLst>
              <a:path w="21600" h="28801">
                <a:moveTo>
                  <a:pt x="3600" y="0"/>
                </a:moveTo>
                <a:arcTo wR="3600" hR="3600" stAng="16200000" swAng="-5400000"/>
                <a:lnTo>
                  <a:pt x="0" y="25201"/>
                </a:lnTo>
                <a:arcTo wR="3600" hR="3600" stAng="10800000" swAng="-5400000"/>
                <a:lnTo>
                  <a:pt x="18000" y="28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основателю Москвы – Юрию Долгорук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0033-067-KHokhloma.jpg"/>
          <p:cNvPicPr/>
          <p:nvPr/>
        </p:nvPicPr>
        <p:blipFill>
          <a:blip r:embed="rId1"/>
          <a:stretch/>
        </p:blipFill>
        <p:spPr>
          <a:xfrm>
            <a:off x="142920" y="142920"/>
            <a:ext cx="4214880" cy="3071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0033-072-KHokhloma.jpg"/>
          <p:cNvPicPr/>
          <p:nvPr/>
        </p:nvPicPr>
        <p:blipFill>
          <a:blip r:embed="rId2"/>
          <a:stretch/>
        </p:blipFill>
        <p:spPr>
          <a:xfrm>
            <a:off x="142920" y="3714840"/>
            <a:ext cx="4214880" cy="27144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image_4cdc49ba9bf0c.jpg"/>
          <p:cNvPicPr/>
          <p:nvPr/>
        </p:nvPicPr>
        <p:blipFill>
          <a:blip r:embed="rId3"/>
          <a:stretch/>
        </p:blipFill>
        <p:spPr>
          <a:xfrm>
            <a:off x="4643280" y="1429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17" name="Скругленный прямоугольник 5"/>
          <p:cNvSpPr/>
          <p:nvPr/>
        </p:nvSpPr>
        <p:spPr>
          <a:xfrm>
            <a:off x="5214960" y="3857760"/>
            <a:ext cx="2928960" cy="2214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Хохло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9b7081f0997b.jpg"/>
          <p:cNvPicPr/>
          <p:nvPr/>
        </p:nvPicPr>
        <p:blipFill>
          <a:blip r:embed="rId1"/>
          <a:stretch/>
        </p:blipFill>
        <p:spPr>
          <a:xfrm>
            <a:off x="214200" y="142920"/>
            <a:ext cx="4357800" cy="6095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2817.jpg"/>
          <p:cNvPicPr/>
          <p:nvPr/>
        </p:nvPicPr>
        <p:blipFill>
          <a:blip r:embed="rId2"/>
          <a:stretch/>
        </p:blipFill>
        <p:spPr>
          <a:xfrm>
            <a:off x="4714920" y="214200"/>
            <a:ext cx="425124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4"/>
          <p:cNvSpPr/>
          <p:nvPr/>
        </p:nvSpPr>
        <p:spPr>
          <a:xfrm>
            <a:off x="5286240" y="4000680"/>
            <a:ext cx="2928960" cy="20714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Хохло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5" descr="0030-030-Russkie-suveni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2" descr="index.png"/>
          <p:cNvPicPr/>
          <p:nvPr/>
        </p:nvPicPr>
        <p:blipFill>
          <a:blip r:embed="rId1"/>
          <a:stretch/>
        </p:blipFill>
        <p:spPr>
          <a:xfrm>
            <a:off x="357120" y="428760"/>
            <a:ext cx="4786560" cy="614340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5"/>
          <p:cNvSpPr/>
          <p:nvPr/>
        </p:nvSpPr>
        <p:spPr>
          <a:xfrm>
            <a:off x="6286680" y="428760"/>
            <a:ext cx="1785600" cy="1857240"/>
          </a:xfrm>
          <a:custGeom>
            <a:avLst/>
            <a:gdLst>
              <a:gd name="textAreaLeft" fmla="*/ 87120 w 1785600"/>
              <a:gd name="textAreaRight" fmla="*/ 1698480 w 1785600"/>
              <a:gd name="textAreaTop" fmla="*/ 87120 h 1857240"/>
              <a:gd name="textAreaBottom" fmla="*/ 1770120 h 1857240"/>
            </a:gdLst>
            <a:ahLst/>
            <a:rect l="textAreaLeft" t="textAreaTop" r="textAreaRight" b="textAreaBottom"/>
            <a:pathLst>
              <a:path w="21600" h="22466">
                <a:moveTo>
                  <a:pt x="3600" y="0"/>
                </a:moveTo>
                <a:arcTo wR="3600" hR="3600" stAng="16200000" swAng="-5400000"/>
                <a:lnTo>
                  <a:pt x="0" y="18866"/>
                </a:lnTo>
                <a:arcTo wR="3600" hR="3600" stAng="10800000" swAng="-5400000"/>
                <a:lnTo>
                  <a:pt x="18000" y="22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Гж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a2000d133f19.jpg"/>
          <p:cNvPicPr/>
          <p:nvPr/>
        </p:nvPicPr>
        <p:blipFill>
          <a:blip r:embed="rId1"/>
          <a:stretch/>
        </p:blipFill>
        <p:spPr>
          <a:xfrm>
            <a:off x="285840" y="214200"/>
            <a:ext cx="5595840" cy="628668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5"/>
          <p:cNvSpPr/>
          <p:nvPr/>
        </p:nvSpPr>
        <p:spPr>
          <a:xfrm>
            <a:off x="6429240" y="357120"/>
            <a:ext cx="2214720" cy="27147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714760"/>
              <a:gd name="textAreaBottom" fmla="*/ 2606760 h 2714760"/>
            </a:gdLst>
            <a:ahLst/>
            <a:rect l="textAreaLeft" t="textAreaTop" r="textAreaRight" b="textAreaBottom"/>
            <a:pathLst>
              <a:path w="21600" h="26476">
                <a:moveTo>
                  <a:pt x="3600" y="0"/>
                </a:moveTo>
                <a:arcTo wR="3600" hR="3600" stAng="16200000" swAng="-5400000"/>
                <a:lnTo>
                  <a:pt x="0" y="22876"/>
                </a:lnTo>
                <a:arcTo wR="3600" hR="3600" stAng="10800000" swAng="-5400000"/>
                <a:lnTo>
                  <a:pt x="18000" y="26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рмитаж в Санкт-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2008-12-09_16-57-42.jpg"/>
          <p:cNvPicPr/>
          <p:nvPr/>
        </p:nvPicPr>
        <p:blipFill>
          <a:blip r:embed="rId1"/>
          <a:stretch/>
        </p:blipFill>
        <p:spPr>
          <a:xfrm>
            <a:off x="214200" y="357120"/>
            <a:ext cx="5357880" cy="614376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2"/>
          <p:cNvSpPr/>
          <p:nvPr/>
        </p:nvSpPr>
        <p:spPr>
          <a:xfrm>
            <a:off x="6072120" y="357120"/>
            <a:ext cx="2286000" cy="292896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28960"/>
              <a:gd name="textAreaBottom" fmla="*/ 2817360 h 2928960"/>
            </a:gdLst>
            <a:ahLst/>
            <a:rect l="textAreaLeft" t="textAreaTop" r="textAreaRight" b="textAreaBottom"/>
            <a:pathLst>
              <a:path w="21600" h="27674">
                <a:moveTo>
                  <a:pt x="3600" y="0"/>
                </a:moveTo>
                <a:arcTo wR="3600" hR="3600" stAng="16200000" swAng="-5400000"/>
                <a:lnTo>
                  <a:pt x="0" y="24074"/>
                </a:lnTo>
                <a:arcTo wR="3600" hR="3600" stAng="10800000" swAng="-5400000"/>
                <a:lnTo>
                  <a:pt x="18000" y="27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ая третьяковская галерея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b_img_1171103791_724.jpg"/>
          <p:cNvPicPr/>
          <p:nvPr/>
        </p:nvPicPr>
        <p:blipFill>
          <a:blip r:embed="rId1"/>
          <a:stretch/>
        </p:blipFill>
        <p:spPr>
          <a:xfrm>
            <a:off x="285840" y="285840"/>
            <a:ext cx="5786280" cy="62150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3"/>
          <p:cNvSpPr/>
          <p:nvPr/>
        </p:nvSpPr>
        <p:spPr>
          <a:xfrm>
            <a:off x="6643800" y="285840"/>
            <a:ext cx="1928880" cy="29289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928960"/>
              <a:gd name="textAreaBottom" fmla="*/ 2835000 h 2928960"/>
            </a:gdLst>
            <a:ahLst/>
            <a:rect l="textAreaLeft" t="textAreaTop" r="textAreaRight" b="textAreaBottom"/>
            <a:pathLst>
              <a:path w="21600" h="32797">
                <a:moveTo>
                  <a:pt x="3600" y="0"/>
                </a:moveTo>
                <a:arcTo wR="3600" hR="3600" stAng="16200000" swAng="-5400000"/>
                <a:lnTo>
                  <a:pt x="0" y="29197"/>
                </a:lnTo>
                <a:arcTo wR="3600" hR="3600" stAng="10800000" swAng="-5400000"/>
                <a:lnTo>
                  <a:pt x="18000" y="32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еведческий музей в Петерго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Ход занят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14200" y="1571760"/>
            <a:ext cx="86439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искусства – это что за ми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–был художник. Однажды он увидел цветок. Цветок был такой красивый, красный, как огонек, а капельки росы светились на его лепестках, как драгоценные камешки. Художник не мог налюбоваться цветком и решил его нарисовать. Стало два цветка, одинаково красивых. Потом он увидел вазу – и тоже нарисовал ее красками на холсте. А потом ему захотелось нарисовать все, что было в его комнате. На улице художник рисовал деревья, небо, дома, людей – весь мир. Художник нарисовал множество красивых картин, в которых рассказал как удивительна окружающая нас жизнь. Нужно только внимательно всматриваться в предметы, природу, людей – и тогда волшебный мир красоты открое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художником жил скульптор. Он тоже радовался красоте окружающего  и высекал образы людей и животных из камня, дерева, лепил их из глины, лил из металла. И они получились как живые и тоже радовали людей своей удивительной красот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городе жили и другие  художники и мастера. Они украшали посуду, одежду, ткали ковры, оформляли витрины магазинов так, что кругом было празднично и нарядно. Город строили и украшали красивыми зданиями, площадями и мостами архитекторы и строители. И город стал таким красивым, что люди назвали его «МИР ИСКУССТВА», а потому что искусство  - это и есть мир, красиво изображенный художником, скульптором, иллюстратором, архитектором, мастером прикладного искусства – волшебниками, которые видят, слышат, чувствуют красоту и рассказывают о ней красками на бумаге, холсте, дереве; резцом в мраморе, камне, дереве, а также сооружая дома, дворцы, мосты, парки. Этот мир называют изобразительным искусством, так как это искусство наглядно, похоже, выразительно изображает, отражает видимый нами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Кольцо 3"/>
          <p:cNvSpPr/>
          <p:nvPr/>
        </p:nvSpPr>
        <p:spPr>
          <a:xfrm>
            <a:off x="1785960" y="142920"/>
            <a:ext cx="5286240" cy="1214280"/>
          </a:xfrm>
          <a:custGeom>
            <a:avLst/>
            <a:gdLst/>
            <a:ahLst/>
            <a:rect l="l" t="t" r="r" b="b"/>
            <a:pathLst>
              <a:path w="5286375" h="1214438">
                <a:moveTo>
                  <a:pt x="0" y="607219"/>
                </a:moveTo>
                <a:cubicBezTo>
                  <a:pt x="0" y="271861"/>
                  <a:pt x="1183396" y="0"/>
                  <a:pt x="2643188" y="0"/>
                </a:cubicBezTo>
                <a:cubicBezTo>
                  <a:pt x="4102980" y="0"/>
                  <a:pt x="5286376" y="271861"/>
                  <a:pt x="5286376" y="607219"/>
                </a:cubicBezTo>
                <a:cubicBezTo>
                  <a:pt x="5286376" y="942577"/>
                  <a:pt x="4102980" y="1214438"/>
                  <a:pt x="2643188" y="1214438"/>
                </a:cubicBezTo>
                <a:cubicBezTo>
                  <a:pt x="1183396" y="1214438"/>
                  <a:pt x="0" y="942577"/>
                  <a:pt x="0" y="607219"/>
                </a:cubicBezTo>
                <a:close/>
                <a:moveTo>
                  <a:pt x="303610" y="607219"/>
                </a:moveTo>
                <a:cubicBezTo>
                  <a:pt x="303610" y="774898"/>
                  <a:pt x="1351075" y="910829"/>
                  <a:pt x="2643188" y="910829"/>
                </a:cubicBezTo>
                <a:cubicBezTo>
                  <a:pt x="3935301" y="910829"/>
                  <a:pt x="4982766" y="774898"/>
                  <a:pt x="4982766" y="607219"/>
                </a:cubicBezTo>
                <a:cubicBezTo>
                  <a:pt x="4982766" y="439540"/>
                  <a:pt x="3935301" y="303609"/>
                  <a:pt x="2643188" y="303609"/>
                </a:cubicBezTo>
                <a:cubicBezTo>
                  <a:pt x="1351075" y="303609"/>
                  <a:pt x="303610" y="439540"/>
                  <a:pt x="303610" y="607219"/>
                </a:cubicBezTo>
                <a:close/>
              </a:path>
            </a:pathLst>
          </a:custGeom>
          <a:gradFill rotWithShape="0">
            <a:gsLst>
              <a:gs pos="0">
                <a:srgbClr val="ffe4b9"/>
              </a:gs>
              <a:gs pos="100000">
                <a:srgbClr val="ffe4b9"/>
              </a:gs>
            </a:gsLst>
            <a:lin ang="900000"/>
          </a:gradFill>
          <a:ln w="9360">
            <a:solidFill>
              <a:srgbClr val="d8b25c"/>
            </a:solidFill>
            <a:round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6"/>
          <p:cNvSpPr/>
          <p:nvPr/>
        </p:nvSpPr>
        <p:spPr>
          <a:xfrm>
            <a:off x="4071960" y="5929200"/>
            <a:ext cx="10000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кругленный прямоугольник 3"/>
          <p:cNvSpPr/>
          <p:nvPr/>
        </p:nvSpPr>
        <p:spPr>
          <a:xfrm>
            <a:off x="285840" y="285840"/>
            <a:ext cx="7786440" cy="535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0" y="214200"/>
            <a:ext cx="9144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ответьте мне на вопрос: кто создает мир изобразительного искусства? (Художник, скульптор, архитектор, график, мастер прикладного искусства.) А кто сочиняет музыку? (Композитор.) Кто пишет стихи, сочиняет рассказы? (Поэты, писатели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ожет в движении рассказать сказку? (Артист балета, балетмейсте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у каждого вида искусства есть свои секреты и свои мастера. Сегодня мы будем говорить об  изобразительном искус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сначала посмотрим картины, найдем на них нарисованный мир. (Дается время, чтобы дети огляделись и увидели картины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рисуют художники? О чем все эти картины? Да, художники рисуют природу, портреты, натюрморты, сцены из жизни людей, сказки, животных. Они рисую на холсте красками, и изображения на картинах получаются как живые, а картины называются живописными. Это всё мир живопис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искусства, написанные или сделанные самим художником, называются оригиналами или подлинниками. А знаете ли вы где хранятся подлинные произведения изобразительного искусства? Как называется этот дом? Да, это музей. Там хранятся и выставляются многие подлинные произведения живописи, скульптуры, графики и прикладного искусства. Живут они там сотни лет, радуя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я выставки и музеи, люди очень внимательно рассматривают произведения, ведут себя спокойно, говорят между собой тихо, чтобы дать возможность другим людям любоваться настоящими произведениями искусства. К посещению музея люди готовятся. Были ли вы в музеях? Каких? Что вам там запомнилос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мы с вами увидели разные произведения изобразительного искусства. Художники, скульпторы, иллюстраторы создают их для нас, чтобы доставить нам удовольствие, радость, чтобы мы могли вспоминать о наших чувствах, когда в жизни увидим подобное. Они дают нам возможность ещё раз пережить ощущение теплого летнего или холодного зимнего дня, воспоминание о походе в лес или на реку, радость от наших удач, помогают вспомнить, как нам было тревожно в грозу, как весело мы собирали в лесу ягоды или грибы, составляли на солнечной лужайке букет из полевых цветов. Эти картины, эта скульптура, красивая посуда могут украсить нашу жизнь и продлить жизнь сорванных цветов, собранных фруктов и овощей. Они дарят нам счастье и радость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6"/>
          <p:cNvSpPr/>
          <p:nvPr/>
        </p:nvSpPr>
        <p:spPr>
          <a:xfrm>
            <a:off x="3857760" y="0"/>
            <a:ext cx="8571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Выноска-облако 2"/>
          <p:cNvSpPr/>
          <p:nvPr/>
        </p:nvSpPr>
        <p:spPr>
          <a:xfrm>
            <a:off x="2071800" y="0"/>
            <a:ext cx="457200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f86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190b"/>
                </a:solidFill>
                <a:latin typeface="Comic Sans MS"/>
              </a:rPr>
              <a:t>Галерея худож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142920" y="1714680"/>
            <a:ext cx="3071880" cy="478260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ейза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.И Шишкин. «Утро в сосновом лесу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А. Серов. «Купание лошад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.И. Шишкин. «Зима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К. Саврасов. «Грачи прилетел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.И. Левитан. «Март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А.Серов. «Девочка с персикам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евитан. «Автопортрет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И.И. Шишкина, работа И.Н. Крамск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А.С. Пушкина, работа В.А. Тропи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тюрмо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веты и Фрукт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. Мане. «Персик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рук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0"/>
          <p:cNvSpPr/>
          <p:nvPr/>
        </p:nvSpPr>
        <p:spPr>
          <a:xfrm>
            <a:off x="3571920" y="1714680"/>
            <a:ext cx="2214360" cy="257148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Николаю</a:t>
            </a:r>
            <a:r>
              <a:rPr b="0" lang="en-US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I</a:t>
            </a: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Скульптур  Петр Карлович Клод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А,С, Пушк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ульптор  М,А. Анику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основателю Москвы – Юрию Долгоруко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1"/>
          <p:cNvSpPr/>
          <p:nvPr/>
        </p:nvSpPr>
        <p:spPr>
          <a:xfrm>
            <a:off x="5357880" y="1714680"/>
            <a:ext cx="17859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2"/>
          <p:cNvSpPr/>
          <p:nvPr/>
        </p:nvSpPr>
        <p:spPr>
          <a:xfrm>
            <a:off x="6000840" y="2928960"/>
            <a:ext cx="1071360" cy="57132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хл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3"/>
          <p:cNvSpPr/>
          <p:nvPr/>
        </p:nvSpPr>
        <p:spPr>
          <a:xfrm>
            <a:off x="7643880" y="2928960"/>
            <a:ext cx="1285920" cy="57132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ж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4"/>
          <p:cNvSpPr/>
          <p:nvPr/>
        </p:nvSpPr>
        <p:spPr>
          <a:xfrm>
            <a:off x="3571920" y="4429080"/>
            <a:ext cx="2143080" cy="214308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узе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ый эрмитаж в Санкт-Петербур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ая третьяковская галерея в Моск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еведческий музей в Петергоф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6357960" y="1714680"/>
            <a:ext cx="2071800" cy="71424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2"/>
          <p:cNvCxnSpPr/>
          <p:nvPr/>
        </p:nvCxnSpPr>
        <p:spPr>
          <a:xfrm flipH="1">
            <a:off x="6714720" y="2428560"/>
            <a:ext cx="286560" cy="500760"/>
          </a:xfrm>
          <a:prstGeom prst="straightConnector1">
            <a:avLst/>
          </a:prstGeom>
          <a:ln w="936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77" name="Прямая со стрелкой 14"/>
          <p:cNvCxnSpPr/>
          <p:nvPr/>
        </p:nvCxnSpPr>
        <p:spPr>
          <a:xfrm>
            <a:off x="7715160" y="2428560"/>
            <a:ext cx="357840" cy="500760"/>
          </a:xfrm>
          <a:prstGeom prst="straightConnector1">
            <a:avLst/>
          </a:prstGeom>
          <a:ln w="936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пр.bmp"/>
          <p:cNvPicPr/>
          <p:nvPr/>
        </p:nvPicPr>
        <p:blipFill>
          <a:blip r:embed="rId1"/>
          <a:stretch/>
        </p:blipFill>
        <p:spPr>
          <a:xfrm>
            <a:off x="214200" y="0"/>
            <a:ext cx="66423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5"/>
          <p:cNvSpPr/>
          <p:nvPr/>
        </p:nvSpPr>
        <p:spPr>
          <a:xfrm>
            <a:off x="7143840" y="1785960"/>
            <a:ext cx="1571400" cy="2071800"/>
          </a:xfrm>
          <a:custGeom>
            <a:avLst/>
            <a:gdLst>
              <a:gd name="textAreaLeft" fmla="*/ 76680 w 1571400"/>
              <a:gd name="textAreaRight" fmla="*/ 1494720 w 1571400"/>
              <a:gd name="textAreaTop" fmla="*/ 76680 h 2071800"/>
              <a:gd name="textAreaBottom" fmla="*/ 1995120 h 2071800"/>
            </a:gdLst>
            <a:ahLst/>
            <a:rect l="textAreaLeft" t="textAreaTop" r="textAreaRight" b="textAreaBottom"/>
            <a:pathLst>
              <a:path w="21600" h="28477">
                <a:moveTo>
                  <a:pt x="3600" y="0"/>
                </a:moveTo>
                <a:arcTo wR="3600" hR="3600" stAng="16200000" swAng="-5400000"/>
                <a:lnTo>
                  <a:pt x="0" y="24877"/>
                </a:lnTo>
                <a:arcTo wR="3600" hR="3600" stAng="10800000" swAng="-5400000"/>
                <a:lnTo>
                  <a:pt x="18000" y="28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ван Иванович 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32-18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MC900437793.bmp"/>
          <p:cNvPicPr/>
          <p:nvPr/>
        </p:nvPicPr>
        <p:blipFill>
          <a:blip r:embed="rId1"/>
          <a:stretch/>
        </p:blipFill>
        <p:spPr>
          <a:xfrm>
            <a:off x="214200" y="0"/>
            <a:ext cx="66423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ый прямоугольник 2"/>
          <p:cNvSpPr/>
          <p:nvPr/>
        </p:nvSpPr>
        <p:spPr>
          <a:xfrm>
            <a:off x="7215120" y="1357200"/>
            <a:ext cx="1643040" cy="2428920"/>
          </a:xfrm>
          <a:custGeom>
            <a:avLst/>
            <a:gdLst>
              <a:gd name="textAreaLeft" fmla="*/ 79920 w 1643040"/>
              <a:gd name="textAreaRight" fmla="*/ 1563120 w 1643040"/>
              <a:gd name="textAreaTop" fmla="*/ 79920 h 2428920"/>
              <a:gd name="textAreaBottom" fmla="*/ 2349000 h 2428920"/>
            </a:gdLst>
            <a:ahLst/>
            <a:rect l="textAreaLeft" t="textAreaTop" r="textAreaRight" b="textAreaBottom"/>
            <a:pathLst>
              <a:path w="21600" h="31929">
                <a:moveTo>
                  <a:pt x="3600" y="0"/>
                </a:moveTo>
                <a:arcTo wR="3600" hR="3600" stAng="16200000" swAng="-5400000"/>
                <a:lnTo>
                  <a:pt x="0" y="28329"/>
                </a:lnTo>
                <a:arcTo wR="3600" hR="3600" stAng="10800000" swAng="-5400000"/>
                <a:lnTo>
                  <a:pt x="18000" y="319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лентин Алексеевич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5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8" descr="0004-004-Zima.jpg"/>
          <p:cNvPicPr/>
          <p:nvPr/>
        </p:nvPicPr>
        <p:blipFill>
          <a:blip r:embed="rId1"/>
          <a:stretch/>
        </p:blipFill>
        <p:spPr>
          <a:xfrm>
            <a:off x="214200" y="0"/>
            <a:ext cx="63579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9"/>
          <p:cNvSpPr/>
          <p:nvPr/>
        </p:nvSpPr>
        <p:spPr>
          <a:xfrm>
            <a:off x="6929280" y="928800"/>
            <a:ext cx="1857600" cy="250020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2500200"/>
              <a:gd name="textAreaBottom" fmla="*/ 2409840 h 2500200"/>
            </a:gdLst>
            <a:ahLst/>
            <a:rect l="textAreaLeft" t="textAreaTop" r="textAreaRight" b="textAreaBottom"/>
            <a:pathLst>
              <a:path w="21600" h="29071">
                <a:moveTo>
                  <a:pt x="3600" y="0"/>
                </a:moveTo>
                <a:arcTo wR="3600" hR="3600" stAng="16200000" swAng="-5400000"/>
                <a:lnTo>
                  <a:pt x="0" y="25471"/>
                </a:lnTo>
                <a:arcTo wR="3600" hR="3600" stAng="10800000" swAng="-5400000"/>
                <a:lnTo>
                  <a:pt x="18000" y="29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ван Иванович 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32-18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0" descr="0003-002-Grachi-prileteli.jpg"/>
          <p:cNvPicPr/>
          <p:nvPr/>
        </p:nvPicPr>
        <p:blipFill>
          <a:blip r:embed="rId1"/>
          <a:stretch/>
        </p:blipFill>
        <p:spPr>
          <a:xfrm>
            <a:off x="28584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11"/>
          <p:cNvSpPr/>
          <p:nvPr/>
        </p:nvSpPr>
        <p:spPr>
          <a:xfrm>
            <a:off x="6286680" y="1285920"/>
            <a:ext cx="2428560" cy="2714760"/>
          </a:xfrm>
          <a:custGeom>
            <a:avLst/>
            <a:gdLst>
              <a:gd name="textAreaLeft" fmla="*/ 118440 w 2428560"/>
              <a:gd name="textAreaRight" fmla="*/ 2310120 w 2428560"/>
              <a:gd name="textAreaTop" fmla="*/ 118440 h 2714760"/>
              <a:gd name="textAreaBottom" fmla="*/ 2596320 h 2714760"/>
            </a:gdLst>
            <a:ahLst/>
            <a:rect l="textAreaLeft" t="textAreaTop" r="textAreaRight" b="textAreaBottom"/>
            <a:pathLst>
              <a:path w="21600" h="24145">
                <a:moveTo>
                  <a:pt x="3600" y="0"/>
                </a:moveTo>
                <a:arcTo wR="3600" hR="3600" stAng="16200000" swAng="-5400000"/>
                <a:lnTo>
                  <a:pt x="0" y="20545"/>
                </a:lnTo>
                <a:arcTo wR="3600" hR="3600" stAng="10800000" swAng="-5400000"/>
                <a:lnTo>
                  <a:pt x="18000" y="24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Грачи прилетели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лексей Кандратьевич Савра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30-18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2T13:06:12Z</dcterms:modified>
  <cp:revision>2</cp:revision>
  <dc:subject/>
  <dc:title>Путешествие в мир искусства</dc:title>
</cp:coreProperties>
</file>