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489-A724-4856-9D1E-852A30D3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E02-C15D-4F0B-A819-AD21E722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BE9AF-2030-42AC-A092-63285CE7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88956-220A-4F88-983B-53B2390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5128B-37D8-403D-AECE-DCB2AF68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172EC-0634-44D6-9774-3E12A8F6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93DA-22C6-427F-93B6-DA37941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DF1AA-98A1-439E-8EEC-178B264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870AB-170C-4214-B3C2-F67BBC67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2BC6F-9BE4-464D-B20E-1F62A8E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32645-0192-4216-96CC-9A8167BF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4A469-A459-43AB-B165-CAAB6AF3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5DF-D56C-41BD-B0BC-615D5A48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2DC59-F72C-48A1-BC73-FB34529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A77FB-9719-4AAD-9125-9D20005B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8F93-D7C3-4B41-9E05-37D633D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8AC90-5DEB-4E97-921D-A5B445CD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5C87D-C178-487A-A76E-29BB5355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77B93-C024-40C8-9D15-991530E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8D66-F1D6-440E-BD98-F720786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6A143-A4F4-44B2-BE07-4120787A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7662D-6FDF-4F57-9B57-C5E9DAF6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F3D22-251E-4492-884D-68B0D65A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031-A89B-4F6F-BDBC-2D0F90E0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B03EB-A316-41DA-AFAE-907664BD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44936-1688-49C3-A9E7-DED604B5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BCCC7-C383-4340-99A7-E60ACA21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93BF9-407D-470D-896A-69275B97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EACC-4F9C-47E9-B794-9F5BEE29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35B2A-5F5F-4711-85AA-002793EF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991FA-6298-4418-8D6D-278C3A63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AD095-397A-444D-9B48-61D5FE14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45031-459D-4878-BE76-5C4FE9B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6EA09-80C6-4616-82D3-424E41B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D303-8CFB-43C9-88CF-DDAC1B14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2CD80-4851-447D-B5B9-B3EF95BD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8920-837C-491F-B88D-D083F180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8F900-B6C4-45A0-B7CF-BDCF2B4D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49CE4-4EA0-4A7E-B9F4-456770A6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E34B4-F927-47AE-BA21-0BC0E3DE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8435C-9E28-4FF6-9B83-4FEF1FFC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F6FB6-830F-4192-9B4D-BB164E31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0E320-394C-44B0-9243-7440A13C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974F3-A771-43C0-9238-F647C09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F6D34-21E7-4E3B-A707-EB70F3B2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96CD-15A5-4B0D-AF28-7EBC2894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6BFF76-BF8B-4105-94E3-6434DBE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CCC9-199D-4710-92A7-FEA3923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99FEF-43B2-41F3-A7E0-EBDAA431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59AD3-A948-4C6A-8FF0-7B174D78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9FFC9-7009-4F6E-93CB-EA589F49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10910-C81A-4D52-BD6E-DF40B937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2CE1F-D948-42D3-B1DE-B13560BF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4BCA9-482B-408D-B6CA-A5FF0F2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9CCC4-5FB8-403F-A935-89CB8343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0FD30-E724-4306-AB0B-93EF2008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0DF9-9C31-44EE-8F16-269A9DA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59F8C-1570-4E13-9BDA-BF1AB97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55FD2-1CE9-4A7C-A1F4-EA282FA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7AAC2-3F75-4955-9AA1-2A05F43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9B55A-2522-4272-8B13-1EDC378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D0626-D7E4-4CFA-A80B-B92C4C60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1060F-7025-4106-8A3F-8C4906B5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682B0-4193-4113-A6A1-0472760F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8373AA-CD05-4847-99F5-D8E6507D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180F4-155A-4837-AB7D-C4CAAB2A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8BE0C-D189-4041-A73C-A284C7E6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A4E7-BF35-4C73-9AD3-31287D52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B7470-72E9-4D84-BBD8-D6588A94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B6D5E-B338-4708-8E2A-813562D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D51C1-AC77-4E13-91D3-5B60BE9B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4B50C-A089-4BA2-B260-EA9D1D17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C2E40-30B4-4C9E-9260-B72C5BDD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E0FBD-1BE3-49BB-8CF6-F73D026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AB8E4-8544-486C-8705-C8038692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82953-B538-4150-A61F-EE4C356C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0D083A-F989-40A2-8E95-D7BE0AB0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F8057-2053-4CDD-BBF6-5C921E55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7A7D-DFB8-466A-9F85-31BD2E48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4CAC3-BA67-48D0-BBCD-B4973165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45FC1-8B80-4878-9556-E386602B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BF5EF-EF96-4434-AA7B-5889E723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87153-61AE-4DEE-B185-42CF197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869B80-48D8-4800-A6BB-630E46E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71B7E-D913-4885-9E16-020A894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1C634-106B-4F24-AFF7-9D57FF96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C8F2A-B8C8-43FC-BBB4-928924F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20A5E-9E72-41C6-BE30-7650544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997AE-11F8-47FF-8E26-8DA6B481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41BB-CF12-43D2-8934-06EA8B88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AFE92-0E5F-4F9B-9A8E-BD915520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2BFD5-5AB2-4924-8073-039D4FB7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1CB36-FFB5-495F-8E49-E08742B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F8B8B-31BE-4C5F-A01D-5B5C64A9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D1AB8-A3AC-4B8D-AF8E-9E998B3A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34C1B-4C68-48E8-A76E-78BFAE18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F3DEC-2AB4-48C0-BE16-95D15C5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ED21E-B169-4307-A76A-95BF95C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3B7A03-5EFC-4812-8EC6-B09026B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A61F6-1DA4-4497-AC1E-5826E5B5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5C0-DD77-4949-B660-49005277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117E6-96E1-4B0C-8FF1-20B5C3F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81E94-7F5D-451C-8F88-B275386E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475C0-68D9-4952-810F-9B3ABA49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91F4A5-B5AC-4C9D-8AB3-72346DA9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085AC-89B4-4D40-8EC0-FEDD41D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50C764-C0AE-4347-8DEC-5958499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DA205-9EBE-4B34-AAC0-EAFBF2C3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266CE-7565-4F51-94D5-0E3503E2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781E6-F0F0-42C7-AD77-256DB52C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6898B-2C8F-488F-A0C3-58074AF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3BF-4D86-4668-94A2-BA006A8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5DD0-3130-4A15-9A73-26AFFD3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05F30-4B2C-4FAE-AFBA-92E6E880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7E7DD-E210-4C9A-9AB7-DB97E53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92BDB-0056-4C54-888C-A81426FC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1129B-499A-42C5-BC5A-D80126A3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6213E-FAA5-4B1D-AA98-B4048369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DFDEC-6B38-4FB4-8286-4131817B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8CBB4F-0CE8-4BA4-9EAD-D291ADC1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8BA6C-59A7-48CF-9547-3CEBF7C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BDCFEA-D9FC-48B1-AA4D-86A4C8E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F0AE5-7802-43AA-9655-E25C92CF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B77E-CDF0-4129-83E4-7DE332FE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45D5A-3B72-47E7-8328-062676D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1666C-2C92-4289-B71E-15FC63A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C0A69D-C079-4937-803E-EDF3D279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80CB5-F8C5-4319-B56D-018D6655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8FBE2-0B89-409E-8F17-989607DA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E94258-62F1-4043-B730-AB81B5F5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DD697-2821-4CC5-B75E-4E480808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1DECC5-1F26-4C19-B1B7-2EB81680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AC65C-9DDA-4D34-B3E0-43DA884B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929CC-3315-4E51-9340-5FDA0E97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169C-C88A-4C9F-8FDE-93ECB9FF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31E95-E9AB-4B02-AC3A-55E06F1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8FCCFC-5FE3-486D-A9E2-0E70152F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86107-9045-4748-8748-49854375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82899-6B2C-4CFC-A4C5-969405D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ED451-0740-4156-AC30-4A68AC1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2225BD-93C3-48FC-B432-4432B88E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6C2B1-348F-4433-B326-90CC6C46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14048-EB8A-4BA3-B083-823C4D82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513BF-39BE-4110-8C7E-94BDD0F3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7B271-7CDB-4F44-BC65-2F366A8A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8D00-8B40-4260-B076-F0577AF2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E6C53-D157-4BAD-91F4-9313E22A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61D8C-995E-4B75-98CC-8F8E0CE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8A884-E992-46BC-9B0A-E8E0F082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35DD4-4D6F-4CEE-A597-46AB48D7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99BBB-2497-4AC3-88D4-5A786467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3C52F7-4EEE-4154-945C-5A7520F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D7358A-43DE-4A20-8576-65CF3790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37841-FBD1-4449-B0A2-F6BC9A5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A8E896-361A-47B8-AAE4-9F1CE340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4EB88-60AF-41EF-B79E-A26F8A92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272-3F92-482D-BD9A-46510882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CC96C5-BF4E-439E-93A6-D61FF370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12D79-3178-482D-97B4-B3BB1FC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0CA96-D5CE-415D-AD16-3CF1602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0FF2F-34BC-43BD-88DA-12F55D7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AF2A3-2E04-4EBF-A043-065B6E2B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E4AC1-DB47-44D0-A476-5809EB63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C0279-22FD-4736-9DC8-EE194CB2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86BF5-6372-43C6-861E-9C485361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DBC27-F1D6-4A5F-AED3-98702CC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84D02-C820-4F3A-A29F-1A5FAF36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21CE7-9DA5-478B-A9C8-7CF51D88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24C44-E9DA-43FD-A0D2-E4700C21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34214-27EC-480A-A60B-9BECBEA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3B0BB-DCAF-4808-8C61-322837C1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387594-6A1C-429A-95A3-CEEB481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13836C-D83D-4BB8-BB8A-6C1122D7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69BA24-9C9E-40F0-B10F-933EE455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66C6D3-3CDC-4B19-AD80-474E8493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51007E-FD4C-4998-9C97-6CA59F04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16D8F1-40E8-4AB0-9206-4BE4431C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D20E5-FA10-42E9-87A9-C36948E7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912F-AD4C-4EB6-A43E-E4E8F45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F253E0-5A86-4ACC-AE4E-099BC571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F13153-335D-4058-8137-6843E3B7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A0D4A6-4F61-4300-94D4-5EDB14D7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284280-D653-4C91-A90F-48DB7294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7CB1C-7FE7-4962-ACA3-9E011924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4535D1-B25D-4146-8006-F44F14D8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A82F21C-9F71-44EB-88C2-4BA8993E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A9DAF8-1F80-45A0-AF33-F508E42E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68D6CE9-2168-410A-9C18-D55A3911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8AA6D7-FD94-4F4E-8CD3-77E5815E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05EF-BE18-4F31-BD05-C9C4E41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F8F615-A235-41B7-938D-C19CB527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5DB4327-6474-458D-AC84-47AD9C1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5BFF30-8353-4E76-BA08-2982EACC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10AA2F8-5D7E-49B1-9230-15AE3F86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DF184D-005C-433E-AEFA-39E7A506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3082A5-ECB8-42AE-99CB-EA60D7C5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3087FBB-8E16-461D-B92E-8CE13FE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CC4CCD-B3DC-416B-A0C0-1138B623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07D015-1DFC-4930-B5DA-CE68EDA8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444BBF-348D-434C-97F4-4E4BE5CC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96F8-EA03-4B8B-8046-4859756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E9B28D-9449-4514-A614-BC0D7DF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5C86D-6D3B-4118-BF44-94E13D1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3C48AC-FB74-4A58-AFE5-ABED69A0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D534E-0B9E-4297-B3DC-79E5CF8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0682D-A6C5-48CD-AFC2-BD8D190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F50068-FBB9-4D51-B078-6F24D33D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A9772E-A629-4FEB-B2BF-AEB9B3A9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E74D69-8EA1-4889-83CE-0664DFB8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C3936-8AD0-4FD4-879E-060CDB28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389C89-719A-4FD1-B03B-0D0912EA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3E9B-7109-4E83-9C1E-4E962FC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79D828-6539-4D59-B926-13321D96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2D136E-AF72-4202-8FF9-FDC6BAFF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836D03-EDB6-46CF-9D5F-8C51AD5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F0921B-B01F-4D7F-967F-D1A6D818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982563-0931-4F79-B2FF-BDAE0CCF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8446EA-90AD-439C-B89B-776EB05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15A738-307C-4D95-936A-514A290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B4C06E-11E0-4C64-9796-CBDD9F98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BB691B-3385-4689-AAFE-17A3911D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F3FBCC-9199-4B98-9CDF-C0DD58E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960-2030-4AEE-938A-64FD25FF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2B86-D720-4C3B-871F-B7250F27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6A070B-FEAA-4DA0-8A6D-4B4127B3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7CFF15-EA01-4B4A-959B-B1507EAD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2FDF75-406F-4F37-B411-317EDA87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E649A-370E-4A99-BC83-65DE329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5B75C-1CC8-4360-92CF-0371569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D73363-49F0-4695-8383-A5EA001E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C0451-147F-46AB-BF53-FA56C93D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C16031-DB6C-494A-9EFE-9A177F43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3FA740-AE46-4012-93B1-6EDC56CE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E2D5CC-FD75-4EC4-9F25-D80B6233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6533-9C3A-4F95-83F3-FEBB22F6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F97780-6747-4299-9D87-1E8C142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9BF043-B3E0-4E4D-BEBF-0B44CFD1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43A7C4-8FB8-4E1D-87CE-B7441077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53DB7B-76A0-4A82-9873-B0639A5E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2C6B58-EF03-4FEC-AD21-887E2447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98E7C1-9E8C-47AB-9968-44D9501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553A0F-758F-4722-A66F-52CAAF94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D2C882-107B-4AE1-B0E2-9372D6A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9AC056-1800-4CA8-B164-DE1DA74C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8F26DC-692D-43BC-936F-49CD4F6C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79E9A-B661-4839-B0DB-0B5FA1E0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90576-6177-416A-B2EC-4A2CD80E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1AB25-5180-4145-AA67-E63FB00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18422E-2251-4057-B3BC-3E9064BE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AF1C8-A976-4CA8-802D-C85DDA92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A34606-0EB2-4C5D-AFDB-01FCFAF1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8A8AD4-072B-45AE-B1AD-EF094F09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C0FF4E-92DE-462E-93DF-EB08D541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FC828E-5BB6-4C14-9A9C-D323DF27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7B6EA-F901-4EBB-8568-242C9E6B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181528-3C7B-4C6B-B177-3EAD8F5E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BC09D-C25B-4372-A301-9E30458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1A1CA3-D16E-42AB-B792-B433DCF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AF75A-7340-41C6-A0CC-AB62911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55276A-7D98-44A2-A6E3-F457A9C2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547077-9466-4DED-BBB9-9DED527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E83860-BDEC-44FA-AFDD-0709F1A9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534A14-C3CD-48E9-9568-B8547D00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D455A9-EEDB-4BEE-9B14-1CF83674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499A5C-1CAE-4629-BA93-2DB0259C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560F0C-B783-44FD-AFEE-929D776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661EB1-4E05-45D5-AF9F-96F3125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69F4-9E6A-42E7-A537-E787B90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861540-FC28-439C-8DC0-5AF3ED7A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98362-3D5D-4DA3-AEFC-4A8A8D0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BF718A-3F4E-4F8A-ADEB-64ED54C4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9CE7CF-CBFE-45C7-9C42-2E10FC4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EA19B6-7AF8-4509-B445-4575BD69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E1FC5-4AFA-425B-BF0C-2D6306D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361C7A-5E7E-44F5-A8D2-DF50C61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E6A6CB-D8F9-4F27-8C17-A1618A07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AB85C6-07D8-4830-931C-016A86FC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F4AA94-4171-4584-897A-60E281A3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AFAA-CDDD-4106-B1A8-438356ED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CBBE7E-E9C9-4BF1-AD23-703519B7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A5A705-7C84-47A4-9870-D5F33F9A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81890E-9D83-4322-9B8E-57F23F82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D5430C-FBF1-4179-BDD4-A5A82560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77450E-4FE6-47F6-8AF7-FDBC6A96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46337F-EEBF-4CBA-B4FA-7B8DCBC5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8CB2EE-375D-4716-A969-C488D39D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379073-FB56-4D4A-A189-589A77FA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CF291C-49DD-4818-9D48-3686E60F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CA9C33-7BCB-4F93-B825-B81CDD44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1734-8A81-48CA-9B2B-C8FA750D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E57C2-7938-4839-BCC2-5BD00AE8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62883C-66D1-4A00-8F61-8DBEA733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5321DD-BCD2-46E3-B64C-7B7F8AD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18EE8C-DC7E-43FF-B4B5-7A4667E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FE27A9-ABBE-4CAE-8F30-538D07E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E26776-E260-4E46-AD56-61A83D43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EA7845-09F3-4967-8197-4A185068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357A8E-BA5A-4362-8684-6A2C41C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7CA463-8E85-4D28-A2D0-EEC1AE9D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7E20A6-2F7A-49E5-A23A-6713F54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3038-4EC5-4339-A65F-802E8304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17ABC0-3991-4E40-B5DC-FE52F5EA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9C3267-759C-42E1-87BB-05725F46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F6ADC9-1C86-45F3-A01E-00D93FE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2DFDDA-5872-41FB-B0E3-642739EB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895755-3935-40B4-BA01-EFC04ADE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0C9A35-642A-45AB-89BB-3DD8A9FD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AE625D-7BD7-4FBD-B960-9BAF459B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9ACCDA-C52E-4900-9C4E-44FA250E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25087C-B9FC-4CCC-A7B1-5C1ECD85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8C9CFC-085B-4E06-A7C9-25619130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C1BD-2178-4F96-AB70-15EB0DC0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81339D-04E8-44C6-91CA-2F9F9D7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87A9B3-6D47-4469-A9DE-B2C54A7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A7CABF-3B14-4416-B14A-9E3DE3FB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268524-D563-4293-AA53-3042BBF8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0F7DF-E330-4164-92AA-C9FBF373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9549EE-C851-45A6-B4B6-D9A3A77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CDB1A8-3E97-4BDB-9E6B-FD389C0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AEECD8-AF70-4777-9DBD-E38DE21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A581A1-49A6-4809-8582-D6A877B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A2127E-9E0C-46BF-A8B6-14AE65F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CFD2-6112-42A6-8C7C-C73BEA7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88ACC2-B7BF-41C1-B57F-0253B5B9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BF0091-A37A-46FD-ACBB-377C9A2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9D9591-5C3F-4FD2-A9F7-265E8E77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F0C62F-6271-4F5C-A232-01DF856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57FA16-8C96-49C5-B08F-37AF7E44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8FD84F-FD9D-44FB-998B-259FC35D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EE386F-3DF5-4139-A0D7-98D1885B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AAEE9C-AB2D-4EC9-B9C5-55F13739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B970A2-8DD1-459C-A949-51C9035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58860C-1657-44A9-986D-E5D1D76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2F8-69C6-4C39-9A97-F54422D9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4E45-49EB-43C6-9FA3-312FABC5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A06755-F7B0-4648-8658-FAB8CB5F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CA3BD2-CCA9-485F-9267-F7561B45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DCC677-5C32-482F-9FDA-FF823054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FF0FA7-7347-4FA5-A1C3-AB8D91D7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6A4328-DB2E-4BD6-8E3D-A673F26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315DB7-1545-40BE-8297-0A8D27C5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582E79-B587-44B4-9D99-96A9300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7BA5CA-656C-4C3C-B67D-31FE79E0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FA99D0-C9AB-4942-80F5-816A61B5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0FC7B5-9421-4CE3-A3BA-1110504C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4691F-CAF6-4AB5-A30E-DBB89285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26F96D-2D61-4D80-B87E-F46972D2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30689B-F2A7-434B-92A1-408CC75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9FF5291-5FE3-4B79-B68C-698020BD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424777-D5FC-4698-8BA7-32EC246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20F445-863B-448A-A027-805569EF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C33150-7F1E-434E-A8EB-47DC272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D94F7C-3F9F-4824-8A57-BD853068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C9DEAA-E316-4F4F-999C-88B07B3D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2D759B-842E-4F70-9141-2AC3B18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E29C7B-185E-4BA0-AB95-41A9C635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6964-3A4C-4BE2-AEE5-B27767B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496DF4-77A7-4940-BEFE-6C8C550C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64BE0F-3776-4686-B477-0D216A36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972362-064D-4193-A522-F2320C5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407DAB-4103-4C6A-A637-B94E4E13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20DE88-9E06-4F81-A8EC-1AC7FC1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428F7D8-F7B8-4312-8338-9C7A9E78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0893D8-8A74-482D-99BE-1F32BE3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E16B44-1A4B-4E71-9060-20428AA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BF5E50-D3A5-4545-9076-5C86026A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C181E0-2B04-48B9-9FE1-2ED069B9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59F3-ED2B-44C1-BD1C-E3D9C4D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375BF0-C069-4810-AF9A-24B28FED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077EF0F-BFDC-433D-95EE-2DE7B41C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BB49CD-E2E1-47C5-8163-EC855C01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EEEA02-8BD9-471C-8FAC-DE07EA99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BB03C9-D084-4708-9077-8E2D234D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0886BB-4A12-4593-A7BA-4C157A43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BB3B77-7A7C-40BC-BF8F-6DB25A3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33EE64-23C4-4F44-9DBB-E803B4F2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5B87AF-800C-4653-A9C1-4BA43A47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3B44A3-D97E-4AE6-90F4-4D73575C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B0BA-4494-469F-B4F4-2EA5343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79E531-0ED8-48A6-811D-FC4C62B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1D6C51-1DC6-4845-927E-0896A6E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D9486F4-D076-47E7-8B43-D6D4F81C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43FCC8-40CE-4F63-994A-5DAF65D2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7DD0BC-7073-4AA6-8243-65F9B395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FEB18-C69F-403F-A9B5-746BDF9C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F147-BA56-465C-9D19-D9CB4755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8AEA-EF4E-4CF0-8FA1-4D2478F5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BBBC-C486-4ECC-A1C9-156C4343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6DB8-DFE9-405F-B9FD-A36867AF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F163-836D-4A5A-B447-439AA68E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F5679-219D-4C62-9FAE-6EDAA513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08CB-2974-4230-BCB3-F1087BEB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50DBE-EFE6-4632-A6B6-AB927538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DFD6-8CB6-4215-A2AB-82ABE1EA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2032-B233-4507-8D7C-51CA6B5D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94805-5647-47E0-82C7-77FF36B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8049B-E298-4BDE-836D-24BF49C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4BF8D-EAF8-479B-812F-A3C0588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61363-AC38-4095-AAC3-6574792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582D-3BE2-4FF5-8DD1-53419C0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68D-446D-4FDE-864E-2385307C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6725D-84B2-4AB0-BBE2-1CCD5A45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11503-F1C1-4846-8F2B-DF420C8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D1BC9-B342-4194-91B5-0632A3DD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06BF1-895E-4118-9B70-D5230D5F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42C63-75FB-4BD1-B19F-AFE2EE0D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C2DED-FA47-4448-92E5-4A6D6DBE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C19A0-95B5-484F-A485-7ACF51E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C838D-1B57-421E-BBD9-A1C7EDF6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0DD42-E53A-4B82-8B59-AD11284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341AEA-CEAB-400A-88CA-5C03F87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984-DB17-496E-98D6-8A5039F6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CF98E-7182-4D6C-9249-6D733669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9CFD9-7FBC-4758-856F-5804E728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B1BD4-7228-4DAC-8D46-DB485EEC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BCE7A-6A42-49EC-844D-E4DB2108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6AED2-FF80-4229-8535-660FD9F9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729D-D570-4E99-8035-B908E790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6228-68DB-4E1B-9528-6EB8C159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D30C7-C35F-4D79-B352-14807C5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3ACC6-3ABD-491B-B5E6-1CECDE5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40340-02D1-48AA-917F-47199551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DD3-4C61-4B8A-8D03-39DB792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CD17-9BE4-4987-81E7-42F26559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7624-3457-4FA4-898A-AC20C40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E84B6-3326-4E6C-9894-3DE9D61C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1A53F-C5F2-4054-A876-607E5CAE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B5C2-D732-4BFE-AF9F-50865CB1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DEF1-3485-4B28-BE85-4B2342A2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74CE4-BAF5-4FB5-9A17-D3FDB6EA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6D2A-7A4A-4D62-AFEB-292F4A7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5957F-4CF5-4A34-A255-3FB5CAB8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3F41-402F-4A59-831F-665E1EEA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78F-F1FD-4E1A-8351-AFC9886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B318-5D66-48F7-83DA-BE38FE36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18CF0-D3A6-4D34-9809-06C6D1F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29DDA-5A94-4E7C-A257-212F9D7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CF316-DF2D-42BA-897F-44BA489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37167-E65A-43F3-BD71-45CE9686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5428-BD7C-4A01-925F-4F6FA50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36BBA-864F-47E4-8588-792D3A55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936DD-AA5F-490F-A6D2-3445E8D0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EAA8C-E27A-47E2-8F2D-3333D77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D60F-76F7-4CEA-BF3F-26AE108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37.xml"/><Relationship Id="rId8" Type="http://schemas.openxmlformats.org/officeDocument/2006/relationships/slideLayout" Target="../slideLayouts/slideLayout338.xml"/><Relationship Id="rId9" Type="http://schemas.openxmlformats.org/officeDocument/2006/relationships/slideLayout" Target="../slideLayouts/slideLayout339.xml"/><Relationship Id="rId10" Type="http://schemas.openxmlformats.org/officeDocument/2006/relationships/slideLayout" Target="../slideLayouts/slideLayout340.xml"/><Relationship Id="rId11" Type="http://schemas.openxmlformats.org/officeDocument/2006/relationships/slideLayout" Target="../slideLayouts/slideLayout341.xml"/><Relationship Id="rId12" Type="http://schemas.openxmlformats.org/officeDocument/2006/relationships/slideLayout" Target="../slideLayouts/slideLayout342.xml"/><Relationship Id="rId13" Type="http://schemas.openxmlformats.org/officeDocument/2006/relationships/slideLayout" Target="../slideLayouts/slideLayout343.xml"/><Relationship Id="rId14" Type="http://schemas.openxmlformats.org/officeDocument/2006/relationships/slideLayout" Target="../slideLayouts/slideLayout344.xml"/><Relationship Id="rId15" Type="http://schemas.openxmlformats.org/officeDocument/2006/relationships/slideLayout" Target="../slideLayouts/slideLayout345.xml"/><Relationship Id="rId16" Type="http://schemas.openxmlformats.org/officeDocument/2006/relationships/slideLayout" Target="../slideLayouts/slideLayout346.xml"/><Relationship Id="rId17" Type="http://schemas.openxmlformats.org/officeDocument/2006/relationships/slideLayout" Target="../slideLayouts/slideLayout347.xml"/><Relationship Id="rId18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349.xml"/><Relationship Id="rId35" Type="http://schemas.openxmlformats.org/officeDocument/2006/relationships/slideLayout" Target="../slideLayouts/slideLayout350.xml"/><Relationship Id="rId36" Type="http://schemas.openxmlformats.org/officeDocument/2006/relationships/slideLayout" Target="../slideLayouts/slideLayout351.xml"/><Relationship Id="rId37" Type="http://schemas.openxmlformats.org/officeDocument/2006/relationships/slideLayout" Target="../slideLayouts/slideLayout352.xml"/><Relationship Id="rId38" Type="http://schemas.openxmlformats.org/officeDocument/2006/relationships/slideLayout" Target="../slideLayouts/slideLayout353.xml"/><Relationship Id="rId39" Type="http://schemas.openxmlformats.org/officeDocument/2006/relationships/slideLayout" Target="../slideLayouts/slideLayout354.xml"/><Relationship Id="rId40" Type="http://schemas.openxmlformats.org/officeDocument/2006/relationships/slideLayout" Target="../slideLayouts/slideLayout355.xml"/><Relationship Id="rId41" Type="http://schemas.openxmlformats.org/officeDocument/2006/relationships/slideLayout" Target="../slideLayouts/slideLayout356.xml"/><Relationship Id="rId42" Type="http://schemas.openxmlformats.org/officeDocument/2006/relationships/slideLayout" Target="../slideLayouts/slideLayout357.xml"/><Relationship Id="rId43" Type="http://schemas.openxmlformats.org/officeDocument/2006/relationships/slideLayout" Target="../slideLayouts/slideLayout358.xml"/><Relationship Id="rId44" Type="http://schemas.openxmlformats.org/officeDocument/2006/relationships/slideLayout" Target="../slideLayouts/slideLayout359.xml"/><Relationship Id="rId4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6B1-35F8-47F4-8F21-3F45D0CC3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2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12B-9AF8-48E9-8FDE-E2F401227AE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8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9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456-F240-4E63-9A80-D21ED0A5347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6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6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6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7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8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0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8132-180C-46C3-9B93-256A57A627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5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9BD-99D2-4B6E-8D98-6477702EC9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411-937D-46D2-97A2-999EE516EC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5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5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6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662-53CB-4E1B-B812-A4D1AA4C87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4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4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4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4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52BE-8745-410B-B519-6C25A1AD22A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19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C233-786D-4BF1-B6BC-680380B467A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6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 type="dt" idx="5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 type="sldNum" idx="5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20B6-47DC-4586-AFCF-E7053C9AFB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5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5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CC8E-3109-44A9-826E-30E64CB644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E6EE-7387-4A45-B8A0-0B1E2004517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4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4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4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5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060-7137-4C7D-BB8F-EFAF5AB92B8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2F2-1D3A-421A-95FE-7EBCFD1DB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552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553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556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55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55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0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561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562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4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565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7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568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9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0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571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2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3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574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577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8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9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1580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1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2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1583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4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5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1586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7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88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1589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0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1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1592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3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4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1595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6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7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1598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9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0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1601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2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3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1604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5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6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1607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09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1610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1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2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1613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4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5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1616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7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8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1619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0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1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1622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3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4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6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1627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8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9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1630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633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5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1636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7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8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1639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0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1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1642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3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4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1645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6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7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1648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9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0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651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1654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6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657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8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59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1660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1661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9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670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000-80E1-4111-B9D9-7EB7FF6777D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26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30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32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9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7D9-00A5-4832-A0D1-9D9EE2A873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78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809-F3BF-441B-97D9-AFEE3BA3FFA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03A1-59E1-4831-9A88-8D62DEC5A60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2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AAAE-535E-425E-9D18-A7025D09F0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971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972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97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4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97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8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97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80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98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82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98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19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020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1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2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3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4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5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6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7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8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9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0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31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3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06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06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07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1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08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8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089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C49-E82F-429E-A23D-8D6476F712B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3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230F-FC76-4FDD-88CD-4480437514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19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0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CB0-1D9B-41F7-BD4B-3CE3CD5E6AE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7"/>
    <p:sldLayoutId id="2147484014" r:id="rId8"/>
    <p:sldLayoutId id="2147484015" r:id="rId9"/>
    <p:sldLayoutId id="2147484016" r:id="rId10"/>
    <p:sldLayoutId id="2147484017" r:id="rId11"/>
    <p:sldLayoutId id="2147484018" r:id="rId12"/>
    <p:sldLayoutId id="2147484019" r:id="rId13"/>
    <p:sldLayoutId id="2147484020" r:id="rId14"/>
    <p:sldLayoutId id="2147484021" r:id="rId15"/>
    <p:sldLayoutId id="2147484022" r:id="rId16"/>
    <p:sldLayoutId id="2147484023" r:id="rId17"/>
    <p:sldLayoutId id="2147484024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017-186A-479B-8219-09BFCEF2A7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2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273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277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278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279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280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1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2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8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6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9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16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dt" idx="8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ftr" idx="8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5"/>
          <p:cNvSpPr>
            <a:spLocks noGrp="1"/>
          </p:cNvSpPr>
          <p:nvPr>
            <p:ph type="sldNum" idx="9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4BE1-8062-4097-83F1-72C83D5ABE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4"/>
    <p:sldLayoutId id="2147484027" r:id="rId35"/>
    <p:sldLayoutId id="2147484028" r:id="rId36"/>
    <p:sldLayoutId id="2147484029" r:id="rId37"/>
    <p:sldLayoutId id="2147484030" r:id="rId38"/>
    <p:sldLayoutId id="2147484031" r:id="rId39"/>
    <p:sldLayoutId id="2147484032" r:id="rId40"/>
    <p:sldLayoutId id="2147484033" r:id="rId41"/>
    <p:sldLayoutId id="2147484034" r:id="rId42"/>
    <p:sldLayoutId id="2147484035" r:id="rId43"/>
    <p:sldLayoutId id="2147484036" r:id="rId44"/>
    <p:sldLayoutId id="2147484037" r:id="rId4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36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dt" idx="9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 type="ftr" idx="9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 type="sldNum" idx="9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AC8B-3891-4441-B2FE-7ADEA6E025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4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 type="dt" idx="9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 type="ftr" idx="9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FCFE-5393-4284-A1EA-14297E8894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46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46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7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 type="dt" idx="9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A864-231C-4746-968D-BDAB7C92A1E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65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0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0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9620-096D-4491-9975-CE55E43D68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7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A2E-A1F7-4A37-810C-4F8E9A1086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5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 type="dt" idx="10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 type="sldNum" idx="10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4264-418C-439D-825A-536F76DD15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1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1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82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10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11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11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7B70-F93F-492C-903A-0D144A46D61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1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2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1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4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7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0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3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6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7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2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5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7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6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09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2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7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6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29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8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1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4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7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4661-72F9-4A1B-BC7C-256F95E995DC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1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1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5D2-4933-4FDC-8F94-2ACBD2A0C9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F7E0-71D6-48E6-B5F7-3F1B4D14AF5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380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363-3D55-46ED-AFB5-31909CF622F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9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989-3B76-4E8F-A879-86E5377BA88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55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55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56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6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56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6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56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6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57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60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60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1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5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65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65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66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67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1" name="PlaceHolder 1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4DA9-0CD6-40A5-8852-F84502AC39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anetolog.ru/map-continent-big.php?id=AFR&amp;scheme=4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9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8" name="Picture 4" descr="Политическая карта Африк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0"/>
            <a:ext cx="5319720" cy="6454800"/>
          </a:xfrm>
          <a:prstGeom prst="rect">
            <a:avLst/>
          </a:prstGeom>
          <a:ln w="0">
            <a:noFill/>
          </a:ln>
        </p:spPr>
      </p:pic>
      <p:sp>
        <p:nvSpPr>
          <p:cNvPr id="2869" name="AutoShape 7"/>
          <p:cNvSpPr/>
          <p:nvPr/>
        </p:nvSpPr>
        <p:spPr>
          <a:xfrm rot="2860200">
            <a:off x="3132000" y="2298240"/>
            <a:ext cx="1143000" cy="358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WordArt 8"/>
          <p:cNvSpPr txBox="1"/>
          <p:nvPr/>
        </p:nvSpPr>
        <p:spPr>
          <a:xfrm>
            <a:off x="3657600" y="216000"/>
            <a:ext cx="22575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игер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Абеокуте родились многие известные нигерийцы, такие как музыкант и певец Фела Кути, писатель Амос Тутуола, писатель и нобелевский лауреат Воле Шойинка, архиепископ Питер Акинола, президент Нигерии в 1999—2007 годах Олусегун Обасанджо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0" name="WordArt 4"/>
          <p:cNvSpPr txBox="1"/>
          <p:nvPr/>
        </p:nvSpPr>
        <p:spPr>
          <a:xfrm>
            <a:off x="320040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женц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1" name="AutoShape 5">
            <a:hlinkClick r:id="rId3" action="ppaction://hlinksldjump"/>
          </p:cNvPr>
          <p:cNvSpPr/>
          <p:nvPr/>
        </p:nvSpPr>
        <p:spPr>
          <a:xfrm>
            <a:off x="8077320" y="5638680"/>
            <a:ext cx="1066680" cy="121932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219320"/>
              <a:gd name="textAreaBottom" fmla="*/ 1150200 h 121932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род находится в 90 км к северу от Лагоса на реке Огун, имеющей ширину в районе города до 200 метров и судоходной для небольших лодок, вблизи гор Олумо, которые являются для него защитной природной оград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3" name="WordArt 4"/>
          <p:cNvSpPr txBox="1"/>
          <p:nvPr/>
        </p:nvSpPr>
        <p:spPr>
          <a:xfrm>
            <a:off x="3124080" y="914400"/>
            <a:ext cx="27910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04" name="AutoShape 5">
            <a:hlinkClick r:id="rId1" action="ppaction://hlinksldjump"/>
          </p:cNvPr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ном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Центр аграрного района, специализирующегося на выращивании какао. Пивоваренная и цементная промышленность, производство пальмовой масла, велосипедных шин, деревообработка. Город является транспортным узлом на пересечении железнодорожной магистрали Лагос-Кано и автодорог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AutoShape 4">
            <a:hlinkClick r:id="rId1" action="ppaction://hlinksldjump"/>
          </p:cNvPr>
          <p:cNvSpPr/>
          <p:nvPr/>
        </p:nvSpPr>
        <p:spPr>
          <a:xfrm>
            <a:off x="7696080" y="56386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9792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2" h="21600">
                <a:moveTo>
                  <a:pt x="6285" y="3794"/>
                </a:moveTo>
                <a:lnTo>
                  <a:pt x="7947" y="3794"/>
                </a:lnTo>
                <a:lnTo>
                  <a:pt x="7947" y="17806"/>
                </a:lnTo>
                <a:lnTo>
                  <a:pt x="62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Лаго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го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Lago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йоруба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Èk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портовый город на юго-западе Нигерии, самый большой город страны. Имея население более 7 миллионов человек и более 10 миллионов в метрополии[1], Лагос является вторым после Каира городом в Африке по этому показате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начально Лагос был небольшим поселением племени йоруба, за время европейской колонизации и независимости став важнейшим коммерческим центром Ниг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город занимает практически всю территорию штата Лагос и состоит из большого числа районов, соединённых и разделённых между собой автомагистра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агос был столицей Нигерии до 12 декабря 1991, потом столица переместилась в город Абудж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AutoShape 4">
            <a:hlinkClick r:id="" action="ppaction://hlinkshowjump?jump=nextslide"/>
          </p:cNvPr>
          <p:cNvSpPr/>
          <p:nvPr/>
        </p:nvSpPr>
        <p:spPr>
          <a:xfrm>
            <a:off x="8077320" y="57150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WordArt 4"/>
          <p:cNvSpPr txBox="1"/>
          <p:nvPr/>
        </p:nvSpPr>
        <p:spPr>
          <a:xfrm>
            <a:off x="838080" y="609480"/>
            <a:ext cx="1952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2" name="WordArt 5"/>
          <p:cNvSpPr txBox="1"/>
          <p:nvPr/>
        </p:nvSpPr>
        <p:spPr>
          <a:xfrm>
            <a:off x="2743200" y="236232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еография и клима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3" name="WordArt 6"/>
          <p:cNvSpPr txBox="1"/>
          <p:nvPr/>
        </p:nvSpPr>
        <p:spPr>
          <a:xfrm>
            <a:off x="2362320" y="3809880"/>
            <a:ext cx="23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4" name="AutoShape 8"/>
          <p:cNvSpPr/>
          <p:nvPr/>
        </p:nvSpPr>
        <p:spPr>
          <a:xfrm>
            <a:off x="8305920" y="304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0391" y="10800"/>
                </a:moveTo>
                <a:lnTo>
                  <a:pt x="20896" y="3794"/>
                </a:lnTo>
                <a:lnTo>
                  <a:pt x="20896" y="17806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8546" y="3794"/>
                </a:lnTo>
                <a:lnTo>
                  <a:pt x="8546" y="17806"/>
                </a:lnTo>
                <a:lnTo>
                  <a:pt x="6883" y="17806"/>
                </a:ln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тор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гда Лагос был поселением йоруба, авори называли город Эко, что означает «ферма» или «лагер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472 португалец Секвейра высадился здесь и назвал эту область Лагос, что означает «озёра». В 1704—1851 Лагос был центром работорговли. В 1841 Оба Акитое взошёл на трон в Лагосе и запретил работорговлю. Работорговцы устроили бунт и устранили короля, водрузив на трон его брата Оба Касоко, Оба Акитое вернулся из изгнания с англичанами, которые помогли ему вернуться на трон в 1851 и запретить работоргов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7" name="AutoShape 4">
            <a:hlinkClick r:id="" action="ppaction://hlinkshowjump?jump=previousslide"/>
          </p:cNvPr>
          <p:cNvSpPr/>
          <p:nvPr/>
        </p:nvSpPr>
        <p:spPr>
          <a:xfrm>
            <a:off x="7924680" y="30492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ография и клима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Город расположен на островах и на побережье залива Бенин (часть Гвинейского залива) Атлантического океана. Климат экваториальный, осадков свыше 1800 мм в год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AutoShape 4"/>
          <p:cNvSpPr/>
          <p:nvPr/>
        </p:nvSpPr>
        <p:spPr>
          <a:xfrm>
            <a:off x="777240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1615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9770" y="3794"/>
                </a:lnTo>
                <a:lnTo>
                  <a:pt x="9770" y="17806"/>
                </a:lnTo>
                <a:lnTo>
                  <a:pt x="8107" y="17806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Экономи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Лагосе сосредоточена примерно половина промышленности Нигер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3" name="AutoShape 4"/>
          <p:cNvSpPr/>
          <p:nvPr/>
        </p:nvSpPr>
        <p:spPr>
          <a:xfrm>
            <a:off x="807732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Майдугур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Майдугури является административным центром нигерийского федерального штата Борно. Численность населения составляет 1.197.497 человек (на 1.01.2009). В городе имеется университет, городской музей. С 1964 года к Майдугури проложена ветка транснигерийской железной дороги, связывающая город с побережьем Гвинейского залива (до Порт-Харкорта). Международный аэропорт. Большинство населения относится к народности хауса, проживают в Майдугури также канури и арабы шува. Язык преподавания в университете — английский. Преобладающей религией является ислам, есть также христианское меньшинство. Город Майдугури является традиционным торговым центром Северной Нигерии. Жизненный уровень в Майдугури выше, чем в среднем по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6" name="AutoShape 9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4053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  <a:path fill="darken" w="35103" h="21600">
                <a:moveTo>
                  <a:pt x="10545" y="3794"/>
                </a:moveTo>
                <a:lnTo>
                  <a:pt x="12208" y="3794"/>
                </a:lnTo>
                <a:lnTo>
                  <a:pt x="12208" y="17806"/>
                </a:lnTo>
                <a:lnTo>
                  <a:pt x="10545" y="17806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оружённые сил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оружённые силы Ниге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англ.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Nigerian Armed Forc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 — совокупность войск Республики Нигерия, предназначенная для защиты свободы, независимости и территориальной целостности государства. Состоят из сухопутных войск, военно-морских и военно-воздушных с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1" name="Picture 5" descr="Флаг Нигер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2" name="WordArt 27"/>
          <p:cNvSpPr txBox="1"/>
          <p:nvPr/>
        </p:nvSpPr>
        <p:spPr>
          <a:xfrm>
            <a:off x="914400" y="609480"/>
            <a:ext cx="1676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73" name="WordArt 28"/>
          <p:cNvSpPr txBox="1"/>
          <p:nvPr/>
        </p:nvSpPr>
        <p:spPr>
          <a:xfrm>
            <a:off x="3429000" y="2971800"/>
            <a:ext cx="2381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пад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74" name="WordArt 29"/>
          <p:cNvSpPr txBox="1"/>
          <p:nvPr/>
        </p:nvSpPr>
        <p:spPr>
          <a:xfrm>
            <a:off x="6781680" y="487692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фри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5000"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3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коном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WordArt 4"/>
          <p:cNvSpPr txBox="1"/>
          <p:nvPr/>
        </p:nvSpPr>
        <p:spPr>
          <a:xfrm>
            <a:off x="914400" y="1600200"/>
            <a:ext cx="4200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льское хозяйс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1" name="WordArt 5"/>
          <p:cNvSpPr txBox="1"/>
          <p:nvPr/>
        </p:nvSpPr>
        <p:spPr>
          <a:xfrm>
            <a:off x="0" y="3733920"/>
            <a:ext cx="86486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фтедобывающая промышле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32" name="WordArt 6"/>
          <p:cNvSpPr txBox="1"/>
          <p:nvPr/>
        </p:nvSpPr>
        <p:spPr>
          <a:xfrm>
            <a:off x="1371600" y="5257800"/>
            <a:ext cx="737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батывающая промышлен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3" name="AutoShape 7"/>
          <p:cNvSpPr/>
          <p:nvPr/>
        </p:nvSpPr>
        <p:spPr>
          <a:xfrm>
            <a:off x="8381880" y="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ельском хозяйстве занято 65 процентов населения. В колониальное время оно носило натуральный характер. Основными продовольственными культурами являются ямс, батат и кукуруза. Многие земли орошаются. Выращиваются также какао-бобы (340 млн. т), натуральный каучук (112 млн. т) и хлопчатник (0.4 млн. т.)Развито животноводство. В 2002 году в стране насчитывалось 20 млн. голов крупного рогатого скота, 22 млн. овец и 5.5 млн. свин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6" name="AutoShape 4"/>
          <p:cNvSpPr/>
          <p:nvPr/>
        </p:nvSpPr>
        <p:spPr>
          <a:xfrm>
            <a:off x="815328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фтедобывающая промышленнос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фтедобывающая промышленность - основа нигерийской экономики. Нефть дает 90 процентов экспортных доходов страны (в 2002 году это составило около 8 млрд. долларов в год[1]). Нигерия первый в Африке и восьмой в мире экспортер нефти. Первая в Нигерии нефтяная скважина была пробурена в 1958 году. Большая часть запасов нефти сосредоточена в дельте реки Нигер. Для увеличения доходов Нигерия продолжала наращивать добычу нефти, но в 90-х годах цены не неё были низкими. В Нигерии ежедневно добывается 2,1 млн. баррелей нефти. Разработка нефти ведется Нигерийской национальной нефтяной компанией [2] (75% доходов от продажи нефти), а также компанией Royal Dutch Shell [3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бываются также уголь, который в начале был первым основным продуктом экспорта, олово и колумб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9" name="AutoShape 4"/>
          <p:cNvSpPr/>
          <p:nvPr/>
        </p:nvSpPr>
        <p:spPr>
          <a:xfrm>
            <a:off x="8534520" y="228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брабатывающая промышленнос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батывающая промышленность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ные отрасли обрабатывающей промышленности - пищевая и нефтеперерабатывающая. Главный промышленный центр - Лагос. В Аджаокуте - металлургический комбинат, большая часть строительства которого было выполнено при участии советских инженеров. Сталелитейный комбинат в Аджаокуте в 1980-е гг. планировался как крупнейшее металлообрабатывающее предприятие в Западной Африке. К началу 1990-х гг. строительство было практически закончено, однако, связи с распадом Советского Союза, завод не был сдан в эксплуатаци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2" name="AutoShape 4"/>
          <p:cNvSpPr/>
          <p:nvPr/>
        </p:nvSpPr>
        <p:spPr>
          <a:xfrm>
            <a:off x="8077320" y="38088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4250" y="10800"/>
                </a:moveTo>
                <a:lnTo>
                  <a:pt x="44756" y="3794"/>
                </a:lnTo>
                <a:lnTo>
                  <a:pt x="44756" y="17806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32405" y="3794"/>
                </a:lnTo>
                <a:lnTo>
                  <a:pt x="32405" y="17806"/>
                </a:lnTo>
                <a:lnTo>
                  <a:pt x="30743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стопримечательност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никальный природный памятник Нигерии - плато Джос, представляющее собой вздымающиеся из зелени джунглей останцовые скалы с плоскими вершинами и практически отвесными склонами изъеденными эрозией. Внешне они напоминают знаменитые "столбы" штата Юта в США, но сложены из пород серого оттенка и ярко контрастируют с окружающей зеленью тропического леса. Резерваты — Боргу, Квиамбана, Янкари и д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5" name="Picture 5" descr="284"/>
          <p:cNvPicPr/>
          <p:nvPr/>
        </p:nvPicPr>
        <p:blipFill>
          <a:blip r:embed="rId1"/>
          <a:stretch/>
        </p:blipFill>
        <p:spPr>
          <a:xfrm>
            <a:off x="4876920" y="1676520"/>
            <a:ext cx="39700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            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арк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сполна насладиться великолепием дикой природы, в первую очередь, предоставлена посетителя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поведника Янкари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первый заповедник и национальный парк в Нигерии. Парк Янкари и горячие источники Викки расположены вокруг реки Гаги, примерно в 1 - 0,5 часа пути к юго-востоку от Баучи. Красота и многообразие обитателей природного заповедника Янкари сделали его самым популярным в Ниге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к основан в 1956 году и открыт для посещения в 1962 году, основная его часть  открыта для просмотра круглый год. Японцы, европейцы, американцы и азиаты с удовольствием  приезжают сю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поведник охватывает огромную территорию леса и саванны, обитаемую слонами, бабуинами, водяными козлами, лесными антилопами, крокодилами, бегемотами, антилопами, буйволами и различными видами обезьян. Иногда можно заметить львов, несмотря на их природный камуфляж. Парк населен различными птицами, в том числе огромными аистами, цаплями, орлами, грифами, зимородкам и  щурками. Лучшим временем для посещения является период с ноября по май, когда растения засыхают  и животные собираются около рек и водоемо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ещение горячих источников Вики - приятная часть поездки в заповедник. После жаркого  дня наблюдения за дикой природой можно расслабиться в теплой воде. Также на территории заповедника расположены теннисные и сквош корты и небольшой музей. Остановиться можно в семейном домике с кухней или в отеле в двухместном или одноместном номе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AutoShape 5"/>
          <p:cNvSpPr/>
          <p:nvPr/>
        </p:nvSpPr>
        <p:spPr>
          <a:xfrm>
            <a:off x="8305920" y="380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1341" y="10800"/>
                </a:moveTo>
                <a:lnTo>
                  <a:pt x="21846" y="3794"/>
                </a:lnTo>
                <a:lnTo>
                  <a:pt x="21846" y="17806"/>
                </a:lnTo>
                <a:close/>
              </a:path>
              <a:path fill="darken" w="29679" h="21600">
                <a:moveTo>
                  <a:pt x="7833" y="3794"/>
                </a:moveTo>
                <a:lnTo>
                  <a:pt x="9496" y="3794"/>
                </a:lnTo>
                <a:lnTo>
                  <a:pt x="9496" y="17806"/>
                </a:lnTo>
                <a:lnTo>
                  <a:pt x="783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5" name="Picture 5" descr="Герб Нигерии"/>
          <p:cNvPicPr/>
          <p:nvPr/>
        </p:nvPicPr>
        <p:blipFill>
          <a:blip r:embed="rId1"/>
          <a:stretch/>
        </p:blipFill>
        <p:spPr>
          <a:xfrm>
            <a:off x="0" y="185760"/>
            <a:ext cx="8610480" cy="6672240"/>
          </a:xfrm>
          <a:prstGeom prst="rect">
            <a:avLst/>
          </a:prstGeom>
          <a:ln w="0">
            <a:noFill/>
          </a:ln>
        </p:spPr>
      </p:pic>
      <p:sp>
        <p:nvSpPr>
          <p:cNvPr id="2876" name="WordArt 6"/>
          <p:cNvSpPr txBox="1"/>
          <p:nvPr/>
        </p:nvSpPr>
        <p:spPr>
          <a:xfrm>
            <a:off x="1219320" y="609480"/>
            <a:ext cx="1295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77" name="WordArt 7"/>
          <p:cNvSpPr txBox="1"/>
          <p:nvPr/>
        </p:nvSpPr>
        <p:spPr>
          <a:xfrm>
            <a:off x="4076640" y="1905120"/>
            <a:ext cx="5067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Достопримеча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2878" name="WordArt 9"/>
          <p:cNvSpPr txBox="1"/>
          <p:nvPr/>
        </p:nvSpPr>
        <p:spPr>
          <a:xfrm>
            <a:off x="1143000" y="3124080"/>
            <a:ext cx="1933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ном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9" name="WordArt 10"/>
          <p:cNvSpPr txBox="1"/>
          <p:nvPr/>
        </p:nvSpPr>
        <p:spPr>
          <a:xfrm>
            <a:off x="5410080" y="4724280"/>
            <a:ext cx="1362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род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5000"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73 -0.0111 C 0.10434 -0.01711 0.12968 -0.02197 0.15781 -0.02382 C 0.17812 -0.03052 0.16614 -0.02752 0.19427 -0.03006 C 0.22326 -0.03977 0.2375 -0.03538 0.27673 -0.03653 C 0.28628 -0.0407 0.29514 -0.04139 0.30538 -0.04278 C 0.3533 -0.04139 0.38941 -0.03862 0.43559 -0.03653 C 0.44739 -0.02821 0.46093 -0.02151 0.47361 -0.01526 C 0.48819 -0.0081 0.47014 -0.02012 0.48941 -0.00902 C 0.49514 -0.00555 0.50104 0.00046 0.50677 0.0037 C 0.50902 0.00485 0.51128 0.00485 0.51336 0.00578 C 0.51649 0.00693 0.51979 0.00832 0.52274 0.00994 C 0.53524 0.01711 0.5368 0.01988 0.54982 0.02266 C 0.55868 0.03121 0.56771 0.04347 0.5783 0.04809 C 0.58437 0.05572 0.59114 0.06173 0.59739 0.06913 C 0.60017 0.07237 0.60225 0.07699 0.60538 0.07954 C 0.6085 0.08254 0.61493 0.08832 0.61493 0.08832 C 0.61771 0.09965 0.6243 0.10797 0.62916 0.11792 C 0.63055 0.12901 0.6309 0.13433 0.63559 0.14312 C 0.63802 0.15653 0.64201 0.16901 0.6467 0.18127 C 0.64791 0.18751 0.6493 0.19676 0.65139 0.20208 C 0.65295 0.20647 0.6559 0.20925 0.65781 0.21295 C 0.66024 0.22612 0.66284 0.23676 0.66718 0.24901 C 0.675 0.29549 0.66944 0.34497 0.67205 0.3926 C 0.67152 0.4074 0.67135 0.42219 0.67048 0.43699 C 0.66961 0.45318 0.66267 0.46913 0.65781 0.48347 C 0.65399 0.49503 0.65816 0.48901 0.65295 0.50682 C 0.64982 0.51745 0.64531 0.52624 0.64184 0.53641 C 0.63836 0.54659 0.63646 0.56277 0.63229 0.57225 C 0.62847 0.58104 0.62274 0.58936 0.61805 0.59745 C 0.61666 0.60023 0.61632 0.6037 0.61493 0.60601 C 0.60798 0.61988 0.59913 0.6356 0.58941 0.64624 C 0.58455 0.65156 0.58472 0.65595 0.5783 0.65896 C 0.57326 0.66589 0.56736 0.67144 0.56093 0.67584 C 0.55659 0.68208 0.55208 0.68092 0.5467 0.68439 C 0.54062 0.68832 0.53316 0.69179 0.5276 0.69711 C 0.51753 0.70659 0.52847 0.7015 0.51649 0.70543 C 0.46215 0.75445 0.38524 0.71052 0.31961 0.70959 C 0.29184 0.70659 0.26597 0.69572 0.23871 0.68855 C 0.20364 0.6793 0.16961 0.67352 0.13385 0.67144 C 0.12604 0.66821 0.11944 0.66219 0.11163 0.65896 C 0.1059 0.65133 0.10034 0.64855 0.09427 0.64185 C 0.08021 0.62636 0.06649 0.6111 0.05139 0.59745 C 0.0493 0.59352 0.04774 0.58867 0.04496 0.58497 C 0.0434 0.58266 0.04166 0.58104 0.04027 0.57873 C 0.03784 0.5748 0.03663 0.56948 0.03385 0.56601 C 0.03229 0.56393 0.03055 0.56208 0.02916 0.55977 C 0.02673 0.55584 0.02274 0.54682 0.02274 0.54682 C 0.01875 0.53063 0.02413 0.55075 0.01805 0.53433 C 0.01406 0.52347 0.0125 0.5126 0.00694 0.50266 C 0.00312 0.48138 0.00868 0.50751 0.00052 0.48578 C -0.01042 0.45688 0.00486 0.4867 -0.00729 0.46451 C -0.01181 0.44647 -0.01667 0.42844 -0.02327 0.41179 C -0.02674 0.39237 -0.02917 0.37248 -0.03108 0.3526 C -0.03039 0.29942 -0.03264 0.24647 -0.02795 0.19399 C -0.02709 0.18335 -0.01789 0.17641 -0.01372 0.16855 C -0.01164 0.16462 -0.01094 0.15977 -0.00886 0.15584 C -0.00295 0.14451 0.00538 0.13526 0.01163 0.12416 C 0.01701 0.11468 0.01909 0.10404 0.02448 0.09456 C 0.02691 0.08162 0.02534 0.08948 0.02916 0.07352 C 0.02968 0.07144 0.03021 0.06913 0.03073 0.06705 C 0.03125 0.06497 0.03229 0.06081 0.03229 0.06081 C 0.03385 0.04809 0.0375 0.03006 0.0467 0.02266 C 0.05989 0.01202 0.04236 0.03075 0.05607 0.01641 C 0.0585 0.01387 0.05989 0.00994 0.0625 0.00786 C 0.06649 0.00462 0.06875 0.0074 0.07205 0.00162 C 0.07413 -0.00208 0.07517 -0.00694 0.07673 -0.0111 Z">
                                      <p:cBhvr>
                                        <p:cTn id="31" dur="5000" fill="hold"/>
                                        <p:tgtEl>
                                          <p:spTgt spid="2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4.33526E-006 C 0.00104 0.02751 0.00243 0.04832 0.00624 0.07399 C 0.0052 0.11121 0.00555 0.14821 -0.0033 0.18382 C -0.00539 0.20093 -0.00869 0.21757 -0.01112 0.23468 C -0.01407 0.25549 -0.01546 0.27445 -0.02553 0.29156 C -0.02778 0.30405 -0.04115 0.33364 -0.04931 0.34035 C -0.05626 0.34613 -0.06424 0.34636 -0.07153 0.35075 C -0.08386 0.35815 -0.09376 0.36439 -0.10643 0.36994 C -0.14237 0.36879 -0.16164 0.36856 -0.19219 0.36347 C -0.20382 0.35954 -0.21528 0.35607 -0.22709 0.35306 C -0.23664 0.34451 -0.24358 0.3422 -0.254 0.33595 C -0.25678 0.33434 -0.25903 0.3311 -0.26198 0.32971 C -0.26598 0.32763 -0.27466 0.32555 -0.27466 0.32555 C -0.28351 0.31838 -0.29132 0.31237 -0.30001 0.30428 C -0.30816 0.29665 -0.3158 0.28532 -0.32553 0.28116 C -0.32761 0.27769 -0.32917 0.27353 -0.33178 0.27052 C -0.33299 0.26913 -0.33525 0.26983 -0.33664 0.26844 C -0.34705 0.25734 -0.33247 0.2652 -0.34445 0.25988 C -0.34966 0.25318 -0.35278 0.24601 -0.35886 0.24093 C -0.36754 0.22451 -0.36337 0.23029 -0.36997 0.22197 C -0.37813 0.19977 -0.36771 0.2259 -0.37778 0.20717 C -0.38716 0.18983 -0.37431 0.2074 -0.38577 0.19029 C -0.3882 0.18659 -0.39376 0.17965 -0.39376 0.17965 C -0.39584 0.16879 -0.3981 0.16116 -0.4033 0.15214 C -0.40469 0.14428 -0.4073 0.13873 -0.40955 0.1311 C -0.41164 0.12393 -0.41598 0.10983 -0.41598 0.10983 C -0.41841 0.09017 -0.42014 0.07029 -0.42223 0.05064 C -0.42136 0.02127 -0.42466 -0.00647 -0.41112 -0.0296 C -0.40608 -0.0504 -0.39896 -0.06913 -0.38733 -0.08462 C -0.36563 -0.11353 -0.39862 -0.07977 -0.37622 -0.1015 C -0.37084 -0.11376 -0.3599 -0.12855 -0.34931 -0.13318 C -0.33785 -0.14474 -0.32691 -0.15792 -0.31441 -0.16717 C -0.3073 -0.17249 -0.29862 -0.17503 -0.29063 -0.17757 C -0.24931 -0.17688 -0.20799 -0.17688 -0.16667 -0.17549 C -0.15296 -0.17503 -0.13785 -0.16879 -0.12396 -0.16717 C -0.12032 -0.16555 -0.11615 -0.16555 -0.11285 -0.16277 C -0.11025 -0.16069 -0.10869 -0.15699 -0.10643 -0.15445 C -0.09914 -0.14613 -0.0915 -0.14012 -0.08264 -0.13526 C -0.07709 -0.12809 -0.07188 -0.12301 -0.06511 -0.11838 C -0.05869 -0.10775 -0.05348 -0.10312 -0.04445 -0.09734 C -0.04028 -0.08855 -0.0356 -0.08509 -0.02865 -0.08046 C -0.02501 -0.07538 -0.02188 -0.07168 -0.01754 -0.06775 C -0.01441 -0.0615 -0.01198 -0.0541 -0.00799 -0.04879 C -0.00105 -0.03954 0.00468 -0.03168 0.00781 -0.01919 C 0.00607 -0.00948 0.00624 -0.00578 -8.05556E-006 4.33526E-006 Z">
                                      <p:cBhvr>
                                        <p:cTn id="33" dur="5000" fill="hold"/>
                                        <p:tgtEl>
                                          <p:spTgt spid="2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71676E-006 C -0.00277 -0.03468 -0.0085 -0.06913 -0.01267 -0.10358 C -0.01215 -0.11838 -0.01198 -0.13318 -0.01111 -0.14797 C -0.00989 -0.16786 0.00105 -0.18566 0.00955 -0.20069 C 0.01372 -0.20809 0.01476 -0.21433 0.02066 -0.21988 C 0.02448 -0.23514 0.01893 -0.21618 0.02709 -0.23237 C 0.02796 -0.23422 0.02778 -0.23699 0.02865 -0.23884 C 0.02987 -0.24138 0.03195 -0.24277 0.03334 -0.24508 C 0.04202 -0.25896 0.04948 -0.27861 0.05886 -0.29156 C 0.07153 -0.30913 0.0533 -0.28439 0.07153 -0.30636 C 0.08247 -0.3193 0.075 -0.31514 0.08421 -0.31907 C 0.09983 -0.33364 0.11476 -0.35029 0.13021 -0.36555 C 0.13646 -0.37179 0.14497 -0.37271 0.15243 -0.37618 C 0.15868 -0.37919 0.17153 -0.38474 0.17153 -0.38474 C 0.17535 -0.38867 0.18143 -0.39514 0.18577 -0.39745 C 0.20226 -0.4067 0.19167 -0.39815 0.20157 -0.4037 C 0.20868 -0.40763 0.21615 -0.4141 0.22379 -0.41641 C 0.23351 -0.41942 0.24011 -0.42057 0.24931 -0.42266 C 0.27657 -0.43468 0.28525 -0.42612 0.32709 -0.42474 C 0.33664 -0.42034 0.34688 -0.41248 0.35695 -0.40994 C 0.3632 -0.40832 0.3698 -0.40855 0.37622 -0.40786 C 0.38837 -0.39722 0.38646 -0.40208 0.39827 -0.39514 C 0.41146 -0.38751 0.42483 -0.38127 0.43802 -0.3741 C 0.45087 -0.36716 0.46563 -0.36 0.47778 -0.35075 C 0.4849 -0.3452 0.49219 -0.33826 0.5 -0.33387 C 0.50625 -0.33017 0.51285 -0.32971 0.5191 -0.32555 C 0.53473 -0.31514 0.50764 -0.32809 0.53334 -0.31699 C 0.5408 -0.30289 0.53108 -0.3193 0.54601 -0.30427 C 0.54757 -0.30266 0.54809 -0.29988 0.54931 -0.29803 C 0.55868 -0.28323 0.54931 -0.29873 0.55886 -0.2874 C 0.56216 -0.28346 0.56823 -0.27468 0.56823 -0.27468 C 0.56927 -0.27121 0.57032 -0.26774 0.57153 -0.26427 C 0.5724 -0.26196 0.57379 -0.26011 0.57466 -0.2578 C 0.57674 -0.25225 0.57622 -0.24901 0.57778 -0.243 C 0.58143 -0.22959 0.58612 -0.21456 0.59219 -0.20277 C 0.59271 -0.19861 0.59271 -0.19422 0.59375 -0.19029 C 0.59427 -0.18844 0.59618 -0.18774 0.59688 -0.18589 C 0.60191 -0.17202 0.60087 -0.16208 0.60799 -0.14797 C 0.61129 -0.12578 0.6132 -0.10289 0.62066 -0.08231 C 0.62118 -0.07884 0.62153 -0.07537 0.62223 -0.0719 C 0.62309 -0.06751 0.62483 -0.06358 0.62552 -0.05919 C 0.62813 -0.04231 0.62622 -0.02474 0.63021 -0.00832 C 0.6323 0.01295 0.63334 0.05665 0.64132 0.07838 C 0.64341 0.09226 0.64462 0.10636 0.64601 0.12047 C 0.64514 0.16023 0.64636 0.19029 0.63976 0.22636 C 0.63785 0.2363 0.63907 0.24648 0.63334 0.25364 C 0.62917 0.27075 0.63594 0.24578 0.62552 0.27075 C 0.62396 0.27469 0.62396 0.27954 0.62223 0.28324 C 0.61702 0.29411 0.60851 0.30243 0.60157 0.31075 C 0.58907 0.32555 0.58403 0.33549 0.56823 0.34474 C 0.55921 0.35677 0.54844 0.36301 0.53664 0.36786 C 0.52639 0.37203 0.51684 0.38058 0.50625 0.38266 C 0.48108 0.38775 0.45573 0.39168 0.43021 0.39538 C 0.4033 0.3933 0.37622 0.39168 0.34931 0.38914 C 0.33282 0.38752 0.3165 0.38127 0.3 0.3785 C 0.27778 0.3637 0.25452 0.35284 0.23177 0.34035 C 0.22448 0.33642 0.21459 0.32601 0.20799 0.32139 C 0.17917 0.30104 0.14775 0.2881 0.11754 0.27284 C 0.10382 0.2659 0.09271 0.25526 0.07934 0.24948 C 0.07188 0.23931 0.06511 0.2326 0.05556 0.22636 C 0.04532 0.21203 0.04341 0.18613 0.03334 0.17341 C 0.03091 0.1533 0.02622 0.15168 0.0191 0.13758 C 0.01702 0.12648 0.01441 0.11769 0.00955 0.10798 C 0.0066 0.09133 0.00487 0.07862 0.00487 0.06127 E">
                                      <p:cBhvr>
                                        <p:cTn id="35" dur="5000" fill="hold"/>
                                        <p:tgtEl>
                                          <p:spTgt spid="2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046 -0.00439 C -0.10087 0.00024 -0.11129 0.00532 -0.12066 0.01249 C -0.13021 0.01989 -0.12952 0.02313 -0.1382 0.02729 C -0.15365 0.03492 -0.17066 0.04602 -0.18733 0.04856 C -0.19688 0.04995 -0.20643 0.04995 -0.21598 0.05064 C -0.27049 0.04925 -0.32483 0.04856 -0.37934 0.04648 C -0.41146 0.04532 -0.44028 0.01318 -0.45712 -0.02104 C -0.47223 -0.05202 -0.44792 -0.01965 -0.47466 -0.05063 C -0.48473 -0.07468 -0.49879 -0.09456 -0.51112 -0.1163 C -0.52223 -0.13618 -0.52987 -0.15375 -0.5382 -0.17526 C -0.55 -0.20647 -0.54896 -0.24554 -0.554 -0.27884 C -0.55608 -0.30982 -0.55869 -0.33988 -0.56355 -0.37017 C -0.56233 -0.40184 -0.56719 -0.43606 -0.55712 -0.4652 C -0.55521 -0.47052 -0.55157 -0.47468 -0.54931 -0.47976 C -0.53438 -0.51375 -0.51893 -0.55005 -0.49844 -0.57919 C -0.49462 -0.58474 -0.48976 -0.5889 -0.48577 -0.59398 C -0.47865 -0.603 -0.47171 -0.61202 -0.46511 -0.6215 C -0.44809 -0.64624 -0.4198 -0.68878 -0.39532 -0.70173 C -0.38334 -0.70797 -0.37882 -0.70728 -0.36355 -0.71028 C -0.30903 -0.70959 -0.25452 -0.70936 -0.2 -0.70797 C -0.19532 -0.70774 -0.19011 -0.70843 -0.18577 -0.70589 C -0.16928 -0.69595 -0.15487 -0.67514 -0.13976 -0.6615 C -0.11823 -0.64231 -0.08507 -0.62658 -0.06042 -0.6171 C -0.04584 -0.61156 -0.0191 -0.5919 -0.0191 -0.5919 C -0.00434 -0.56855 -0.01806 -0.58797 0.00798 -0.56254 C 0.021 -0.54982 0.03003 -0.53317 0.04288 -0.52 C 0.0493 -0.50474 0.05677 -0.4904 0.06354 -0.4756 C 0.07083 -0.46011 0.0618 -0.48809 0.07135 -0.46289 C 0.08472 -0.42728 0.06493 -0.46566 0.08732 -0.42682 C 0.09479 -0.4141 0.09722 -0.39537 0.10156 -0.38057 C 0.10416 -0.34242 0.10677 -0.3045 0.10954 -0.26635 C 0.10729 -0.20092 0.11128 -0.1378 0.0809 -0.08462 C 0.07916 -0.0756 0.07638 -0.06566 0.07135 -0.05942 C 0.06614 -0.03768 0.05538 -0.02635 0.04131 -0.01502 C 0.03055 0.00417 0.0184 -1.6763E-006 5.55556E-007 -1.6763E-006 E">
                                      <p:cBhvr>
                                        <p:cTn id="37" dur="5000" fill="hold"/>
                                        <p:tgtEl>
                                          <p:spTgt spid="2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ди издревле населяли территорию Нигерии. Где-то в середине I тыс. до н.э. в центральной части страны на плато Джос формируется цивилизация Нок ознаменовавшая переход от каменного к железному веку. Отличительной чертой данной культуры были терракотовые статуэтки. Некоторые особенности культуры (фигурки лошадей, всадников и колесных повозок) позволяют связать возникновение Нок с влиянием средиземноморского античного очага цивилиза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AutoShape 8">
            <a:hlinkClick r:id="" action="ppaction://hlinkshowjump?jump=nextslide"/>
          </p:cNvPr>
          <p:cNvSpPr/>
          <p:nvPr/>
        </p:nvSpPr>
        <p:spPr>
          <a:xfrm>
            <a:off x="7924680" y="58672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WordArt 10"/>
          <p:cNvSpPr txBox="1"/>
          <p:nvPr/>
        </p:nvSpPr>
        <p:spPr>
          <a:xfrm>
            <a:off x="3200400" y="0"/>
            <a:ext cx="2257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октября 1960 года Нигерия стала независимым государством. Первое правительство независимой Нигерии основывалось на коалиции партий НСНК и СНК, премьер-министром стал представитель СНК Абубакар Тафава Балева. После провозглашения в 1963 году Нигерии республикой пост президента занял Ннамди Азикиве (представитель НСНГ). Оппозиция была представлена Группой действия во главе с Обафеми Аволово. Региональные правительства возглавили: на Севере – лидер СНК Ахмаду Белло, на Западе – С.Акинтола из Группы действия и на Востоке – представитель НСНГ М.Окпара. В 1963 на территории восточной части Западной Нигерии была образована четвёртая область, Среднезападная. На состоявшихся в 1964 выборах в этом регионе победу одержал НСН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нваре 1966 года группа офицеров-игбо во главе совершила военный переворот. Короткий период "первой республики" закончился. Военные попытались учредить в Нигерии унитарное государство, разделенного на провинции. Северонигерийские мусульмане сочли переворот угрозой своим интересам, и по всей стране вспыхнули межэтнические столкновения. В конце июля военные части, состоящие из солдат северян, совершили новый военный переворот. Главой государства стал подполковник (впоследствии генерал), Якубу Говон (правил с 1966 по 1975 год). На севере возобновились преследования игбо, были убиты тысячи человек, что привело к массовому бегству игбо на восток, их попыткам создать государство Биафра и гражданской войне 1967-1970. Страна возвратилась к федеративной систе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AutoShape 5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9698" y="10800"/>
                </a:moveTo>
                <a:lnTo>
                  <a:pt x="20203" y="3794"/>
                </a:lnTo>
                <a:lnTo>
                  <a:pt x="20203" y="17806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7853" y="3794"/>
                </a:lnTo>
                <a:lnTo>
                  <a:pt x="7853" y="17806"/>
                </a:lnTo>
                <a:lnTo>
                  <a:pt x="61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WordArt 4"/>
          <p:cNvSpPr txBox="1"/>
          <p:nvPr/>
        </p:nvSpPr>
        <p:spPr>
          <a:xfrm>
            <a:off x="609480" y="457200"/>
            <a:ext cx="2276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беоку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888" name="WordArt 5"/>
          <p:cNvSpPr txBox="1"/>
          <p:nvPr/>
        </p:nvSpPr>
        <p:spPr>
          <a:xfrm>
            <a:off x="3352680" y="1828800"/>
            <a:ext cx="1505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аго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889" name="WordArt 6"/>
          <p:cNvSpPr txBox="1"/>
          <p:nvPr/>
        </p:nvSpPr>
        <p:spPr>
          <a:xfrm>
            <a:off x="5562720" y="4952880"/>
            <a:ext cx="1860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айдугур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0" name="AutoShape 7">
            <a:hlinkClick r:id="rId3" action="ppaction://hlinksldjump"/>
          </p:cNvPr>
          <p:cNvSpPr/>
          <p:nvPr/>
        </p:nvSpPr>
        <p:spPr>
          <a:xfrm>
            <a:off x="8458200" y="228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8653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6808" y="3794"/>
                </a:lnTo>
                <a:lnTo>
                  <a:pt x="6808" y="17806"/>
                </a:lnTo>
                <a:lnTo>
                  <a:pt x="514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WordArt 4"/>
          <p:cNvSpPr txBox="1"/>
          <p:nvPr/>
        </p:nvSpPr>
        <p:spPr>
          <a:xfrm>
            <a:off x="1600200" y="762120"/>
            <a:ext cx="163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2" name="WordArt 5"/>
          <p:cNvSpPr txBox="1"/>
          <p:nvPr/>
        </p:nvSpPr>
        <p:spPr>
          <a:xfrm>
            <a:off x="4038480" y="2057400"/>
            <a:ext cx="2305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оженц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3" name="WordArt 6"/>
          <p:cNvSpPr txBox="1"/>
          <p:nvPr/>
        </p:nvSpPr>
        <p:spPr>
          <a:xfrm>
            <a:off x="1981080" y="3429000"/>
            <a:ext cx="23338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94" name="WordArt 7"/>
          <p:cNvSpPr txBox="1"/>
          <p:nvPr/>
        </p:nvSpPr>
        <p:spPr>
          <a:xfrm>
            <a:off x="6400800" y="4572000"/>
            <a:ext cx="1749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Экономи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95" name="AutoShape 8">
            <a:hlinkClick r:id="" action="ppaction://hlinkshowjump?jump=previousslide"/>
          </p:cNvPr>
          <p:cNvSpPr/>
          <p:nvPr/>
        </p:nvSpPr>
        <p:spPr>
          <a:xfrm>
            <a:off x="8458200" y="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прошлом — главный город народа эгбе в восточной части Верхней Гвинеи. В XIX веке был окружен земляной стеной на протяжении 20 км. Из 130 000 жителей до 2000 составляли христиане. Город и его окрестности находились под властью одного из предводителей племени Аль-Аке. После разрушения царства йоруба народом фелатта, бежавшие из него эгбе основали в 1825 году город Абеокуту, который быстро достиг цветущего состояния и в 1851 и 1864 годах победоносно отразил нападения дагомейцев. Английские миссионеры после произошедшего в октябре 1867 года переворота были изгнаны из города. В 1893 году в городе было сформировано Объединенный правительство егба, признанное английскими колониальными властями. В 1914 году становится частью британской колонии Нигерия. С 1960 года - в составе независимой Нигерии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7" name="WordArt 5"/>
          <p:cNvSpPr txBox="1"/>
          <p:nvPr/>
        </p:nvSpPr>
        <p:spPr>
          <a:xfrm>
            <a:off x="3505320" y="304920"/>
            <a:ext cx="1942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сто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98" name="AutoShape 6">
            <a:hlinkClick r:id="" action="ppaction://hlinkshowjump?jump=previousslide"/>
          </p:cNvPr>
          <p:cNvSpPr/>
          <p:nvPr/>
        </p:nvSpPr>
        <p:spPr>
          <a:xfrm>
            <a:off x="8153280" y="533412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11701" y="3837"/>
                </a:moveTo>
                <a:lnTo>
                  <a:pt x="14277" y="6448"/>
                </a:ln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lnTo>
                  <a:pt x="18664" y="10800"/>
                </a:lnTo>
                <a:lnTo>
                  <a:pt x="17010" y="10800"/>
                </a:lnTo>
                <a:lnTo>
                  <a:pt x="17010" y="17989"/>
                </a:lnTo>
                <a:lnTo>
                  <a:pt x="6392" y="17989"/>
                </a:lnTo>
                <a:lnTo>
                  <a:pt x="6392" y="10800"/>
                </a:lnTo>
                <a:lnTo>
                  <a:pt x="4738" y="10800"/>
                </a:lnTo>
                <a:close/>
              </a:path>
              <a:path fill="darkenLess" w="23402" h="21600">
                <a:moveTo>
                  <a:pt x="14277" y="6448"/>
                </a:moveTo>
                <a:lnTo>
                  <a:pt x="14277" y="4707"/>
                </a:lnTo>
                <a:lnTo>
                  <a:pt x="16053" y="4707"/>
                </a:lnTo>
                <a:lnTo>
                  <a:pt x="16053" y="8224"/>
                </a:lnTo>
                <a:close/>
              </a:path>
              <a:path fill="darkenLess" w="23402" h="21600">
                <a:moveTo>
                  <a:pt x="10778" y="14299"/>
                </a:moveTo>
                <a:lnTo>
                  <a:pt x="12624" y="14299"/>
                </a:lnTo>
                <a:lnTo>
                  <a:pt x="12624" y="17989"/>
                </a:lnTo>
                <a:lnTo>
                  <a:pt x="17010" y="17989"/>
                </a:lnTo>
                <a:lnTo>
                  <a:pt x="17010" y="10800"/>
                </a:lnTo>
                <a:lnTo>
                  <a:pt x="6392" y="10800"/>
                </a:lnTo>
                <a:lnTo>
                  <a:pt x="6392" y="17989"/>
                </a:lnTo>
                <a:lnTo>
                  <a:pt x="10778" y="17989"/>
                </a:ln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2T08:27:4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