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F61-5511-4553-A69F-6FFF1528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D33-D1A5-4CE9-B708-2F34E6ED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34ECF-6A89-4642-B80D-F8A91064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E486E-E659-4570-BE14-DA6C4A4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38C02-902A-4E20-8322-9AC08272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F70F-BEE1-4ACA-AFEA-5EA2A154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C53F1-977D-4CA7-9157-3D56845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610D8-EE59-4D28-BE6A-6914825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061E-9ED6-4F39-9617-8A370976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1DB28-33F0-4067-AF2A-49853CF7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53C69-7103-41D7-89D9-FF14312A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D98B4-9425-41A2-B20B-D3CACB47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4F7-1CEE-48E9-835A-EB9DFAF5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CB688-D823-465D-BB77-E93A442A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6CBE2-D705-4DEF-8000-E16D928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7DDE3-F757-45F7-A775-68662968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0EEBD-57E4-48D7-B8E6-AFDB15AD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D51CE-8C23-4670-8114-94577E1B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DC2F1-DCB9-49A3-9092-6014A66C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9EF2B-1C7D-4994-808A-3B87BDAF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21EE-5063-4654-B08A-AB4A7BB2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F27B6-F727-45E9-A641-435E263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28E95-3679-46A7-864B-CE5D6D4B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19D-ADA4-4252-B6AE-313CF38D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36C81-6695-43AD-9857-92697EAD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E1F47-C735-4C64-996B-CC2CA803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3758F-86D1-4433-BE20-21285DC1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82595-C632-4EBC-B83D-0A5340BA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0053-0701-412C-BFC7-AAC40D44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30C69-E531-4211-8E58-D32A2406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D2241-9561-4608-89FA-DE3F1E36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0AB5F-DA94-4317-AB48-13DB7F4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49C40-F43A-4304-9A78-99C9EC2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F5351-6456-48AC-A1EA-71F77D0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37B2-8A72-491A-80AF-3BBFF66C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AAA3E-7481-44DA-B916-2D25E30B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CA06D-AC30-4D61-9284-19FD9A6D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EE86D-B9E7-469C-8EF9-EE35049E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DD4DA-B43C-4335-AB1B-7CABF099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CC190-4773-47F5-861D-3F88671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95BD8-AB11-489E-ABB3-B569038E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88AAC-8A25-4F23-BD7B-4DCF2A0B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3F039-E324-4504-B447-769F40DB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B23A3-32E2-47CD-BED8-4DE7883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D6ACB-943B-479A-BBFC-08BC07AD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11D5-615E-4364-86AF-95A85CF1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370FF-506A-4ED6-9CD1-14B0C03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E4C63-B1A6-4C9D-AF1F-C66CD6D5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2FB5A-C511-45A0-8B56-9C16B9EA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83E05-B0C7-4FB0-9CFF-CF2A483F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679A1-FD6C-451F-B391-1163A17A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98DE9-44ED-4A95-BA04-D140EB86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33C86-1EF8-4FFC-9E0A-072185A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D3230-E0F2-4103-8799-02E3A0DC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5D60A-2196-43BD-A344-3ED8B328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A112D-A7EA-4198-A866-AA0AF0E9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8606-1200-4A6A-AF09-6783D892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57832-B86D-4531-B5E7-E40F069B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CC445-7A1A-415A-B88A-DD4C7C8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835B7-5D61-474E-8147-3B3FC6F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B7058-543F-46AF-B10A-2A3EE44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22E6A-47B8-46C0-8B80-077F89BA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82D97-C035-4006-A759-7B1D1C31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B4CE8-E529-4729-8C29-C13C74C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EB416-EDE8-4A50-B29F-9D5CF587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78A91-6A95-4680-B91A-BDE7FE6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4545C-D459-4756-91B4-DE0506B9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8F17-537A-4C39-992B-0FA2ECA8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A20FC-C98F-40F9-8153-797B3D1F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8CE1D-76F0-430B-8F82-EAA20CC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EA6A4-4F07-461E-BF92-C2BDE138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97AEA-9021-49D4-9A12-C4DB948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FF761-A2B4-4C06-8CB8-181A4FE2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7BDCE-68E8-4D21-AF29-E8F0F3E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217D0-BCF6-41D3-B556-1C864109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91F2F-2B5F-4B25-A9DA-4C67637B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F6B3A-98BC-4E73-BF76-A380F475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EC16F-17A8-4F14-AAA8-A33E1716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31BC-D91A-499D-88C6-04F75772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7A2A9-7E21-4F69-97C6-FA4D3B91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354CF-8128-4BE1-ACF4-C1A27BD3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6A6D9-1F51-428F-B3B5-E77F75E5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46992-D893-4AE1-82DF-CCCDBE8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A33ED-1181-4007-B698-9616C71B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7CDD7-53DD-4169-BB02-BD4A5A7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F27EC-46FA-4A82-A1A1-41642955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5516A-CFBE-476B-A4FF-1E8C9A5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E9726-8A2E-4AA9-BE13-8FED1477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C894A-EC70-45D3-9F47-1EAA09E3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D1FF-179D-4953-92FD-690BFBE3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9D384-6E21-4D7D-BCB9-D9026A4B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285DE-1BBC-4630-8483-3388C2DA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40BC2-2D7A-44CE-8A4A-B57CBE9F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D0ED8-6750-43A8-A69B-A582ACA8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66FC7-CB2F-4270-8113-723C3CCD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82049-B2C0-4FB8-8270-033D25E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C14C9-2E72-4EC7-BEA6-0F7B882C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50E2F-0DE9-410C-B16B-0F98C240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44C29-9FD9-4DDA-8D03-E363ABC1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43FF6-9461-4247-BC86-AA90E86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D73A-F992-4908-A6C6-4D28590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08AE0-6118-47ED-BF3C-AC58839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4FD67-853E-4FBE-8482-4211453B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7C245-871F-4812-9265-CFAFD5E0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7C29D-5399-4BAC-9EE9-9DD9C133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2DFB4-C503-4133-830C-B7191C0D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B49A1-A1C1-418A-8872-2D91BAE2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45E72-B866-40A3-8AA2-FDF224C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C0ECB-09BB-4DCC-989E-9CD12D67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EAFBF-AA24-431B-9B1E-74BA070C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46CA6-FC6D-4AC5-9CAA-2A31563C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87A-2F8E-4AF6-B364-2C68E3E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2F60-0791-423C-B45D-7ECD6FA9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E1456-09F5-4538-B283-E549026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C8B72-98AD-4F3F-A13D-75A8F75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95416-014F-4520-9DCF-0F50E367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5CC0F-CF15-4BFB-96FE-F7972B7B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6CFC6-83A5-4B7E-85AB-C4BBEC24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E4670-43A1-406D-A351-25F6ABF8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F8FD5-3443-4480-B036-C17EAA80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E6E82-CD36-46AF-B5FA-277BD6DF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221C9-EB3D-4E75-A756-5DE0FD5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772F6-1E51-47E4-AFA8-7BB00F39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F985-65E5-4713-A1DF-3E135B1A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A92E7-13B5-4D8F-9003-251C6202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AE581-B4D0-43FE-8340-BB260B8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67159-DF60-4EAF-95E3-1D3E97F8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800AF-F7F8-4E8A-BA60-C8894090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78510-A8C7-4163-81BD-28652D2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C5BF3-CA36-4217-A6CD-D53A2E9A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63E7C-9699-4D68-B517-6836D9CC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4FBE9-4EE9-44BA-878C-55765932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C9B50-1EBC-4ABB-B91F-71BE05E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FF26F-B43E-48C7-A2DA-0F754E3C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3EEE-88EB-499F-837A-55E7B33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B3B55-E59A-464C-AF6F-458DDA8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C5D7D-82B8-4B44-A97E-724F185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10914-6BD8-4851-99A5-9CA90885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48F52-1A06-4FC5-9FBB-EA475C7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840F5-80AA-4C3C-A3AB-CFF293EA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1BB0E-D43B-4EE0-9F05-F8DABF6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9762A-9C9D-4651-BDD9-D662710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3BBC8-5898-4111-8948-4465CE3B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00ABF-5F8B-4100-B0ED-CE85690E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7D1A5-552B-4D1A-8A58-FDF16B05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D93A-895F-4151-A1D7-E3648A24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01EDF-E355-4DE6-AF62-B40A0B2F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F1D94-675E-471C-91E7-D5ACDA38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BFDA9-F203-4E40-A1E3-65E24CEE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2D77D-1CFD-4A1D-B6C5-F2C33D5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ED646-33E8-4078-B5E5-5C8B4161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BBE47-050A-446C-831D-E9510D4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DCC5B0-967E-4C3E-98AA-AE050BD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9C64C-24F0-4E69-9EA3-1629CD5E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64215-90F2-4172-8ECF-88E450A6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4F288-AF68-4449-AA3A-934A6813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2A2-6B1D-4578-857C-6C83676D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C7B19-CE10-40F2-979F-06061FD6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BA10D-5C0D-4172-BFFA-794BCBA5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5E725-8F9F-4B85-BFD7-AEAE148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3EB7F-38EE-40F7-A649-25DF9BA5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B4BFFD-3A5E-4C4B-A6F9-A4C9F9D2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6CB54B-64BA-4145-9DCA-E4422B73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DFD8A-CA9C-4EB4-89D8-4C5F6F2A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3D2678-3169-4238-A78D-6A86A2A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B16B0-CE8D-43D2-B62E-219BB66E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23B84-FE19-468D-87B9-31C9E66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B90F-9A1B-4010-8CD0-F4784741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53905-7418-4BB7-932B-952009DF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B5309E-F6E8-472B-AC6F-BD7CDADB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78AB9-EA13-47DA-8DF9-0EA8612E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5126C7-D626-4920-8B55-C65F6EEA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7996E6-40B0-4FBA-8A30-30A502AA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C13C00-F0C2-4890-A396-3B91816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30EF59-7986-487A-97D6-23C9CD8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4813A5-3AEE-4190-AB6D-54D5112A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75A505-8E81-412F-857B-0268B675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61E843-42E1-47F4-A73E-7AB475D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F8C5-CCB5-4530-A486-316ADE2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18AF7-0BDF-415B-826D-9F9D338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E9C23A-EF54-41E9-A47E-E0B1738D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935C7-D0F8-4AA7-A5F3-A5164149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2A3B9F-F776-4439-9075-8737858B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A87D1-C63B-4085-B99E-036377A3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307E965-0A11-4DC9-BCE1-A01DCECF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983C2D-EE63-45BE-87B1-5A80521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964052-692A-4165-A71D-4CD641C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ECB748-C98C-4F7C-8345-414C4014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D7389E-9858-4CB4-BBE0-18DBACB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4CA4-5B95-494D-9493-342671F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954523-229F-4252-8EDF-BA86392F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2BE9F1-96BF-4263-A081-4478C7E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47A37E-8A47-4505-8116-5354A247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9AEEA9B-8053-4571-A81F-8A653324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5FCC76-D0AC-4BA9-B2D4-8B337E0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895347-E5A8-4A58-A7D1-6AF636A8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F3283B-41EC-4CA3-9CC5-028EF26D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639647-D21E-4FE4-92BC-FA2BEC41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A66B97-0352-4051-A35C-D5D9DCD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BE15A1-9816-4580-AC15-A084490A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F6BD-EBC2-43FB-9130-EF074AC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611AAE-A571-4564-8028-5CC59097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189521-64E6-4066-A846-BBEAAB54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744AE0-8ABE-4A09-8D70-09006B89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342EB-6A3F-4669-B9A1-1750212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F61606-886A-44C2-994D-72108AC6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6C4FE9-CBEF-4D6F-BB29-9053E0A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C49D05-D726-4A6B-9919-A3E149C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663952-9EDC-4996-88D1-A378BD00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AA1E99-EA89-4835-90E7-0C31861A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1D7D68-BB68-44CF-822D-36D39F22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017F-5A44-4FAD-A8FE-FE855726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CDB099-E2D5-4D7C-9352-90E3260E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D2A60-E25B-4370-A383-1F1536B1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D1DE0D-3389-488B-B961-3007C3F7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551826-636C-44F1-8BD5-AAB860A1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655D4B-EBB1-4307-9D7A-39473596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536D6E-5F13-41DA-913F-BD8AAB7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61991A-7DF8-4EA8-8DC5-7C301AC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70FCF-8372-458D-87A3-B1AE710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546851-5BA0-4C95-B44F-C466C73B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EFABFB-F7DD-47EB-A358-99A0DDDE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23D-12C8-4EDA-A77D-9D6075CF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C21D-566E-40F9-B9DE-30DB72D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1C9087-B9EE-4CD1-83A0-E1BE064E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78157C-43A8-4044-948D-C338C6A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EB591F-4950-45D8-B51F-0EE72B8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3B97ED-6850-4E09-8D17-16721535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DC36E0-5F5D-419D-A662-0DA6B552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00CE8-061D-4454-B385-AC25F37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180E79-9C36-488F-B218-250D1BAC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D890AE-B4AB-45CF-8C21-1132637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82FD7F-3D8C-4E07-BCA2-5B16DC3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EB0E8D-D7F2-46E4-B176-E9DA57A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9181-57F0-4474-8738-434A5AF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1F8A07-F925-4417-B4E6-EFBB809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E7D748-1BD0-4FF9-978A-4CD1C6AC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4EBD5F-A3F0-4060-B9EA-0FADB0C5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6B9AA5-48C6-4733-806F-85CA2C87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BA48EC-6CEA-4EB8-909F-A663B319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D96E88-C118-41C9-8E69-9792945B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45B09A-5C40-4457-8A12-943CDA2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C188E3-B8AC-460D-9005-106C598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0162DD-7CED-41BF-959D-6C8E2F7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29E614-2A7A-4EC8-9B0D-400FFE0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34CB-AD7D-4887-8645-5EDD69E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81FE13-0DA9-4B11-930F-880DCED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2049A3-455E-47C2-9872-CADD56C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E1E530-0EBF-4A0A-B5C6-1E7EB3D6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6F6B94-4809-41C1-BF4F-BB8AA878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10CA31-ED22-4B95-934C-FEDBF026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AA3216-98C7-4913-8A32-A158D74F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CEBB62-6462-455E-B545-A675FEF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2D2BB6-E344-4B21-B03F-C11A7AB8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59B7CF-745F-47DF-ACBB-15B3408A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CA9A63-59C8-471E-BDE5-755E0F5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95E4-9EE3-4810-8482-0307AD4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EE0858-F2CC-41A7-AFE9-7F690CC5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71E942-CE7F-4C78-8B81-1FC1158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355D2C-93CB-4F24-98C7-32C7EF3C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28A093-045C-44C6-82D2-115F09D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5D9A74-6086-4598-A120-71FECE29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8360A2-017C-42DA-8D7C-01B54600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D01820-BEE6-4461-9BEA-A2707F2B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AA3694-A340-4545-B436-E93E8E9D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E0A118-7F81-4A51-9814-2274CF15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05299F-BCAC-4B01-A16F-43189805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EBED-ED4F-43FF-B1FA-0D75033E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E4C673-FBFF-4341-9A3A-15AC8CEC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85FCDE-EBAA-4632-9DF2-D6152497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5A8FC3-AF2C-49C3-9713-1C966894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D7BDDF-62BA-4418-AA29-33F62BC1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A13E6E-C439-4D65-ABE8-3B0A2C9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EC9790-3E7C-4035-8FF9-9C68742A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45EF78-80BC-4CC3-9FBA-02D5713A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B4A343-D9BC-4820-AAD3-262791C5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24ABEC-0F9B-4120-82E1-43133E71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6B7108-1B03-441F-8627-AF7CD7E9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22FD-588D-493F-A4B1-7FC6B036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B1141F-4E30-48FB-9B3D-4094B04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D03231-99C1-4DE4-BF2C-4B1E9470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B5AB19-98E4-4992-A1F2-EAB8B9D9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681BB1-60A8-4704-9E83-1E7BF369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14E030-FF0F-4A8A-87B0-7CCAABC9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4C7CCA-9064-4BAC-8A5D-06A1A92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540C57-B1C3-49D9-84CA-3755430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CD9C39-8532-4F52-8F39-F58BBAE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C103B4-362C-48E0-B066-7ECA15C5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11B472-5DBB-4F1C-8D2C-30A8A2AC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269E-5561-4EB5-A70F-BA62C0F9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E7FD49-C527-4E8E-A0B3-C96CC754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28783E-263E-41A9-A156-9D2FD956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6D6B18-2850-4B7F-B1A6-99F960A6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4509A9-D22F-4A6C-ACF3-E52FEF16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82EC98-D6F9-4B1E-A8E7-7673D8B0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0B777D-5C1D-4D32-B712-594BE287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096EC9-3C50-48AA-AE91-745532B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96F6BE-A5F9-440C-B07C-9392E93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F6F3A0-C20D-40F7-A472-31E0C26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78DAB5-6906-4597-A5BE-9F8D666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301D-91F2-42C0-98AD-E7B50B8A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C7A119-3945-4150-A72E-2C7EDB14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216A3A-65E3-4A3B-9411-EA5F0140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FB9E75-D22F-45A3-9314-E9A0C467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623857-70E1-4416-9ABE-D9B8C35D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C90E7C-1BD6-488F-AEE4-C37F0EB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1EA607-4871-43D6-AE08-3B2871E6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4DA099-8E05-41F7-AD7F-B16E49CE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DA2A16-4BF8-4360-AC8F-53ECAEC3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B1DAE6-5EA7-4EC8-A112-14E9B45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AD1154-1B83-4CA2-A9F6-DC13C626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2BFA-198A-49E4-AF1A-853E1D1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56C42F-D8C0-40B1-A71E-9306DE78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0BEF2A-B75E-49D4-BCCE-579E23E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2917DD-1CF6-44A3-A4FD-97873941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821002-81C1-4F94-AAD6-A4775BD0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A96818-7C8A-4A87-81C9-A14C675F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840F05-DE64-444D-95D7-3FDB33A3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242F47-A00A-4C99-8927-5807B473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768EDC-D15B-4E27-9B52-287E43ED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48C486-37C2-4FB1-BFB1-6E0AC14F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43193D-31E4-4F71-A0F1-D379802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123C-16AA-4700-9198-5BA1D95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5BD9A0-6A4C-4480-B241-730F700F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DEE843-B285-4DC8-B949-46439C43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E52450-4A6C-43D5-9298-5CB7838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A9525A-9855-43FC-B8F5-778BE1A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C08691-17D4-4AC6-9F95-1D5DC490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C3726B-0747-46E2-9F3C-F84BCB3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0BE607-71FD-4C37-8407-527746AA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62F0B8-928D-4050-BA1D-7FCDE373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33C0F5-301A-43E7-ACD7-4D5699EE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778BB5-3D88-49B2-8470-370B16ED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9DB-6D94-459C-83B1-2D3BC938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9A97-FEA6-49C2-9976-EBA4EA24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C92499-1B7A-4155-A06F-A1B63FDE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57C6A8-B8DA-4B75-8948-8741F54B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E50DA2-52A8-43B0-891B-B132B15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D33793-BA99-479B-93F4-D258EF2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45DAAF-CA82-429F-9BAA-3B08C807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50BF1B-0855-44AA-95C7-418CA23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B46235-B8FF-4B14-B16E-7DAB6747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B59F5A-2F98-4C5C-97B7-A8B846E9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940418-3B29-447D-BDFD-10CA9829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CDF9AC-1658-491B-BDB4-9333E7BA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09B8-06EB-4B3E-8B18-065D5718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169360-C414-4A09-A6B0-94845727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E0B250-3E99-4DF4-831D-2507E0BA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6E03E1-2D75-4FC4-80C9-D68C60C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527257-781A-4BE1-A1CE-F2DD1406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7DC930-B449-432B-8C44-DC3BD859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BAC9CD-7367-472B-A618-F9DF2D4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5B3ECE-FD1C-4489-A977-8A9496C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D00C77-0673-4AAE-AF29-5552227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351590-A26B-4362-B6A7-8CE96ABE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4F1A19-E049-4D7A-92DB-3A668804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EFC3-A178-4B59-90E6-3311F553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436569-1033-4869-92A3-19E7315A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B451D7-5340-43F7-88CA-D6CCAB3B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6EFDDB-CA46-4EE4-8AD1-A97C3524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5DCC02-2A60-408D-B4FE-D0963842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692376-3DF9-4073-A33C-99E17A8A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E338B7-3DDD-48F3-9175-CC75D019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F7F3E2-2520-41B8-9D55-6B2B5259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9B8873-D7D5-480B-B4D1-D619144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E1A84A-8B3D-4B2C-BBC2-806EEFE4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0271B6-692E-4161-96EF-184D275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BD31-A531-4DA6-866B-83B1A2F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C4BD70-8EA4-4ADB-A6DD-A8BFB2E5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A94613-7D35-4AA6-9DE2-7823CD23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2CBD4A-74E7-4BF1-943E-924667DD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865F2B-89DA-417F-B28C-4E3E5CCF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D3027B-23E0-459D-94E9-1EBC87BD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C21C97-3C0E-443C-8BEE-848AC744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0A1066-BB11-4A85-9E32-FEA22454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5767B5-D0EB-4225-AF99-B77AB76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24C3DA-265B-4E4C-851F-B9537BFF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6317FF-5801-4DCB-8C1D-A541CAF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726D-67EA-4935-AEBF-2587901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F4F213-6F8B-4DF5-BD60-9F2ADBD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97C9E0-34EF-44A6-BAED-34772B50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67FA82-C35F-4DEC-9640-2C92C385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C2945B-8919-4C2F-A1C7-FCF21329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AAF7CF-540A-49D0-94B0-3C8C23D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AE32-58A2-4B26-9015-48913BE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992D-B35B-422C-B970-4D3E7D5E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15B0-E1CE-4BF8-9CCD-24F39C3F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6D1D-512E-4B46-B010-EA4B232C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B81C4-83EC-45AA-91C7-2F0FB5CA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93F-660A-4502-B4BC-8B53C73C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6A33-141B-4063-9F3F-ACC9903C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EC3C0-32B1-4F25-8C89-7F69C945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BFFC5-7370-480F-9895-A6CDC3A0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EF54-7713-43B0-8254-EE387031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3A6D2-3A46-4973-8F19-F7AD762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6E2F-680D-4B84-AA21-AB44BBA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3BBCD-7415-49AE-A5FF-4CA6568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E6FF-E53E-4886-8391-6D9FED9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A6B6-8993-4B33-8A26-E7CE44CB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2E1F-7F2C-4BB0-B979-C58E4555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BEF-2C0C-4750-BB3C-D02765F8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6C319-5513-4EBA-830D-87990E5D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931D2-97C2-47CF-B317-DFB7CBF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4BBDD-0A56-44E7-9318-D129B23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1AC37-B07E-463A-8F9B-5693E38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BD99F-4B86-4636-985C-CF53032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ED028-728A-4ECD-8324-39999F8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C6500-5EC2-43ED-BBBE-36870CA7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35034-61AC-4F80-AB23-D1F52909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60A35-7D57-4282-B50F-38821B7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52A2D-4FB0-4629-A49E-D70A752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F4E-1A34-45C7-970B-CF60C01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81D38-96A8-495A-AB7C-B8CE082D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9D285-8AAE-4594-86A9-32573D75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F4232-D3AA-442E-AB1F-3803E7A9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36DA-4E5B-4872-BFCC-119710AE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D014-7DED-489B-BF74-6C5745FA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4577-95DE-4E50-A6C1-B4E1B432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5E5B5-5A06-418E-9E25-CA3A9F31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B5F0-303D-4A99-A7CF-57C3507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6153-B9CC-49F1-8CEE-928BCAD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B4012-98DD-47D3-9AD5-9E3F146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5BC-2567-451C-B13A-BAC9A988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0DF97-E105-4B29-8518-A36D469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B655C-40B4-4DCD-A3B8-22CD5494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B4156-0463-4277-BE27-059A4526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69A94-E336-48F3-A139-6C6EDCB2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78667-B22D-4580-9400-30C54FF1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44C53-405B-49B5-B36C-85827574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A98C2-A646-4FB1-BFF7-AD317FF7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BF84F-4CD0-4943-961B-1AE052B3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7232-DA34-4B74-9788-F3917EB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93C0B-2475-4A12-8527-1248C21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E79-262D-4081-B287-F76C2F44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B6A1D-67CF-4E3D-8C70-27C4B61B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01B5-36F0-477E-A4FD-3FCABC9A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4B965-1622-49DE-ABC0-5515D45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19A24-DFFE-4410-8A21-766023E6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F887E-1AD4-4E95-A8E9-64C21C1F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07B7-D179-4B5D-AEA0-D582367C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1E305-AF28-4833-864A-43A507C8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5D50D-82E3-42ED-B9E2-0B819EFB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11A26-7C42-4390-91C4-0E3179F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F645F-469E-4AE1-BE5C-D364AAF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349.xml"/><Relationship Id="rId35" Type="http://schemas.openxmlformats.org/officeDocument/2006/relationships/slideLayout" Target="../slideLayouts/slideLayout350.xml"/><Relationship Id="rId36" Type="http://schemas.openxmlformats.org/officeDocument/2006/relationships/slideLayout" Target="../slideLayouts/slideLayout351.xml"/><Relationship Id="rId37" Type="http://schemas.openxmlformats.org/officeDocument/2006/relationships/slideLayout" Target="../slideLayouts/slideLayout352.xml"/><Relationship Id="rId38" Type="http://schemas.openxmlformats.org/officeDocument/2006/relationships/slideLayout" Target="../slideLayouts/slideLayout353.xml"/><Relationship Id="rId39" Type="http://schemas.openxmlformats.org/officeDocument/2006/relationships/slideLayout" Target="../slideLayouts/slideLayout354.xml"/><Relationship Id="rId40" Type="http://schemas.openxmlformats.org/officeDocument/2006/relationships/slideLayout" Target="../slideLayouts/slideLayout355.xml"/><Relationship Id="rId41" Type="http://schemas.openxmlformats.org/officeDocument/2006/relationships/slideLayout" Target="../slideLayouts/slideLayout356.xml"/><Relationship Id="rId42" Type="http://schemas.openxmlformats.org/officeDocument/2006/relationships/slideLayout" Target="../slideLayouts/slideLayout357.xml"/><Relationship Id="rId43" Type="http://schemas.openxmlformats.org/officeDocument/2006/relationships/slideLayout" Target="../slideLayouts/slideLayout358.xml"/><Relationship Id="rId44" Type="http://schemas.openxmlformats.org/officeDocument/2006/relationships/slideLayout" Target="../slideLayouts/slideLayout359.xml"/><Relationship Id="rId4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CDE0-4491-4BEB-B5BF-7146B7C1AB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2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222A-02FF-4BA6-9BD6-914168C1F5D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8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9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71BB-2873-4144-9485-53C2500E481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6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6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6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7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8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0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B296-BC51-478E-891F-6071B6136C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5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2F41-5790-4E38-A19B-7E5CFBF275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461-9870-4D9E-8BDC-D48FE1EBFA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6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2487-19BE-483A-B1CF-975CB05230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4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C53C-CFC7-4B08-B237-9C9C7FC6C3A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1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2C2C-C19E-4507-A543-809AE4337A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6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5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2BF0-2197-4EF1-889D-B40BDD674F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5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5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7E6-1C64-4EFE-B992-E3E303D4245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695-1EC9-4094-9794-A5606FC2081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4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4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6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9832-1BDB-46E5-86B9-09EEB25BBC3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6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7932-90B7-4799-9CDB-E342898529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552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553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556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55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55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561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562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4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565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7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568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57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3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574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57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9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1580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1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58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5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1586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7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8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1589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0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1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1592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3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4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1595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6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7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1598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9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0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1601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2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3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1604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5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6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1607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61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2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1613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4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5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1616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7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8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161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0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1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1622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4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6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1627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8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9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1630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633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5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1636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7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8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1639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1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1642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3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4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1645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6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7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1648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9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0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1651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1654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657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8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59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1660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1661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9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670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EAA7-A8DF-48C3-9ADE-A776CC80A7A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2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3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3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7FC-4E33-4999-ACA2-013E7697D2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78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1E1-D527-40C3-8C65-E564B95F4C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8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A2FB-2527-4FC6-A26D-8244B15A4EC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2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9B13-4D7D-43A4-9F7E-8183F42727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971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972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97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97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8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97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80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98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82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98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19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020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1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2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3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4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5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6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7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8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9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0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1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3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06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06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07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1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08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8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089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DD2-43DB-4B4D-8183-6F72DD30EA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3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C07D-84D4-4B74-AAEF-53BB2A787F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19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20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1DF4-DF2C-48C2-AA13-B960FF12C7F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704-613D-408A-9A51-5D365D0355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27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7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7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7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8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8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9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1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dt" idx="8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ftr" idx="8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 type="sldNum" idx="9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EECA-400C-43A3-9E4B-49D0C0C7D3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4"/>
    <p:sldLayoutId id="2147484027" r:id="rId35"/>
    <p:sldLayoutId id="2147484028" r:id="rId36"/>
    <p:sldLayoutId id="2147484029" r:id="rId37"/>
    <p:sldLayoutId id="2147484030" r:id="rId38"/>
    <p:sldLayoutId id="2147484031" r:id="rId39"/>
    <p:sldLayoutId id="2147484032" r:id="rId40"/>
    <p:sldLayoutId id="2147484033" r:id="rId41"/>
    <p:sldLayoutId id="2147484034" r:id="rId42"/>
    <p:sldLayoutId id="2147484035" r:id="rId43"/>
    <p:sldLayoutId id="2147484036" r:id="rId44"/>
    <p:sldLayoutId id="2147484037" r:id="rId4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6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dt" idx="9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 type="ftr" idx="9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 type="sldNum" idx="9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5A6D-E9A9-45A4-9EEE-649DC08C0A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4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 type="dt" idx="9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 type="ftr" idx="9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F72-5FF0-41D0-B998-0570902B2E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46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46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7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 type="dt" idx="9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A6E2-CB6A-45A3-954A-FDC0F084F6A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5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 type="dt" idx="10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 type="ftr" idx="10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4529-7554-47E5-8B1D-85866A95617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7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089E-CCCB-4E3C-97A6-29B469A66A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 type="dt" idx="10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 type="sldNum" idx="10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7C55-ECE6-49A4-923F-7CC98D1F55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1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1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82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 type="dt" idx="10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 type="ftr" idx="11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 type="sldNum" idx="11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8BC-AC3C-47E8-B4BB-6504B3CF145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1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2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4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7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0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3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6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7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2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5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7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6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0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2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6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29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4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2DE8-0FEC-4178-87C8-5BFCFC3F0FD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A474-6CFD-4A94-90F3-68CE57BD9A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5E8F-B6D8-4050-9E60-90959FA208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80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3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6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0460-30F6-4B37-A4CC-97F8AF9381E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D91B-AD78-4590-960B-CF395622D2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55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55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56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6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56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6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56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6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57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0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60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1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5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5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5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6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67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1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B393-D296-4160-83C4-7EE426F7FB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anetolog.ru/map-continent-big.php?id=AFR&amp;scheme=4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8" name="Picture 4" descr="Политическая карта Афри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0"/>
            <a:ext cx="5319720" cy="6454800"/>
          </a:xfrm>
          <a:prstGeom prst="rect">
            <a:avLst/>
          </a:prstGeom>
          <a:ln w="0">
            <a:noFill/>
          </a:ln>
        </p:spPr>
      </p:pic>
      <p:sp>
        <p:nvSpPr>
          <p:cNvPr id="2869" name="AutoShape 7"/>
          <p:cNvSpPr/>
          <p:nvPr/>
        </p:nvSpPr>
        <p:spPr>
          <a:xfrm rot="2860200">
            <a:off x="3132000" y="2298240"/>
            <a:ext cx="1143000" cy="3585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WordArt 8"/>
          <p:cNvSpPr txBox="1"/>
          <p:nvPr/>
        </p:nvSpPr>
        <p:spPr>
          <a:xfrm>
            <a:off x="3657600" y="216000"/>
            <a:ext cx="22575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ге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Абеокуте родились многие известные нигерийцы, такие как музыкант и певец Фела Кути, писатель Амос Тутуола, писатель и нобелевский лауреат Воле Шойинка, архиепископ Питер Акинола, президент Нигерии в 1999—2007 годах Олусегун Обасанджо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0" name="WordArt 4"/>
          <p:cNvSpPr txBox="1"/>
          <p:nvPr/>
        </p:nvSpPr>
        <p:spPr>
          <a:xfrm>
            <a:off x="320040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женц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1" name="AutoShape 5">
            <a:hlinkClick r:id="rId3" action="ppaction://hlinksldjump"/>
          </p:cNvPr>
          <p:cNvSpPr/>
          <p:nvPr/>
        </p:nvSpPr>
        <p:spPr>
          <a:xfrm>
            <a:off x="8077320" y="5638680"/>
            <a:ext cx="1066680" cy="121932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19320"/>
              <a:gd name="textAreaBottom" fmla="*/ 1150200 h 121932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 находится в 90 км к северу от Лагоса на реке Огун, имеющей ширину в районе города до 200 метров и судоходной для небольших лодок, вблизи гор Олумо, которые являются для него защитной природной огра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WordArt 4"/>
          <p:cNvSpPr txBox="1"/>
          <p:nvPr/>
        </p:nvSpPr>
        <p:spPr>
          <a:xfrm>
            <a:off x="3124080" y="914400"/>
            <a:ext cx="27910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04" name="AutoShape 5">
            <a:hlinkClick r:id="rId1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8129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6284" y="3794"/>
                </a:lnTo>
                <a:lnTo>
                  <a:pt x="6284" y="17806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нтр аграрного района, специализирующегося на выращивании какао. Пивоваренная и цементная промышленность, производство пальмовой масла, велосипедных шин, деревообработка. Город является транспортным узлом на пересечении железнодорожной магистрали Лагос-Кано и автодоро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AutoShape 4">
            <a:hlinkClick r:id="rId1" action="ppaction://hlinksldjump"/>
          </p:cNvPr>
          <p:cNvSpPr/>
          <p:nvPr/>
        </p:nvSpPr>
        <p:spPr>
          <a:xfrm>
            <a:off x="7696080" y="56386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9792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  <a:path fill="darken" w="26582" h="21600">
                <a:moveTo>
                  <a:pt x="6285" y="3794"/>
                </a:moveTo>
                <a:lnTo>
                  <a:pt x="7947" y="3794"/>
                </a:lnTo>
                <a:lnTo>
                  <a:pt x="7947" y="17806"/>
                </a:lnTo>
                <a:lnTo>
                  <a:pt x="62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аго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го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Lago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йоруб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Èk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 — портовый город на юго-западе Нигерии, самый большой город страны. Имея население более 7 миллионов человек и более 10 миллионов в метрополии[1], Лагос является вторым после Каира городом в Африке по этому показат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Лагос был небольшим поселением племени йоруба, за время европейской колонизации и независимости став важнейшим коммерческим центром Ниг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час город занимает практически всю территорию штата Лагос и состоит из большого числа районов, соединённых и разделённых между собой автомагистра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гос был столицей Нигерии до 12 декабря 1991, потом столица переместилась в город Абуд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AutoShape 4">
            <a:hlinkClick r:id="" action="ppaction://hlinkshowjump?jump=nextslide"/>
          </p:cNvPr>
          <p:cNvSpPr/>
          <p:nvPr/>
        </p:nvSpPr>
        <p:spPr>
          <a:xfrm>
            <a:off x="8077320" y="5715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WordArt 4"/>
          <p:cNvSpPr txBox="1"/>
          <p:nvPr/>
        </p:nvSpPr>
        <p:spPr>
          <a:xfrm>
            <a:off x="838080" y="609480"/>
            <a:ext cx="1952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2" name="WordArt 5"/>
          <p:cNvSpPr txBox="1"/>
          <p:nvPr/>
        </p:nvSpPr>
        <p:spPr>
          <a:xfrm>
            <a:off x="2743200" y="236232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еография и 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3" name="WordArt 6"/>
          <p:cNvSpPr txBox="1"/>
          <p:nvPr/>
        </p:nvSpPr>
        <p:spPr>
          <a:xfrm>
            <a:off x="2362320" y="3809880"/>
            <a:ext cx="2333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ном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4" name="AutoShape 8"/>
          <p:cNvSpPr/>
          <p:nvPr/>
        </p:nvSpPr>
        <p:spPr>
          <a:xfrm>
            <a:off x="8305920" y="304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0391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8546" y="3794"/>
                </a:lnTo>
                <a:lnTo>
                  <a:pt x="8546" y="17806"/>
                </a:lnTo>
                <a:lnTo>
                  <a:pt x="6883" y="17806"/>
                </a:ln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тор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гда Лагос был поселением йоруба, авори называли город Эко, что означает «ферма» или «лагер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472 португалец Секвейра высадился здесь и назвал эту область Лагос, что означает «озёра». В 1704—1851 Лагос был центром работорговли. В 1841 Оба Акитое взошёл на трон в Лагосе и запретил работорговлю. Работорговцы устроили бунт и устранили короля, водрузив на трон его брата Оба Касоко, Оба Акитое вернулся из изгнания с англичанами, которые помогли ему вернуться на трон в 1851 и запретить работоргов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7" name="AutoShape 4">
            <a:hlinkClick r:id="" action="ppaction://hlinkshowjump?jump=previousslide"/>
          </p:cNvPr>
          <p:cNvSpPr/>
          <p:nvPr/>
        </p:nvSpPr>
        <p:spPr>
          <a:xfrm>
            <a:off x="7924680" y="3049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еография и клима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Город расположен на островах и на побережье залива Бенин (часть Гвинейского залива) Атлантического океана. Климат экваториальный, осадков свыше 1800 мм в год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AutoShape 4"/>
          <p:cNvSpPr/>
          <p:nvPr/>
        </p:nvSpPr>
        <p:spPr>
          <a:xfrm>
            <a:off x="777240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1615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9770" y="3794"/>
                </a:lnTo>
                <a:lnTo>
                  <a:pt x="9770" y="17806"/>
                </a:lnTo>
                <a:lnTo>
                  <a:pt x="8107" y="17806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коном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Лагосе сосредоточена примерно половина промышленности Нигери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3" name="AutoShape 4"/>
          <p:cNvSpPr/>
          <p:nvPr/>
        </p:nvSpPr>
        <p:spPr>
          <a:xfrm>
            <a:off x="80773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айдугур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йдугури является административным центром нигерийского федерального штата Борно. Численность населения составляет 1.197.497 человек (на 1.01.2009). В городе имеется университет, городской музей. С 1964 года к Майдугури проложена ветка транснигерийской железной дороги, связывающая город с побережьем Гвинейского залива (до Порт-Харкорта). Международный аэропорт. Большинство населения относится к народности хауса, проживают в Майдугури также канури и арабы шува. Язык преподавания в университете — английский. Преобладающей религией является ислам, есть также христианское меньшинство. Город Майдугури является традиционным торговым центром Северной Нигерии. Жизненный уровень в Майдугури выше, чем в среднем по Нигери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6" name="AutoShape 9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4053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12208" y="3794"/>
                </a:lnTo>
                <a:lnTo>
                  <a:pt x="12208" y="17806"/>
                </a:lnTo>
                <a:lnTo>
                  <a:pt x="10545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оружённые си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оружённые силы Ниге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англ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Nigerian Armed Forc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 — совокупность войск Республики Нигерия, предназначенная для защиты свободы, независимости и территориальной целостности государства. Состоят из сухопутных войск, военно-морских и военно-воздушных си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1" name="Picture 5" descr="Флаг Ниге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2" name="WordArt 27"/>
          <p:cNvSpPr txBox="1"/>
          <p:nvPr/>
        </p:nvSpPr>
        <p:spPr>
          <a:xfrm>
            <a:off x="914400" y="609480"/>
            <a:ext cx="1676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73" name="WordArt 28"/>
          <p:cNvSpPr txBox="1"/>
          <p:nvPr/>
        </p:nvSpPr>
        <p:spPr>
          <a:xfrm>
            <a:off x="3429000" y="2971800"/>
            <a:ext cx="2381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пад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74" name="WordArt 29"/>
          <p:cNvSpPr txBox="1"/>
          <p:nvPr/>
        </p:nvSpPr>
        <p:spPr>
          <a:xfrm>
            <a:off x="6781680" y="487692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фри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3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ном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WordArt 4"/>
          <p:cNvSpPr txBox="1"/>
          <p:nvPr/>
        </p:nvSpPr>
        <p:spPr>
          <a:xfrm>
            <a:off x="914400" y="1600200"/>
            <a:ext cx="4200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льское хозяй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1" name="WordArt 5"/>
          <p:cNvSpPr txBox="1"/>
          <p:nvPr/>
        </p:nvSpPr>
        <p:spPr>
          <a:xfrm>
            <a:off x="0" y="3733920"/>
            <a:ext cx="864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фтедобывающая промышл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32" name="WordArt 6"/>
          <p:cNvSpPr txBox="1"/>
          <p:nvPr/>
        </p:nvSpPr>
        <p:spPr>
          <a:xfrm>
            <a:off x="1371600" y="5257800"/>
            <a:ext cx="737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атывающая 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3" name="AutoShape 7"/>
          <p:cNvSpPr/>
          <p:nvPr/>
        </p:nvSpPr>
        <p:spPr>
          <a:xfrm>
            <a:off x="8381880" y="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ельском хозяйстве занято 65 процентов населения. В колониальное время оно носило натуральный характер. Основными продовольственными культурами являются ямс, батат и кукуруза. Многие земли орошаются. Выращиваются также какао-бобы (340 млн. т), натуральный каучук (112 млн. т) и хлопчатник (0.4 млн. т.)Развито животноводство. В 2002 году в стране насчитывалось 20 млн. голов крупного рогатого скота, 22 млн. овец и 5.5 млн. свин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AutoShape 4"/>
          <p:cNvSpPr/>
          <p:nvPr/>
        </p:nvSpPr>
        <p:spPr>
          <a:xfrm>
            <a:off x="815328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фтедобывающая промышленност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тедобывающая промышленность - основа нигерийской экономики. Нефть дает 90 процентов экспортных доходов страны (в 2002 году это составило около 8 млрд. долларов в год[1]). Нигерия первый в Африке и восьмой в мире экспортер нефти. Первая в Нигерии нефтяная скважина была пробурена в 1958 году. Большая часть запасов нефти сосредоточена в дельте реки Нигер. Для увеличения доходов Нигерия продолжала наращивать добычу нефти, но в 90-х годах цены не неё были низкими. В Нигерии ежедневно добывается 2,1 млн. баррелей нефти. Разработка нефти ведется Нигерийской национальной нефтяной компанией [2] (75% доходов от продажи нефти), а также компанией Royal Dutch Shell [3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бываются также уголь, который в начале был первым основным продуктом экспорта, олово и колумб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9" name="AutoShape 4"/>
          <p:cNvSpPr/>
          <p:nvPr/>
        </p:nvSpPr>
        <p:spPr>
          <a:xfrm>
            <a:off x="8534520" y="228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брабатывающая промышленнос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батывающая промышленность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сновные отрасли обрабатывающей промышленности - пищевая и нефтеперерабатывающая. Главный промышленный центр - Лагос. В Аджаокуте - металлургический комбинат, большая часть строительства которого было выполнено при участии советских инженеров. Сталелитейный комбинат в Аджаокуте в 1980-е гг. планировался как крупнейшее металлообрабатывающее предприятие в Западной Африке. К началу 1990-х гг. строительство было практически закончено, однако, связи с распадом Советского Союза, завод не был сдан в эксплуатац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2" name="AutoShape 4"/>
          <p:cNvSpPr/>
          <p:nvPr/>
        </p:nvSpPr>
        <p:spPr>
          <a:xfrm>
            <a:off x="8077320" y="38088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4250" y="10800"/>
                </a:moveTo>
                <a:lnTo>
                  <a:pt x="44756" y="3794"/>
                </a:lnTo>
                <a:lnTo>
                  <a:pt x="44756" y="17806"/>
                </a:lnTo>
                <a:close/>
              </a:path>
              <a:path fill="darken" w="75498" h="21600">
                <a:moveTo>
                  <a:pt x="30743" y="3794"/>
                </a:moveTo>
                <a:lnTo>
                  <a:pt x="32405" y="3794"/>
                </a:lnTo>
                <a:lnTo>
                  <a:pt x="32405" y="17806"/>
                </a:lnTo>
                <a:lnTo>
                  <a:pt x="3074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остопримечательнос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никальный природный памятник Нигерии - плато Джос, представляющее собой вздымающиеся из зелени джунглей останцовые скалы с плоскими вершинами и практически отвесными склонами изъеденными эрозией. Внешне они напоминают знаменитые "столбы" штата Юта в США, но сложены из пород серого оттенка и ярко контрастируют с окружающей зеленью тропического леса. Резерваты — Боргу, Квиамбана, Янкари и д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5" name="Picture 5" descr="284"/>
          <p:cNvPicPr/>
          <p:nvPr/>
        </p:nvPicPr>
        <p:blipFill>
          <a:blip r:embed="rId1"/>
          <a:stretch/>
        </p:blipFill>
        <p:spPr>
          <a:xfrm>
            <a:off x="4876920" y="1676520"/>
            <a:ext cx="39700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ар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сполна насладиться великолепием дикой природы, в первую очередь, предоставлена посетителя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поведника Янкар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первый заповедник и национальный парк в Нигерии. Парк Янкари и горячие источники Викки расположены вокруг реки Гаги, примерно в 1 - 0,5 часа пути к юго-востоку от Баучи. Красота и многообразие обитателей природного заповедника Янкари сделали его самым популярным в Ниге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к основан в 1956 году и открыт для посещения в 1962 году, основная его часть  открыта для просмотра круглый год. Японцы, европейцы, американцы и азиаты с удовольствием  приезжают сю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поведник охватывает огромную территорию леса и саванны, обитаемую слонами, бабуинами, водяными козлами, лесными антилопами, крокодилами, бегемотами, антилопами, буйволами и различными видами обезьян. Иногда можно заметить львов, несмотря на их природный камуфляж. Парк населен различными птицами, в том числе огромными аистами, цаплями, орлами, грифами, зимородкам и  щурками. Лучшим временем для посещения является период с ноября по май, когда растения засыхают  и животные собираются около рек и водоем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ещение горячих источников Вики - приятная часть поездки в заповедник. После жаркого  дня наблюдения за дикой природой можно расслабиться в теплой воде. Также на территории заповедника расположены теннисные и сквош корты и небольшой музей. Остановиться можно в семейном домике с кухней или в отеле в двухместном или одноместном номе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AutoShape 5"/>
          <p:cNvSpPr/>
          <p:nvPr/>
        </p:nvSpPr>
        <p:spPr>
          <a:xfrm>
            <a:off x="8305920" y="380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1341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  <a:path fill="darken" w="29679" h="21600">
                <a:moveTo>
                  <a:pt x="7833" y="3794"/>
                </a:moveTo>
                <a:lnTo>
                  <a:pt x="9496" y="3794"/>
                </a:lnTo>
                <a:lnTo>
                  <a:pt x="9496" y="17806"/>
                </a:lnTo>
                <a:lnTo>
                  <a:pt x="783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5" name="Picture 5" descr="Герб Нигерии"/>
          <p:cNvPicPr/>
          <p:nvPr/>
        </p:nvPicPr>
        <p:blipFill>
          <a:blip r:embed="rId1"/>
          <a:stretch/>
        </p:blipFill>
        <p:spPr>
          <a:xfrm>
            <a:off x="0" y="185760"/>
            <a:ext cx="8610480" cy="6672240"/>
          </a:xfrm>
          <a:prstGeom prst="rect">
            <a:avLst/>
          </a:prstGeom>
          <a:ln w="0">
            <a:noFill/>
          </a:ln>
        </p:spPr>
      </p:pic>
      <p:sp>
        <p:nvSpPr>
          <p:cNvPr id="2876" name="WordArt 6"/>
          <p:cNvSpPr txBox="1"/>
          <p:nvPr/>
        </p:nvSpPr>
        <p:spPr>
          <a:xfrm>
            <a:off x="1219320" y="60948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7" name="WordArt 7"/>
          <p:cNvSpPr txBox="1"/>
          <p:nvPr/>
        </p:nvSpPr>
        <p:spPr>
          <a:xfrm>
            <a:off x="4076640" y="1905120"/>
            <a:ext cx="50673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878" name="WordArt 9"/>
          <p:cNvSpPr txBox="1"/>
          <p:nvPr/>
        </p:nvSpPr>
        <p:spPr>
          <a:xfrm>
            <a:off x="1143000" y="3124080"/>
            <a:ext cx="1933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ном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9" name="WordArt 10"/>
          <p:cNvSpPr txBox="1"/>
          <p:nvPr/>
        </p:nvSpPr>
        <p:spPr>
          <a:xfrm>
            <a:off x="5410080" y="4724280"/>
            <a:ext cx="1362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5000">
    <p:wheel spokes="2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73 -0.0111 C 0.10434 -0.01711 0.12968 -0.02197 0.15781 -0.02382 C 0.17812 -0.03052 0.16614 -0.02752 0.19427 -0.03006 C 0.22326 -0.03977 0.2375 -0.03538 0.27673 -0.03653 C 0.28628 -0.0407 0.29514 -0.04139 0.30538 -0.04278 C 0.3533 -0.04139 0.38941 -0.03862 0.43559 -0.03653 C 0.44739 -0.02821 0.46093 -0.02151 0.47361 -0.01526 C 0.48819 -0.0081 0.47014 -0.02012 0.48941 -0.00902 C 0.49514 -0.00555 0.50104 0.00046 0.50677 0.0037 C 0.50902 0.00485 0.51128 0.00485 0.51336 0.00578 C 0.51649 0.00693 0.51979 0.00832 0.52274 0.00994 C 0.53524 0.01711 0.5368 0.01988 0.54982 0.02266 C 0.55868 0.03121 0.56771 0.04347 0.5783 0.04809 C 0.58437 0.05572 0.59114 0.06173 0.59739 0.06913 C 0.60017 0.07237 0.60225 0.07699 0.60538 0.07954 C 0.6085 0.08254 0.61493 0.08832 0.61493 0.08832 C 0.61771 0.09965 0.6243 0.10797 0.62916 0.11792 C 0.63055 0.12901 0.6309 0.13433 0.63559 0.14312 C 0.63802 0.15653 0.64201 0.16901 0.6467 0.18127 C 0.64791 0.18751 0.6493 0.19676 0.65139 0.20208 C 0.65295 0.20647 0.6559 0.20925 0.65781 0.21295 C 0.66024 0.22612 0.66284 0.23676 0.66718 0.24901 C 0.675 0.29549 0.66944 0.34497 0.67205 0.3926 C 0.67152 0.4074 0.67135 0.42219 0.67048 0.43699 C 0.66961 0.45318 0.66267 0.46913 0.65781 0.48347 C 0.65399 0.49503 0.65816 0.48901 0.65295 0.50682 C 0.64982 0.51745 0.64531 0.52624 0.64184 0.53641 C 0.63836 0.54659 0.63646 0.56277 0.63229 0.57225 C 0.62847 0.58104 0.62274 0.58936 0.61805 0.59745 C 0.61666 0.60023 0.61632 0.6037 0.61493 0.60601 C 0.60798 0.61988 0.59913 0.6356 0.58941 0.64624 C 0.58455 0.65156 0.58472 0.65595 0.5783 0.65896 C 0.57326 0.66589 0.56736 0.67144 0.56093 0.67584 C 0.55659 0.68208 0.55208 0.68092 0.5467 0.68439 C 0.54062 0.68832 0.53316 0.69179 0.5276 0.69711 C 0.51753 0.70659 0.52847 0.7015 0.51649 0.70543 C 0.46215 0.75445 0.38524 0.71052 0.31961 0.70959 C 0.29184 0.70659 0.26597 0.69572 0.23871 0.68855 C 0.20364 0.6793 0.16961 0.67352 0.13385 0.67144 C 0.12604 0.66821 0.11944 0.66219 0.11163 0.65896 C 0.1059 0.65133 0.10034 0.64855 0.09427 0.64185 C 0.08021 0.62636 0.06649 0.6111 0.05139 0.59745 C 0.0493 0.59352 0.04774 0.58867 0.04496 0.58497 C 0.0434 0.58266 0.04166 0.58104 0.04027 0.57873 C 0.03784 0.5748 0.03663 0.56948 0.03385 0.56601 C 0.03229 0.56393 0.03055 0.56208 0.02916 0.55977 C 0.02673 0.55584 0.02274 0.54682 0.02274 0.54682 C 0.01875 0.53063 0.02413 0.55075 0.01805 0.53433 C 0.01406 0.52347 0.0125 0.5126 0.00694 0.50266 C 0.00312 0.48138 0.00868 0.50751 0.00052 0.48578 C -0.01042 0.45688 0.00486 0.4867 -0.00729 0.46451 C -0.01181 0.44647 -0.01667 0.42844 -0.02327 0.41179 C -0.02674 0.39237 -0.02917 0.37248 -0.03108 0.3526 C -0.03039 0.29942 -0.03264 0.24647 -0.02795 0.19399 C -0.02709 0.18335 -0.01789 0.17641 -0.01372 0.16855 C -0.01164 0.16462 -0.01094 0.15977 -0.00886 0.15584 C -0.00295 0.14451 0.00538 0.13526 0.01163 0.12416 C 0.01701 0.11468 0.01909 0.10404 0.02448 0.09456 C 0.02691 0.08162 0.02534 0.08948 0.02916 0.07352 C 0.02968 0.07144 0.03021 0.06913 0.03073 0.06705 C 0.03125 0.06497 0.03229 0.06081 0.03229 0.06081 C 0.03385 0.04809 0.0375 0.03006 0.0467 0.02266 C 0.05989 0.01202 0.04236 0.03075 0.05607 0.01641 C 0.0585 0.01387 0.05989 0.00994 0.0625 0.00786 C 0.06649 0.00462 0.06875 0.0074 0.07205 0.00162 C 0.07413 -0.00208 0.07517 -0.00694 0.07673 -0.0111 Z">
                                      <p:cBhvr>
                                        <p:cTn id="31" dur="5000" fill="hold"/>
                                        <p:tgtEl>
                                          <p:spTgt spid="2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4.33526E-006 C 0.00104 0.02751 0.00243 0.04832 0.00624 0.07399 C 0.0052 0.11121 0.00555 0.14821 -0.0033 0.18382 C -0.00539 0.20093 -0.00869 0.21757 -0.01112 0.23468 C -0.01407 0.25549 -0.01546 0.27445 -0.02553 0.29156 C -0.02778 0.30405 -0.04115 0.33364 -0.04931 0.34035 C -0.05626 0.34613 -0.06424 0.34636 -0.07153 0.35075 C -0.08386 0.35815 -0.09376 0.36439 -0.10643 0.36994 C -0.14237 0.36879 -0.16164 0.36856 -0.19219 0.36347 C -0.20382 0.35954 -0.21528 0.35607 -0.22709 0.35306 C -0.23664 0.34451 -0.24358 0.3422 -0.254 0.33595 C -0.25678 0.33434 -0.25903 0.3311 -0.26198 0.32971 C -0.26598 0.32763 -0.27466 0.32555 -0.27466 0.32555 C -0.28351 0.31838 -0.29132 0.31237 -0.30001 0.30428 C -0.30816 0.29665 -0.3158 0.28532 -0.32553 0.28116 C -0.32761 0.27769 -0.32917 0.27353 -0.33178 0.27052 C -0.33299 0.26913 -0.33525 0.26983 -0.33664 0.26844 C -0.34705 0.25734 -0.33247 0.2652 -0.34445 0.25988 C -0.34966 0.25318 -0.35278 0.24601 -0.35886 0.24093 C -0.36754 0.22451 -0.36337 0.23029 -0.36997 0.22197 C -0.37813 0.19977 -0.36771 0.2259 -0.37778 0.20717 C -0.38716 0.18983 -0.37431 0.2074 -0.38577 0.19029 C -0.3882 0.18659 -0.39376 0.17965 -0.39376 0.17965 C -0.39584 0.16879 -0.3981 0.16116 -0.4033 0.15214 C -0.40469 0.14428 -0.4073 0.13873 -0.40955 0.1311 C -0.41164 0.12393 -0.41598 0.10983 -0.41598 0.10983 C -0.41841 0.09017 -0.42014 0.07029 -0.42223 0.05064 C -0.42136 0.02127 -0.42466 -0.00647 -0.41112 -0.0296 C -0.40608 -0.0504 -0.39896 -0.06913 -0.38733 -0.08462 C -0.36563 -0.11353 -0.39862 -0.07977 -0.37622 -0.1015 C -0.37084 -0.11376 -0.3599 -0.12855 -0.34931 -0.13318 C -0.33785 -0.14474 -0.32691 -0.15792 -0.31441 -0.16717 C -0.3073 -0.17249 -0.29862 -0.17503 -0.29063 -0.17757 C -0.24931 -0.17688 -0.20799 -0.17688 -0.16667 -0.17549 C -0.15296 -0.17503 -0.13785 -0.16879 -0.12396 -0.16717 C -0.12032 -0.16555 -0.11615 -0.16555 -0.11285 -0.16277 C -0.11025 -0.16069 -0.10869 -0.15699 -0.10643 -0.15445 C -0.09914 -0.14613 -0.0915 -0.14012 -0.08264 -0.13526 C -0.07709 -0.12809 -0.07188 -0.12301 -0.06511 -0.11838 C -0.05869 -0.10775 -0.05348 -0.10312 -0.04445 -0.09734 C -0.04028 -0.08855 -0.0356 -0.08509 -0.02865 -0.08046 C -0.02501 -0.07538 -0.02188 -0.07168 -0.01754 -0.06775 C -0.01441 -0.0615 -0.01198 -0.0541 -0.00799 -0.04879 C -0.00105 -0.03954 0.00468 -0.03168 0.00781 -0.01919 C 0.00607 -0.00948 0.00624 -0.00578 -8.05556E-006 4.33526E-006 Z">
                                      <p:cBhvr>
                                        <p:cTn id="33" dur="5000" fill="hold"/>
                                        <p:tgtEl>
                                          <p:spTgt spid="2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1676E-006 C -0.00277 -0.03468 -0.0085 -0.06913 -0.01267 -0.10358 C -0.01215 -0.11838 -0.01198 -0.13318 -0.01111 -0.14797 C -0.00989 -0.16786 0.00105 -0.18566 0.00955 -0.20069 C 0.01372 -0.20809 0.01476 -0.21433 0.02066 -0.21988 C 0.02448 -0.23514 0.01893 -0.21618 0.02709 -0.23237 C 0.02796 -0.23422 0.02778 -0.23699 0.02865 -0.23884 C 0.02987 -0.24138 0.03195 -0.24277 0.03334 -0.24508 C 0.04202 -0.25896 0.04948 -0.27861 0.05886 -0.29156 C 0.07153 -0.30913 0.0533 -0.28439 0.07153 -0.30636 C 0.08247 -0.3193 0.075 -0.31514 0.08421 -0.31907 C 0.09983 -0.33364 0.11476 -0.35029 0.13021 -0.36555 C 0.13646 -0.37179 0.14497 -0.37271 0.15243 -0.37618 C 0.15868 -0.37919 0.17153 -0.38474 0.17153 -0.38474 C 0.17535 -0.38867 0.18143 -0.39514 0.18577 -0.39745 C 0.20226 -0.4067 0.19167 -0.39815 0.20157 -0.4037 C 0.20868 -0.40763 0.21615 -0.4141 0.22379 -0.41641 C 0.23351 -0.41942 0.24011 -0.42057 0.24931 -0.42266 C 0.27657 -0.43468 0.28525 -0.42612 0.32709 -0.42474 C 0.33664 -0.42034 0.34688 -0.41248 0.35695 -0.40994 C 0.3632 -0.40832 0.3698 -0.40855 0.37622 -0.40786 C 0.38837 -0.39722 0.38646 -0.40208 0.39827 -0.39514 C 0.41146 -0.38751 0.42483 -0.38127 0.43802 -0.3741 C 0.45087 -0.36716 0.46563 -0.36 0.47778 -0.35075 C 0.4849 -0.3452 0.49219 -0.33826 0.5 -0.33387 C 0.50625 -0.33017 0.51285 -0.32971 0.5191 -0.32555 C 0.53473 -0.31514 0.50764 -0.32809 0.53334 -0.31699 C 0.5408 -0.30289 0.53108 -0.3193 0.54601 -0.30427 C 0.54757 -0.30266 0.54809 -0.29988 0.54931 -0.29803 C 0.55868 -0.28323 0.54931 -0.29873 0.55886 -0.2874 C 0.56216 -0.28346 0.56823 -0.27468 0.56823 -0.27468 C 0.56927 -0.27121 0.57032 -0.26774 0.57153 -0.26427 C 0.5724 -0.26196 0.57379 -0.26011 0.57466 -0.2578 C 0.57674 -0.25225 0.57622 -0.24901 0.57778 -0.243 C 0.58143 -0.22959 0.58612 -0.21456 0.59219 -0.20277 C 0.59271 -0.19861 0.59271 -0.19422 0.59375 -0.19029 C 0.59427 -0.18844 0.59618 -0.18774 0.59688 -0.18589 C 0.60191 -0.17202 0.60087 -0.16208 0.60799 -0.14797 C 0.61129 -0.12578 0.6132 -0.10289 0.62066 -0.08231 C 0.62118 -0.07884 0.62153 -0.07537 0.62223 -0.0719 C 0.62309 -0.06751 0.62483 -0.06358 0.62552 -0.05919 C 0.62813 -0.04231 0.62622 -0.02474 0.63021 -0.00832 C 0.6323 0.01295 0.63334 0.05665 0.64132 0.07838 C 0.64341 0.09226 0.64462 0.10636 0.64601 0.12047 C 0.64514 0.16023 0.64636 0.19029 0.63976 0.22636 C 0.63785 0.2363 0.63907 0.24648 0.63334 0.25364 C 0.62917 0.27075 0.63594 0.24578 0.62552 0.27075 C 0.62396 0.27469 0.62396 0.27954 0.62223 0.28324 C 0.61702 0.29411 0.60851 0.30243 0.60157 0.31075 C 0.58907 0.32555 0.58403 0.33549 0.56823 0.34474 C 0.55921 0.35677 0.54844 0.36301 0.53664 0.36786 C 0.52639 0.37203 0.51684 0.38058 0.50625 0.38266 C 0.48108 0.38775 0.45573 0.39168 0.43021 0.39538 C 0.4033 0.3933 0.37622 0.39168 0.34931 0.38914 C 0.33282 0.38752 0.3165 0.38127 0.3 0.3785 C 0.27778 0.3637 0.25452 0.35284 0.23177 0.34035 C 0.22448 0.33642 0.21459 0.32601 0.20799 0.32139 C 0.17917 0.30104 0.14775 0.2881 0.11754 0.27284 C 0.10382 0.2659 0.09271 0.25526 0.07934 0.24948 C 0.07188 0.23931 0.06511 0.2326 0.05556 0.22636 C 0.04532 0.21203 0.04341 0.18613 0.03334 0.17341 C 0.03091 0.1533 0.02622 0.15168 0.0191 0.13758 C 0.01702 0.12648 0.01441 0.11769 0.00955 0.10798 C 0.0066 0.09133 0.00487 0.07862 0.00487 0.06127 E">
                                      <p:cBhvr>
                                        <p:cTn id="35" dur="5000" fill="hold"/>
                                        <p:tgtEl>
                                          <p:spTgt spid="2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6 -0.00439 C -0.10087 0.00024 -0.11129 0.00532 -0.12066 0.01249 C -0.13021 0.01989 -0.12952 0.02313 -0.1382 0.02729 C -0.15365 0.03492 -0.17066 0.04602 -0.18733 0.04856 C -0.19688 0.04995 -0.20643 0.04995 -0.21598 0.05064 C -0.27049 0.04925 -0.32483 0.04856 -0.37934 0.04648 C -0.41146 0.04532 -0.44028 0.01318 -0.45712 -0.02104 C -0.47223 -0.05202 -0.44792 -0.01965 -0.47466 -0.05063 C -0.48473 -0.07468 -0.49879 -0.09456 -0.51112 -0.1163 C -0.52223 -0.13618 -0.52987 -0.15375 -0.5382 -0.17526 C -0.55 -0.20647 -0.54896 -0.24554 -0.554 -0.27884 C -0.55608 -0.30982 -0.55869 -0.33988 -0.56355 -0.37017 C -0.56233 -0.40184 -0.56719 -0.43606 -0.55712 -0.4652 C -0.55521 -0.47052 -0.55157 -0.47468 -0.54931 -0.47976 C -0.53438 -0.51375 -0.51893 -0.55005 -0.49844 -0.57919 C -0.49462 -0.58474 -0.48976 -0.5889 -0.48577 -0.59398 C -0.47865 -0.603 -0.47171 -0.61202 -0.46511 -0.6215 C -0.44809 -0.64624 -0.4198 -0.68878 -0.39532 -0.70173 C -0.38334 -0.70797 -0.37882 -0.70728 -0.36355 -0.71028 C -0.30903 -0.70959 -0.25452 -0.70936 -0.2 -0.70797 C -0.19532 -0.70774 -0.19011 -0.70843 -0.18577 -0.70589 C -0.16928 -0.69595 -0.15487 -0.67514 -0.13976 -0.6615 C -0.11823 -0.64231 -0.08507 -0.62658 -0.06042 -0.6171 C -0.04584 -0.61156 -0.0191 -0.5919 -0.0191 -0.5919 C -0.00434 -0.56855 -0.01806 -0.58797 0.00798 -0.56254 C 0.021 -0.54982 0.03003 -0.53317 0.04288 -0.52 C 0.0493 -0.50474 0.05677 -0.4904 0.06354 -0.4756 C 0.07083 -0.46011 0.0618 -0.48809 0.07135 -0.46289 C 0.08472 -0.42728 0.06493 -0.46566 0.08732 -0.42682 C 0.09479 -0.4141 0.09722 -0.39537 0.10156 -0.38057 C 0.10416 -0.34242 0.10677 -0.3045 0.10954 -0.26635 C 0.10729 -0.20092 0.11128 -0.1378 0.0809 -0.08462 C 0.07916 -0.0756 0.07638 -0.06566 0.07135 -0.05942 C 0.06614 -0.03768 0.05538 -0.02635 0.04131 -0.01502 C 0.03055 0.00417 0.0184 -1.6763E-006 5.55556E-007 -1.6763E-006 E">
                                      <p:cBhvr>
                                        <p:cTn id="37" dur="5000" fill="hold"/>
                                        <p:tgtEl>
                                          <p:spTgt spid="2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ди издревле населяли территорию Нигерии. Где-то в середине I тыс. до н.э. в центральной части страны на плато Джос формируется цивилизация Нок ознаменовавшая переход от каменного к железному веку. Отличительной чертой данной культуры были терракотовые статуэтки. Некоторые особенности культуры (фигурки лошадей, всадников и колесных повозок) позволяют связать возникновение Нок с влиянием средиземноморского античного очага цивилиза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AutoShape 8">
            <a:hlinkClick r:id="" action="ppaction://hlinkshowjump?jump=nextslide"/>
          </p:cNvPr>
          <p:cNvSpPr/>
          <p:nvPr/>
        </p:nvSpPr>
        <p:spPr>
          <a:xfrm>
            <a:off x="7924680" y="58672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WordArt 10"/>
          <p:cNvSpPr txBox="1"/>
          <p:nvPr/>
        </p:nvSpPr>
        <p:spPr>
          <a:xfrm>
            <a:off x="3200400" y="0"/>
            <a:ext cx="2257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октября 1960 года Нигерия стала независимым государством. Первое правительство независимой Нигерии основывалось на коалиции партий НСНК и СНК, премьер-министром стал представитель СНК Абубакар Тафава Балева. После провозглашения в 1963 году Нигерии республикой пост президента занял Ннамди Азикиве (представитель НСНГ). Оппозиция была представлена Группой действия во главе с Обафеми Аволово. Региональные правительства возглавили: на Севере – лидер СНК Ахмаду Белло, на Западе – С.Акинтола из Группы действия и на Востоке – представитель НСНГ М.Окпара. В 1963 на территории восточной части Западной Нигерии была образована четвёртая область, Среднезападная. На состоявшихся в 1964 выборах в этом регионе победу одержал НСН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нваре 1966 года группа офицеров-игбо во главе совершила военный переворот. Короткий период "первой республики" закончился. Военные попытались учредить в Нигерии унитарное государство, разделенного на провинции. Северонигерийские мусульмане сочли переворот угрозой своим интересам, и по всей стране вспыхнули межэтнические столкновения. В конце июля военные части, состоящие из солдат северян, совершили новый военный переворот. Главой государства стал подполковник (впоследствии генерал), Якубу Говон (правил с 1966 по 1975 год). На севере возобновились преследования игбо, были убиты тысячи человек, что привело к массовому бегству игбо на восток, их попыткам создать государство Биафра и гражданской войне 1967-1970. Страна возвратилась к федеративной систе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AutoShape 5">
            <a:hlinkClick r:id="rId1" action="ppaction://hlinksldjump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9698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7853" y="3794"/>
                </a:lnTo>
                <a:lnTo>
                  <a:pt x="7853" y="17806"/>
                </a:lnTo>
                <a:lnTo>
                  <a:pt x="61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WordArt 4"/>
          <p:cNvSpPr txBox="1"/>
          <p:nvPr/>
        </p:nvSpPr>
        <p:spPr>
          <a:xfrm>
            <a:off x="609480" y="457200"/>
            <a:ext cx="2276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беоку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88" name="WordArt 5"/>
          <p:cNvSpPr txBox="1"/>
          <p:nvPr/>
        </p:nvSpPr>
        <p:spPr>
          <a:xfrm>
            <a:off x="3352680" y="1828800"/>
            <a:ext cx="1505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аг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889" name="WordArt 6"/>
          <p:cNvSpPr txBox="1"/>
          <p:nvPr/>
        </p:nvSpPr>
        <p:spPr>
          <a:xfrm>
            <a:off x="5562720" y="4952880"/>
            <a:ext cx="186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йдугур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0" name="AutoShape 7">
            <a:hlinkClick r:id="rId3" action="ppaction://hlinksldjump"/>
          </p:cNvPr>
          <p:cNvSpPr/>
          <p:nvPr/>
        </p:nvSpPr>
        <p:spPr>
          <a:xfrm>
            <a:off x="8458200" y="228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8653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6808" y="3794"/>
                </a:lnTo>
                <a:lnTo>
                  <a:pt x="6808" y="17806"/>
                </a:lnTo>
                <a:lnTo>
                  <a:pt x="51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WordArt 4"/>
          <p:cNvSpPr txBox="1"/>
          <p:nvPr/>
        </p:nvSpPr>
        <p:spPr>
          <a:xfrm>
            <a:off x="1600200" y="76212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2" name="WordArt 5"/>
          <p:cNvSpPr txBox="1"/>
          <p:nvPr/>
        </p:nvSpPr>
        <p:spPr>
          <a:xfrm>
            <a:off x="4038480" y="2057400"/>
            <a:ext cx="2305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оженц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3" name="WordArt 6"/>
          <p:cNvSpPr txBox="1"/>
          <p:nvPr/>
        </p:nvSpPr>
        <p:spPr>
          <a:xfrm>
            <a:off x="1981080" y="3429000"/>
            <a:ext cx="2333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94" name="WordArt 7"/>
          <p:cNvSpPr txBox="1"/>
          <p:nvPr/>
        </p:nvSpPr>
        <p:spPr>
          <a:xfrm>
            <a:off x="6400800" y="4572000"/>
            <a:ext cx="1749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кономи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5" name="AutoShape 8">
            <a:hlinkClick r:id="" action="ppaction://hlinkshowjump?jump=previousslide"/>
          </p:cNvPr>
          <p:cNvSpPr/>
          <p:nvPr/>
        </p:nvSpPr>
        <p:spPr>
          <a:xfrm>
            <a:off x="8458200" y="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прошлом — главный город народа эгбе в восточной части Верхней Гвинеи. В XIX веке был окружен земляной стеной на протяжении 20 км. Из 130 000 жителей до 2000 составляли христиане. Город и его окрестности находились под властью одного из предводителей племени Аль-Аке. После разрушения царства йоруба народом фелатта, бежавшие из него эгбе основали в 1825 году город Абеокуту, который быстро достиг цветущего состояния и в 1851 и 1864 годах победоносно отразил нападения дагомейцев. Английские миссионеры после произошедшего в октябре 1867 года переворота были изгнаны из города. В 1893 году в городе было сформировано Объединенный правительство егба, признанное английскими колониальными властями. В 1914 году становится частью британской колонии Нигерия. С 1960 года - в составе независимой Нигери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7" name="WordArt 5"/>
          <p:cNvSpPr txBox="1"/>
          <p:nvPr/>
        </p:nvSpPr>
        <p:spPr>
          <a:xfrm>
            <a:off x="3505320" y="304920"/>
            <a:ext cx="194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8" name="AutoShape 6">
            <a:hlinkClick r:id="" action="ppaction://hlinkshowjump?jump=previousslide"/>
          </p:cNvPr>
          <p:cNvSpPr/>
          <p:nvPr/>
        </p:nvSpPr>
        <p:spPr>
          <a:xfrm>
            <a:off x="8153280" y="53341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2T08:27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