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9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  <p:sldId id="278" r:id="rId61"/>
    <p:sldId id="279" r:id="rId62"/>
    <p:sldId id="280" r:id="rId63"/>
    <p:sldId id="281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slide" Target="slides/slide23.xml"/><Relationship Id="rId62" Type="http://schemas.openxmlformats.org/officeDocument/2006/relationships/slide" Target="slides/slide24.xml"/><Relationship Id="rId63" Type="http://schemas.openxmlformats.org/officeDocument/2006/relationships/slide" Target="slides/slide25.xml"/><Relationship Id="rId64" Type="http://schemas.openxmlformats.org/officeDocument/2006/relationships/slide" Target="slides/slide26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B35D-B2CA-4D25-B8C0-1961DB3D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DCD8-E0D2-4046-8BC9-00EAE523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00B09-4935-4EE9-8B19-D8D2D05C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51696-BB86-4F64-9ECF-E563D45F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CFE3D-D364-4AD2-BB1D-E1589FE1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973CC-DDAD-486C-9EF7-10F37477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27B24-4463-469B-8F28-8CAE77FE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4EC60-BC50-4326-ABCE-1A589427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4F2EC-A304-4B85-B232-4644BC6D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8A9E3-F0C4-4221-8855-B48A0E07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4FA60-AE59-4518-BA19-13D9F198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E000A-641A-4176-BD0D-898328AB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6B34-943E-4C7B-AF43-E2DC2485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6A5A9-C502-4E75-B951-06D17A6F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D8C3F-1BCA-49FF-9546-8E879E40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D27BC-0D43-4FF2-B548-BF8660F2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E8329-349E-48E1-A636-42F0B26E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8A9D7-62C3-4372-BF33-B8438FD6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A278D-D319-4469-AA2B-A7CE87EC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D1FC9-6B56-46C5-B2C2-F8449AE9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808BC-2BED-4A17-B887-8062B8A2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AB4E1-C0A1-4598-B0A1-1D368EC2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6584D-36CB-4647-AE6C-72BE026F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57DE-CCDD-4A2F-8C0E-348D30854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D7B8A-82D0-45E6-9BD2-E3204F83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7B235-A9EA-48DE-A637-0E8A64DE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69546-76F0-45FA-AFD2-3C77BE69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40E71-6D64-4B21-AFA3-7E6A3232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54A27-56E8-40CD-8AF6-839A04E8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C12C1-6D8A-4CA8-925A-B3DC1679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94A07-97D7-4862-8778-D871892A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EB60B-E591-46BA-A3D0-2E35E1DF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94711-9336-4BD7-90D9-37D47B16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0E8A5-6D10-4146-90C4-950FA2A9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0776-F94B-4A6F-8BC9-260D34CF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AE0DF-0536-48B2-BEBB-18271DE8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D6596-B8DC-4ABA-A3A5-65A95049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EEA5E-77E9-4725-8205-2D6A1E401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B4A0E-C113-463C-8AEE-59CB659C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8F467-2CEC-4300-A543-1C53EFA3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5D2BD-0CB3-471D-9837-9C6BE0A8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80F7A-79E4-4CE7-AC1A-B74341C4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21748-A774-4984-89D0-D69BF129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3C1F9-C91B-4C88-97BC-9C5DB77E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8A064-EE3E-4182-8372-9C26156D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C3E1-E0EA-41F3-A11F-7151D564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65C4B-53EA-435B-B670-811A15A3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31BF9-F6E2-48C2-8B18-EDFDDDD5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9C354-0013-48E9-A40F-6DEC6621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647D9-251F-4CD1-A8F9-0EC74BB6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4582C-966E-46C6-9F39-D70EFB3D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E549BC-1DC1-42B3-BB2D-8DDFFD2A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52824D-AEDB-402B-8AF8-B33CC64D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19345B-88E2-4FFF-A2CA-279DA001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4A36DD-092E-4367-B841-7070024B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F6BE41-3465-44B2-89F3-B01F3DFE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553B-26E2-44FE-B35F-95208C2D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EF613A-1BD9-46E4-9747-08DA44D2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8F3FFC-ED97-42A8-85FC-2F5B93CB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F14E2E-E26C-4048-8991-BAB166BC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FE6F5-9E09-42E1-9686-FCC6C785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306884-825E-4D61-BCF3-6A597869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949DB-5F71-4B3E-A311-AF1968DA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1733B8-65D2-4072-B8C4-092E904E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F11622-26AE-49FE-8FF8-ECA4364D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F7C947-009F-4848-8463-804092D6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619636-647D-46C1-AB00-56E61F8F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349C-2368-4A03-856C-3351C592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0EC431-CEC5-4692-8499-A4885CCF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39B764-EE1A-41DE-85FE-BCC63B6D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FB05D8-97E8-409D-9B18-56816E2E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9EE934-3D52-43C6-9DFB-1D45BC62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6A71DD-9F4D-4E11-94CD-AA698D8E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06A833-4095-4896-B1DD-342E11A8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55DA50-ED43-49A0-B036-912596FF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94521B-DF6D-4F4C-A3A0-E0BB7537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2DB6D3-87E1-493F-A9D3-67D7CA78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C2F466-81A6-4E6D-A912-A2C5242C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DB95-BD10-4255-8634-597E6306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CCED53-B496-4105-A864-7E5D2E72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51C530-90FB-422D-9E4B-A9067BCA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6C70A0-0156-4C1A-BB45-0D6DECB2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BD148C-EFF1-409E-89CD-2426B3FC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F347B0-2D61-4081-BF56-92A9B46D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8586B4-FC7F-4F37-B376-CF7ECD73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994372-C751-4E56-BD3F-F922083D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CCC8AF-E65A-40C6-BFB5-D15425C2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B42809-B436-45B7-A59F-457F81AA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6DCA86-4FE3-4313-A67B-BBCA9EB7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F07F-149B-4C86-931F-632F86AC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CB3434-6F08-4F26-AC66-E12F67BE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1D0FBB-EA06-420A-B8FD-8A922D66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09B8CE-9D17-4448-9B10-28875201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71A194-2B15-4A84-BC96-EDD75074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DDE549-C4B7-434F-AA65-97C55ED3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A6F039-DFD0-4A78-908F-B8C01E81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29252C-83B3-402F-BBAE-EAFEB482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BC0093-FB7F-4C9A-B009-77C9E0A0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0496C8-6751-4388-9F2D-B846F604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DB146C-6B84-4F09-BE65-ED117BF1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A921-ADEA-4679-A195-770F1132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58CE6B-F274-402F-AFC3-427FF6A9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7F7DA5-292D-4862-8C67-8A09942D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55FB79-0346-45E9-940D-391982FB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0E3584-AA5E-4F13-AA00-1E12C3B3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7A4756-F5CE-4264-BF5C-43DB5723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303E21-3C6F-46FB-BC7A-E7D2C4D6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7BB370-370D-425C-9FAB-2642F444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302E64-E17E-41EF-82B9-4A23A601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A33136-7622-4B64-988B-35721BEB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D1154C-ADDA-42F3-B162-6FED0B3A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9C5B-54A9-410A-8E4D-31405887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82C5-D641-462D-8365-50813E98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C5CC86-6EBB-4653-A586-BB560C92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907AF5-6B2C-4614-88BB-8E4A7871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FFA3B6-AD09-48CB-8F1D-F0C3D315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AC605D-C190-42B1-8222-6C9BF0EF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323B07-016F-41CD-84C0-6F28E99C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D650B1-F542-4F9B-AE66-E9BF0F7F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46F351-8491-4147-B3DA-788B16B3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4A05DF-3FB6-47BB-B949-F0D62F0C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CE5519-7091-4C1A-B3C5-5E1D80D9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99DF61-EC74-41FB-BF21-D9044D40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BA28-6917-4644-8FBE-2C6E89DD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EC3CFF-3477-46F0-86C9-5CACF58E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56329A-4232-4558-A4B8-F29FBAAE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FE74E6-467B-44DD-90E9-58274182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010759-F412-44FD-833B-6E9158D9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0B8115-8E31-43D5-86EC-BAE7AFF1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46E5EE-6135-4170-BC2E-298C5AF1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0A4BC0-1C27-4096-8832-36A9E7F5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FA0CE4-DC17-4E85-8F3B-CA158CD3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BAACEE-F2F1-4772-B2D4-CF033F97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155F25-FEBB-4DEC-A5C1-8D9F536D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B94B-EFB6-49BB-9BE3-4C14ABCF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A3CB85-1CD1-4604-92C1-3BE37DD3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E454FF-32DD-4C90-8E75-B1FCB417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A45F3F-4BB4-4A7B-B561-05FC828F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12797E-54B6-496A-AA54-A2988C89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C15680-021E-4EA8-81CA-8DCCE782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7E2950-6922-4499-A326-A009552E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60AC30-F252-447C-BE1D-F042CA00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8D5FFA-A78A-4883-8DDE-9BB5EB2D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AC7C3F-3B9E-4A30-94AE-64A81607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AFF7F5-8819-4199-ABC1-5A52D188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D327-2A47-4B13-8355-6D0F2DD92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17A2C1-D537-4BD6-897E-7275AB0F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8C8A1D-8545-49FF-96A9-37198142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E8E331-1485-4615-9376-29E77E31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9BE096-9975-43A3-BF7D-85BE44C0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1CA30B-59E3-4390-A714-60A2338F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051F33-1C14-482E-A40E-A9208D61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708E4B-1A07-4008-AD42-1564C320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A4F117-93D2-4148-A39B-2E7B8C00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3C82B8-30B5-455A-BAC8-8938C88F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12C795-17B1-4A1E-BE85-C897B912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DF57-C5DC-4BD5-B3D3-0053F4D7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A122F7-3E0C-45B5-82A6-684C9DA1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9B361B-836C-4EF3-BAB8-F67663CA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C63767-9D15-4934-A8B9-BB1D7554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BAE5A8-656A-4A9A-9FFE-E7DC1950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1B8031-8CCB-46B7-A962-E10EBFD4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25E42A-084B-4406-A48D-3FF39746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EEC02D-5CFD-42AA-B134-943B19A8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EC7356-1DFD-4C16-AF80-5F223ACF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A20AE1-4EDF-45FB-82BC-968BE277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381C8A-82A0-4CB7-B87D-DB32B8FA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4C14D-AAEF-4905-AC5C-0EA1F492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B880A2-189E-4780-AAF9-5D403087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8529E8-69AD-4DA1-82B7-B70F03EB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93DA78-5191-46D3-8FE2-37367FBF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4E5490-36BB-4605-9717-BC70D86B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DC7A37-4BB2-4287-BECA-3653493B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331A67-71AC-42A6-9FD2-D8ADA045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28E6B3-BBEB-4CE2-AB56-5B2C0A02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91405E-0D1F-4025-A71F-8B562B99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1CCF8E-72B1-4E9A-BF45-FD562584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74B8A1-BB08-47EC-8BEF-6F67A718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7CDAD-5758-4A8E-A3C7-A0578340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DB16D1-E667-41DD-9B6D-530D1D42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504F2D-1E0B-461A-BB95-662AD747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B6C2D4-9AA3-41BC-BF16-42DC1A7D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D3DC2E-6114-4013-A4E5-26B775CF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A7EEDE-8A23-4838-BF43-DB69EA8C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2622B73-84A5-465C-A39F-32A18F6F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D5474D0-E12B-4854-988F-F9C7F3D4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C541D1C-F065-403E-B7DA-BF88A9D3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AEC5778-2955-4D6C-BB73-78777A1B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E963B5F-7F43-42FB-B483-09684A99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7460F-687B-43E8-A410-5FC4D82E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93B3608-88A1-43DB-96A2-10CF517B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F366EE0-910A-42E8-8924-AFBCD2D6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20FFE36-8CD8-4D58-9944-AE9CDB2C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238E1BC-06AC-4F24-8724-B6616D40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435424B-5860-46F6-A835-69AD1767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CBF5209-6DB1-4C2A-AED9-6A1E1D0C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4CF5B8F-1F71-49B9-B162-1EC68DAA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6A0268-1857-4130-B672-A9DC5F6E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B2EDF2-1001-48A0-952C-1B02A5FD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58C877-08D6-4B04-B07F-3685DB5C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CB3CE-E294-48AE-BDB0-E59FAC37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2D3CD7-36D6-48DD-89E7-5A791BF5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03B00A-3413-4F7A-BF9A-12F79379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B18974-C5A0-43DD-9BD1-4F945F05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5F9571-DACE-4DD7-9FAC-731F3D52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9A9ED7-7B3C-4801-AC35-85803CE4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FFCE44-D94E-4A61-A3BC-1027B266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9F0CC1-E03B-4272-A887-F38E644C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76AC11-48E6-44D0-982A-EDC64D5C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ADAF39-D4FF-4B83-A22C-092B42CF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733ABC-42E6-4E2A-B871-1A3A2348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40237-D712-4C62-8210-88EDA2BE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2F9494-FD50-4473-984F-A30F09C2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6A3DA1-05B5-4D02-99D7-BCBB2FDE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45E4E7-53D4-4094-A6ED-0C17B65E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4F34A1-8CA5-461C-BD68-DD57ECB5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59E8F9-B51B-4300-8811-580B1F38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4B458C-4852-47AE-87A5-88324C60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C2CE96-C8DF-4079-B85E-38849D91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C0B290-EE01-43CB-9273-284A118A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507E21-A219-4A1C-AB91-88A2465E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FF253F-6FEF-4E9F-8EAF-DBC47CD8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EF61-3F87-4F52-B8AC-C16BC708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246B9-FC70-43A9-A091-7D0F86C4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B95B28-0A9A-49BD-B4FF-07BFBCA8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00E769-21B6-4FBD-9B17-C1E6A6FD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9B1CE0-16AF-4212-A003-83F8F8FD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974D10-1565-4D47-A2C0-F0A7E8A1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B01C99-CE97-4685-9A8F-3C9A5EFA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66BA43-4942-43DD-A350-3FB3C772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88C3C6-9A4D-4352-86AB-8FFF7194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1D5F6A-F142-438C-AF43-34D43475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B851BA-FA40-4B3D-810E-96D12672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F63766-2738-4715-A498-7BFE6BAD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CAEE8-4012-46EF-A09E-DE71898C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A707C4-DCB6-4934-AB0A-C3836EF7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33BDFA-CEEA-4F0B-958F-668CBA9B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0FA0E4-E524-4F9A-9E97-D61047FD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28B467-EF5A-4D7A-B50E-D09A75EE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E653A3-3E2C-4171-8338-476CFA29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4CCEAD-2BDB-4DCC-B6CF-51181591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78300B-5C77-48E3-9305-D84F63CA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93C284-C9EE-4086-AF9C-F30FB535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45A091-5BF9-4CA1-A9DB-1C818DC2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EEC7B0-9A93-4D21-BE0A-8603F15C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0DC95-E3A6-4FAC-883B-50E401CF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895E86-28B4-4B11-ADE5-407249F9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FBF1A8-D2D0-4209-BA44-E9A192FC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F08524-617B-486E-9111-955AC94C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DF218F-676A-4E1A-8CC7-13CE8E97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E9073D-8272-46D7-BCF9-B886AD40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51BD7A-F9AF-422B-97FE-46651B30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40B318-05A0-4338-BECB-55652634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E48F1B-A69C-4B9E-B3EB-65302899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5333DC-ED6B-478A-BD27-06707039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FB73B4-4B67-43AD-BFBB-875A4F42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E7EEC-CE1E-43C5-B5EA-4C7390C2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F331B5-0105-4FFC-941D-168FF5FE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AEDE28-44F1-4B3D-ABF9-8F98D00F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8D4B44-152D-40CE-9692-20E29322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D3EBA2-BC4A-4290-9D9E-9BC479EF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217737-9A3D-4B35-A918-C7221317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AD310B-33DF-425D-BA36-F71C6694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D54ED31-18EA-4C3C-8A11-13176AEE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5090D5-97EB-4DCC-B3B3-17CDDE76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6E5CE00-693C-45E2-A664-6FD234E0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BFA8D1-2DF6-4774-8B95-E6DE6441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FE3A0-700A-4889-89B5-DB1DB163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4E72E9-6F8E-4177-9BD2-C92A0E6A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D7F9871-F7A3-454C-BB49-D094B2A1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B88891-5AC6-42DC-B48A-5E746BE0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EC46C6-ADC6-48A1-BEC1-4853A6E9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FB868B-D73E-44DC-A8A2-18B3A11F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B2B0DE-A682-4EBE-B6F2-7A25C5DC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302F69-896E-4236-9621-05506111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F55248-2206-40C8-8AC2-668CEA4E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882CF5-3348-4EC4-90F0-A38CE7BB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760124-FEE0-495C-9D55-24C7C633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0E647-863A-48EA-B286-069F2484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D32713B-03B3-4A94-8141-17455C10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7C0B11-81F6-4148-B69E-E14A8C5D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5FFFF5-20D8-49AB-AE7B-6EC2A829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0BB35A-5C60-4CA5-AB82-0302DADD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3ED5B1-7705-4599-AA41-1690D7CC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153B2E-0AE8-496C-8702-B07A589E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E94AD6-3621-4224-9607-BAC38D7D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B4C18C-EA75-44A7-9DE7-4B691384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F7913C-7F2D-4BFB-BA79-264D98D6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48E128-FE19-4324-AEE8-DD681BAC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3C619-64BA-4649-BBF1-D5E922BF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06A35A-291B-4639-AC0A-5CAD2033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E9DEC3-4F5C-402E-A444-18C632AA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25F1F2-3AA2-44BD-AB93-129ABE76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9F8E242-ED0A-425F-884B-46F12796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42C65F-0134-41F9-8171-BBB47B5F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3CFEAD-3439-4550-9EFA-8D1096D9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9D9C4F9-367C-46B8-974C-8E82313E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7967B2-B4A3-4630-8D0C-35AFCA44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5AD1F20-2A9F-4169-8CD1-E7C44996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E20FCC-A48D-4855-8DA8-09FABCF3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8CDEF-D717-4068-B159-6BC06598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0BCED38-3646-4D8B-988D-161E0DD9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16B0F5-D361-4733-9302-E27DDD4A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37D18F-5310-45FA-A0FF-AE657442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1F892D7-05E4-4FEB-B312-0E8D826F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54534E5-07AC-4048-A502-8B5E4DF0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A28A388-7860-488A-8051-52FF0EBF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28C13D0-51E4-4C7D-9E11-0DC5DE8F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F093EC5-3362-4268-8EDC-711EDC2A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13DFDC8-3C1F-487E-8C0A-91BE62CE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1AC50CB-7EF3-4DE7-BCA6-583AC841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88043-00B0-4DC7-BE22-ADB824C3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FDE4707-2B67-4D60-9499-43602591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F013A51-C738-498C-B934-AC26C0F0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F20FA93-A6BD-455F-8142-DA55E754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22961F1-2C44-492F-A050-3BA2AA08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105CA3B-5D67-4E02-B9B1-0EA5DDB5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AE300C4-A94C-4080-A3E7-94B665F6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CE56007-AB60-4199-9DB2-D595670F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362DF4D-B62F-451E-B32F-58ABA79E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4268F6B-A99F-4577-8D6C-E82531D9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88EDC4D-7D75-4CB4-937C-45B1FD51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18F8D-862B-401B-A4C8-711B631D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D5ABCB-C500-409A-8F2B-02D6D3D3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E94D1A7-6C59-4E24-A5D1-63D3407C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62E96BB-2B3C-4EB0-8B3A-750CB5BB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4689022-C6F3-4A3B-BB70-B2025B8F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2FAAD2E-8A5B-4875-9D04-5E0A98F6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A28234F-FA9A-45EB-B237-5B901A220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611FE2-2D0D-403B-A1DD-15513EA9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FFE2515-3038-4FEC-987A-43C7E902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F43BBD0-98F4-4B8F-9637-7B5B979A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DAEF544-4963-4F92-A790-0E83E1A0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25C7-89F8-4354-BC93-BC019564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17970-2764-4234-8E5D-609F74A3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46559DC-7D3F-49BE-8466-23A35BA1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25CCC93-6980-4811-A727-3BD9C62C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FD10B40-EEE2-4233-9AC6-91E33DEB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A1EBF5F-8CC6-435F-93C8-CF279440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475274A-3741-4CC1-B60D-9059E1CD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5C4C998-FB39-4995-87EA-2F809B12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AAB2730-6058-4661-8C30-FC5DAE42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03E332C-87A5-4B59-AF46-4FAB6C41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0358BFE-0C75-47E3-ACBB-31010464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6777BBF-4920-4DE0-80EA-D1364C48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31431-B0D0-401C-A45B-255D21D6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F8CF743-9B33-4B2C-8CBF-B45904B3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0CBF393-A591-4033-A73D-EB0428F2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C0EA3B3-F442-496A-A62A-D20AEDCB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192E21D-135C-4ACB-B602-4157EE50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6B2E96E-9C78-49EC-A06E-2E475020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8C2C683-3F8E-4497-863D-0947E81A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2AC9C23-271F-43E7-B5DA-4319D067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672EF95-038B-458C-8C81-240755B1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689B422-F0E6-4F77-AAA7-3EEC13C0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376EF5A-0E4F-4D79-8B43-4A22C0DC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E173A-201F-40EE-A595-E1786BA3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5A7736A-28D5-4F4A-A997-35E0102CF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C53FE38-9A5A-4F31-B06E-A7C094BD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E7FF568-9D7E-465B-B564-00C7B5FC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575E2B7-7753-4DAF-B9B3-5DE1AE3A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10C2692-B63C-4234-901F-582DEE8D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9C45860-4C91-4D27-88F3-763639ED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7BD08AC-EFA0-46EA-8397-EC0554F9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4D4AA59-7275-40BB-A64D-385D6CAB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9775E94-E91D-4DF5-A795-2E5D6A83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0D69D1B-D120-4E89-ABDE-DAF091E2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B5829-BF97-4162-A733-9FDF7AD6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6215695-7D02-46DB-A9FF-3099A9A1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56B68C9-C859-461D-B946-F3D7ABFC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BC722E3-69C4-485D-9295-D6EA981E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9A4643E-CC5E-4900-8F90-8A684E2D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11100D7-1231-43D4-B286-F78F4D11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5B3124C-8382-4C01-8D0C-E23B642C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8873E98-B804-4DB1-A1B2-AD042BEB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7555009-50CC-4523-8EAE-E9438A7E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819BC7D-F382-4397-B8B9-53557F2C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3BF1D2C-7C94-46EE-AFB5-3C47B666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BAD5D-2D29-4209-80E1-AA39AB23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C245246-C901-4664-9CB8-98FF604F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11EB387-C6E6-4EC5-8C8C-FB85ADB2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EEA0614-C0E4-424D-9BF7-274E8932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FFCC85A-FA55-4F0D-A1A4-DDFC8D2B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47DDF15-23F0-4154-91D8-FB865F7B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C7756-913F-4BCB-A0E8-1C90D878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71B0F-BBF7-4BB3-8505-2EECBCF5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D428E-C827-45B9-B353-2E8237E0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D7966-DD07-4350-8382-D88CD595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F3CFB-FF00-4074-A075-8DA071A0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352C-86C6-43FB-8D9C-1F4562F9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53D03-6C09-4361-BDAE-09A7924A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EFC67-C082-4866-AFB0-65109456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67CE6-4692-43DE-97EF-82213E9A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387BA-DE26-408F-8A6C-38F9CD0F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4F52C-B2A6-4819-B9CC-27ED403C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96741-4361-4A6C-A4C3-366F3B68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6DF89-E1E9-45B5-8CA7-EDAFA80A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B491F-AA24-4598-B372-EB172ABE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EB58F-1322-4226-B1DD-C28E006D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F3CCC-B04B-4DCC-B9E7-3117417E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F057-FB3A-496F-A7B3-8201FFAC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92B6E-641E-43F8-8912-E37532EA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4A5CBB-8EC7-436C-BD08-B88A7F2B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285FCA-CAE8-4940-8FC3-15893442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082CFE-07A0-41BF-AC0F-2482E632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310B27-A47E-499D-8CA4-436A1FEF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ACE96E-F485-4A0C-A97D-C93AFD24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1439E8-07C3-49C0-8E35-4BBC806E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DC91A4-C5A0-4DB4-B26C-957BBE80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148D96-FB90-4AC9-9737-D2296256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DB9E8D-E381-4FD1-ACFA-4063E4EC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842F-89FA-4674-BDE8-F9C4B368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227D95-BC4A-42BA-AB93-CE867DDC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2EAB78-8CC6-4DC2-8C8E-0378E415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6D7302-3AB0-4088-8AC0-7D07AB10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E790B-3331-497E-AD75-12220659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C03FB-D34A-49B5-8AC7-A92BF8B2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99F92-B7DF-444D-93D0-B32650A2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9FDAC-8330-4137-9C16-55659963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C7A3E-0196-4421-97D6-9E86F645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2AC24-A6B6-4BA8-A047-865383CA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2FAEC-DF14-4FBB-A229-BBBD60DE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DE7E-6292-4F3D-BE37-512E0988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54476-670C-4E1D-A0B0-5847F42C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D1EB0-4E2D-495D-92BF-28D1FCBC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61A0D-2A14-41EC-8D4C-0F49B219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F3CF5-A848-4977-8622-6420C740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A2D37-9140-4425-A8B6-15FADCE2F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41AFB-58B5-4160-9192-51FCBD33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12240-BB9E-4E00-9331-81A432A9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7CE13-6A64-4B71-A7D7-A0054393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D7B8F-85EC-4F33-BE71-07B0CB90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276AB-6324-4484-A64A-6F0F520B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19CF-EC8A-4FB5-B4BB-D4B7AE84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63527-D598-4830-8184-5F4D07A9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21A59-B860-4DC0-890C-DB35C33B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9B611-0532-40C8-BEE0-137227F9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F7E54-8F2E-46B2-8FF7-A93BD05E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7ADB2-D43D-4482-BF02-6DE7FA80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EC200-080A-4E8E-8334-3364E71D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549E4-34FD-4759-A198-40F5FAA6D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E3DF7-2A01-41AF-9892-57AE0173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04B4B-FEBC-429E-9722-39570556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00722-5AD5-418B-B1D4-2C6473A5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6.wmf"/><Relationship Id="rId27" Type="http://schemas.openxmlformats.org/officeDocument/2006/relationships/image" Target="../media/image6.wmf"/><Relationship Id="rId28" Type="http://schemas.openxmlformats.org/officeDocument/2006/relationships/image" Target="../media/image6.wmf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8.png"/><Relationship Id="rId32" Type="http://schemas.openxmlformats.org/officeDocument/2006/relationships/image" Target="../media/image9.png"/><Relationship Id="rId33" Type="http://schemas.openxmlformats.org/officeDocument/2006/relationships/image" Target="../media/image10.png"/><Relationship Id="rId34" Type="http://schemas.openxmlformats.org/officeDocument/2006/relationships/slideLayout" Target="../slideLayouts/slideLayout133.xml"/><Relationship Id="rId35" Type="http://schemas.openxmlformats.org/officeDocument/2006/relationships/slideLayout" Target="../slideLayouts/slideLayout134.xml"/><Relationship Id="rId36" Type="http://schemas.openxmlformats.org/officeDocument/2006/relationships/slideLayout" Target="../slideLayouts/slideLayout135.xml"/><Relationship Id="rId37" Type="http://schemas.openxmlformats.org/officeDocument/2006/relationships/slideLayout" Target="../slideLayouts/slideLayout136.xml"/><Relationship Id="rId38" Type="http://schemas.openxmlformats.org/officeDocument/2006/relationships/slideLayout" Target="../slideLayouts/slideLayout137.xml"/><Relationship Id="rId39" Type="http://schemas.openxmlformats.org/officeDocument/2006/relationships/slideLayout" Target="../slideLayouts/slideLayout138.xml"/><Relationship Id="rId40" Type="http://schemas.openxmlformats.org/officeDocument/2006/relationships/slideLayout" Target="../slideLayouts/slideLayout139.xml"/><Relationship Id="rId41" Type="http://schemas.openxmlformats.org/officeDocument/2006/relationships/slideLayout" Target="../slideLayouts/slideLayout140.xml"/><Relationship Id="rId42" Type="http://schemas.openxmlformats.org/officeDocument/2006/relationships/slideLayout" Target="../slideLayouts/slideLayout141.xml"/><Relationship Id="rId43" Type="http://schemas.openxmlformats.org/officeDocument/2006/relationships/slideLayout" Target="../slideLayouts/slideLayout142.xml"/><Relationship Id="rId44" Type="http://schemas.openxmlformats.org/officeDocument/2006/relationships/slideLayout" Target="../slideLayouts/slideLayout143.xml"/><Relationship Id="rId4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37.xml"/><Relationship Id="rId8" Type="http://schemas.openxmlformats.org/officeDocument/2006/relationships/slideLayout" Target="../slideLayouts/slideLayout338.xml"/><Relationship Id="rId9" Type="http://schemas.openxmlformats.org/officeDocument/2006/relationships/slideLayout" Target="../slideLayouts/slideLayout339.xml"/><Relationship Id="rId10" Type="http://schemas.openxmlformats.org/officeDocument/2006/relationships/slideLayout" Target="../slideLayouts/slideLayout340.xml"/><Relationship Id="rId11" Type="http://schemas.openxmlformats.org/officeDocument/2006/relationships/slideLayout" Target="../slideLayouts/slideLayout341.xml"/><Relationship Id="rId12" Type="http://schemas.openxmlformats.org/officeDocument/2006/relationships/slideLayout" Target="../slideLayouts/slideLayout342.xml"/><Relationship Id="rId13" Type="http://schemas.openxmlformats.org/officeDocument/2006/relationships/slideLayout" Target="../slideLayouts/slideLayout343.xml"/><Relationship Id="rId14" Type="http://schemas.openxmlformats.org/officeDocument/2006/relationships/slideLayout" Target="../slideLayouts/slideLayout344.xml"/><Relationship Id="rId15" Type="http://schemas.openxmlformats.org/officeDocument/2006/relationships/slideLayout" Target="../slideLayouts/slideLayout345.xml"/><Relationship Id="rId16" Type="http://schemas.openxmlformats.org/officeDocument/2006/relationships/slideLayout" Target="../slideLayouts/slideLayout346.xml"/><Relationship Id="rId17" Type="http://schemas.openxmlformats.org/officeDocument/2006/relationships/slideLayout" Target="../slideLayouts/slideLayout347.xml"/><Relationship Id="rId18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6.wmf"/><Relationship Id="rId27" Type="http://schemas.openxmlformats.org/officeDocument/2006/relationships/image" Target="../media/image6.wmf"/><Relationship Id="rId28" Type="http://schemas.openxmlformats.org/officeDocument/2006/relationships/image" Target="../media/image6.wmf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8.png"/><Relationship Id="rId32" Type="http://schemas.openxmlformats.org/officeDocument/2006/relationships/image" Target="../media/image9.png"/><Relationship Id="rId33" Type="http://schemas.openxmlformats.org/officeDocument/2006/relationships/image" Target="../media/image10.png"/><Relationship Id="rId34" Type="http://schemas.openxmlformats.org/officeDocument/2006/relationships/slideLayout" Target="../slideLayouts/slideLayout349.xml"/><Relationship Id="rId35" Type="http://schemas.openxmlformats.org/officeDocument/2006/relationships/slideLayout" Target="../slideLayouts/slideLayout350.xml"/><Relationship Id="rId36" Type="http://schemas.openxmlformats.org/officeDocument/2006/relationships/slideLayout" Target="../slideLayouts/slideLayout351.xml"/><Relationship Id="rId37" Type="http://schemas.openxmlformats.org/officeDocument/2006/relationships/slideLayout" Target="../slideLayouts/slideLayout352.xml"/><Relationship Id="rId38" Type="http://schemas.openxmlformats.org/officeDocument/2006/relationships/slideLayout" Target="../slideLayouts/slideLayout353.xml"/><Relationship Id="rId39" Type="http://schemas.openxmlformats.org/officeDocument/2006/relationships/slideLayout" Target="../slideLayouts/slideLayout354.xml"/><Relationship Id="rId40" Type="http://schemas.openxmlformats.org/officeDocument/2006/relationships/slideLayout" Target="../slideLayouts/slideLayout355.xml"/><Relationship Id="rId41" Type="http://schemas.openxmlformats.org/officeDocument/2006/relationships/slideLayout" Target="../slideLayouts/slideLayout356.xml"/><Relationship Id="rId42" Type="http://schemas.openxmlformats.org/officeDocument/2006/relationships/slideLayout" Target="../slideLayouts/slideLayout357.xml"/><Relationship Id="rId43" Type="http://schemas.openxmlformats.org/officeDocument/2006/relationships/slideLayout" Target="../slideLayouts/slideLayout358.xml"/><Relationship Id="rId44" Type="http://schemas.openxmlformats.org/officeDocument/2006/relationships/slideLayout" Target="../slideLayouts/slideLayout359.xml"/><Relationship Id="rId4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C8AF-90F2-4D12-BE91-5B0CDCCB07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723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5419-AA1D-4A73-95F4-31CD3D6263E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780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2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793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64DF-0064-41A1-B1A2-DC4D3004C27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60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3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64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65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66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67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69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875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6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7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8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9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0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1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2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83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884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5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6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7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8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9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0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1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2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3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4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5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6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7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8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9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0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1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2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03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3C76-A565-406F-A083-21AF4CEC2A1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4"/>
    <p:sldLayoutId id="2147483793" r:id="rId35"/>
    <p:sldLayoutId id="2147483794" r:id="rId36"/>
    <p:sldLayoutId id="2147483795" r:id="rId37"/>
    <p:sldLayoutId id="2147483796" r:id="rId38"/>
    <p:sldLayoutId id="2147483797" r:id="rId39"/>
    <p:sldLayoutId id="2147483798" r:id="rId40"/>
    <p:sldLayoutId id="2147483799" r:id="rId41"/>
    <p:sldLayoutId id="2147483800" r:id="rId42"/>
    <p:sldLayoutId id="2147483801" r:id="rId43"/>
    <p:sldLayoutId id="2147483802" r:id="rId44"/>
    <p:sldLayoutId id="2147483803" r:id="rId4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56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PlaceHolder 1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2BFC-38C4-4A2B-B7BE-C1D53C256D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0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3F15-E2D0-4559-8534-2AAC7D3DC7A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5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5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6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dt" idx="4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D7CE-ED3D-4D3D-8D73-28F822944C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4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4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4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C031-AD77-4D7C-8A2E-D4DD3865938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19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6A49-D91A-4732-8337-E71AD72DCC5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3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364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5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 type="dt" idx="52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 type="sldNum" idx="5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592F-86D0-4423-959D-A5B8A58EBB2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5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ftr" idx="5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 type="sldNum" idx="5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E53A-D168-4A19-8936-0915842E16A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2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5C0B-E58A-4367-A4D9-B55EA84D316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456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457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9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2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463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 type="dt" idx="5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 type="ftr" idx="59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 type="sldNum" idx="6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1D32-0031-41E7-A965-3A1CD2B3493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 type="dt" idx="6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1FCF-2698-40AA-A1F8-102FF251FD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1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1552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553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5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1556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557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558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0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561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1562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3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4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1565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6600"/>
                        <a:gd name="textAreaBottom" fmla="*/ 426960 h 426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6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7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1568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9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70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571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2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73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1574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>
                        <a:gd name="textAreaLeft" fmla="*/ 0 w 1905840"/>
                        <a:gd name="textAreaRight" fmla="*/ 1906200 w 19058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5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>
                        <a:gd name="textAreaLeft" fmla="*/ 0 w 1023840"/>
                        <a:gd name="textAreaRight" fmla="*/ 1024200 w 10238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76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577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8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79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1580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1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82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1583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4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85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1586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>
                        <a:gd name="textAreaLeft" fmla="*/ -360 w 2237400"/>
                        <a:gd name="textAreaRight" fmla="*/ 2237400 w 2237400"/>
                        <a:gd name="textAreaTop" fmla="*/ 0 h 428400"/>
                        <a:gd name="textAreaBottom" fmla="*/ 428760 h 428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7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88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1589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>
                        <a:gd name="textAreaLeft" fmla="*/ 360 w 2140560"/>
                        <a:gd name="textAreaRight" fmla="*/ 2141280 w 214056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0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>
                        <a:gd name="textAreaLeft" fmla="*/ 360 w 1149840"/>
                        <a:gd name="textAreaRight" fmla="*/ 1150560 w 114984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91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1592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>
                        <a:gd name="textAreaLeft" fmla="*/ 360 w 2068560"/>
                        <a:gd name="textAreaRight" fmla="*/ 2069280 w 2068560"/>
                        <a:gd name="textAreaTop" fmla="*/ 0 h 412560"/>
                        <a:gd name="textAreaBottom" fmla="*/ 412920 h 412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3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>
                        <a:gd name="textAreaLeft" fmla="*/ -360 w 1111320"/>
                        <a:gd name="textAreaRight" fmla="*/ 1111320 w 111132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94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1595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>
                        <a:gd name="textAreaLeft" fmla="*/ 360 w 1905840"/>
                        <a:gd name="textAreaRight" fmla="*/ 1906560 w 1905840"/>
                        <a:gd name="textAreaTop" fmla="*/ 0 h 385200"/>
                        <a:gd name="textAreaBottom" fmla="*/ 385560 h 385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6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>
                        <a:gd name="textAreaLeft" fmla="*/ -360 w 1023480"/>
                        <a:gd name="textAreaRight" fmla="*/ 1023480 w 1023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97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1598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>
                        <a:gd name="textAreaLeft" fmla="*/ 360 w 1731600"/>
                        <a:gd name="textAreaRight" fmla="*/ 1732320 w 1731600"/>
                        <a:gd name="textAreaTop" fmla="*/ 0 h 268560"/>
                        <a:gd name="textAreaBottom" fmla="*/ 268920 h 268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9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>
                        <a:gd name="textAreaLeft" fmla="*/ -360 w 929880"/>
                        <a:gd name="textAreaRight" fmla="*/ 929880 w 92988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00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1601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2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03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1604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5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06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1607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8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09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1610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1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12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1613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>
                        <a:gd name="textAreaLeft" fmla="*/ -360 w 1356840"/>
                        <a:gd name="textAreaRight" fmla="*/ 1356840 w 1356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4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>
                        <a:gd name="textAreaLeft" fmla="*/ 360 w 727920"/>
                        <a:gd name="textAreaRight" fmla="*/ 728640 w 7279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15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1616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>
                        <a:gd name="textAreaLeft" fmla="*/ -360 w 1307880"/>
                        <a:gd name="textAreaRight" fmla="*/ 1307880 w 13078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7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18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1619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0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1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1622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3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24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1880"/>
                      <a:gd name="textAreaBottom" fmla="*/ 282240 h 281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26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1627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440"/>
                        <a:gd name="textAreaBottom" fmla="*/ 226800 h 226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8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760"/>
                        <a:gd name="textAreaBottom" fmla="*/ 357120 h 356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9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1630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>
                        <a:gd name="textAreaLeft" fmla="*/ 0 w 1424880"/>
                        <a:gd name="textAreaRight" fmla="*/ 1425240 w 142488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>
                        <a:gd name="textAreaLeft" fmla="*/ 0 w 766080"/>
                        <a:gd name="textAreaRight" fmla="*/ 766440 w 766080"/>
                        <a:gd name="textAreaTop" fmla="*/ 0 h 522360"/>
                        <a:gd name="textAreaBottom" fmla="*/ 522720 h 522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633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200"/>
                        <a:gd name="textAreaBottom" fmla="*/ 106560 h 106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040"/>
                        <a:gd name="textAreaBottom" fmla="*/ 167040 h 167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5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1636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>
                        <a:gd name="textAreaLeft" fmla="*/ -360 w 2126520"/>
                        <a:gd name="textAreaRight" fmla="*/ 212652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7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8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1639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0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41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1642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7040"/>
                        <a:gd name="textAreaBottom" fmla="*/ 347400 h 347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3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44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1645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6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47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1648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>
                        <a:gd name="textAreaLeft" fmla="*/ 0 w 2034000"/>
                        <a:gd name="textAreaRight" fmla="*/ 2034360 w 2034000"/>
                        <a:gd name="textAreaTop" fmla="*/ 0 h 368280"/>
                        <a:gd name="textAreaBottom" fmla="*/ 368640 h 368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9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>
                        <a:gd name="textAreaLeft" fmla="*/ 0 w 1090440"/>
                        <a:gd name="textAreaRight" fmla="*/ 1090800 w 109044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0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1651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>
                        <a:gd name="textAreaLeft" fmla="*/ 0 w 1973520"/>
                        <a:gd name="textAreaRight" fmla="*/ 1973880 w 197352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1654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>
                        <a:gd name="textAreaLeft" fmla="*/ 0 w 1812960"/>
                        <a:gd name="textAreaRight" fmla="*/ 1813320 w 18129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>
                        <a:gd name="textAreaLeft" fmla="*/ 0 w 973800"/>
                        <a:gd name="textAreaRight" fmla="*/ 974160 w 97380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6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657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8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59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1660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1661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>
                      <a:gd name="textAreaLeft" fmla="*/ 0 w 3164760"/>
                      <a:gd name="textAreaRight" fmla="*/ 3165120 w 316476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2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>
                      <a:gd name="textAreaLeft" fmla="*/ 360 w 2485440"/>
                      <a:gd name="textAreaRight" fmla="*/ 2486160 w 24854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3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>
                      <a:gd name="textAreaLeft" fmla="*/ 0 w 1757880"/>
                      <a:gd name="textAreaRight" fmla="*/ 1758240 w 175788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>
                      <a:gd name="textAreaLeft" fmla="*/ -360 w 3131640"/>
                      <a:gd name="textAreaRight" fmla="*/ 3131640 w 313164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>
                      <a:gd name="textAreaLeft" fmla="*/ -360 w 2280600"/>
                      <a:gd name="textAreaRight" fmla="*/ 2280600 w 22806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6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>
                      <a:gd name="textAreaLeft" fmla="*/ 0 w 943200"/>
                      <a:gd name="textAreaRight" fmla="*/ 943560 w 9432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8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9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670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>
                  <a:gd name="textAreaLeft" fmla="*/ -360 w 2615400"/>
                  <a:gd name="textAreaRight" fmla="*/ 2615400 w 261540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>
                  <a:gd name="textAreaLeft" fmla="*/ 360 w 1535040"/>
                  <a:gd name="textAreaRight" fmla="*/ 1535760 w 1535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6FF4-CEA7-42F8-B87B-C1D7FF14DEC0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5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726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8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9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730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1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732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7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8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39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 type="sldNum" idx="6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57DD-55EE-45E0-8D6A-422380CBADD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 type="ftr" idx="6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788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1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137D-4081-4E5B-AA0B-E96B360A36D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3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844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7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848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1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2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873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8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 type="dt" idx="7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3FF0-FC36-4FCD-8A88-27177608CC1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92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B437-50AB-4DCA-937A-DA8CC4A790F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0" name="Group 2"/>
          <p:cNvGrpSpPr/>
          <p:nvPr/>
        </p:nvGrpSpPr>
        <p:grpSpPr>
          <a:xfrm>
            <a:off x="-315000" y="798480"/>
            <a:ext cx="7085160" cy="6862680"/>
            <a:chOff x="-315000" y="798480"/>
            <a:chExt cx="7085160" cy="6862680"/>
          </a:xfrm>
        </p:grpSpPr>
        <p:grpSp>
          <p:nvGrpSpPr>
            <p:cNvPr id="1971" name="Group 3"/>
            <p:cNvGrpSpPr/>
            <p:nvPr/>
          </p:nvGrpSpPr>
          <p:grpSpPr>
            <a:xfrm>
              <a:off x="-315000" y="798480"/>
              <a:ext cx="7085160" cy="6862680"/>
              <a:chOff x="-315000" y="798480"/>
              <a:chExt cx="7085160" cy="6862680"/>
            </a:xfrm>
          </p:grpSpPr>
          <p:grpSp>
            <p:nvGrpSpPr>
              <p:cNvPr id="1972" name="Group 4"/>
              <p:cNvGrpSpPr/>
              <p:nvPr/>
            </p:nvGrpSpPr>
            <p:grpSpPr>
              <a:xfrm>
                <a:off x="-315000" y="798480"/>
                <a:ext cx="7085160" cy="6862680"/>
                <a:chOff x="-315000" y="798480"/>
                <a:chExt cx="7085160" cy="6862680"/>
              </a:xfrm>
            </p:grpSpPr>
            <p:sp>
              <p:nvSpPr>
                <p:cNvPr id="1973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74" name="Group 6"/>
                <p:cNvGrpSpPr/>
                <p:nvPr/>
              </p:nvGrpSpPr>
              <p:grpSpPr>
                <a:xfrm>
                  <a:off x="-315000" y="798480"/>
                  <a:ext cx="7085160" cy="6862680"/>
                  <a:chOff x="-315000" y="798480"/>
                  <a:chExt cx="7085160" cy="6862680"/>
                </a:xfrm>
              </p:grpSpPr>
              <p:sp>
                <p:nvSpPr>
                  <p:cNvPr id="1975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7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78" name="Group 10"/>
                  <p:cNvGrpSpPr/>
                  <p:nvPr/>
                </p:nvGrpSpPr>
                <p:grpSpPr>
                  <a:xfrm>
                    <a:off x="-315000" y="798480"/>
                    <a:ext cx="7085160" cy="6862680"/>
                    <a:chOff x="-315000" y="798480"/>
                    <a:chExt cx="7085160" cy="6862680"/>
                  </a:xfrm>
                </p:grpSpPr>
                <p:sp>
                  <p:nvSpPr>
                    <p:cNvPr id="1979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980" name="Group 12"/>
                    <p:cNvGrpSpPr/>
                    <p:nvPr/>
                  </p:nvGrpSpPr>
                  <p:grpSpPr>
                    <a:xfrm>
                      <a:off x="-315000" y="805680"/>
                      <a:ext cx="7075440" cy="6855480"/>
                      <a:chOff x="-315000" y="805680"/>
                      <a:chExt cx="7075440" cy="6855480"/>
                    </a:xfrm>
                  </p:grpSpPr>
                  <p:sp>
                    <p:nvSpPr>
                      <p:cNvPr id="1981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982" name="Group 14"/>
                      <p:cNvGrpSpPr/>
                      <p:nvPr/>
                    </p:nvGrpSpPr>
                    <p:grpSpPr>
                      <a:xfrm>
                        <a:off x="-315000" y="805680"/>
                        <a:ext cx="7075440" cy="6855480"/>
                        <a:chOff x="-315000" y="805680"/>
                        <a:chExt cx="7075440" cy="6855480"/>
                      </a:xfrm>
                    </p:grpSpPr>
                    <p:sp>
                      <p:nvSpPr>
                        <p:cNvPr id="1983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4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5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6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7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8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9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0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1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2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3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4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5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6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7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8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9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0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1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2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3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4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5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6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7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8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9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0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1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2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3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4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5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6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7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8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019" name="Group 51"/>
                        <p:cNvGrpSpPr/>
                        <p:nvPr/>
                      </p:nvGrpSpPr>
                      <p:grpSpPr>
                        <a:xfrm>
                          <a:off x="-315000" y="1283760"/>
                          <a:ext cx="6462720" cy="6377400"/>
                          <a:chOff x="-315000" y="1283760"/>
                          <a:chExt cx="6462720" cy="6377400"/>
                        </a:xfrm>
                      </p:grpSpPr>
                      <p:sp>
                        <p:nvSpPr>
                          <p:cNvPr id="2020" name="Oval 52"/>
                          <p:cNvSpPr/>
                          <p:nvPr/>
                        </p:nvSpPr>
                        <p:spPr>
                          <a:xfrm rot="18780000">
                            <a:off x="2445120" y="4521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1" name="Oval 53"/>
                          <p:cNvSpPr/>
                          <p:nvPr/>
                        </p:nvSpPr>
                        <p:spPr>
                          <a:xfrm rot="18780000">
                            <a:off x="2356920" y="43300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2" name="Oval 54"/>
                          <p:cNvSpPr/>
                          <p:nvPr/>
                        </p:nvSpPr>
                        <p:spPr>
                          <a:xfrm rot="18780000">
                            <a:off x="2237760" y="40330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3" name="Oval 55"/>
                          <p:cNvSpPr/>
                          <p:nvPr/>
                        </p:nvSpPr>
                        <p:spPr>
                          <a:xfrm rot="18780000">
                            <a:off x="2145600" y="37742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4" name="Oval 56"/>
                          <p:cNvSpPr/>
                          <p:nvPr/>
                        </p:nvSpPr>
                        <p:spPr>
                          <a:xfrm rot="18780000">
                            <a:off x="2046600" y="34581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5" name="Oval 57"/>
                          <p:cNvSpPr/>
                          <p:nvPr/>
                        </p:nvSpPr>
                        <p:spPr>
                          <a:xfrm rot="18780000">
                            <a:off x="1955880" y="32036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6" name="Oval 58"/>
                          <p:cNvSpPr/>
                          <p:nvPr/>
                        </p:nvSpPr>
                        <p:spPr>
                          <a:xfrm rot="18780000">
                            <a:off x="1827360" y="292824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7" name="Oval 59"/>
                          <p:cNvSpPr/>
                          <p:nvPr/>
                        </p:nvSpPr>
                        <p:spPr>
                          <a:xfrm rot="18780000">
                            <a:off x="1713600" y="26604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8" name="Oval 60"/>
                          <p:cNvSpPr/>
                          <p:nvPr/>
                        </p:nvSpPr>
                        <p:spPr>
                          <a:xfrm rot="18780000">
                            <a:off x="1576800" y="240516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9" name="Oval 61"/>
                          <p:cNvSpPr/>
                          <p:nvPr/>
                        </p:nvSpPr>
                        <p:spPr>
                          <a:xfrm rot="18780000">
                            <a:off x="1475280" y="212112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30" name="Oval 62"/>
                          <p:cNvSpPr/>
                          <p:nvPr/>
                        </p:nvSpPr>
                        <p:spPr>
                          <a:xfrm rot="18734400">
                            <a:off x="1383120" y="18500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31" name="Oval 63"/>
                          <p:cNvSpPr/>
                          <p:nvPr/>
                        </p:nvSpPr>
                        <p:spPr>
                          <a:xfrm rot="18819600">
                            <a:off x="1289880" y="155772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032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3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4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5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6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7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8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9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0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1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2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3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4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5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6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7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8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9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0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1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2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3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4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5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6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7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8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9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0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1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2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3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4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5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6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7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068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069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0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71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072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3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4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5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6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7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8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9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0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81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082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8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089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7320"/>
                    <a:gd name="textAreaBottom" fmla="*/ 247680 h 24732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1" name="Freeform 123"/>
                <p:cNvSpPr/>
                <p:nvPr/>
              </p:nvSpPr>
              <p:spPr>
                <a:xfrm>
                  <a:off x="4925880" y="2254320"/>
                  <a:ext cx="182520" cy="17316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2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2840"/>
                    <a:gd name="textAreaBottom" fmla="*/ 223200 h 22284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3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9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dt" idx="7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557A-D666-49BA-A0DC-1907BE8A9A0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13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CCFE-A27A-4EF9-93DD-937C23FC0D9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2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193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5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206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DB48-4151-4415-82C9-D77BC849DE3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7"/>
    <p:sldLayoutId id="2147484014" r:id="rId8"/>
    <p:sldLayoutId id="2147484015" r:id="rId9"/>
    <p:sldLayoutId id="2147484016" r:id="rId10"/>
    <p:sldLayoutId id="2147484017" r:id="rId11"/>
    <p:sldLayoutId id="2147484018" r:id="rId12"/>
    <p:sldLayoutId id="2147484019" r:id="rId13"/>
    <p:sldLayoutId id="2147484020" r:id="rId14"/>
    <p:sldLayoutId id="2147484021" r:id="rId15"/>
    <p:sldLayoutId id="2147484022" r:id="rId16"/>
    <p:sldLayoutId id="2147484023" r:id="rId17"/>
    <p:sldLayoutId id="2147484024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887A-DBD3-4DB6-B9BD-3ED8D69F10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2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273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6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277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278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279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280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1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82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3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4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5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6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7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288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9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0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1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2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3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4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5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96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297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8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9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0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1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2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3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4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5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6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7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8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9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0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1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2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3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4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5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16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 type="dt" idx="8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4"/>
          <p:cNvSpPr>
            <a:spLocks noGrp="1"/>
          </p:cNvSpPr>
          <p:nvPr>
            <p:ph type="ftr" idx="8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5"/>
          <p:cNvSpPr>
            <a:spLocks noGrp="1"/>
          </p:cNvSpPr>
          <p:nvPr>
            <p:ph type="sldNum" idx="9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80FE-A48A-49A4-80DE-30A20F0116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4"/>
    <p:sldLayoutId id="2147484027" r:id="rId35"/>
    <p:sldLayoutId id="2147484028" r:id="rId36"/>
    <p:sldLayoutId id="2147484029" r:id="rId37"/>
    <p:sldLayoutId id="2147484030" r:id="rId38"/>
    <p:sldLayoutId id="2147484031" r:id="rId39"/>
    <p:sldLayoutId id="2147484032" r:id="rId40"/>
    <p:sldLayoutId id="2147484033" r:id="rId41"/>
    <p:sldLayoutId id="2147484034" r:id="rId42"/>
    <p:sldLayoutId id="2147484035" r:id="rId43"/>
    <p:sldLayoutId id="2147484036" r:id="rId44"/>
    <p:sldLayoutId id="2147484037" r:id="rId4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36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 type="dt" idx="9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 type="ftr" idx="9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 type="sldNum" idx="9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421F-DAEF-4DB9-840B-CAE2D98F76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241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 type="dt" idx="9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 type="ftr" idx="9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5817-4E08-4B34-898A-9C7CF4BCC05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46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46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7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 type="dt" idx="9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71AE-5C1D-4BA9-9105-75A10074FCC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4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655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1" name="PlaceHolder 3"/>
          <p:cNvSpPr>
            <a:spLocks noGrp="1"/>
          </p:cNvSpPr>
          <p:nvPr>
            <p:ph type="dt" idx="10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PlaceHolder 4"/>
          <p:cNvSpPr>
            <a:spLocks noGrp="1"/>
          </p:cNvSpPr>
          <p:nvPr>
            <p:ph type="ftr" idx="10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0332-0A80-4310-AFB5-BF2E8D84120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0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731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ADCA-CC0F-49DE-88C8-6E4D08C27FF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5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 type="dt" idx="10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 type="sldNum" idx="10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B7AC-378E-482F-9635-51A8E9EA67D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818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819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1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2822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9" name="PlaceHolder 3"/>
          <p:cNvSpPr>
            <a:spLocks noGrp="1"/>
          </p:cNvSpPr>
          <p:nvPr>
            <p:ph type="dt" idx="109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PlaceHolder 4"/>
          <p:cNvSpPr>
            <a:spLocks noGrp="1"/>
          </p:cNvSpPr>
          <p:nvPr>
            <p:ph type="ftr" idx="11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PlaceHolder 5"/>
          <p:cNvSpPr>
            <a:spLocks noGrp="1"/>
          </p:cNvSpPr>
          <p:nvPr>
            <p:ph type="sldNum" idx="11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AD8F-04E1-4FE7-88D9-E4B0AE634D03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3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4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4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4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4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1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52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55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58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61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64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167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170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173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176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179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182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185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188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91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94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97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00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03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206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209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212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217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20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23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226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229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32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35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238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41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44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247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9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D39C-C587-4AC3-B682-79E104DD7FC5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3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17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19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2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12C9-B396-41F7-820A-E6C22A4F597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A75D-BE53-4516-93B7-BF07D09A7BE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380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3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3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6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B3C4-EAD2-4685-807A-CFED73F21CE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0DF1-C4DD-4D49-93DD-891B583E370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2"/>
          <p:cNvGrpSpPr/>
          <p:nvPr/>
        </p:nvGrpSpPr>
        <p:grpSpPr>
          <a:xfrm>
            <a:off x="-291240" y="762120"/>
            <a:ext cx="7085160" cy="6862680"/>
            <a:chOff x="-291240" y="762120"/>
            <a:chExt cx="7085160" cy="6862680"/>
          </a:xfrm>
        </p:grpSpPr>
        <p:grpSp>
          <p:nvGrpSpPr>
            <p:cNvPr id="558" name="Group 3"/>
            <p:cNvGrpSpPr/>
            <p:nvPr/>
          </p:nvGrpSpPr>
          <p:grpSpPr>
            <a:xfrm>
              <a:off x="-291240" y="762120"/>
              <a:ext cx="7085160" cy="6862680"/>
              <a:chOff x="-291240" y="762120"/>
              <a:chExt cx="7085160" cy="6862680"/>
            </a:xfrm>
          </p:grpSpPr>
          <p:grpSp>
            <p:nvGrpSpPr>
              <p:cNvPr id="559" name="Group 4"/>
              <p:cNvGrpSpPr/>
              <p:nvPr/>
            </p:nvGrpSpPr>
            <p:grpSpPr>
              <a:xfrm>
                <a:off x="-291240" y="762120"/>
                <a:ext cx="7085160" cy="6862680"/>
                <a:chOff x="-291240" y="762120"/>
                <a:chExt cx="7085160" cy="6862680"/>
              </a:xfrm>
            </p:grpSpPr>
            <p:sp>
              <p:nvSpPr>
                <p:cNvPr id="560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1" name="Group 6"/>
                <p:cNvGrpSpPr/>
                <p:nvPr/>
              </p:nvGrpSpPr>
              <p:grpSpPr>
                <a:xfrm>
                  <a:off x="-291240" y="762120"/>
                  <a:ext cx="7085160" cy="6862680"/>
                  <a:chOff x="-291240" y="762120"/>
                  <a:chExt cx="7085160" cy="6862680"/>
                </a:xfrm>
              </p:grpSpPr>
              <p:sp>
                <p:nvSpPr>
                  <p:cNvPr id="562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65" name="Group 10"/>
                  <p:cNvGrpSpPr/>
                  <p:nvPr/>
                </p:nvGrpSpPr>
                <p:grpSpPr>
                  <a:xfrm>
                    <a:off x="-291240" y="762120"/>
                    <a:ext cx="7085160" cy="6862680"/>
                    <a:chOff x="-291240" y="762120"/>
                    <a:chExt cx="7085160" cy="6862680"/>
                  </a:xfrm>
                </p:grpSpPr>
                <p:sp>
                  <p:nvSpPr>
                    <p:cNvPr id="566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67" name="Group 12"/>
                    <p:cNvGrpSpPr/>
                    <p:nvPr/>
                  </p:nvGrpSpPr>
                  <p:grpSpPr>
                    <a:xfrm>
                      <a:off x="-291240" y="769320"/>
                      <a:ext cx="7075440" cy="6855480"/>
                      <a:chOff x="-291240" y="769320"/>
                      <a:chExt cx="7075440" cy="6855480"/>
                    </a:xfrm>
                  </p:grpSpPr>
                  <p:sp>
                    <p:nvSpPr>
                      <p:cNvPr id="568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69" name="Group 14"/>
                      <p:cNvGrpSpPr/>
                      <p:nvPr/>
                    </p:nvGrpSpPr>
                    <p:grpSpPr>
                      <a:xfrm>
                        <a:off x="-291240" y="769320"/>
                        <a:ext cx="7075440" cy="6855480"/>
                        <a:chOff x="-291240" y="769320"/>
                        <a:chExt cx="7075440" cy="6855480"/>
                      </a:xfrm>
                    </p:grpSpPr>
                    <p:sp>
                      <p:nvSpPr>
                        <p:cNvPr id="570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1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2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3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4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5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6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7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8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9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0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1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2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3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4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5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6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7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8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9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0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1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2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3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4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5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6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7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8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9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0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1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2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3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4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5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606" name="Group 51"/>
                        <p:cNvGrpSpPr/>
                        <p:nvPr/>
                      </p:nvGrpSpPr>
                      <p:grpSpPr>
                        <a:xfrm>
                          <a:off x="-291240" y="1247400"/>
                          <a:ext cx="6462720" cy="6377400"/>
                          <a:chOff x="-291240" y="1247400"/>
                          <a:chExt cx="6462720" cy="6377400"/>
                        </a:xfrm>
                      </p:grpSpPr>
                      <p:sp>
                        <p:nvSpPr>
                          <p:cNvPr id="607" name="Oval 52"/>
                          <p:cNvSpPr/>
                          <p:nvPr/>
                        </p:nvSpPr>
                        <p:spPr>
                          <a:xfrm rot="18780000">
                            <a:off x="2467080" y="448524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8" name="Oval 53"/>
                          <p:cNvSpPr/>
                          <p:nvPr/>
                        </p:nvSpPr>
                        <p:spPr>
                          <a:xfrm rot="18780000">
                            <a:off x="2380680" y="429372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9" name="Oval 54"/>
                          <p:cNvSpPr/>
                          <p:nvPr/>
                        </p:nvSpPr>
                        <p:spPr>
                          <a:xfrm rot="18780000">
                            <a:off x="2261520" y="399672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0" name="Oval 55"/>
                          <p:cNvSpPr/>
                          <p:nvPr/>
                        </p:nvSpPr>
                        <p:spPr>
                          <a:xfrm rot="18780000">
                            <a:off x="2169360" y="373788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1" name="Oval 56"/>
                          <p:cNvSpPr/>
                          <p:nvPr/>
                        </p:nvSpPr>
                        <p:spPr>
                          <a:xfrm rot="18780000">
                            <a:off x="2068560" y="342144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2" name="Oval 57"/>
                          <p:cNvSpPr/>
                          <p:nvPr/>
                        </p:nvSpPr>
                        <p:spPr>
                          <a:xfrm rot="18780000">
                            <a:off x="1979640" y="316728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3" name="Oval 58"/>
                          <p:cNvSpPr/>
                          <p:nvPr/>
                        </p:nvSpPr>
                        <p:spPr>
                          <a:xfrm rot="18780000">
                            <a:off x="1851120" y="289188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4" name="Oval 59"/>
                          <p:cNvSpPr/>
                          <p:nvPr/>
                        </p:nvSpPr>
                        <p:spPr>
                          <a:xfrm rot="18780000">
                            <a:off x="1737360" y="262404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5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6" name="Oval 61"/>
                          <p:cNvSpPr/>
                          <p:nvPr/>
                        </p:nvSpPr>
                        <p:spPr>
                          <a:xfrm rot="18780000">
                            <a:off x="149724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7" name="Oval 62"/>
                          <p:cNvSpPr/>
                          <p:nvPr/>
                        </p:nvSpPr>
                        <p:spPr>
                          <a:xfrm rot="18734400">
                            <a:off x="1406880" y="181368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8" name="Oval 63"/>
                          <p:cNvSpPr/>
                          <p:nvPr/>
                        </p:nvSpPr>
                        <p:spPr>
                          <a:xfrm rot="18819600">
                            <a:off x="1313640" y="152136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19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0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1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2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3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4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5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6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7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8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9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0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1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2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3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4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5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6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7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8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9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0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1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2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3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4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5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6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7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8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9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0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1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2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3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4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655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656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8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659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8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669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118"/>
              <p:cNvSpPr/>
              <p:nvPr/>
            </p:nvSpPr>
            <p:spPr>
              <a:xfrm rot="18182400">
                <a:off x="1614600" y="427896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5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676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7320"/>
                    <a:gd name="textAreaBottom" fmla="*/ 247680 h 24732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2840"/>
                    <a:gd name="textAreaBottom" fmla="*/ 223200 h 22284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81" name="PlaceHolder 1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EE12-1BB4-44E6-9DAC-32D78484B78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lanetolog.ru/map-continent-big.php?id=AFR&amp;scheme=4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" Target="slide8.xml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9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8" name="Picture 4" descr="Политическая карта Африк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0"/>
            <a:ext cx="5319720" cy="6454800"/>
          </a:xfrm>
          <a:prstGeom prst="rect">
            <a:avLst/>
          </a:prstGeom>
          <a:ln w="0">
            <a:noFill/>
          </a:ln>
        </p:spPr>
      </p:pic>
      <p:sp>
        <p:nvSpPr>
          <p:cNvPr id="2869" name="AutoShape 7"/>
          <p:cNvSpPr/>
          <p:nvPr/>
        </p:nvSpPr>
        <p:spPr>
          <a:xfrm rot="2860200">
            <a:off x="3132000" y="2298240"/>
            <a:ext cx="1143000" cy="35856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WordArt 8"/>
          <p:cNvSpPr txBox="1"/>
          <p:nvPr/>
        </p:nvSpPr>
        <p:spPr>
          <a:xfrm>
            <a:off x="3657600" y="216000"/>
            <a:ext cx="225756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игер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5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2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В Абеокуте родились многие известные нигерийцы, такие как музыкант и певец Фела Кути, писатель Амос Тутуола, писатель и нобелевский лауреат Воле Шойинка, архиепископ Питер Акинола, президент Нигерии в 1999—2007 годах Олусегун Обасанджо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0" name="WordArt 4"/>
          <p:cNvSpPr txBox="1"/>
          <p:nvPr/>
        </p:nvSpPr>
        <p:spPr>
          <a:xfrm>
            <a:off x="3200400" y="533520"/>
            <a:ext cx="31240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оженц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1" name="AutoShape 5">
            <a:hlinkClick r:id="rId3" action="ppaction://hlinksldjump"/>
          </p:cNvPr>
          <p:cNvSpPr/>
          <p:nvPr/>
        </p:nvSpPr>
        <p:spPr>
          <a:xfrm>
            <a:off x="8077320" y="5638680"/>
            <a:ext cx="1066680" cy="121932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219320"/>
              <a:gd name="textAreaBottom" fmla="*/ 1150200 h 121932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7301" y="12345"/>
                </a:moveTo>
                <a:lnTo>
                  <a:pt x="17806" y="5338"/>
                </a:lnTo>
                <a:lnTo>
                  <a:pt x="17806" y="19351"/>
                </a:lnTo>
                <a:close/>
              </a:path>
              <a:path fill="darken" w="21600" h="24690">
                <a:moveTo>
                  <a:pt x="3794" y="5338"/>
                </a:moveTo>
                <a:lnTo>
                  <a:pt x="5456" y="5338"/>
                </a:lnTo>
                <a:lnTo>
                  <a:pt x="5456" y="19351"/>
                </a:lnTo>
                <a:lnTo>
                  <a:pt x="3794" y="19351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род находится в 90 км к северу от Лагоса на реке Огун, имеющей ширину в районе города до 200 метров и судоходной для небольших лодок, вблизи гор Олумо, которые являются для него защитной природной оград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3" name="WordArt 4"/>
          <p:cNvSpPr txBox="1"/>
          <p:nvPr/>
        </p:nvSpPr>
        <p:spPr>
          <a:xfrm>
            <a:off x="3124080" y="914400"/>
            <a:ext cx="279108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04" name="AutoShape 5">
            <a:hlinkClick r:id="rId1" action="ppaction://hlinksldjump"/>
          </p:cNvPr>
          <p:cNvSpPr/>
          <p:nvPr/>
        </p:nvSpPr>
        <p:spPr>
          <a:xfrm>
            <a:off x="8077320" y="58672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8129" y="10800"/>
                </a:moveTo>
                <a:lnTo>
                  <a:pt x="18634" y="3794"/>
                </a:lnTo>
                <a:lnTo>
                  <a:pt x="18634" y="17806"/>
                </a:lnTo>
                <a:close/>
              </a:path>
              <a:path fill="darken" w="23256" h="21600">
                <a:moveTo>
                  <a:pt x="4621" y="3794"/>
                </a:moveTo>
                <a:lnTo>
                  <a:pt x="6284" y="3794"/>
                </a:lnTo>
                <a:lnTo>
                  <a:pt x="6284" y="17806"/>
                </a:lnTo>
                <a:lnTo>
                  <a:pt x="4621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ономи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нтр аграрного района, специализирующегося на выращивании какао. Пивоваренная и цементная промышленность, производство пальмовой масла, велосипедных шин, деревообработка. Город является транспортным узлом на пересечении железнодорожной магистрали Лагос-Кано и автодорог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7" name="AutoShape 4">
            <a:hlinkClick r:id="rId1" action="ppaction://hlinksldjump"/>
          </p:cNvPr>
          <p:cNvSpPr/>
          <p:nvPr/>
        </p:nvSpPr>
        <p:spPr>
          <a:xfrm>
            <a:off x="7696080" y="5638680"/>
            <a:ext cx="1219320" cy="99072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82" h="21600">
                <a:moveTo>
                  <a:pt x="0" y="0"/>
                </a:moveTo>
                <a:lnTo>
                  <a:pt x="26582" y="0"/>
                </a:lnTo>
                <a:lnTo>
                  <a:pt x="26582" y="21600"/>
                </a:lnTo>
                <a:lnTo>
                  <a:pt x="0" y="21600"/>
                </a:lnTo>
                <a:close/>
              </a:path>
              <a:path fill="lightenLess" w="26582" h="21600">
                <a:moveTo>
                  <a:pt x="0" y="0"/>
                </a:moveTo>
                <a:lnTo>
                  <a:pt x="26582" y="0"/>
                </a:lnTo>
                <a:lnTo>
                  <a:pt x="25182" y="1400"/>
                </a:lnTo>
                <a:lnTo>
                  <a:pt x="1400" y="1400"/>
                </a:lnTo>
                <a:close/>
              </a:path>
              <a:path fill="darken" w="26582" h="21600">
                <a:moveTo>
                  <a:pt x="26582" y="0"/>
                </a:moveTo>
                <a:lnTo>
                  <a:pt x="26582" y="21600"/>
                </a:lnTo>
                <a:lnTo>
                  <a:pt x="25182" y="20200"/>
                </a:lnTo>
                <a:lnTo>
                  <a:pt x="25182" y="1400"/>
                </a:lnTo>
                <a:close/>
              </a:path>
              <a:path fill="darkenLess" w="26582" h="21600">
                <a:moveTo>
                  <a:pt x="26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2" y="20200"/>
                </a:lnTo>
                <a:close/>
              </a:path>
              <a:path fill="lighten" w="26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2" h="21600">
                <a:moveTo>
                  <a:pt x="9792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  <a:path fill="darken" w="26582" h="21600">
                <a:moveTo>
                  <a:pt x="6285" y="3794"/>
                </a:moveTo>
                <a:lnTo>
                  <a:pt x="7947" y="3794"/>
                </a:lnTo>
                <a:lnTo>
                  <a:pt x="7947" y="17806"/>
                </a:lnTo>
                <a:lnTo>
                  <a:pt x="628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Лагос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аго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англ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Lago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йоруба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Èk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 — портовый город на юго-западе Нигерии, самый большой город страны. Имея население более 7 миллионов человек и более 10 миллионов в метрополии[1], Лагос является вторым после Каира городом в Африке по этому показател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оначально Лагос был небольшим поселением племени йоруба, за время европейской колонизации и независимости став важнейшим коммерческим центром Ниге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йчас город занимает практически всю территорию штата Лагос и состоит из большого числа районов, соединённых и разделённых между собой автомагистрал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агос был столицей Нигерии до 12 декабря 1991, потом столица переместилась в город Абудж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AutoShape 4">
            <a:hlinkClick r:id="" action="ppaction://hlinkshowjump?jump=nextslide"/>
          </p:cNvPr>
          <p:cNvSpPr/>
          <p:nvPr/>
        </p:nvSpPr>
        <p:spPr>
          <a:xfrm>
            <a:off x="8077320" y="571500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3794"/>
                </a:moveTo>
                <a:lnTo>
                  <a:pt x="18882" y="10800"/>
                </a:lnTo>
                <a:lnTo>
                  <a:pt x="4869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WordArt 4"/>
          <p:cNvSpPr txBox="1"/>
          <p:nvPr/>
        </p:nvSpPr>
        <p:spPr>
          <a:xfrm>
            <a:off x="838080" y="609480"/>
            <a:ext cx="1952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стори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12" name="WordArt 5"/>
          <p:cNvSpPr txBox="1"/>
          <p:nvPr/>
        </p:nvSpPr>
        <p:spPr>
          <a:xfrm>
            <a:off x="2743200" y="2362320"/>
            <a:ext cx="4343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География и клима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913" name="WordArt 6"/>
          <p:cNvSpPr txBox="1"/>
          <p:nvPr/>
        </p:nvSpPr>
        <p:spPr>
          <a:xfrm>
            <a:off x="2362320" y="3809880"/>
            <a:ext cx="2333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кономи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14" name="AutoShape 8"/>
          <p:cNvSpPr/>
          <p:nvPr/>
        </p:nvSpPr>
        <p:spPr>
          <a:xfrm>
            <a:off x="8305920" y="304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10391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8546" y="3794"/>
                </a:lnTo>
                <a:lnTo>
                  <a:pt x="8546" y="17806"/>
                </a:lnTo>
                <a:lnTo>
                  <a:pt x="6883" y="17806"/>
                </a:lnTo>
                <a:close/>
              </a:path>
            </a:pathLst>
          </a:cu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стор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гда Лагос был поселением йоруба, авори называли город Эко, что означает «ферма» или «лагерь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1472 португалец Секвейра высадился здесь и назвал эту область Лагос, что означает «озёра». В 1704—1851 Лагос был центром работорговли. В 1841 Оба Акитое взошёл на трон в Лагосе и запретил работорговлю. Работорговцы устроили бунт и устранили короля, водрузив на трон его брата Оба Касоко, Оба Акитое вернулся из изгнания с англичанами, которые помогли ему вернуться на трон в 1851 и запретить работорговл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7" name="AutoShape 4">
            <a:hlinkClick r:id="" action="ppaction://hlinkshowjump?jump=previousslide"/>
          </p:cNvPr>
          <p:cNvSpPr/>
          <p:nvPr/>
        </p:nvSpPr>
        <p:spPr>
          <a:xfrm>
            <a:off x="7924680" y="30492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95" h="21600">
                <a:moveTo>
                  <a:pt x="12191" y="10800"/>
                </a:moveTo>
                <a:lnTo>
                  <a:pt x="26204" y="3794"/>
                </a:lnTo>
                <a:lnTo>
                  <a:pt x="2620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География и климат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Город расположен на островах и на побережье залива Бенин (часть Гвинейского залива) Атлантического океана. Климат экваториальный, осадков свыше 1800 мм в год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0" name="AutoShape 4"/>
          <p:cNvSpPr/>
          <p:nvPr/>
        </p:nvSpPr>
        <p:spPr>
          <a:xfrm>
            <a:off x="7772400" y="6095880"/>
            <a:ext cx="1066680" cy="76212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1615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9770" y="3794"/>
                </a:lnTo>
                <a:lnTo>
                  <a:pt x="9770" y="17806"/>
                </a:lnTo>
                <a:lnTo>
                  <a:pt x="8107" y="17806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Экономи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Лагосе сосредоточена примерно половина промышленности Нигерии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3" name="AutoShape 4"/>
          <p:cNvSpPr/>
          <p:nvPr/>
        </p:nvSpPr>
        <p:spPr>
          <a:xfrm>
            <a:off x="8077320" y="601992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9" h="21600">
                <a:moveTo>
                  <a:pt x="10246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  <a:path fill="darken" w="27489" h="21600">
                <a:moveTo>
                  <a:pt x="6738" y="3794"/>
                </a:moveTo>
                <a:lnTo>
                  <a:pt x="8401" y="3794"/>
                </a:lnTo>
                <a:lnTo>
                  <a:pt x="8401" y="17806"/>
                </a:lnTo>
                <a:lnTo>
                  <a:pt x="6738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Майдугур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Майдугури является административным центром нигерийского федерального штата Борно. Численность населения составляет 1.197.497 человек (на 1.01.2009). В городе имеется университет, городской музей. С 1964 года к Майдугури проложена ветка транснигерийской железной дороги, связывающая город с побережьем Гвинейского залива (до Порт-Харкорта). Международный аэропорт. Большинство населения относится к народности хауса, проживают в Майдугури также канури и арабы шува. Язык преподавания в университете — английский. Преобладающей религией является ислам, есть также христианское меньшинство. Город Майдугури является традиционным торговым центром Северной Нигерии. Жизненный уровень в Майдугури выше, чем в среднем по Нигерии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6" name="AutoShape 9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4053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  <a:path fill="darken" w="35103" h="21600">
                <a:moveTo>
                  <a:pt x="10545" y="3794"/>
                </a:moveTo>
                <a:lnTo>
                  <a:pt x="12208" y="3794"/>
                </a:lnTo>
                <a:lnTo>
                  <a:pt x="12208" y="17806"/>
                </a:lnTo>
                <a:lnTo>
                  <a:pt x="10545" y="17806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ооружённые сил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оружённые силы Нигер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англ.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Nigerian Armed Force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 — совокупность войск Республики Нигерия, предназначенная для защиты свободы, независимости и территориальной целостности государства. Состоят из сухопутных войск, военно-морских и военно-воздушных си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1" name="Picture 5" descr="Флаг Нигер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2" name="WordArt 27"/>
          <p:cNvSpPr txBox="1"/>
          <p:nvPr/>
        </p:nvSpPr>
        <p:spPr>
          <a:xfrm>
            <a:off x="914400" y="609480"/>
            <a:ext cx="1676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5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тра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873" name="WordArt 28"/>
          <p:cNvSpPr txBox="1"/>
          <p:nvPr/>
        </p:nvSpPr>
        <p:spPr>
          <a:xfrm>
            <a:off x="3429000" y="2971800"/>
            <a:ext cx="2381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ападн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874" name="WordArt 29"/>
          <p:cNvSpPr txBox="1"/>
          <p:nvPr/>
        </p:nvSpPr>
        <p:spPr>
          <a:xfrm>
            <a:off x="6781680" y="487692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фрик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5000">
    <p:wheel spokes="2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2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3000"/>
                                        <p:tgtEl>
                                          <p:spTgt spid="2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Экономи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WordArt 4"/>
          <p:cNvSpPr txBox="1"/>
          <p:nvPr/>
        </p:nvSpPr>
        <p:spPr>
          <a:xfrm>
            <a:off x="914400" y="1600200"/>
            <a:ext cx="42004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ельское хозяйств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31" name="WordArt 5"/>
          <p:cNvSpPr txBox="1"/>
          <p:nvPr/>
        </p:nvSpPr>
        <p:spPr>
          <a:xfrm>
            <a:off x="0" y="3733920"/>
            <a:ext cx="864864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ефтедобывающая промышлен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32" name="WordArt 6"/>
          <p:cNvSpPr txBox="1"/>
          <p:nvPr/>
        </p:nvSpPr>
        <p:spPr>
          <a:xfrm>
            <a:off x="1371600" y="5257800"/>
            <a:ext cx="7372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рабатывающая промышлен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33" name="AutoShape 7"/>
          <p:cNvSpPr/>
          <p:nvPr/>
        </p:nvSpPr>
        <p:spPr>
          <a:xfrm>
            <a:off x="8381880" y="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ельское хозяйств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ельском хозяйстве занято 65 процентов населения. В колониальное время оно носило натуральный характер. Основными продовольственными культурами являются ямс, батат и кукуруза. Многие земли орошаются. Выращиваются также какао-бобы (340 млн. т), натуральный каучук (112 млн. т) и хлопчатник (0.4 млн. т.)Развито животноводство. В 2002 году в стране насчитывалось 20 млн. голов крупного рогатого скота, 22 млн. овец и 5.5 млн. свин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6" name="AutoShape 4"/>
          <p:cNvSpPr/>
          <p:nvPr/>
        </p:nvSpPr>
        <p:spPr>
          <a:xfrm>
            <a:off x="8153280" y="304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фтедобывающая промышленность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фтедобывающая промышленность - основа нигерийской экономики. Нефть дает 90 процентов экспортных доходов страны (в 2002 году это составило около 8 млрд. долларов в год[1]). Нигерия первый в Африке и восьмой в мире экспортер нефти. Первая в Нигерии нефтяная скважина была пробурена в 1958 году. Большая часть запасов нефти сосредоточена в дельте реки Нигер. Для увеличения доходов Нигерия продолжала наращивать добычу нефти, но в 90-х годах цены не неё были низкими. В Нигерии ежедневно добывается 2,1 млн. баррелей нефти. Разработка нефти ведется Нигерийской национальной нефтяной компанией [2] (75% доходов от продажи нефти), а также компанией Royal Dutch Shell [3]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бываются также уголь, который в начале был первым основным продуктом экспорта, олово и колумби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9" name="AutoShape 4"/>
          <p:cNvSpPr/>
          <p:nvPr/>
        </p:nvSpPr>
        <p:spPr>
          <a:xfrm>
            <a:off x="8534520" y="228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Обрабатывающая промышленность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рабатывающая промышленность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сновные отрасли обрабатывающей промышленности - пищевая и нефтеперерабатывающая. Главный промышленный центр - Лагос. В Аджаокуте - металлургический комбинат, большая часть строительства которого было выполнено при участии советских инженеров. Сталелитейный комбинат в Аджаокуте в 1980-е гг. планировался как крупнейшее металлообрабатывающее предприятие в Западной Африке. К началу 1990-х гг. строительство было практически закончено, однако, связи с распадом Советского Союза, завод не был сдан в эксплуатаци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2" name="AutoShape 4"/>
          <p:cNvSpPr/>
          <p:nvPr/>
        </p:nvSpPr>
        <p:spPr>
          <a:xfrm>
            <a:off x="8077320" y="380880"/>
            <a:ext cx="1066680" cy="304920"/>
          </a:xfrm>
          <a:custGeom>
            <a:avLst/>
            <a:gdLst>
              <a:gd name="textAreaLeft" fmla="*/ 19440 w 1066680"/>
              <a:gd name="textAreaRight" fmla="*/ 1047240 w 10666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5498" h="21600">
                <a:moveTo>
                  <a:pt x="0" y="0"/>
                </a:moveTo>
                <a:lnTo>
                  <a:pt x="75498" y="0"/>
                </a:lnTo>
                <a:lnTo>
                  <a:pt x="75498" y="21600"/>
                </a:lnTo>
                <a:lnTo>
                  <a:pt x="0" y="21600"/>
                </a:lnTo>
                <a:close/>
              </a:path>
              <a:path fill="lightenLess" w="75498" h="21600">
                <a:moveTo>
                  <a:pt x="0" y="0"/>
                </a:moveTo>
                <a:lnTo>
                  <a:pt x="75498" y="0"/>
                </a:lnTo>
                <a:lnTo>
                  <a:pt x="74098" y="1400"/>
                </a:lnTo>
                <a:lnTo>
                  <a:pt x="1400" y="1400"/>
                </a:lnTo>
                <a:close/>
              </a:path>
              <a:path fill="darken" w="75498" h="21600">
                <a:moveTo>
                  <a:pt x="75498" y="0"/>
                </a:moveTo>
                <a:lnTo>
                  <a:pt x="75498" y="21600"/>
                </a:lnTo>
                <a:lnTo>
                  <a:pt x="74098" y="20200"/>
                </a:lnTo>
                <a:lnTo>
                  <a:pt x="74098" y="1400"/>
                </a:lnTo>
                <a:close/>
              </a:path>
              <a:path fill="darkenLess" w="75498" h="21600">
                <a:moveTo>
                  <a:pt x="75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98" y="20200"/>
                </a:lnTo>
                <a:close/>
              </a:path>
              <a:path fill="lighten" w="75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98" h="21600">
                <a:moveTo>
                  <a:pt x="34250" y="10800"/>
                </a:moveTo>
                <a:lnTo>
                  <a:pt x="44756" y="3794"/>
                </a:lnTo>
                <a:lnTo>
                  <a:pt x="44756" y="17806"/>
                </a:lnTo>
                <a:close/>
              </a:path>
              <a:path fill="darken" w="75498" h="21600">
                <a:moveTo>
                  <a:pt x="30743" y="3794"/>
                </a:moveTo>
                <a:lnTo>
                  <a:pt x="32405" y="3794"/>
                </a:lnTo>
                <a:lnTo>
                  <a:pt x="32405" y="17806"/>
                </a:lnTo>
                <a:lnTo>
                  <a:pt x="3074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Достопримечательност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Уникальный природный памятник Нигерии - плато Джос, представляющее собой вздымающиеся из зелени джунглей останцовые скалы с плоскими вершинами и практически отвесными склонами изъеденными эрозией. Внешне они напоминают знаменитые "столбы" штата Юта в США, но сложены из пород серого оттенка и ярко контрастируют с окружающей зеленью тропического леса. Резерваты — Боргу, Квиамбана, Янкари и др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5" name="Picture 5" descr="284"/>
          <p:cNvPicPr/>
          <p:nvPr/>
        </p:nvPicPr>
        <p:blipFill>
          <a:blip r:embed="rId1"/>
          <a:stretch/>
        </p:blipFill>
        <p:spPr>
          <a:xfrm>
            <a:off x="4876920" y="1676520"/>
            <a:ext cx="397008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                      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арк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сполна насладиться великолепием дикой природы, в первую очередь, предоставлена посетителя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заповедника Янкари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первый заповедник и национальный парк в Нигерии. Парк Янкари и горячие источники Викки расположены вокруг реки Гаги, примерно в 1 - 0,5 часа пути к юго-востоку от Баучи. Красота и многообразие обитателей природного заповедника Янкари сделали его самым популярным в Нигер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рк основан в 1956 году и открыт для посещения в 1962 году, основная его часть  открыта для просмотра круглый год. Японцы, европейцы, американцы и азиаты с удовольствием  приезжают сю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поведник охватывает огромную территорию леса и саванны, обитаемую слонами, бабуинами, водяными козлами, лесными антилопами, крокодилами, бегемотами, антилопами, буйволами и различными видами обезьян. Иногда можно заметить львов, несмотря на их природный камуфляж. Парк населен различными птицами, в том числе огромными аистами, цаплями, орлами, грифами, зимородкам и  щурками. Лучшим временем для посещения является период с ноября по май, когда растения засыхают  и животные собираются около рек и водоемо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ещение горячих источников Вики - приятная часть поездки в заповедник. После жаркого  дня наблюдения за дикой природой можно расслабиться в теплой воде. Также на территории заповедника расположены теннисные и сквош корты и небольшой музей. Остановиться можно в семейном домике с кухней или в отеле в двухместном или одноместном номер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9" name="AutoShape 5"/>
          <p:cNvSpPr/>
          <p:nvPr/>
        </p:nvSpPr>
        <p:spPr>
          <a:xfrm>
            <a:off x="8305920" y="380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9" h="21600">
                <a:moveTo>
                  <a:pt x="11341" y="10800"/>
                </a:moveTo>
                <a:lnTo>
                  <a:pt x="21846" y="3794"/>
                </a:lnTo>
                <a:lnTo>
                  <a:pt x="21846" y="17806"/>
                </a:lnTo>
                <a:close/>
              </a:path>
              <a:path fill="darken" w="29679" h="21600">
                <a:moveTo>
                  <a:pt x="7833" y="3794"/>
                </a:moveTo>
                <a:lnTo>
                  <a:pt x="9496" y="3794"/>
                </a:lnTo>
                <a:lnTo>
                  <a:pt x="9496" y="17806"/>
                </a:lnTo>
                <a:lnTo>
                  <a:pt x="7833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5" name="Picture 5" descr="Герб Нигерии"/>
          <p:cNvPicPr/>
          <p:nvPr/>
        </p:nvPicPr>
        <p:blipFill>
          <a:blip r:embed="rId1"/>
          <a:stretch/>
        </p:blipFill>
        <p:spPr>
          <a:xfrm>
            <a:off x="0" y="185760"/>
            <a:ext cx="8610480" cy="6672240"/>
          </a:xfrm>
          <a:prstGeom prst="rect">
            <a:avLst/>
          </a:prstGeom>
          <a:ln w="0">
            <a:noFill/>
          </a:ln>
        </p:spPr>
      </p:pic>
      <p:sp>
        <p:nvSpPr>
          <p:cNvPr id="2876" name="WordArt 6"/>
          <p:cNvSpPr txBox="1"/>
          <p:nvPr/>
        </p:nvSpPr>
        <p:spPr>
          <a:xfrm>
            <a:off x="1219320" y="609480"/>
            <a:ext cx="1295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р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77" name="WordArt 7"/>
          <p:cNvSpPr txBox="1"/>
          <p:nvPr/>
        </p:nvSpPr>
        <p:spPr>
          <a:xfrm>
            <a:off x="4076640" y="1905120"/>
            <a:ext cx="506736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Достопримечатель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2878" name="WordArt 9"/>
          <p:cNvSpPr txBox="1"/>
          <p:nvPr/>
        </p:nvSpPr>
        <p:spPr>
          <a:xfrm>
            <a:off x="1143000" y="3124080"/>
            <a:ext cx="1933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кономи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9" name="WordArt 10"/>
          <p:cNvSpPr txBox="1"/>
          <p:nvPr/>
        </p:nvSpPr>
        <p:spPr>
          <a:xfrm>
            <a:off x="5410080" y="4724280"/>
            <a:ext cx="13622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ород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5000">
    <p:wheel spokes="2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673 -0.0111 C 0.10434 -0.01711 0.12968 -0.02197 0.15781 -0.02382 C 0.17812 -0.03052 0.16614 -0.02752 0.19427 -0.03006 C 0.22326 -0.03977 0.2375 -0.03538 0.27673 -0.03653 C 0.28628 -0.0407 0.29514 -0.04139 0.30538 -0.04278 C 0.3533 -0.04139 0.38941 -0.03862 0.43559 -0.03653 C 0.44739 -0.02821 0.46093 -0.02151 0.47361 -0.01526 C 0.48819 -0.0081 0.47014 -0.02012 0.48941 -0.00902 C 0.49514 -0.00555 0.50104 0.00046 0.50677 0.0037 C 0.50902 0.00485 0.51128 0.00485 0.51336 0.00578 C 0.51649 0.00693 0.51979 0.00832 0.52274 0.00994 C 0.53524 0.01711 0.5368 0.01988 0.54982 0.02266 C 0.55868 0.03121 0.56771 0.04347 0.5783 0.04809 C 0.58437 0.05572 0.59114 0.06173 0.59739 0.06913 C 0.60017 0.07237 0.60225 0.07699 0.60538 0.07954 C 0.6085 0.08254 0.61493 0.08832 0.61493 0.08832 C 0.61771 0.09965 0.6243 0.10797 0.62916 0.11792 C 0.63055 0.12901 0.6309 0.13433 0.63559 0.14312 C 0.63802 0.15653 0.64201 0.16901 0.6467 0.18127 C 0.64791 0.18751 0.6493 0.19676 0.65139 0.20208 C 0.65295 0.20647 0.6559 0.20925 0.65781 0.21295 C 0.66024 0.22612 0.66284 0.23676 0.66718 0.24901 C 0.675 0.29549 0.66944 0.34497 0.67205 0.3926 C 0.67152 0.4074 0.67135 0.42219 0.67048 0.43699 C 0.66961 0.45318 0.66267 0.46913 0.65781 0.48347 C 0.65399 0.49503 0.65816 0.48901 0.65295 0.50682 C 0.64982 0.51745 0.64531 0.52624 0.64184 0.53641 C 0.63836 0.54659 0.63646 0.56277 0.63229 0.57225 C 0.62847 0.58104 0.62274 0.58936 0.61805 0.59745 C 0.61666 0.60023 0.61632 0.6037 0.61493 0.60601 C 0.60798 0.61988 0.59913 0.6356 0.58941 0.64624 C 0.58455 0.65156 0.58472 0.65595 0.5783 0.65896 C 0.57326 0.66589 0.56736 0.67144 0.56093 0.67584 C 0.55659 0.68208 0.55208 0.68092 0.5467 0.68439 C 0.54062 0.68832 0.53316 0.69179 0.5276 0.69711 C 0.51753 0.70659 0.52847 0.7015 0.51649 0.70543 C 0.46215 0.75445 0.38524 0.71052 0.31961 0.70959 C 0.29184 0.70659 0.26597 0.69572 0.23871 0.68855 C 0.20364 0.6793 0.16961 0.67352 0.13385 0.67144 C 0.12604 0.66821 0.11944 0.66219 0.11163 0.65896 C 0.1059 0.65133 0.10034 0.64855 0.09427 0.64185 C 0.08021 0.62636 0.06649 0.6111 0.05139 0.59745 C 0.0493 0.59352 0.04774 0.58867 0.04496 0.58497 C 0.0434 0.58266 0.04166 0.58104 0.04027 0.57873 C 0.03784 0.5748 0.03663 0.56948 0.03385 0.56601 C 0.03229 0.56393 0.03055 0.56208 0.02916 0.55977 C 0.02673 0.55584 0.02274 0.54682 0.02274 0.54682 C 0.01875 0.53063 0.02413 0.55075 0.01805 0.53433 C 0.01406 0.52347 0.0125 0.5126 0.00694 0.50266 C 0.00312 0.48138 0.00868 0.50751 0.00052 0.48578 C -0.01042 0.45688 0.00486 0.4867 -0.00729 0.46451 C -0.01181 0.44647 -0.01667 0.42844 -0.02327 0.41179 C -0.02674 0.39237 -0.02917 0.37248 -0.03108 0.3526 C -0.03039 0.29942 -0.03264 0.24647 -0.02795 0.19399 C -0.02709 0.18335 -0.01789 0.17641 -0.01372 0.16855 C -0.01164 0.16462 -0.01094 0.15977 -0.00886 0.15584 C -0.00295 0.14451 0.00538 0.13526 0.01163 0.12416 C 0.01701 0.11468 0.01909 0.10404 0.02448 0.09456 C 0.02691 0.08162 0.02534 0.08948 0.02916 0.07352 C 0.02968 0.07144 0.03021 0.06913 0.03073 0.06705 C 0.03125 0.06497 0.03229 0.06081 0.03229 0.06081 C 0.03385 0.04809 0.0375 0.03006 0.0467 0.02266 C 0.05989 0.01202 0.04236 0.03075 0.05607 0.01641 C 0.0585 0.01387 0.05989 0.00994 0.0625 0.00786 C 0.06649 0.00462 0.06875 0.0074 0.07205 0.00162 C 0.07413 -0.00208 0.07517 -0.00694 0.07673 -0.0111 Z">
                                      <p:cBhvr>
                                        <p:cTn id="31" dur="5000" fill="hold"/>
                                        <p:tgtEl>
                                          <p:spTgt spid="28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4.33526E-006 C 0.00104 0.02751 0.00243 0.04832 0.00624 0.07399 C 0.0052 0.11121 0.00555 0.14821 -0.0033 0.18382 C -0.00539 0.20093 -0.00869 0.21757 -0.01112 0.23468 C -0.01407 0.25549 -0.01546 0.27445 -0.02553 0.29156 C -0.02778 0.30405 -0.04115 0.33364 -0.04931 0.34035 C -0.05626 0.34613 -0.06424 0.34636 -0.07153 0.35075 C -0.08386 0.35815 -0.09376 0.36439 -0.10643 0.36994 C -0.14237 0.36879 -0.16164 0.36856 -0.19219 0.36347 C -0.20382 0.35954 -0.21528 0.35607 -0.22709 0.35306 C -0.23664 0.34451 -0.24358 0.3422 -0.254 0.33595 C -0.25678 0.33434 -0.25903 0.3311 -0.26198 0.32971 C -0.26598 0.32763 -0.27466 0.32555 -0.27466 0.32555 C -0.28351 0.31838 -0.29132 0.31237 -0.30001 0.30428 C -0.30816 0.29665 -0.3158 0.28532 -0.32553 0.28116 C -0.32761 0.27769 -0.32917 0.27353 -0.33178 0.27052 C -0.33299 0.26913 -0.33525 0.26983 -0.33664 0.26844 C -0.34705 0.25734 -0.33247 0.2652 -0.34445 0.25988 C -0.34966 0.25318 -0.35278 0.24601 -0.35886 0.24093 C -0.36754 0.22451 -0.36337 0.23029 -0.36997 0.22197 C -0.37813 0.19977 -0.36771 0.2259 -0.37778 0.20717 C -0.38716 0.18983 -0.37431 0.2074 -0.38577 0.19029 C -0.3882 0.18659 -0.39376 0.17965 -0.39376 0.17965 C -0.39584 0.16879 -0.3981 0.16116 -0.4033 0.15214 C -0.40469 0.14428 -0.4073 0.13873 -0.40955 0.1311 C -0.41164 0.12393 -0.41598 0.10983 -0.41598 0.10983 C -0.41841 0.09017 -0.42014 0.07029 -0.42223 0.05064 C -0.42136 0.02127 -0.42466 -0.00647 -0.41112 -0.0296 C -0.40608 -0.0504 -0.39896 -0.06913 -0.38733 -0.08462 C -0.36563 -0.11353 -0.39862 -0.07977 -0.37622 -0.1015 C -0.37084 -0.11376 -0.3599 -0.12855 -0.34931 -0.13318 C -0.33785 -0.14474 -0.32691 -0.15792 -0.31441 -0.16717 C -0.3073 -0.17249 -0.29862 -0.17503 -0.29063 -0.17757 C -0.24931 -0.17688 -0.20799 -0.17688 -0.16667 -0.17549 C -0.15296 -0.17503 -0.13785 -0.16879 -0.12396 -0.16717 C -0.12032 -0.16555 -0.11615 -0.16555 -0.11285 -0.16277 C -0.11025 -0.16069 -0.10869 -0.15699 -0.10643 -0.15445 C -0.09914 -0.14613 -0.0915 -0.14012 -0.08264 -0.13526 C -0.07709 -0.12809 -0.07188 -0.12301 -0.06511 -0.11838 C -0.05869 -0.10775 -0.05348 -0.10312 -0.04445 -0.09734 C -0.04028 -0.08855 -0.0356 -0.08509 -0.02865 -0.08046 C -0.02501 -0.07538 -0.02188 -0.07168 -0.01754 -0.06775 C -0.01441 -0.0615 -0.01198 -0.0541 -0.00799 -0.04879 C -0.00105 -0.03954 0.00468 -0.03168 0.00781 -0.01919 C 0.00607 -0.00948 0.00624 -0.00578 -8.05556E-006 4.33526E-006 Z">
                                      <p:cBhvr>
                                        <p:cTn id="33" dur="5000" fill="hold"/>
                                        <p:tgtEl>
                                          <p:spTgt spid="28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71676E-006 C -0.00277 -0.03468 -0.0085 -0.06913 -0.01267 -0.10358 C -0.01215 -0.11838 -0.01198 -0.13318 -0.01111 -0.14797 C -0.00989 -0.16786 0.00105 -0.18566 0.00955 -0.20069 C 0.01372 -0.20809 0.01476 -0.21433 0.02066 -0.21988 C 0.02448 -0.23514 0.01893 -0.21618 0.02709 -0.23237 C 0.02796 -0.23422 0.02778 -0.23699 0.02865 -0.23884 C 0.02987 -0.24138 0.03195 -0.24277 0.03334 -0.24508 C 0.04202 -0.25896 0.04948 -0.27861 0.05886 -0.29156 C 0.07153 -0.30913 0.0533 -0.28439 0.07153 -0.30636 C 0.08247 -0.3193 0.075 -0.31514 0.08421 -0.31907 C 0.09983 -0.33364 0.11476 -0.35029 0.13021 -0.36555 C 0.13646 -0.37179 0.14497 -0.37271 0.15243 -0.37618 C 0.15868 -0.37919 0.17153 -0.38474 0.17153 -0.38474 C 0.17535 -0.38867 0.18143 -0.39514 0.18577 -0.39745 C 0.20226 -0.4067 0.19167 -0.39815 0.20157 -0.4037 C 0.20868 -0.40763 0.21615 -0.4141 0.22379 -0.41641 C 0.23351 -0.41942 0.24011 -0.42057 0.24931 -0.42266 C 0.27657 -0.43468 0.28525 -0.42612 0.32709 -0.42474 C 0.33664 -0.42034 0.34688 -0.41248 0.35695 -0.40994 C 0.3632 -0.40832 0.3698 -0.40855 0.37622 -0.40786 C 0.38837 -0.39722 0.38646 -0.40208 0.39827 -0.39514 C 0.41146 -0.38751 0.42483 -0.38127 0.43802 -0.3741 C 0.45087 -0.36716 0.46563 -0.36 0.47778 -0.35075 C 0.4849 -0.3452 0.49219 -0.33826 0.5 -0.33387 C 0.50625 -0.33017 0.51285 -0.32971 0.5191 -0.32555 C 0.53473 -0.31514 0.50764 -0.32809 0.53334 -0.31699 C 0.5408 -0.30289 0.53108 -0.3193 0.54601 -0.30427 C 0.54757 -0.30266 0.54809 -0.29988 0.54931 -0.29803 C 0.55868 -0.28323 0.54931 -0.29873 0.55886 -0.2874 C 0.56216 -0.28346 0.56823 -0.27468 0.56823 -0.27468 C 0.56927 -0.27121 0.57032 -0.26774 0.57153 -0.26427 C 0.5724 -0.26196 0.57379 -0.26011 0.57466 -0.2578 C 0.57674 -0.25225 0.57622 -0.24901 0.57778 -0.243 C 0.58143 -0.22959 0.58612 -0.21456 0.59219 -0.20277 C 0.59271 -0.19861 0.59271 -0.19422 0.59375 -0.19029 C 0.59427 -0.18844 0.59618 -0.18774 0.59688 -0.18589 C 0.60191 -0.17202 0.60087 -0.16208 0.60799 -0.14797 C 0.61129 -0.12578 0.6132 -0.10289 0.62066 -0.08231 C 0.62118 -0.07884 0.62153 -0.07537 0.62223 -0.0719 C 0.62309 -0.06751 0.62483 -0.06358 0.62552 -0.05919 C 0.62813 -0.04231 0.62622 -0.02474 0.63021 -0.00832 C 0.6323 0.01295 0.63334 0.05665 0.64132 0.07838 C 0.64341 0.09226 0.64462 0.10636 0.64601 0.12047 C 0.64514 0.16023 0.64636 0.19029 0.63976 0.22636 C 0.63785 0.2363 0.63907 0.24648 0.63334 0.25364 C 0.62917 0.27075 0.63594 0.24578 0.62552 0.27075 C 0.62396 0.27469 0.62396 0.27954 0.62223 0.28324 C 0.61702 0.29411 0.60851 0.30243 0.60157 0.31075 C 0.58907 0.32555 0.58403 0.33549 0.56823 0.34474 C 0.55921 0.35677 0.54844 0.36301 0.53664 0.36786 C 0.52639 0.37203 0.51684 0.38058 0.50625 0.38266 C 0.48108 0.38775 0.45573 0.39168 0.43021 0.39538 C 0.4033 0.3933 0.37622 0.39168 0.34931 0.38914 C 0.33282 0.38752 0.3165 0.38127 0.3 0.3785 C 0.27778 0.3637 0.25452 0.35284 0.23177 0.34035 C 0.22448 0.33642 0.21459 0.32601 0.20799 0.32139 C 0.17917 0.30104 0.14775 0.2881 0.11754 0.27284 C 0.10382 0.2659 0.09271 0.25526 0.07934 0.24948 C 0.07188 0.23931 0.06511 0.2326 0.05556 0.22636 C 0.04532 0.21203 0.04341 0.18613 0.03334 0.17341 C 0.03091 0.1533 0.02622 0.15168 0.0191 0.13758 C 0.01702 0.12648 0.01441 0.11769 0.00955 0.10798 C 0.0066 0.09133 0.00487 0.07862 0.00487 0.06127 E">
                                      <p:cBhvr>
                                        <p:cTn id="35" dur="5000" fill="hold"/>
                                        <p:tgtEl>
                                          <p:spTgt spid="28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6 -0.00439 C -0.10087 0.00024 -0.11129 0.00532 -0.12066 0.01249 C -0.13021 0.01989 -0.12952 0.02313 -0.1382 0.02729 C -0.15365 0.03492 -0.17066 0.04602 -0.18733 0.04856 C -0.19688 0.04995 -0.20643 0.04995 -0.21598 0.05064 C -0.27049 0.04925 -0.32483 0.04856 -0.37934 0.04648 C -0.41146 0.04532 -0.44028 0.01318 -0.45712 -0.02104 C -0.47223 -0.05202 -0.44792 -0.01965 -0.47466 -0.05063 C -0.48473 -0.07468 -0.49879 -0.09456 -0.51112 -0.1163 C -0.52223 -0.13618 -0.52987 -0.15375 -0.5382 -0.17526 C -0.55 -0.20647 -0.54896 -0.24554 -0.554 -0.27884 C -0.55608 -0.30982 -0.55869 -0.33988 -0.56355 -0.37017 C -0.56233 -0.40184 -0.56719 -0.43606 -0.55712 -0.4652 C -0.55521 -0.47052 -0.55157 -0.47468 -0.54931 -0.47976 C -0.53438 -0.51375 -0.51893 -0.55005 -0.49844 -0.57919 C -0.49462 -0.58474 -0.48976 -0.5889 -0.48577 -0.59398 C -0.47865 -0.603 -0.47171 -0.61202 -0.46511 -0.6215 C -0.44809 -0.64624 -0.4198 -0.68878 -0.39532 -0.70173 C -0.38334 -0.70797 -0.37882 -0.70728 -0.36355 -0.71028 C -0.30903 -0.70959 -0.25452 -0.70936 -0.2 -0.70797 C -0.19532 -0.70774 -0.19011 -0.70843 -0.18577 -0.70589 C -0.16928 -0.69595 -0.15487 -0.67514 -0.13976 -0.6615 C -0.11823 -0.64231 -0.08507 -0.62658 -0.06042 -0.6171 C -0.04584 -0.61156 -0.0191 -0.5919 -0.0191 -0.5919 C -0.00434 -0.56855 -0.01806 -0.58797 0.00798 -0.56254 C 0.021 -0.54982 0.03003 -0.53317 0.04288 -0.52 C 0.0493 -0.50474 0.05677 -0.4904 0.06354 -0.4756 C 0.07083 -0.46011 0.0618 -0.48809 0.07135 -0.46289 C 0.08472 -0.42728 0.06493 -0.46566 0.08732 -0.42682 C 0.09479 -0.4141 0.09722 -0.39537 0.10156 -0.38057 C 0.10416 -0.34242 0.10677 -0.3045 0.10954 -0.26635 C 0.10729 -0.20092 0.11128 -0.1378 0.0809 -0.08462 C 0.07916 -0.0756 0.07638 -0.06566 0.07135 -0.05942 C 0.06614 -0.03768 0.05538 -0.02635 0.04131 -0.01502 C 0.03055 0.00417 0.0184 -1.6763E-006 5.55556E-007 -1.6763E-006 E">
                                      <p:cBhvr>
                                        <p:cTn id="37" dur="5000" fill="hold"/>
                                        <p:tgtEl>
                                          <p:spTgt spid="28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юди издревле населяли территорию Нигерии. Где-то в середине I тыс. до н.э. в центральной части страны на плато Джос формируется цивилизация Нок ознаменовавшая переход от каменного к железному веку. Отличительной чертой данной культуры были терракотовые статуэтки. Некоторые особенности культуры (фигурки лошадей, всадников и колесных повозок) позволяют связать возникновение Нок с влиянием средиземноморского античного очага цивилизац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AutoShape 8">
            <a:hlinkClick r:id="" action="ppaction://hlinkshowjump?jump=nextslide"/>
          </p:cNvPr>
          <p:cNvSpPr/>
          <p:nvPr/>
        </p:nvSpPr>
        <p:spPr>
          <a:xfrm>
            <a:off x="7924680" y="58672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18888" y="10800"/>
                </a:lnTo>
                <a:lnTo>
                  <a:pt x="487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WordArt 10"/>
          <p:cNvSpPr txBox="1"/>
          <p:nvPr/>
        </p:nvSpPr>
        <p:spPr>
          <a:xfrm>
            <a:off x="3200400" y="0"/>
            <a:ext cx="22575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тор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1000"/>
                                        <p:tgtEl>
                                          <p:spTgt spid="2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октября 1960 года Нигерия стала независимым государством. Первое правительство независимой Нигерии основывалось на коалиции партий НСНК и СНК, премьер-министром стал представитель СНК Абубакар Тафава Балева. После провозглашения в 1963 году Нигерии республикой пост президента занял Ннамди Азикиве (представитель НСНГ). Оппозиция была представлена Группой действия во главе с Обафеми Аволово. Региональные правительства возглавили: на Севере – лидер СНК Ахмаду Белло, на Западе – С.Акинтола из Группы действия и на Востоке – представитель НСНГ М.Окпара. В 1963 на территории восточной части Западной Нигерии была образована четвёртая область, Среднезападная. На состоявшихся в 1964 выборах в этом регионе победу одержал НСН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4" name="AutoShape 4">
            <a:hlinkClick r:id="" action="ppaction://hlinkshowjump?jump=nextslide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январе 1966 года группа офицеров-игбо во главе совершила военный переворот. Короткий период "первой республики" закончился. Военные попытались учредить в Нигерии унитарное государство, разделенного на провинции. Северонигерийские мусульмане сочли переворот угрозой своим интересам, и по всей стране вспыхнули межэтнические столкновения. В конце июля военные части, состоящие из солдат северян, совершили новый военный переворот. Главой государства стал подполковник (впоследствии генерал), Якубу Говон (правил с 1966 по 1975 год). На севере возобновились преследования игбо, были убиты тысячи человек, что привело к массовому бегству игбо на восток, их попыткам создать государство Биафра и гражданской войне 1967-1970. Страна возвратилась к федеративной систем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6" name="AutoShape 5">
            <a:hlinkClick r:id="rId1" action="ppaction://hlinksldjump"/>
          </p:cNvPr>
          <p:cNvSpPr/>
          <p:nvPr/>
        </p:nvSpPr>
        <p:spPr>
          <a:xfrm>
            <a:off x="8305920" y="6172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9698" y="10800"/>
                </a:moveTo>
                <a:lnTo>
                  <a:pt x="20203" y="3794"/>
                </a:lnTo>
                <a:lnTo>
                  <a:pt x="20203" y="17806"/>
                </a:lnTo>
                <a:close/>
              </a:path>
              <a:path fill="darken" w="26394" h="21600">
                <a:moveTo>
                  <a:pt x="6190" y="3794"/>
                </a:moveTo>
                <a:lnTo>
                  <a:pt x="7853" y="3794"/>
                </a:lnTo>
                <a:lnTo>
                  <a:pt x="7853" y="17806"/>
                </a:lnTo>
                <a:lnTo>
                  <a:pt x="619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WordArt 4"/>
          <p:cNvSpPr txBox="1"/>
          <p:nvPr/>
        </p:nvSpPr>
        <p:spPr>
          <a:xfrm>
            <a:off x="609480" y="457200"/>
            <a:ext cx="2276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Абеоку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888" name="WordArt 5"/>
          <p:cNvSpPr txBox="1"/>
          <p:nvPr/>
        </p:nvSpPr>
        <p:spPr>
          <a:xfrm>
            <a:off x="3352680" y="1828800"/>
            <a:ext cx="15051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Лаго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889" name="WordArt 6"/>
          <p:cNvSpPr txBox="1"/>
          <p:nvPr/>
        </p:nvSpPr>
        <p:spPr>
          <a:xfrm>
            <a:off x="5562720" y="4952880"/>
            <a:ext cx="1860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айдугур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90" name="AutoShape 7">
            <a:hlinkClick r:id="rId3" action="ppaction://hlinksldjump"/>
          </p:cNvPr>
          <p:cNvSpPr/>
          <p:nvPr/>
        </p:nvSpPr>
        <p:spPr>
          <a:xfrm>
            <a:off x="8458200" y="228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8653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6808" y="3794"/>
                </a:lnTo>
                <a:lnTo>
                  <a:pt x="6808" y="17806"/>
                </a:lnTo>
                <a:lnTo>
                  <a:pt x="5145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WordArt 4"/>
          <p:cNvSpPr txBox="1"/>
          <p:nvPr/>
        </p:nvSpPr>
        <p:spPr>
          <a:xfrm>
            <a:off x="1600200" y="762120"/>
            <a:ext cx="163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стор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92" name="WordArt 5"/>
          <p:cNvSpPr txBox="1"/>
          <p:nvPr/>
        </p:nvSpPr>
        <p:spPr>
          <a:xfrm>
            <a:off x="4038480" y="2057400"/>
            <a:ext cx="2305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роженц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93" name="WordArt 6"/>
          <p:cNvSpPr txBox="1"/>
          <p:nvPr/>
        </p:nvSpPr>
        <p:spPr>
          <a:xfrm>
            <a:off x="1981080" y="3429000"/>
            <a:ext cx="23338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94" name="WordArt 7"/>
          <p:cNvSpPr txBox="1"/>
          <p:nvPr/>
        </p:nvSpPr>
        <p:spPr>
          <a:xfrm>
            <a:off x="6400800" y="4572000"/>
            <a:ext cx="1749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Экономик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95" name="AutoShape 8">
            <a:hlinkClick r:id="" action="ppaction://hlinkshowjump?jump=previousslide"/>
          </p:cNvPr>
          <p:cNvSpPr/>
          <p:nvPr/>
        </p:nvSpPr>
        <p:spPr>
          <a:xfrm>
            <a:off x="8458200" y="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 прошлом — главный город народа эгбе в восточной части Верхней Гвинеи. В XIX веке был окружен земляной стеной на протяжении 20 км. Из 130 000 жителей до 2000 составляли христиане. Город и его окрестности находились под властью одного из предводителей племени Аль-Аке. После разрушения царства йоруба народом фелатта, бежавшие из него эгбе основали в 1825 году город Абеокуту, который быстро достиг цветущего состояния и в 1851 и 1864 годах победоносно отразил нападения дагомейцев. Английские миссионеры после произошедшего в октябре 1867 года переворота были изгнаны из города. В 1893 году в городе было сформировано Объединенный правительство егба, признанное английскими колониальными властями. В 1914 году становится частью британской колонии Нигерия. С 1960 года - в составе независимой Нигерии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7" name="WordArt 5"/>
          <p:cNvSpPr txBox="1"/>
          <p:nvPr/>
        </p:nvSpPr>
        <p:spPr>
          <a:xfrm>
            <a:off x="3505320" y="304920"/>
            <a:ext cx="194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сто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898" name="AutoShape 6">
            <a:hlinkClick r:id="" action="ppaction://hlinkshowjump?jump=previousslide"/>
          </p:cNvPr>
          <p:cNvSpPr/>
          <p:nvPr/>
        </p:nvSpPr>
        <p:spPr>
          <a:xfrm>
            <a:off x="8153280" y="533412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7-02T08:27:4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