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gif" ContentType="image/gi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959D0-2438-4A24-9042-B752DD21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7448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E8FF4-B1F1-4D83-BE70-40B00A06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51E47-FDED-41D3-A230-5FC3DAF7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7448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7448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7448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F6D85-7649-407A-B11A-936160D3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50A2-94DC-4C3C-A4B0-B346C8D9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3EDE-3BE0-4804-B65F-885A68A6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85D9-7571-4E73-8E1A-7BE40697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7D29-E1D7-4DC5-A971-EF765D16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151C-6E4C-47F8-8360-10082BF8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1057-10B6-462C-8298-6E572677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BEC5-4906-4074-8503-9CC6D470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A385E-395E-48BA-AE6E-5B96493F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66DC-7BC6-4072-AF82-EB63924B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7448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A94A-E47C-4904-9DC2-1E1F306A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7448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2166-B26E-4F0B-B3C8-20662462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A221-BE7A-468A-AEF2-B41E1ED3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7448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7448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7448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0891-1E7D-4F67-8ACB-EA7F6496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A9123-8CDF-456C-95F6-B72F82C3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D3607-39F4-466F-9B3B-A42B3C9A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DCC8F-AB12-4608-8F60-9F04DB37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C60CF-9F37-4272-999B-29AB95E8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C8D65-3587-40B4-951C-1CD5B279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516B8-0B26-4D96-8CC8-7E215752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7448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D2248-4BDB-40E3-BBF3-612D679C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1AE88B-56F1-44E1-AAAA-610E6D3427CE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560" cy="544680"/>
            <a:chOff x="0" y="0"/>
            <a:chExt cx="914256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4040" cy="531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29640" cy="27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6440" cy="139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824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8240" cy="139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500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39680" cy="1364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500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352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6440" cy="2532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5600" cy="3156120"/>
              <a:chOff x="0" y="1066680"/>
              <a:chExt cx="2865600" cy="315612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4560" cy="639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3120" cy="641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4280" cy="633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2480" cy="639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428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2480" cy="6318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1040" cy="6318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3120" cy="6318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248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92B4C9B-871D-4DED-8CF3-2A8254BCE534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Нервная система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У животны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рвная система хордов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ена головным и спинным мозгом с отходящими от них многочисленными нервами, ведущими к внешним и внутренним орга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340000" y="2708280"/>
            <a:ext cx="4429080" cy="2571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 встречи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435640" y="4797360"/>
            <a:ext cx="2895480" cy="819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1762200" cy="1152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203640" y="2637000"/>
            <a:ext cx="1114200" cy="50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55640" y="4221000"/>
            <a:ext cx="952560" cy="13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рвная система у гид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рвная система плоских черв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плоских червей скопление нервных клеток образовало парные головные нервные узлы, от которых вдоль тела отходят нервные стволы. Они соединяются между собой тяжами, и от них отходят  многочисленные нервные ответвления  к кожным покровам ,органам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рвная система круглых черв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руглых червей в передней части тела располагается окологлоточное кольцо, которое образовалось вследствие слияния парных надглоточных и подглоточных нервных уз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1922400"/>
            <a:ext cx="4572000" cy="39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рвная система кольчатых черв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4:06:44Z</dcterms:created>
  <dc:creator>Гость</dc:creator>
  <dc:description/>
  <dc:language>en-US</dc:language>
  <cp:lastModifiedBy>Гость</cp:lastModifiedBy>
  <dcterms:modified xsi:type="dcterms:W3CDTF">2012-02-29T15:09:01Z</dcterms:modified>
  <cp:revision>2</cp:revision>
  <dc:subject/>
  <dc:title>Нервная система </dc:title>
</cp:coreProperties>
</file>