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2F9B-E874-4054-A961-FA920750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8902C-F825-4336-9528-380D662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B876-7A6B-42FC-985E-47E7E448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3059-A3ED-4EE5-80AD-AE2C3B27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8455-A0B9-4559-AD98-440B3610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807-29CD-4910-B1D9-2D84FBEE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6F5C-AB9A-45E3-882D-A811E6FC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DDB4-4F19-45B5-BC3C-EAE006D5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591B-90C9-459E-A689-890230C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3E7B-7BF5-4A84-A2A6-43FCD12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C03-5123-41E0-85C1-7BD0C92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2F3A-3A0F-4A66-84FE-13FB4AAA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D002-E377-405E-8C75-55B95CC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946-7D4B-4573-A309-B3B860B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4278-AF06-4EF8-8AEE-CBF1717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DA62-A631-4D5E-8655-F46CD168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108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744800"/>
            <a:ext cx="264924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7EB-D74F-47A9-90DF-706452CB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D8BC-950F-498F-9CC8-A5B22B8A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F84B-A0AE-4B53-BC46-CB70A0D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1582A-70B7-4EEA-A852-614A70C5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B5FE-272C-4F73-81AE-5CE7727B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F23B-2BDD-4858-B553-24E79C5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74480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5C84A-03F9-4973-B034-BE1E9CC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1080"/>
            <a:ext cx="40150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744800"/>
            <a:ext cx="822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C4CF-0DE7-4A01-AB71-7BA2090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E59365-4B3F-46C2-A6E3-9991C13519B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84F71F-6551-4D11-A25B-C1B38E7667C5}" type="slidenum">
              <a:rPr b="0" lang="ru-RU" sz="1200" spc="-1" strike="noStrike">
                <a:solidFill>
                  <a:srgbClr val="000000"/>
                </a:solidFill>
                <a:latin typeface="Arial Black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Нервная система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 животны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хордо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головным и спинным мозгом с отходящими от них многочисленными нервами, ведущими к внешним и внутренним орга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340000" y="2708280"/>
            <a:ext cx="4429080" cy="257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 встречи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2895480" cy="81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176220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203640" y="2637000"/>
            <a:ext cx="1114200" cy="50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95256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вная система у ги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плоски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лоских червей скопление нервных клеток образовало парные головные нервные узлы, от которых вдоль тела отходят нервные стволы. Они соединяются между собой тяжами, и от них отходят  многочисленные нервные ответвления  к кожным покровам ,органам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ругл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углых червей в передней части тела располагается окологлоточное кольцо, которое образовалось вследствие слияния парных надглоточных и подглоточных нервных уз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922400"/>
            <a:ext cx="4572000" cy="39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рвная система кольчатых чер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4:06:44Z</dcterms:created>
  <dc:creator>Гость</dc:creator>
  <dc:description/>
  <dc:language>en-US</dc:language>
  <cp:lastModifiedBy>Гость</cp:lastModifiedBy>
  <dcterms:modified xsi:type="dcterms:W3CDTF">2012-02-29T15:09:01Z</dcterms:modified>
  <cp:revision>2</cp:revision>
  <dc:subject/>
  <dc:title>Нервная система </dc:title>
</cp:coreProperties>
</file>