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081C-5C8A-4FDD-AD58-F5CDF07E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0B08-8257-45D6-9F83-A7DC0B31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8AC7-DCEA-4772-A2D1-891B1B99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A56F-71AA-428D-9633-58DA6999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57DB-BD3A-4966-B8E0-A0A62350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D97C-A3F6-41A8-8CC5-01FD32FD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9F7-F424-4E45-B9C9-BD3E959F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67E-EC33-49B9-A58C-268BD24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C1E5-82DF-4E28-8AD4-F5CDDE5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31CF-8A38-42CE-A592-5452E50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ADF7-7648-4AA4-B8B9-72B3B74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4D34-8C4B-427A-8E02-39C898B9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4F55-2EDF-43BB-80E3-4F521E1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72CC-6199-4A28-A237-A9BD88F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15D-2849-4FF9-9EFC-C7D0220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0AA2-5868-4E6A-AE0A-F40551F1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585-223D-46B3-8D8D-5772711C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EEC0-46BE-403C-A464-C50F7B1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3AB9-F9E1-4C6C-9BE1-6D85ABB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6B52-5E08-4261-B437-ABEBD8D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82EB-7295-4D94-A5A9-6D84114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56B3-C9B6-4344-9512-5307FEF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5ACA-DD65-4D71-832A-CBED6FE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750C-45DF-4E6A-8BDF-0D2409B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9F600-419C-4BC4-B8A3-A6DADBEC3C5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475483-C749-4B27-8EEE-2A64971A1EA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Нервная систем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 животн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хорд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головным и спинным мозгом с отходящими от них многочисленными нервами, ведущими к внешним и внутренним орг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340000" y="2708280"/>
            <a:ext cx="4429080" cy="257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встречи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2895480" cy="81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176220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111420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95256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у ги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плоски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лоских червей скопление нервных клеток образовало парные головные нервные узлы, от которых вдоль тела отходят нервные стволы. Они соединяются между собой тяжами, и от них отходят  многочисленные нервные ответвления  к кожным покровам ,органам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ругл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углых червей в передней части тела располагается окологлоточное кольцо, которое образовалось вследствие слияния парных надглоточных и подглоточных нервных уз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922400"/>
            <a:ext cx="45720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ольчат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4:06:44Z</dcterms:created>
  <dc:creator>Гость</dc:creator>
  <dc:description/>
  <dc:language>en-US</dc:language>
  <cp:lastModifiedBy>Гость</cp:lastModifiedBy>
  <dcterms:modified xsi:type="dcterms:W3CDTF">2012-02-29T15:09:01Z</dcterms:modified>
  <cp:revision>2</cp:revision>
  <dc:subject/>
  <dc:title>Нервная система </dc:title>
</cp:coreProperties>
</file>